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50B-7C65-4645-9934-19376E49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989-54D1-4E57-B6B1-B620AC4E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EE9-C3D5-439A-993C-8609B7F9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D63-907E-444A-BF26-430E1D85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5C81-FBEB-4076-ABE6-AB97052D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2001-6621-425B-BDE2-7A23326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363A-CB33-4CEE-8B48-B1F6F243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2D3-C977-461F-A455-3F55252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951-92D1-4281-8A36-8EAC1EBB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3F87-9FF3-4F0F-B795-2E50D2A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7A3A-8338-42F2-B922-DBF417A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209-1022-4774-AD7F-6EAD366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5582-C195-4637-BC37-A958E779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6A81-1AAE-451D-AF3D-4351C02B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0C8-1D51-409B-BF72-6B758325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934E-A538-4894-BAF9-0B65F9E5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FD61-4ADD-4774-841E-08E0BAD6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DC8-8B7A-4AA6-A224-4F52FB99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903-9BB3-4E07-A5EC-0D0AE33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89F-3920-4122-9F38-40CCCDF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44F-99E9-40A9-9714-5D813961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0AE-8B4F-49D1-A9CD-81315AF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1B7-1645-44D6-8276-067EA03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67B-ABC8-4A78-81F3-62E1558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1CD-6DF2-4310-9E46-B6719C4EA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26C3-EB52-45C9-9B89-42F7DD7DF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720" y="18288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16000" y="1647720"/>
            <a:ext cx="164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nce She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5320" y="175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00200" y="228600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orm on which a brief message is written describing a transa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2880" y="3168720"/>
            <a:ext cx="42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memorand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2160" y="3168720"/>
            <a:ext cx="44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sued a check for 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2160" y="3168720"/>
            <a:ext cx="383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sh Pay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Rent 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91200" y="2666880"/>
            <a:ext cx="745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de a mistake and debited adverti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e instead of miscellaneo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880" y="3168720"/>
            <a:ext cx="561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Miscellaneous 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Advertising Exp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3240" y="316872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d cash on acco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2880" y="3168720"/>
            <a:ext cx="553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sh Receipts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Name on Account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unts Receiv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3240" y="316872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chased merchandise on acco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8720" y="2590920"/>
            <a:ext cx="549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rchases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purch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Accounts Payable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pany na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2520" y="3168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thing of value that is ow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2880" y="3168720"/>
            <a:ext cx="48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d cash from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En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2160" y="3168720"/>
            <a:ext cx="42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sh Receipts Jour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bit C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dit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800" y="3168720"/>
            <a:ext cx="594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he financial progress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lance Sheet/Income Statemen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4320" y="3168720"/>
            <a:ext cx="55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ncome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145880" y="312408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ts = Liabilities + Owners Equ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3600" y="3168720"/>
            <a:ext cx="46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lance Sh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2880" y="3168720"/>
            <a:ext cx="648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ort showing information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ssets, liabilities, and owner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quity of 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3960" y="3168720"/>
            <a:ext cx="48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lance sh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800" y="3168720"/>
            <a:ext cx="38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s four section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 Hea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 Re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 Expen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 Net Income/Lo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4680" y="316872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income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800" y="3168720"/>
            <a:ext cx="32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As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800" y="316872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he percent of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Balance Sheet/Incom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4320" y="3168720"/>
            <a:ext cx="54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ncome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2880" y="3168720"/>
            <a:ext cx="58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steps in ma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hical deci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2160" y="31687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2880" y="3168720"/>
            <a:ext cx="511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 lines in 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ome statement hea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2160" y="31687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years Mrs. Talbot has been marr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2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3240" y="316872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ty code of Athens, 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800" y="31687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58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amount owed by a busi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89280" y="3168720"/>
            <a:ext cx="588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of brothers and sisters Mrs. Talbot’s husband h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Numb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2520" y="316872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heck the bank refuses to p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2880" y="3168720"/>
            <a:ext cx="52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dishonored ch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3600" y="3168720"/>
            <a:ext cx="62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Federal Reserve Ban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2520" y="316872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nker’s 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224000" y="2743200"/>
            <a:ext cx="68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ort of deposits, withdraw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bank balance sent to a deposi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a ba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3600" y="316872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bank sta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71360" y="2895480"/>
            <a:ext cx="60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heck with a future date on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3240" y="316872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ostdated che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3600" y="316872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li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2520" y="3168720"/>
            <a:ext cx="525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ndorsement restri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rther transfer of a check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wnershi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4320" y="316872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restrictive endorse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600" y="2438280"/>
            <a:ext cx="80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fference between expenses and s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be called two things.  What are the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4440" y="2766960"/>
            <a:ext cx="55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t Income or Net Lo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14400" y="243828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ignature or stamp on the back of a check transferring owner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2880" y="3168720"/>
            <a:ext cx="45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endors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89280" y="3168720"/>
            <a:ext cx="565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written and signed promise to pay a sum of money at a specified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160" y="316872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promissory no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User</cp:lastModifiedBy>
  <dcterms:modified xsi:type="dcterms:W3CDTF">2008-04-14T17:05:48Z</dcterms:modified>
  <cp:revision>25</cp:revision>
  <dc:subject/>
  <dc:title>Jeopardy</dc:title>
</cp:coreProperties>
</file>