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5EAD-ECE5-4647-90E4-F76EC2CCC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339C-7F68-4D97-BF99-A2F4AE07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D364-086B-46F7-9CEE-1523D5FFB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2132-8F95-4991-8F99-731E2DF36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9FE7-832C-4EDA-AF47-EC5C61EC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74DD-2A34-4562-B0B6-F821FCA3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7755-22F6-4A0C-A4E6-8FF46644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8BAC-F7D6-4423-A7B0-7A56D496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67C1-A156-45E5-B3CF-675FBF00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762A-D7BC-453C-B781-B9A4D7EB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E672-FC0D-4595-9D52-4E1B5351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5F9C-3032-4427-8EDD-8509B64A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1319-75A0-4892-A552-B1B6807D0C2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1B94-B948-4959-8BD5-B8409BC8E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2.xml"/><Relationship Id="rId11" Type="http://schemas.openxmlformats.org/officeDocument/2006/relationships/slide" Target=""/><Relationship Id="rId12" Type="http://schemas.openxmlformats.org/officeDocument/2006/relationships/slide" Target="slide14.xml"/><Relationship Id="rId13" Type="http://schemas.openxmlformats.org/officeDocument/2006/relationships/slide" Target=""/><Relationship Id="rId14" Type="http://schemas.openxmlformats.org/officeDocument/2006/relationships/slide" Target="slide16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slide20.xml"/><Relationship Id="rId19" Type="http://schemas.openxmlformats.org/officeDocument/2006/relationships/slide" Target=""/><Relationship Id="rId20" Type="http://schemas.openxmlformats.org/officeDocument/2006/relationships/slide" Target="slide22.xml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" Target=""/><Relationship Id="rId33" Type="http://schemas.openxmlformats.org/officeDocument/2006/relationships/slide" Target=""/><Relationship Id="rId34" Type="http://schemas.openxmlformats.org/officeDocument/2006/relationships/slide" Target=""/><Relationship Id="rId35" Type="http://schemas.openxmlformats.org/officeDocument/2006/relationships/slide" Target=""/><Relationship Id="rId3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0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2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3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4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5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26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7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8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9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30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31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2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33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4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5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User</cp:lastModifiedBy>
  <dcterms:modified xsi:type="dcterms:W3CDTF">2008-04-14T17:36:59Z</dcterms:modified>
  <cp:revision>30</cp:revision>
  <dc:subject/>
  <dc:title>Blank Jeopardy</dc:title>
</cp:coreProperties>
</file>