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jeop.wav" ContentType="audio/x-wav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894B9-D1B2-4897-A0D4-2F2EBBD60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51142-7C8F-4ADC-BF83-BEE14D36D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E9DCB-9DF9-431A-952E-ABA07BC49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B335E-C303-40EB-98B0-C71F2E5B3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C4C0D-7E61-4A64-B2A4-5371D0D52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4336B-E936-4957-8E62-725608F23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64D4F-028B-49EC-A274-C7B405F2C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F73FF-A900-4A23-8EA5-86BE4F32B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B0D47-4590-492D-9EE3-075AA8681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4436A-1091-4210-9257-86A38DCD8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45891-54BF-4A48-88BB-3BD954035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61807-7A34-4D75-9158-C15EBA608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2FD52-1ABC-4115-9888-F49E297B1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8D62F-0578-4D18-B217-1EC9C653B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A88B7-EE75-4D55-BA6D-B811EEB83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A71F1-6E38-499A-BDB2-B9B0D0AAB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4216D-9ED8-483F-9116-D706BD795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5B09D-CDB1-49D3-A954-7E16BEB60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561D2-FDB2-4D07-B08D-EA4E17A66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AE247-28D2-4665-995E-5AB8D83B2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0FE3F-252D-444F-A49B-97598421F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D57AB-B296-46D4-A4BD-ABDB5FD1E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15981-4031-49AF-9DEA-81D90E9B6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051D4-E6EE-4C97-B22E-69BD3BBDD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B646C-9666-4A8F-8593-B9C2430A6D1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FB81C-0CFD-4744-BEA1-9E1DB5860BC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" Target="slide2.xml"/><Relationship Id="rId4" Type="http://schemas.openxmlformats.org/officeDocument/2006/relationships/slide" Target="slide4.xml"/><Relationship Id="rId5" Type="http://schemas.openxmlformats.org/officeDocument/2006/relationships/slide" Target="slide6.xml"/><Relationship Id="rId6" Type="http://schemas.openxmlformats.org/officeDocument/2006/relationships/slide" Target="slide8.xml"/><Relationship Id="rId7" Type="http://schemas.openxmlformats.org/officeDocument/2006/relationships/slide" Target="slide10.xml"/><Relationship Id="rId8" Type="http://schemas.openxmlformats.org/officeDocument/2006/relationships/slide" Target="slide12.xml"/><Relationship Id="rId9" Type="http://schemas.openxmlformats.org/officeDocument/2006/relationships/slide" Target="slide32.xml"/><Relationship Id="rId10" Type="http://schemas.openxmlformats.org/officeDocument/2006/relationships/slide" Target="slide22.xml"/><Relationship Id="rId11" Type="http://schemas.openxmlformats.org/officeDocument/2006/relationships/slide" Target="slide42.xml"/><Relationship Id="rId12" Type="http://schemas.openxmlformats.org/officeDocument/2006/relationships/slide" Target="slide14.xml"/><Relationship Id="rId13" Type="http://schemas.openxmlformats.org/officeDocument/2006/relationships/slide" Target="slide24.xml"/><Relationship Id="rId14" Type="http://schemas.openxmlformats.org/officeDocument/2006/relationships/slide" Target="slide34.xml"/><Relationship Id="rId15" Type="http://schemas.openxmlformats.org/officeDocument/2006/relationships/slide" Target="slide44.xml"/><Relationship Id="rId16" Type="http://schemas.openxmlformats.org/officeDocument/2006/relationships/slide" Target="slide16.xml"/><Relationship Id="rId17" Type="http://schemas.openxmlformats.org/officeDocument/2006/relationships/slide" Target="slide26.xml"/><Relationship Id="rId18" Type="http://schemas.openxmlformats.org/officeDocument/2006/relationships/slide" Target="slide36.xml"/><Relationship Id="rId19" Type="http://schemas.openxmlformats.org/officeDocument/2006/relationships/slide" Target="slide46.xml"/><Relationship Id="rId20" Type="http://schemas.openxmlformats.org/officeDocument/2006/relationships/slide" Target="slide18.xml"/><Relationship Id="rId21" Type="http://schemas.openxmlformats.org/officeDocument/2006/relationships/slide" Target="slide28.xml"/><Relationship Id="rId22" Type="http://schemas.openxmlformats.org/officeDocument/2006/relationships/slide" Target="slide38.xml"/><Relationship Id="rId23" Type="http://schemas.openxmlformats.org/officeDocument/2006/relationships/slide" Target="slide48.xml"/><Relationship Id="rId24" Type="http://schemas.openxmlformats.org/officeDocument/2006/relationships/slide" Target="slide20.xml"/><Relationship Id="rId25" Type="http://schemas.openxmlformats.org/officeDocument/2006/relationships/slide" Target="slide30.xml"/><Relationship Id="rId26" Type="http://schemas.openxmlformats.org/officeDocument/2006/relationships/slide" Target="slide40.xml"/><Relationship Id="rId27" Type="http://schemas.openxmlformats.org/officeDocument/2006/relationships/slide" Target="slide50.xml"/><Relationship Id="rId28" Type="http://schemas.openxmlformats.org/officeDocument/2006/relationships/audio" Target="../media/jeop.wav"/><Relationship Id="rId2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00"/>
                </a:solidFill>
                <a:latin typeface="Times New Roman"/>
              </a:rPr>
              <a:t>Jeopardy</a:t>
            </a:r>
            <a:endParaRPr b="0" lang="en-US" sz="80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762120" y="1533600"/>
          <a:ext cx="7775280" cy="4638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533600"/>
                    <a:ext cx="7775280" cy="463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"/>
          <p:cNvSpPr/>
          <p:nvPr/>
        </p:nvSpPr>
        <p:spPr>
          <a:xfrm>
            <a:off x="990720" y="1828800"/>
            <a:ext cx="151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ocabul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362320" y="1752480"/>
            <a:ext cx="144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tri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16000" y="1647720"/>
            <a:ext cx="1649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lance Shee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ome Statemen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95320" y="1752480"/>
            <a:ext cx="129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mb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842880" y="1752480"/>
            <a:ext cx="129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nk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84024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3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00720" y="32418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4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900720" y="400356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5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900720" y="476568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6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900720" y="55278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7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51676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8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56488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9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04064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0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01244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1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51676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2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04064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3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56488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4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01244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5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16760" y="39625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6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64680" y="39625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7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541120" y="39625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8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2440" y="403848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9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516760" y="472428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0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040640" y="4800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1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64880" y="4800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2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012440" y="4800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3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51676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4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04064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5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56488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6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01244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7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770160" y="6324480"/>
            <a:ext cx="1986840" cy="45972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inal Jeopard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jeo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Question from Vocabular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5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1600200" y="2286000"/>
            <a:ext cx="5959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 form on which a brief message is written describing a transac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Answer from Vocabular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1892880" y="3168720"/>
            <a:ext cx="424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memorandum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Question from Entri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6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1892160" y="3168720"/>
            <a:ext cx="447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ssued a check for Ren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Answer from Entri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1892160" y="3168720"/>
            <a:ext cx="3835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sh Paym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ebit Rent Expens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dit Cash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Question from Entri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7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691200" y="2666880"/>
            <a:ext cx="745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ade a mistake and debited advertisin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xpense instead of miscellaneous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xpens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Answer from Entri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1892880" y="3168720"/>
            <a:ext cx="5612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eneral Journa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ebit Miscellaneous Expens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dit Advertising Expens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Question from Entri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7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1893240" y="3168720"/>
            <a:ext cx="491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eceived cash on accoun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Answer from Entri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1892880" y="3168720"/>
            <a:ext cx="5536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sh Receipts journa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ebit Cash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dit Name on Account an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ccounts Receivabl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Question from Entri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8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1893240" y="3168720"/>
            <a:ext cx="65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urchased merchandise on accoun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Answer from Entri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1908720" y="2590920"/>
            <a:ext cx="5497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urchases Journa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ebit purchas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dit Accounts Payable an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company nam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Question from Vocabular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3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1892520" y="3168720"/>
            <a:ext cx="605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nything of value that is owne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Question from Entri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8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892880" y="3168720"/>
            <a:ext cx="481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eceived cash from sal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Answer from Entri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892160" y="3168720"/>
            <a:ext cx="4242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sh Receipts Journa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ebit Cash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dit Sal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Question from 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Balance Sheet/Income Statemen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9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1891800" y="3168720"/>
            <a:ext cx="5944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hows the financial progress of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 busines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8487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Answer from 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Balance Sheet/Income Statement 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1894320" y="3168720"/>
            <a:ext cx="5558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an Income Statemen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Question from 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 Balance Sheet/Income Statemen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0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1145880" y="3124080"/>
            <a:ext cx="695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ssets = Liabilities + Owners Equit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Answer from 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 Balance Sheet/Income Statemen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1893600" y="3168720"/>
            <a:ext cx="462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a Balance Shee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Question from 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 Balance Sheet/Income Statemen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0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892880" y="3168720"/>
            <a:ext cx="6488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eport showing information abou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assets, liabilities, and owner’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quity of a busines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Answer from 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 Balance Sheet/Income Statemen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1893960" y="3168720"/>
            <a:ext cx="482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the balance shee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Question from 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 Balance Sheet/Income Statemen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1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1891800" y="3168720"/>
            <a:ext cx="38869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as four sections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.  Headin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2.  Revenu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3.  Expens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4.  Net Income/Los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Answer from 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 Balance Sheet/Income Statemen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1894680" y="3168720"/>
            <a:ext cx="558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the income statemen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Answer from Vocabular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1891800" y="3168720"/>
            <a:ext cx="326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an Asse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Question from 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 Balance Sheet/Income Statemen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1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1891800" y="3168720"/>
            <a:ext cx="502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hows the percent of sal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Answer from 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 Balance Sheet/Income Statemen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1894320" y="3168720"/>
            <a:ext cx="545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an income statemen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Question from Number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2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1892880" y="3168720"/>
            <a:ext cx="587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number of steps in makin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thical decisio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Answer from Number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1892160" y="3168720"/>
            <a:ext cx="261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thre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Question from Number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3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1892880" y="3168720"/>
            <a:ext cx="5117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number of  lines in an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come statement headin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Answer from Number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892160" y="3168720"/>
            <a:ext cx="261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thre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Question from Number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3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1889280" y="3168720"/>
            <a:ext cx="5502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number of years Mrs. Talbot has been married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Answer from Number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1891440" y="3168720"/>
            <a:ext cx="216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23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Question from Number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4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1893240" y="3168720"/>
            <a:ext cx="619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City code of Athens, Greec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Answer from Number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1891800" y="31687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on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Question from Vocabular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4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1891440" y="3168720"/>
            <a:ext cx="58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n amount owed by a busines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Question from Number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4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>
            <a:off x="1889280" y="3168720"/>
            <a:ext cx="5883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number of brothers and sisters Mrs. Talbot’s husband ha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Answer from Number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/>
          <p:nvPr/>
        </p:nvSpPr>
        <p:spPr>
          <a:xfrm>
            <a:off x="1891440" y="3168720"/>
            <a:ext cx="193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8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Question from Banking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5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>
            <a:off x="1892520" y="3168720"/>
            <a:ext cx="601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 check the bank refuses to pa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Answer from Banking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1892880" y="3168720"/>
            <a:ext cx="523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a dishonored chec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Question from Banking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6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/>
          <p:nvPr/>
        </p:nvSpPr>
        <p:spPr>
          <a:xfrm>
            <a:off x="1893600" y="3168720"/>
            <a:ext cx="625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a Federal Reserve Bank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Answer from Banking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/>
          <p:nvPr/>
        </p:nvSpPr>
        <p:spPr>
          <a:xfrm>
            <a:off x="1892520" y="3168720"/>
            <a:ext cx="459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a banker’s ban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Question from Banking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6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/>
          <p:nvPr/>
        </p:nvSpPr>
        <p:spPr>
          <a:xfrm>
            <a:off x="1224000" y="2743200"/>
            <a:ext cx="680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eport of deposits, withdrawal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nd bank balance sent to a deposit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by a ban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Answer from Banking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70" name=""/>
          <p:cNvSpPr/>
          <p:nvPr/>
        </p:nvSpPr>
        <p:spPr>
          <a:xfrm>
            <a:off x="1893600" y="3168720"/>
            <a:ext cx="477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a bank statemen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Question from Banking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7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1071360" y="2895480"/>
            <a:ext cx="606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 check with a future date on it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Answer from Banking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1893240" y="3168720"/>
            <a:ext cx="506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a postdated check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Answer from Vocabular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1893600" y="3168720"/>
            <a:ext cx="343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a liabilit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Question from Banking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7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/>
          <p:nvPr/>
        </p:nvSpPr>
        <p:spPr>
          <a:xfrm>
            <a:off x="1892520" y="3168720"/>
            <a:ext cx="5257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n endorsement restrictin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rther transfer of a check’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wnership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Answer from Banking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1894320" y="3168720"/>
            <a:ext cx="640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a restrictive endorsement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66"/>
                </a:solidFill>
                <a:latin typeface="Times New Roman"/>
              </a:rPr>
              <a:t>Final Jeopardy</a:t>
            </a:r>
            <a:endParaRPr b="0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09600" y="2438280"/>
            <a:ext cx="8035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difference between expenses and sal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n be called two things.  What are they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1"/>
          <a:stretch/>
        </p:blipFill>
        <p:spPr>
          <a:xfrm>
            <a:off x="7467480" y="58672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86" name="" descr=""/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restart="whenNotActive" nodeType="interactiveSeq" fill="hold">
                <p:stCondLst>
                  <p:cond evt="onClick">
                    <p:tgtEl>
                      <p:spTgt spid="285"/>
                    </p:tgtEl>
                  </p:cond>
                </p:stCondLst>
                <p:childTnLst>
                  <p:par>
                    <p:cTn id="55" fill="hold">
                      <p:stCondLst>
                        <p:cond evt="onClick">
                          <p:tgtEl>
                            <p:spTgt spid="285"/>
                          </p:tgtEl>
                        </p:cond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8" dur="1" fill="hold"/>
                                        <p:tgtEl>
                                          <p:spTgt spid="2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66"/>
                </a:solidFill>
                <a:latin typeface="Times New Roman"/>
              </a:rPr>
              <a:t>Final Jeopardy Answer</a:t>
            </a:r>
            <a:endParaRPr b="0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504440" y="2766960"/>
            <a:ext cx="5558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Net Income or Net Los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Question from Vocabular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4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914400" y="2438280"/>
            <a:ext cx="6797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 signature or stamp on the back of a check transferring ownership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Answer from Vocabular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1892880" y="3168720"/>
            <a:ext cx="458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an endorsemen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Question from Vocabular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5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1889280" y="3168720"/>
            <a:ext cx="5654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 written and signed promise to pay a sum of money at a specified tim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Answer from Vocabular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1892160" y="3168720"/>
            <a:ext cx="497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a promissory not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17T14:16:32Z</dcterms:created>
  <dc:creator>SCPS</dc:creator>
  <dc:description/>
  <dc:language>en-US</dc:language>
  <cp:lastModifiedBy>User</cp:lastModifiedBy>
  <dcterms:modified xsi:type="dcterms:W3CDTF">2008-04-14T17:05:48Z</dcterms:modified>
  <cp:revision>25</cp:revision>
  <dc:subject/>
  <dc:title>Jeopardy</dc:title>
</cp:coreProperties>
</file>