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E53-4D30-4EFF-8227-C3712BB1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040-53C9-4C2A-BB2B-D646CA0D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5F3-D487-422D-92D0-75A18C6A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ED3-2DC7-42C5-9115-EA1F028D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1EC-7277-475E-BEB3-B810012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E5C-9E16-494B-95E9-5A21099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A55-69B5-49E3-8837-D6D9A03D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36F-83C4-4C24-99D9-4B5D422E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AB8-3041-4EC4-95CF-82A585DC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955-E853-4EFF-9C3E-087F6E5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D65-DE5B-461A-B4EB-48139A95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047-0ECE-4CB1-9187-218FCFD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F35E-0224-4F04-8534-51F3539143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E85B-D8E7-4367-91DE-D48FCF32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User</cp:lastModifiedBy>
  <dcterms:modified xsi:type="dcterms:W3CDTF">2008-04-14T17:36:59Z</dcterms:modified>
  <cp:revision>30</cp:revision>
  <dc:subject/>
  <dc:title>Blank Jeopardy</dc:title>
</cp:coreProperties>
</file>