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1066680" y="2590920"/>
            <a:ext cx="6989760" cy="23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b2b2b2"/>
                    </a:gs>
                    <a:gs pos="100000">
                      <a:srgbClr val="ff3300"/>
                    </a:gs>
                  </a:gsLst>
                  <a:lin ang="13500000"/>
                </a:gradFill>
                <a:latin typeface="Impact"/>
              </a:rPr>
              <a:t>Benton Squa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b2b2b2"/>
                  </a:gs>
                  <a:gs pos="100000">
                    <a:srgbClr val="ff33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7" name=""/>
          <p:cNvSpPr/>
          <p:nvPr/>
        </p:nvSpPr>
        <p:spPr>
          <a:xfrm>
            <a:off x="2179440" y="116676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Welcome to..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3304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 Game of X’s and O’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eneral Jour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75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5484960"/>
            <a:ext cx="763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alyze what accounts will be affected and how in the following transaction:  Received cash from owner as an inve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75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bit Cash; Credit Capi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75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5562720"/>
            <a:ext cx="76392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journal would this transaction by in?  Received cash from sale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7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sh Receip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75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5562720"/>
            <a:ext cx="763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Mrs. Talbot’s favorite ethnic food? (Italian, German, Mexican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75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5486400"/>
            <a:ext cx="763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xican (especially tamales with pork chil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75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5303880"/>
            <a:ext cx="763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journal would the following be recorded?  Paid cash to owner for personal 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75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sh Pay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75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5562720"/>
            <a:ext cx="763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any brothers and sisters does Mrs. Talbot h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75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2438280" y="4724280"/>
            <a:ext cx="462276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rs. Talbo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" name=""/>
          <p:cNvSpPr/>
          <p:nvPr/>
        </p:nvSpPr>
        <p:spPr>
          <a:xfrm>
            <a:off x="3660840" y="83808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9440" y="3429000"/>
            <a:ext cx="39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 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5760" y="2057400"/>
            <a:ext cx="353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oofy Re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75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5486400"/>
            <a:ext cx="763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 endorsement restricting further transfer of a check’s ownership is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75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strictive endors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56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68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73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85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8160" y="100080"/>
            <a:ext cx="1101960" cy="2109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33640" y="2741760"/>
            <a:ext cx="1768680" cy="939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0652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80324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00800" y="2481120"/>
            <a:ext cx="1152360" cy="1176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96380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86200" y="5159520"/>
            <a:ext cx="1752480" cy="537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8492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15620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752480" y="93600"/>
            <a:ext cx="1524240" cy="1069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14600" y="220176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ring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14600" y="21258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ewey Cheatum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nita Hugginkis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vana Win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eymour Mone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14600" y="22780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hil R. Up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raven Sumfood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e V. Mediatel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ma B. Utiful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and E. Beache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6600" y="100080"/>
            <a:ext cx="1101600" cy="2109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72080" y="2741760"/>
            <a:ext cx="1768320" cy="939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4460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4168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238880" y="2481120"/>
            <a:ext cx="1152720" cy="1176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80188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24280" y="5159520"/>
            <a:ext cx="1752840" cy="537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62300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99428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590920" y="93600"/>
            <a:ext cx="1523880" cy="1069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8720" y="5818320"/>
            <a:ext cx="76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uble lines below a column total indicate that the total has been verified as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75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75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8720" y="5818320"/>
            <a:ext cx="76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ying cash on account will be recorded in the ________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75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sh Pay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75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8720" y="5818320"/>
            <a:ext cx="76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ught supplies on account from Dell Supplies would be in which journ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75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User</cp:lastModifiedBy>
  <dcterms:modified xsi:type="dcterms:W3CDTF">2008-04-14T17:05:28Z</dcterms:modified>
  <cp:revision>31</cp:revision>
  <dc:subject/>
  <dc:title>No Slide Title</dc:title>
</cp:coreProperties>
</file>