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7E95-12EB-4A86-A4FC-09EA61B1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3CB4-FA25-47AD-B60F-EC3A31ED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2057-6105-4F65-9141-9CC5FB3C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9E12-0925-4C05-8798-60A2CB74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9FD4-E59A-4ACB-B992-7F64246D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4D3C-41D6-4AD3-AD7B-F7954E32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D556-C145-4CCB-9975-0C9E13D5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5FAC-74ED-4605-83D6-D5E92ED5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64C5-19A3-4CA4-863B-38768D00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32D6-07AE-45E7-99A5-3E7454CF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088F-F803-4961-B47F-AA5D3C03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FF42-2618-48CC-80C2-32C9D11B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2f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93CF-781F-4FED-9C6D-27468CA73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2f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easonal Events of th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White-tailed De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’s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2f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ring Event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(mid-March to mid-Jun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3886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eeding Habit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feed on succulent vegetation and perennial for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previousslide"/>
          </p:cNvPr>
          <p:cNvSpPr/>
          <p:nvPr/>
        </p:nvSpPr>
        <p:spPr>
          <a:xfrm>
            <a:off x="8077320" y="6324480"/>
            <a:ext cx="509400" cy="53352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33520"/>
              <a:gd name="textAreaBottom" fmla="*/ 500760 h 533520"/>
            </a:gdLst>
            <a:ahLst/>
            <a:rect l="textAreaLeft" t="textAreaTop" r="textAreaRight" b="textAreaBottom"/>
            <a:pathLst>
              <a:path w="21600" h="22622">
                <a:moveTo>
                  <a:pt x="0" y="0"/>
                </a:moveTo>
                <a:lnTo>
                  <a:pt x="21600" y="0"/>
                </a:lnTo>
                <a:lnTo>
                  <a:pt x="21600" y="22622"/>
                </a:lnTo>
                <a:lnTo>
                  <a:pt x="0" y="22622"/>
                </a:lnTo>
                <a:close/>
              </a:path>
              <a:path fill="lightenLess" w="21600" h="22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22">
                <a:moveTo>
                  <a:pt x="21600" y="0"/>
                </a:moveTo>
                <a:lnTo>
                  <a:pt x="21600" y="22622"/>
                </a:lnTo>
                <a:lnTo>
                  <a:pt x="20200" y="21222"/>
                </a:lnTo>
                <a:lnTo>
                  <a:pt x="20200" y="1400"/>
                </a:lnTo>
                <a:close/>
              </a:path>
              <a:path fill="darkenLess" w="21600" h="22622">
                <a:moveTo>
                  <a:pt x="21600" y="22622"/>
                </a:moveTo>
                <a:lnTo>
                  <a:pt x="0" y="22622"/>
                </a:lnTo>
                <a:lnTo>
                  <a:pt x="1400" y="21222"/>
                </a:lnTo>
                <a:lnTo>
                  <a:pt x="20200" y="21222"/>
                </a:lnTo>
                <a:close/>
              </a:path>
              <a:path fill="lighten" w="21600" h="22622">
                <a:moveTo>
                  <a:pt x="0" y="22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22"/>
                </a:lnTo>
                <a:close/>
              </a:path>
              <a:path fill="darken" w="21600" h="22622">
                <a:moveTo>
                  <a:pt x="3794" y="11311"/>
                </a:moveTo>
                <a:lnTo>
                  <a:pt x="17806" y="4305"/>
                </a:lnTo>
                <a:lnTo>
                  <a:pt x="17806" y="1831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deer4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114800" cy="3416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637160" y="571176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 courtesy of Missouri Department of Con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733920"/>
            <a:ext cx="399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productive Cyc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wns are bo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560" y="4800600"/>
            <a:ext cx="337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the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ler growth beg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84640" y="6343560"/>
            <a:ext cx="396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ick on slides to advance cont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2f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er Event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(mid-June to mid-Septemb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191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eeding Habit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elective feeding on most nutritious and palatable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8077320" y="6324480"/>
            <a:ext cx="509400" cy="53352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33520"/>
              <a:gd name="textAreaBottom" fmla="*/ 500760 h 533520"/>
            </a:gdLst>
            <a:ahLst/>
            <a:rect l="textAreaLeft" t="textAreaTop" r="textAreaRight" b="textAreaBottom"/>
            <a:pathLst>
              <a:path w="21600" h="22622">
                <a:moveTo>
                  <a:pt x="0" y="0"/>
                </a:moveTo>
                <a:lnTo>
                  <a:pt x="21600" y="0"/>
                </a:lnTo>
                <a:lnTo>
                  <a:pt x="21600" y="22622"/>
                </a:lnTo>
                <a:lnTo>
                  <a:pt x="0" y="22622"/>
                </a:lnTo>
                <a:close/>
              </a:path>
              <a:path fill="lightenLess" w="21600" h="22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22">
                <a:moveTo>
                  <a:pt x="21600" y="0"/>
                </a:moveTo>
                <a:lnTo>
                  <a:pt x="21600" y="22622"/>
                </a:lnTo>
                <a:lnTo>
                  <a:pt x="20200" y="21222"/>
                </a:lnTo>
                <a:lnTo>
                  <a:pt x="20200" y="1400"/>
                </a:lnTo>
                <a:close/>
              </a:path>
              <a:path fill="darkenLess" w="21600" h="22622">
                <a:moveTo>
                  <a:pt x="21600" y="22622"/>
                </a:moveTo>
                <a:lnTo>
                  <a:pt x="0" y="22622"/>
                </a:lnTo>
                <a:lnTo>
                  <a:pt x="1400" y="21222"/>
                </a:lnTo>
                <a:lnTo>
                  <a:pt x="20200" y="21222"/>
                </a:lnTo>
                <a:close/>
              </a:path>
              <a:path fill="lighten" w="21600" h="22622">
                <a:moveTo>
                  <a:pt x="0" y="22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22"/>
                </a:lnTo>
                <a:close/>
              </a:path>
              <a:path fill="darken" w="21600" h="22622">
                <a:moveTo>
                  <a:pt x="3794" y="11311"/>
                </a:moveTo>
                <a:lnTo>
                  <a:pt x="17806" y="4305"/>
                </a:lnTo>
                <a:lnTo>
                  <a:pt x="17806" y="1831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deer1" descr=""/>
          <p:cNvPicPr/>
          <p:nvPr/>
        </p:nvPicPr>
        <p:blipFill>
          <a:blip r:embed="rId1"/>
          <a:stretch/>
        </p:blipFill>
        <p:spPr>
          <a:xfrm>
            <a:off x="4648320" y="2438280"/>
            <a:ext cx="4124160" cy="2841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67320" y="532764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 courtesy of Missouri Department of Con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1840" y="3276720"/>
            <a:ext cx="367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productive Cycl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wns are born; fu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ler size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724280"/>
            <a:ext cx="4191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ther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l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reddish-brown); faw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se spots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6356520"/>
            <a:ext cx="39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ick on slides to advance cont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2f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72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all Event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mid-September to mid-Decemb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eeding Habits: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ess feeding on succulent plants and more feeding on acorns, twigs, fruit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8077320" y="6324480"/>
            <a:ext cx="509400" cy="53352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33520"/>
              <a:gd name="textAreaBottom" fmla="*/ 500760 h 533520"/>
            </a:gdLst>
            <a:ahLst/>
            <a:rect l="textAreaLeft" t="textAreaTop" r="textAreaRight" b="textAreaBottom"/>
            <a:pathLst>
              <a:path w="21600" h="22622">
                <a:moveTo>
                  <a:pt x="0" y="0"/>
                </a:moveTo>
                <a:lnTo>
                  <a:pt x="21600" y="0"/>
                </a:lnTo>
                <a:lnTo>
                  <a:pt x="21600" y="22622"/>
                </a:lnTo>
                <a:lnTo>
                  <a:pt x="0" y="22622"/>
                </a:lnTo>
                <a:close/>
              </a:path>
              <a:path fill="lightenLess" w="21600" h="22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22">
                <a:moveTo>
                  <a:pt x="21600" y="0"/>
                </a:moveTo>
                <a:lnTo>
                  <a:pt x="21600" y="22622"/>
                </a:lnTo>
                <a:lnTo>
                  <a:pt x="20200" y="21222"/>
                </a:lnTo>
                <a:lnTo>
                  <a:pt x="20200" y="1400"/>
                </a:lnTo>
                <a:close/>
              </a:path>
              <a:path fill="darkenLess" w="21600" h="22622">
                <a:moveTo>
                  <a:pt x="21600" y="22622"/>
                </a:moveTo>
                <a:lnTo>
                  <a:pt x="0" y="22622"/>
                </a:lnTo>
                <a:lnTo>
                  <a:pt x="1400" y="21222"/>
                </a:lnTo>
                <a:lnTo>
                  <a:pt x="20200" y="21222"/>
                </a:lnTo>
                <a:close/>
              </a:path>
              <a:path fill="lighten" w="21600" h="22622">
                <a:moveTo>
                  <a:pt x="0" y="22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22"/>
                </a:lnTo>
                <a:close/>
              </a:path>
              <a:path fill="darken" w="21600" h="22622">
                <a:moveTo>
                  <a:pt x="3794" y="11311"/>
                </a:moveTo>
                <a:lnTo>
                  <a:pt x="17806" y="4305"/>
                </a:lnTo>
                <a:lnTo>
                  <a:pt x="17806" y="1831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deerfight" descr=""/>
          <p:cNvPicPr/>
          <p:nvPr/>
        </p:nvPicPr>
        <p:blipFill>
          <a:blip r:embed="rId1"/>
          <a:stretch/>
        </p:blipFill>
        <p:spPr>
          <a:xfrm>
            <a:off x="4419720" y="2189160"/>
            <a:ext cx="4457520" cy="2536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357800" y="480384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 courtesy of Missouri Department of Con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840" y="3424320"/>
            <a:ext cx="367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productive Cycl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come into hea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eding season (rut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cks defend terri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5141880"/>
            <a:ext cx="441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ther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l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ray winter colors beg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78160" y="6391440"/>
            <a:ext cx="39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ick on slides to advance cont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2f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nter Event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mid-December to mid-Mar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eeding Habit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rimarily feed on aco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whitetail%20deer" descr=""/>
          <p:cNvPicPr/>
          <p:nvPr/>
        </p:nvPicPr>
        <p:blipFill>
          <a:blip r:embed="rId1"/>
          <a:srcRect l="0" t="0" r="0" b="12794"/>
          <a:stretch/>
        </p:blipFill>
        <p:spPr>
          <a:xfrm>
            <a:off x="4267080" y="2133720"/>
            <a:ext cx="4572000" cy="3006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79960" y="522288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 courtesy of Missouri Department of Con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8634240" y="6348240"/>
            <a:ext cx="509760" cy="50976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previousslide"/>
          </p:cNvPr>
          <p:cNvSpPr/>
          <p:nvPr/>
        </p:nvSpPr>
        <p:spPr>
          <a:xfrm>
            <a:off x="8153280" y="6348240"/>
            <a:ext cx="509760" cy="50976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42900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productive Cycl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d does are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4876920"/>
            <a:ext cx="4038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ther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lers shed; have g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ter coat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30720" y="6391440"/>
            <a:ext cx="396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ick on slides to advance cont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2f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ringer, Jeff, Lonnie P. Hansen.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issouri Whitetails: A Management Guide for Landowners and Deer Enthusias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Missouri Department of Conservation, 199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sh and Wildlife Management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issouri Department of Conservation and University of Missouri-Columbia: Instructional Materials Laboratory, 198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yland, Jim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he Missouri Deer Ga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Missouri Department of Conservation, 199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8077320" y="6324480"/>
            <a:ext cx="509400" cy="53352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33520"/>
              <a:gd name="textAreaBottom" fmla="*/ 500760 h 533520"/>
            </a:gdLst>
            <a:ahLst/>
            <a:rect l="textAreaLeft" t="textAreaTop" r="textAreaRight" b="textAreaBottom"/>
            <a:pathLst>
              <a:path w="21600" h="22622">
                <a:moveTo>
                  <a:pt x="0" y="0"/>
                </a:moveTo>
                <a:lnTo>
                  <a:pt x="21600" y="0"/>
                </a:lnTo>
                <a:lnTo>
                  <a:pt x="21600" y="22622"/>
                </a:lnTo>
                <a:lnTo>
                  <a:pt x="0" y="22622"/>
                </a:lnTo>
                <a:close/>
              </a:path>
              <a:path fill="lightenLess" w="21600" h="22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22">
                <a:moveTo>
                  <a:pt x="21600" y="0"/>
                </a:moveTo>
                <a:lnTo>
                  <a:pt x="21600" y="22622"/>
                </a:lnTo>
                <a:lnTo>
                  <a:pt x="20200" y="21222"/>
                </a:lnTo>
                <a:lnTo>
                  <a:pt x="20200" y="1400"/>
                </a:lnTo>
                <a:close/>
              </a:path>
              <a:path fill="darkenLess" w="21600" h="22622">
                <a:moveTo>
                  <a:pt x="21600" y="22622"/>
                </a:moveTo>
                <a:lnTo>
                  <a:pt x="0" y="22622"/>
                </a:lnTo>
                <a:lnTo>
                  <a:pt x="1400" y="21222"/>
                </a:lnTo>
                <a:lnTo>
                  <a:pt x="20200" y="21222"/>
                </a:lnTo>
                <a:close/>
              </a:path>
              <a:path fill="lighten" w="21600" h="22622">
                <a:moveTo>
                  <a:pt x="0" y="22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22"/>
                </a:lnTo>
                <a:close/>
              </a:path>
              <a:path fill="darken" w="21600" h="22622">
                <a:moveTo>
                  <a:pt x="3794" y="11311"/>
                </a:moveTo>
                <a:lnTo>
                  <a:pt x="17806" y="4305"/>
                </a:lnTo>
                <a:lnTo>
                  <a:pt x="17806" y="1831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9T16:09:20Z</dcterms:created>
  <dc:creator>IMLStudent</dc:creator>
  <dc:description/>
  <dc:language>en-US</dc:language>
  <cp:lastModifiedBy>IML</cp:lastModifiedBy>
  <cp:lastPrinted>2000-11-22T14:58:39Z</cp:lastPrinted>
  <dcterms:modified xsi:type="dcterms:W3CDTF">2001-06-08T16:02:04Z</dcterms:modified>
  <cp:revision>24</cp:revision>
  <dc:subject/>
  <dc:title>Life Cycle of the White-tailed Deer</dc:title>
</cp:coreProperties>
</file>