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BAA-CB0B-406D-B014-75D07FE8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EFF-73DE-4D21-8F09-A639325E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B94-2C86-417E-9996-45FAEB33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60B-3A8F-4FFE-9463-B64A7222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6849-9CC1-4D6D-82A4-87007F0F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9105-2840-4E37-9BF9-54875F8C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0433-748D-4F96-8CF6-1389CF5F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BD81-4BE6-4C26-9B95-983C820C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6054-D35E-4548-A453-1042A14B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B7B0-9F64-488E-928C-997DB6BA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69E0-D05F-4290-8ADB-C4197613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1D6-A8C0-4EA5-9723-4722A940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5E71-28D0-4EC4-BCE8-F2105A2B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EB25-46EF-43FB-9867-5995E91F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B648-2357-44E5-A7D1-1DC78C0D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9188-D6EA-4396-B3ED-DC0B647A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A619-84F2-4AA4-8E16-FF5DA401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17E-1583-45D8-AC38-2542631D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903-01E9-450F-8385-A404E5AE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11F-ECE5-493C-8803-823B2353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854-29BB-4483-9844-9EAE9A18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13E-8E28-4D5E-AEDE-911F977A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3B1-D967-4247-A708-BB7DB94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B1F-69E4-4CC4-8AE9-78132E71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CD6A-0142-4C59-9E41-991FF37B8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ED40-C6DE-4359-B289-49892C05B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nt Identificatio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’s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126040" y="685800"/>
            <a:ext cx="3276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ommon nam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bull thistl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8"/>
                </a:lnTo>
                <a:lnTo>
                  <a:pt x="3794" y="178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26040" y="1600200"/>
            <a:ext cx="358128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Life cycl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bienni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26040" y="2514600"/>
            <a:ext cx="259092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orb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886200"/>
            <a:ext cx="38811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dentifying characteristic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eddish-purple disk flowers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leaf bases continue down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tem, spine-tipped bract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bullthistle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57600" cy="548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5400" y="38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on slides to advance cont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3435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gital picture captured by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tudent na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13360" y="714240"/>
            <a:ext cx="31240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ommon nam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buckhorn plantai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4674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8280" y="1295280"/>
            <a:ext cx="2819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Life cycl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erenni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72040" y="2274840"/>
            <a:ext cx="24382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orb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73480" y="3701880"/>
            <a:ext cx="374796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dentifying characteristic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lanceolate leaves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leaves in basal rosette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rominent parallel venation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n leav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buckplantain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57600" cy="5487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280" y="0"/>
            <a:ext cx="43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on slides to advance cont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3435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gital picture captured by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tudent na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971960" y="533520"/>
            <a:ext cx="3429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ommon nam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            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big blueste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76201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71960" y="1371600"/>
            <a:ext cx="28958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Life cycl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                  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erenni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37040" y="2590920"/>
            <a:ext cx="305604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warm-season gras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2120" y="4191120"/>
            <a:ext cx="374796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dentifying characteristic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aceme inflorescence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leaves are blue/purple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grows in clump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big%20bluestem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251160" cy="5487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8600" y="0"/>
            <a:ext cx="41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on slides to advance cont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3435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anned image captured by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tudent na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2400" y="1600200"/>
            <a:ext cx="21204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Life cycl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ummer annu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1320" y="2660760"/>
            <a:ext cx="261936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warm-season gras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773520"/>
            <a:ext cx="374796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dentifying characteristic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grows prostrate to ground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embranous ligule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heaths are smoot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99160" y="380880"/>
            <a:ext cx="23857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ommon nam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goosegras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405640" y="608796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goosegrass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35440" cy="5487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on slides to advance cont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63435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anned image captured by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tudent na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e, Kenneth L., Michael D. Porter, Steve Demarais, Fred C. Bryant, and Gary Van Vreede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hite-tailed Deer: Their Foods and Management in the Cross Timb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Ardmore, OK: The Samuel Roberts Noble Foundation, 199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va, Richard H., Joseph C. Neal, and Joseph M. DiTomaso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eeds of the Northea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Ithaca, NY: Cornell University Press, 199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74674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059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13:28:22Z</dcterms:created>
  <dc:creator>Dwayne Cartmell</dc:creator>
  <dc:description/>
  <dc:language>en-US</dc:language>
  <cp:lastModifiedBy>IML</cp:lastModifiedBy>
  <cp:lastPrinted>2000-10-30T15:20:15Z</cp:lastPrinted>
  <dcterms:modified xsi:type="dcterms:W3CDTF">2001-06-13T19:15:31Z</dcterms:modified>
  <cp:revision>51</cp:revision>
  <dc:subject/>
  <dc:title>No Slide Title</dc:title>
</cp:coreProperties>
</file>