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2FD-BE91-4518-924C-394C1918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7BA-1AB5-42DD-A0A0-3EB26C33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8C0-F967-44C6-80DB-996CE0AC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420-1DA1-4FE3-B2FE-51D58AD3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AE6-EEDB-4155-8EA9-7436452F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EB6-6FDF-4B98-B34B-F33CC282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E31-1069-47A7-8F2A-2BF5F0A1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08F-402A-48EA-8672-B4F7066F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162-E2A7-4089-86BD-315574C7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E4C-AC3E-45BF-8B37-92AF61E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6BC-B680-4721-B2AD-C59FF61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818-34B7-47E4-890C-1142510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CB35-8307-400C-8DA5-950F3DC21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38280" y="22860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Drawing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\\Iml-files-1\Data1\PROJECTS\Agricultural Education\Online Curriculum\10-1000-A Agricultural Science II\Agricultural Mechanics II\Unit 6\Unit 6 Plan Reading Images\Common Drawing Symbols.gif"/>
          <p:cNvPicPr/>
          <p:nvPr/>
        </p:nvPicPr>
        <p:blipFill>
          <a:blip r:embed="rId1"/>
          <a:stretch/>
        </p:blipFill>
        <p:spPr>
          <a:xfrm>
            <a:off x="2362320" y="1052640"/>
            <a:ext cx="44193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438280" y="2286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Lines and Dimension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\\Iml-files-1\Data1\PROJECTS\Agricultural Education\Online Curriculum\10-1000-A Agricultural Science II\Agricultural Mechanics II\Unit 6\Lesson 2\Images\Drawing Lines.gif"/>
          <p:cNvPicPr/>
          <p:nvPr/>
        </p:nvPicPr>
        <p:blipFill>
          <a:blip r:embed="rId1"/>
          <a:stretch/>
        </p:blipFill>
        <p:spPr>
          <a:xfrm>
            <a:off x="4357800" y="1143000"/>
            <a:ext cx="425268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\\Iml-files-1\Data1\PROJECTS\Agricultural Education\Online Curriculum\10-1000-A Agricultural Science II\Agricultural Mechanics II\Unit 6\Lesson 2\Images\Dimensioning Techniques.gif"/>
          <p:cNvPicPr/>
          <p:nvPr/>
        </p:nvPicPr>
        <p:blipFill>
          <a:blip r:embed="rId2"/>
          <a:stretch/>
        </p:blipFill>
        <p:spPr>
          <a:xfrm>
            <a:off x="390600" y="3946680"/>
            <a:ext cx="3267000" cy="2835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2057400" y="1371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809880" y="51926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ing dimen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666880" y="228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ing a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\\Iml-files-1\Data1\PROJECTS\Agricultural Education\Online Curriculum\10-1000-A Agricultural Science II\Agricultural Mechanics II\Unit 6\Lesson 2\Images\Dimensioning a Drawing.gif"/>
          <p:cNvPicPr/>
          <p:nvPr/>
        </p:nvPicPr>
        <p:blipFill>
          <a:blip r:embed="rId1"/>
          <a:stretch/>
        </p:blipFill>
        <p:spPr>
          <a:xfrm>
            <a:off x="2362320" y="990720"/>
            <a:ext cx="445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8-01-10T15:08:13Z</dcterms:modified>
  <cp:revision>30</cp:revision>
  <dc:subject/>
  <dc:title>Slide 1</dc:title>
</cp:coreProperties>
</file>