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30D3-1AB3-4A20-A6A1-D397F645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24D7-0B2D-4983-8E55-E3A9BEAC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6AB4-43DD-4488-A96F-C97701BB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7FDC-39F7-4FC4-9E76-155003E1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A185-81B8-49A8-84D1-86FA7902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E171-76DF-426A-A7C5-117A5102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D2C4-44B5-4405-9D51-F9A54BFC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D986-30D8-4795-9274-EAA29D45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1547-456D-4A93-ABEA-DB5912EE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42C6-31B3-432E-9D89-878581EE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D6E6-4778-4319-90BE-506A5847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3EB6-494D-4063-AED1-C90A1F5E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24D0-3331-47FE-B692-324A3512C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895480" y="152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ortion in We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\\Iml-files-1\Data1\PROJECTS\Agricultural Education\Online Curriculum\10-1000-A Agricultural Science II\Agricultural Mechanics II\Unit 2\Lesson 2\Unit 2 Arc Welding Distortion\Distortion in Welding.jpg"/>
          <p:cNvPicPr/>
          <p:nvPr/>
        </p:nvPicPr>
        <p:blipFill>
          <a:blip r:embed="rId1"/>
          <a:stretch/>
        </p:blipFill>
        <p:spPr>
          <a:xfrm>
            <a:off x="2228760" y="609480"/>
            <a:ext cx="49672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1447920" y="1522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ding Techniques to Control Dist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\\Iml-files-1\Data1\PROJECTS\Agricultural Education\Online Curriculum\10-1000-A Agricultural Science II\Agricultural Mechanics II\Unit 2\Lesson 2\Unit 2 Arc Welding Distortion\Controlling Distortion - Preheating.jpg"/>
          <p:cNvPicPr/>
          <p:nvPr/>
        </p:nvPicPr>
        <p:blipFill>
          <a:blip r:embed="rId1"/>
          <a:stretch/>
        </p:blipFill>
        <p:spPr>
          <a:xfrm>
            <a:off x="609480" y="685800"/>
            <a:ext cx="2405160" cy="3505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\\Iml-files-1\Data1\PROJECTS\Agricultural Education\Online Curriculum\10-1000-A Agricultural Science II\Agricultural Mechanics II\Unit 2\Lesson 2\Unit 2 Arc Welding Distortion\Controlling Distortion - Tack Welding.jpg"/>
          <p:cNvPicPr/>
          <p:nvPr/>
        </p:nvPicPr>
        <p:blipFill>
          <a:blip r:embed="rId2"/>
          <a:stretch/>
        </p:blipFill>
        <p:spPr>
          <a:xfrm>
            <a:off x="5289480" y="685800"/>
            <a:ext cx="3321000" cy="388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\\Iml-files-1\Data1\PROJECTS\Agricultural Education\Online Curriculum\10-1000-A Agricultural Science II\Agricultural Mechanics II\Unit 2\Lesson 2\Unit 2 Arc Welding Distortion\Controlling Distortion - Positioning.jpg"/>
          <p:cNvPicPr/>
          <p:nvPr/>
        </p:nvPicPr>
        <p:blipFill>
          <a:blip r:embed="rId3"/>
          <a:stretch/>
        </p:blipFill>
        <p:spPr>
          <a:xfrm>
            <a:off x="2998800" y="3962520"/>
            <a:ext cx="340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1447920" y="1522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ding Techniques to Control Dist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\\Iml-files-1\Data1\PROJECTS\Agricultural Education\Online Curriculum\10-1000-A Agricultural Science II\Agricultural Mechanics II\Unit 2\Lesson 2\Unit 2 Arc Welding Distortion\Controlling Distortion - Intermittent and Staggered Beads.jpg"/>
          <p:cNvPicPr/>
          <p:nvPr/>
        </p:nvPicPr>
        <p:blipFill>
          <a:blip r:embed="rId1"/>
          <a:stretch/>
        </p:blipFill>
        <p:spPr>
          <a:xfrm>
            <a:off x="762120" y="609480"/>
            <a:ext cx="3100320" cy="2333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\\Iml-files-1\Data1\PROJECTS\Agricultural Education\Online Curriculum\10-1000-A Agricultural Science II\Agricultural Mechanics II\Unit 2\Lesson 2\Unit 2 Arc Welding Distortion\Controlling Distortion - Prebending.jpg"/>
          <p:cNvPicPr/>
          <p:nvPr/>
        </p:nvPicPr>
        <p:blipFill>
          <a:blip r:embed="rId2"/>
          <a:stretch/>
        </p:blipFill>
        <p:spPr>
          <a:xfrm>
            <a:off x="1139760" y="3962520"/>
            <a:ext cx="2594160" cy="198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\\Iml-files-1\Data1\PROJECTS\Agricultural Education\Online Curriculum\10-1000-A Agricultural Science II\Agricultural Mechanics II\Unit 2\Lesson 2\Unit 2 Arc Welding Distortion\Controlling Distortion - Using Clamps.jpg"/>
          <p:cNvPicPr/>
          <p:nvPr/>
        </p:nvPicPr>
        <p:blipFill>
          <a:blip r:embed="rId3"/>
          <a:stretch/>
        </p:blipFill>
        <p:spPr>
          <a:xfrm>
            <a:off x="5697360" y="762120"/>
            <a:ext cx="2684520" cy="259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\\Iml-files-1\Data1\PROJECTS\Agricultural Education\Online Curriculum\10-1000-A Agricultural Science II\Agricultural Mechanics II\Unit 2\Lesson 2\Unit 2 Arc Welding Distortion\Controlling Distortion - Using Jigs.jpg"/>
          <p:cNvPicPr/>
          <p:nvPr/>
        </p:nvPicPr>
        <p:blipFill>
          <a:blip r:embed="rId4"/>
          <a:stretch/>
        </p:blipFill>
        <p:spPr>
          <a:xfrm>
            <a:off x="6245280" y="3886200"/>
            <a:ext cx="2136600" cy="2514600"/>
          </a:xfrm>
          <a:prstGeom prst="rect">
            <a:avLst/>
          </a:prstGeom>
          <a:ln w="0">
            <a:noFill/>
          </a:ln>
        </p:spPr>
      </p:pic>
      <p:sp>
        <p:nvSpPr>
          <p:cNvPr id="52" name="TextBox 9"/>
          <p:cNvSpPr/>
          <p:nvPr/>
        </p:nvSpPr>
        <p:spPr>
          <a:xfrm>
            <a:off x="457200" y="294336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ing intermittent and staggered be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914400" y="601992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bending and using cla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2133720" y="1522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ortion and Residual St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\\Iml-files-1\Data1\PROJECTS\Agricultural Education\Online Curriculum\10-1000-A Agricultural Science II\Agricultural Mechanics II\Unit 2\Lesson 2\Unit 2 Arc Welding Distortion\Residual Stress - Clamped.jpg"/>
          <p:cNvPicPr/>
          <p:nvPr/>
        </p:nvPicPr>
        <p:blipFill>
          <a:blip r:embed="rId1"/>
          <a:stretch/>
        </p:blipFill>
        <p:spPr>
          <a:xfrm>
            <a:off x="3790800" y="609480"/>
            <a:ext cx="5353200" cy="3171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\\Iml-files-1\Data1\PROJECTS\Agricultural Education\Online Curriculum\10-1000-A Agricultural Science II\Agricultural Mechanics II\Unit 2\Lesson 2\Unit 2 Arc Welding Distortion\Residual Stress - Unclamped.jpg"/>
          <p:cNvPicPr/>
          <p:nvPr/>
        </p:nvPicPr>
        <p:blipFill>
          <a:blip r:embed="rId2"/>
          <a:stretch/>
        </p:blipFill>
        <p:spPr>
          <a:xfrm>
            <a:off x="212760" y="3733920"/>
            <a:ext cx="52736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3:29:46Z</dcterms:created>
  <dc:creator>LevsenJ</dc:creator>
  <dc:description/>
  <dc:language>en-US</dc:language>
  <cp:lastModifiedBy>GladneyCW</cp:lastModifiedBy>
  <dcterms:modified xsi:type="dcterms:W3CDTF">2007-12-03T18:35:43Z</dcterms:modified>
  <cp:revision>27</cp:revision>
  <dc:subject/>
  <dc:title>Slide 1</dc:title>
</cp:coreProperties>
</file>