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580-7EFB-4813-A5C7-5A9C6307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E5F-800A-4468-9D9B-47546C20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272-AC78-4251-9B42-8A49E53E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DFF-A45D-4C52-B451-662FD357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DAE-5993-4706-BCE6-9FB7B05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13D-6DC6-45C6-B93D-84D6713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8E1-D579-4B04-AC8E-145B7543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CCD-60F0-49A9-9775-6B59C0A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4AF-15B8-4A71-B9D7-F56B5F62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289-ACC6-4BB2-8701-6934B54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751-28A4-4DB8-8340-190AAA0C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BC7-3807-4E97-848A-E62AADA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62D9-9ED4-407A-869B-FDDC348C9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66688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de Color Mar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Iml-files-1\Data1\PROJECTS\Agricultural Education\Online Curriculum\10-1000-A Agricultural Science II\Agricultural Mechanics II\Unit 2\Lesson 3\Images\NEMA Color Markings.gif"/>
          <p:cNvPicPr/>
          <p:nvPr/>
        </p:nvPicPr>
        <p:blipFill>
          <a:blip r:embed="rId1"/>
          <a:stretch/>
        </p:blipFill>
        <p:spPr>
          <a:xfrm>
            <a:off x="762120" y="1305000"/>
            <a:ext cx="7619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2880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S Classification and Desig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\\Iml-files-1\Data1\PROJECTS\Agricultural Education\Online Curriculum\10-1000-A Agricultural Science II\Agricultural Mechanics II\Unit 2\Lesson 3\Images\AWS Classification.jpg"/>
          <p:cNvPicPr/>
          <p:nvPr/>
        </p:nvPicPr>
        <p:blipFill>
          <a:blip r:embed="rId1"/>
          <a:stretch/>
        </p:blipFill>
        <p:spPr>
          <a:xfrm>
            <a:off x="4572000" y="1566720"/>
            <a:ext cx="4143240" cy="94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\\Iml-files-1\Data1\PROJECTS\Agricultural Education\Online Curriculum\10-1000-A Agricultural Science II\Agricultural Mechanics II\Unit 2\Lesson 3\Images\AWS Designators Breakdown.gif"/>
          <p:cNvPicPr/>
          <p:nvPr/>
        </p:nvPicPr>
        <p:blipFill>
          <a:blip r:embed="rId2"/>
          <a:stretch/>
        </p:blipFill>
        <p:spPr>
          <a:xfrm>
            <a:off x="838080" y="3649680"/>
            <a:ext cx="4114800" cy="3056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343400" y="100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S classification marked on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8580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down of desig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74320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de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415880" y="636732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 American Welding Society (AWS) Committee on Filler Metal, 1991, Specification for Carbon Steel Electrodes for Shielded Metal Arc Welding, ANSI/AWS A5.1-91, Miami: American Welding Society, Table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565200"/>
            <a:ext cx="62485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ve Eye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\\Iml-files-1\Data1\PROJECTS\Agricultural Education\Online Curriculum\10-1000-A Agricultural Science II\Agricultural Mechanics II\Unit 2\Lesson 3\Images\Welding Helmet.jpg"/>
          <p:cNvPicPr/>
          <p:nvPr/>
        </p:nvPicPr>
        <p:blipFill>
          <a:blip r:embed="rId1"/>
          <a:stretch/>
        </p:blipFill>
        <p:spPr>
          <a:xfrm>
            <a:off x="4824360" y="762120"/>
            <a:ext cx="3252960" cy="28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\\Iml-files-1\Data1\PROJECTS\Agricultural Education\Online Curriculum\10-1000-A Agricultural Science II\Agricultural Mechanics II\Unit 2\Lesson 3\Images\Welding Lens Exploded View.jpg"/>
          <p:cNvPicPr/>
          <p:nvPr/>
        </p:nvPicPr>
        <p:blipFill>
          <a:blip r:embed="rId2"/>
          <a:stretch/>
        </p:blipFill>
        <p:spPr>
          <a:xfrm>
            <a:off x="152280" y="3809880"/>
            <a:ext cx="4716720" cy="2776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990720" y="1230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ding helmet with flip-up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72000" y="43545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s of welding helmet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streeterr</cp:lastModifiedBy>
  <dcterms:modified xsi:type="dcterms:W3CDTF">2008-03-13T16:57:28Z</dcterms:modified>
  <cp:revision>33</cp:revision>
  <dc:subject/>
  <dc:title>Slide 1</dc:title>
</cp:coreProperties>
</file>