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EFC-2447-448B-8FB9-98404A76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F2FE-7669-4D84-AC0F-D133E81F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BF96-9942-4510-8CD2-3E784BEE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652D-D351-413B-A27D-7F31603D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8CE7-5F6A-44CB-B9C1-D029BE2B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46DD-A139-40A1-BC77-213441E9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ED3-18D0-4662-852C-79071EB0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C04F-CDBF-4710-8935-00E8F6CE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DA8F-A124-4DE4-BF40-48C9832B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E1A9-9532-4CA3-A5E6-CC0796AD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9588-84ED-41C3-8AA7-BE28AA1B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E245-FD81-469B-B7AF-9BF22B46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9E5F-C6F8-445E-89C1-4EEB7B4BA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057400" y="152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ive Clothing for We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5440320" y="5410080"/>
            <a:ext cx="1600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\\Iml-files-1\Data1\PROJECTS\Agricultural Education\Online Curriculum\Agricultural Science I\Agricultural Mechanics I\Unit 5\Lesson 1\Images\Welding Safety Clothes.jpg"/>
          <p:cNvPicPr/>
          <p:nvPr/>
        </p:nvPicPr>
        <p:blipFill>
          <a:blip r:embed="rId1"/>
          <a:stretch/>
        </p:blipFill>
        <p:spPr>
          <a:xfrm>
            <a:off x="2471760" y="685800"/>
            <a:ext cx="4233960" cy="6124680"/>
          </a:xfrm>
          <a:prstGeom prst="rect">
            <a:avLst/>
          </a:prstGeom>
          <a:ln w="0">
            <a:noFill/>
          </a:ln>
        </p:spPr>
      </p:pic>
      <p:sp>
        <p:nvSpPr>
          <p:cNvPr id="44" name="Freeform 10"/>
          <p:cNvSpPr/>
          <p:nvPr/>
        </p:nvSpPr>
        <p:spPr>
          <a:xfrm>
            <a:off x="2401920" y="1066680"/>
            <a:ext cx="1255680" cy="77976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11"/>
          <p:cNvSpPr/>
          <p:nvPr/>
        </p:nvSpPr>
        <p:spPr>
          <a:xfrm>
            <a:off x="5257800" y="609480"/>
            <a:ext cx="1255680" cy="77976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3"/>
          <p:cNvSpPr/>
          <p:nvPr/>
        </p:nvSpPr>
        <p:spPr>
          <a:xfrm>
            <a:off x="5486400" y="1506600"/>
            <a:ext cx="1244520" cy="77940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5"/>
          <p:cNvSpPr/>
          <p:nvPr/>
        </p:nvSpPr>
        <p:spPr>
          <a:xfrm>
            <a:off x="5410080" y="3259080"/>
            <a:ext cx="1244880" cy="77940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7"/>
          <p:cNvSpPr/>
          <p:nvPr/>
        </p:nvSpPr>
        <p:spPr>
          <a:xfrm>
            <a:off x="5334120" y="4952880"/>
            <a:ext cx="1976400" cy="171288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20"/>
          <p:cNvSpPr/>
          <p:nvPr/>
        </p:nvSpPr>
        <p:spPr>
          <a:xfrm>
            <a:off x="1909800" y="4916520"/>
            <a:ext cx="1976400" cy="171288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21"/>
          <p:cNvSpPr/>
          <p:nvPr/>
        </p:nvSpPr>
        <p:spPr>
          <a:xfrm>
            <a:off x="2133720" y="2971800"/>
            <a:ext cx="1255680" cy="77940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\\Iml-files-1\Data1\PROJECTS\Agricultural Education\Online Curriculum\Agricultural Science I\Agricultural Mechanics I\Unit 5\Lesson 1\Images\Welding Lens Exploded View.jpg"/>
          <p:cNvPicPr/>
          <p:nvPr/>
        </p:nvPicPr>
        <p:blipFill>
          <a:blip r:embed="rId1"/>
          <a:stretch/>
        </p:blipFill>
        <p:spPr>
          <a:xfrm>
            <a:off x="533520" y="3833640"/>
            <a:ext cx="4876560" cy="287208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ive Eyew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\\Iml-files-1\Data1\PROJECTS\Agricultural Education\Online Curriculum\Agricultural Science I\Agricultural Mechanics I\Unit 5\Lesson 1\Images\Welding Helmet.jpg"/>
          <p:cNvPicPr/>
          <p:nvPr/>
        </p:nvPicPr>
        <p:blipFill>
          <a:blip r:embed="rId2"/>
          <a:stretch/>
        </p:blipFill>
        <p:spPr>
          <a:xfrm>
            <a:off x="3983040" y="838080"/>
            <a:ext cx="351648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1371600" y="1295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ding helmet with flip-up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6019920" y="4459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s of welding helmet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2209680" y="152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tors Used for We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76320" y="6019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irators are sometimes needed to supplement ventilation.  Be sure the respirator or filter is designed for the type of particles or gases in the work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\\Iml-files-1\Data1\PROJECTS\Agricultural Education\Online Curriculum\Agricultural Science I\Agricultural Mechanics I\Unit 5\Lesson 1\Images\Powered Air Purifier.jpg"/>
          <p:cNvPicPr/>
          <p:nvPr/>
        </p:nvPicPr>
        <p:blipFill>
          <a:blip r:embed="rId1"/>
          <a:stretch/>
        </p:blipFill>
        <p:spPr>
          <a:xfrm>
            <a:off x="3191040" y="790560"/>
            <a:ext cx="290484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3:29:46Z</dcterms:created>
  <dc:creator>LevsenJ</dc:creator>
  <dc:description/>
  <dc:language>en-US</dc:language>
  <cp:lastModifiedBy>GladneyCW</cp:lastModifiedBy>
  <dcterms:modified xsi:type="dcterms:W3CDTF">2007-10-24T15:03:50Z</dcterms:modified>
  <cp:revision>28</cp:revision>
  <dc:subject/>
  <dc:title>Slide 1</dc:title>
</cp:coreProperties>
</file>