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924-BDD1-4FE0-9386-F23CA56C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4F6-1F1D-410E-A1BB-32D1199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A32-7F04-4BB3-BB36-04FE0E3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39F-F147-4E0D-B8DE-7ADEC351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B7E-C82F-4AAA-A683-FFB9240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1A6-674D-434F-8245-831B5B06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C5E-4E3D-46EA-80A0-9761DC2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C18-33A7-41DD-91FE-298A40B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F79-ECF6-449F-BFEE-B0820DD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7C7-EAD1-4C27-A64C-62D741B7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C43-66B7-4814-9E72-BB2A5A6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9B4-4DEE-456E-9E54-304375E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A2A4-5BC8-4A5C-BD3B-9F1C427E0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 Between Brazing and Fusion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Iml-files-1\Data1\PROJECTS\Agricultural Education\Online Curriculum\10-1000-A Agricultural Science II\Agricultural Mechanics II\Unit 3\Lesson 3\Images\Brazing and Fusion Welding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8-01-11T15:30:12Z</dcterms:modified>
  <cp:revision>26</cp:revision>
  <dc:subject/>
  <dc:title>Slide 1</dc:title>
</cp:coreProperties>
</file>