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127-C5BD-438C-A160-DF3B1A2C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37F-D70F-4143-9408-2A934F64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CDD-C270-4C5E-A2AA-7A244709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607-DB05-4D23-82E0-08C5481F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375-8576-44CA-B772-A8AD4E7F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045-6DDD-4619-A173-2D830741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51E-BA12-4F67-824D-57E5F91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72C-D3CF-4720-820A-8CEB468E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1F9-6680-4A4C-9D89-8D3546B8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615-571D-4EC2-A554-F9EF8EB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525-8C31-4EDB-ADAE-3755E89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3E8-4090-42C6-A3CD-832D6639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A6E6-B57A-4E06-8796-F4B73BD7F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\\Iml-files-1\Data1\PROJECTS\Agricultural Education\Online Curriculum\10-1000-A Agricultural Science II\Agricultural Mechanics II\Unit 2\Lesson 5\Unit 2 Arc Welding OutPosition Welds\Types of Joints.jpg"/>
          <p:cNvPicPr/>
          <p:nvPr/>
        </p:nvPicPr>
        <p:blipFill>
          <a:blip r:embed="rId1"/>
          <a:stretch/>
        </p:blipFill>
        <p:spPr>
          <a:xfrm>
            <a:off x="1676520" y="533520"/>
            <a:ext cx="556236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352680" y="152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J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124080" y="152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di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\\Iml-files-1\Data1\PROJECTS\Agricultural Education\Online Curriculum\10-1000-A Agricultural Science II\Agricultural Mechanics II\Unit 2\Lesson 5\Unit 2 Arc Welding OutPosition Welds\Welding Positions.jpg"/>
          <p:cNvPicPr/>
          <p:nvPr/>
        </p:nvPicPr>
        <p:blipFill>
          <a:blip r:embed="rId1"/>
          <a:stretch/>
        </p:blipFill>
        <p:spPr>
          <a:xfrm>
            <a:off x="1905120" y="822240"/>
            <a:ext cx="53337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600200" y="16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Joint Types in Different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\\Iml-files-1\Data1\PROJECTS\Agricultural Education\Online Curriculum\10-1000-A Agricultural Science II\Agricultural Mechanics II\Unit 2\Lesson 5\Unit 2 Arc Welding OutPosition Welds\Basic Joints in Different Positions.jpg"/>
          <p:cNvPicPr/>
          <p:nvPr/>
        </p:nvPicPr>
        <p:blipFill>
          <a:blip r:embed="rId1"/>
          <a:stretch/>
        </p:blipFill>
        <p:spPr>
          <a:xfrm>
            <a:off x="762120" y="971640"/>
            <a:ext cx="75182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286000" y="160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for Horizontal 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\\Iml-files-1\Data1\PROJECTS\Agricultural Education\Online Curriculum\10-1000-A Agricultural Science II\Agricultural Mechanics II\Unit 2\Lesson 5\Unit 2 Arc Welding OutPosition Welds\Angles for Horizontal Welds.jpg"/>
          <p:cNvPicPr/>
          <p:nvPr/>
        </p:nvPicPr>
        <p:blipFill>
          <a:blip r:embed="rId1"/>
          <a:stretch/>
        </p:blipFill>
        <p:spPr>
          <a:xfrm>
            <a:off x="2124000" y="750960"/>
            <a:ext cx="4840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514600" y="16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for Vertical 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\\Iml-files-1\Data1\PROJECTS\Agricultural Education\Online Curriculum\10-1000-A Agricultural Science II\Agricultural Mechanics II\Unit 2\Lesson 5\Unit 2 Arc Welding OutPosition Welds\Angles for Vertical Welds.jpg"/>
          <p:cNvPicPr/>
          <p:nvPr/>
        </p:nvPicPr>
        <p:blipFill>
          <a:blip r:embed="rId1"/>
          <a:stretch/>
        </p:blipFill>
        <p:spPr>
          <a:xfrm>
            <a:off x="1527120" y="762120"/>
            <a:ext cx="6321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2286000" y="160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for Overhead 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\\Iml-files-1\Data1\PROJECTS\Agricultural Education\Online Curriculum\10-1000-A Agricultural Science II\Agricultural Mechanics II\Unit 2\Lesson 5\Unit 2 Arc Welding OutPosition Welds\Overhead Weld End View.jpg"/>
          <p:cNvPicPr/>
          <p:nvPr/>
        </p:nvPicPr>
        <p:blipFill>
          <a:blip r:embed="rId1"/>
          <a:stretch/>
        </p:blipFill>
        <p:spPr>
          <a:xfrm>
            <a:off x="4952880" y="609480"/>
            <a:ext cx="412920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\\Iml-files-1\Data1\PROJECTS\Agricultural Education\Online Curriculum\10-1000-A Agricultural Science II\Agricultural Mechanics II\Unit 2\Lesson 5\Unit 2 Arc Welding OutPosition Welds\Overhead Weld Side View.jpg"/>
          <p:cNvPicPr/>
          <p:nvPr/>
        </p:nvPicPr>
        <p:blipFill>
          <a:blip r:embed="rId2"/>
          <a:stretch/>
        </p:blipFill>
        <p:spPr>
          <a:xfrm>
            <a:off x="233280" y="3548160"/>
            <a:ext cx="41101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7-12-03T20:43:57Z</dcterms:modified>
  <cp:revision>33</cp:revision>
  <dc:subject/>
  <dc:title>Slide 1</dc:title>
</cp:coreProperties>
</file>