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217D-8591-4579-B7EE-A91EFCC11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647F-2E01-4B8D-9C82-65142EB7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468A-94F4-406D-A00B-524B2FADD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E887-41FC-4CF0-8B50-D13D9B4EE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00D1-821B-4199-8C70-419158E6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3E95-A6E6-4CBD-B069-7B6119A2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BFCB-441A-4FC3-8D40-A945A150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C5FA-B43A-47F5-BB06-41465C99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5A51-CFFD-4A3B-8506-F629BDC8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A1FF-AE9E-4B33-9291-64D7B5DC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6B1F-2027-465B-80C7-4E67530D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20D8-5C95-4B98-AC4F-51BB01D4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E470-C161-4BA6-92C8-594F4C4BCE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523880" y="30492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Cutting List and Bill of Materi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2209680" y="1019160"/>
            <a:ext cx="4648320" cy="30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uebird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utting lis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- 16 ½" x 1" x 6" pine board – 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- 9 ¾" x 1“ x 6" pine board – fro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- 6 ½" x 1" x 6" pine board – ro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- 10 ¾" x 1" x 6" pine boards (ripped to 4") – s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- 4" x 1" x 6" pine board (ripped to 4") – bott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- 5 ½" x ¾" x ¾" pine board – roof hol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urchasing bill of material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- 5' x 1" x 6" pine boa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 - 6p (six-penny) finish na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- 1 ½" scr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447920" y="4618080"/>
          <a:ext cx="6324480" cy="1706400"/>
        </p:xfrm>
        <a:graphic>
          <a:graphicData uri="http://schemas.openxmlformats.org/drawingml/2006/table">
            <a:tbl>
              <a:tblPr/>
              <a:tblGrid>
                <a:gridCol w="1065240"/>
                <a:gridCol w="664920"/>
                <a:gridCol w="533520"/>
                <a:gridCol w="598320"/>
                <a:gridCol w="666720"/>
                <a:gridCol w="1054440"/>
                <a:gridCol w="615960"/>
                <a:gridCol w="527040"/>
                <a:gridCol w="598320"/>
              </a:tblGrid>
              <a:tr h="426600">
                <a:tc>
                  <a:txBody>
                    <a:bodyPr lIns="19080" rIns="190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 of Pie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ze Thi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d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ng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e of Mate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ce/Un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ce/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1348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'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ne bo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0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x-penny nai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ish nai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r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1/2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r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gridSpan="8">
                  <a:txBody>
                    <a:bodyPr lIns="19080" rIns="190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.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3:29:46Z</dcterms:created>
  <dc:creator>LevsenJ</dc:creator>
  <dc:description/>
  <dc:language>en-US</dc:language>
  <cp:lastModifiedBy>streeterr</cp:lastModifiedBy>
  <dcterms:modified xsi:type="dcterms:W3CDTF">2008-03-17T15:10:32Z</dcterms:modified>
  <cp:revision>33</cp:revision>
  <dc:subject/>
  <dc:title>Slide 1</dc:title>
</cp:coreProperties>
</file>