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936A-7A04-4BB3-9A58-E423B25A0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74BC-7073-4D26-AD32-3035C0924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01DB-117B-4178-92A3-C819E390D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2D1A-2DF0-4EEC-8A08-E0FB9305A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F750-74A0-431E-A5A5-B15A18B2A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8DFF-38EB-4398-89BF-02579BB08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B432-A148-48C7-9967-DE9642630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37DE-B8AB-48F6-A69A-7EA5EF552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C47E-F830-47B1-8C06-2566DC3B2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3749-E24E-47F0-AA0C-F38BD07D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60FF-5AEB-4EF8-B0C9-C68074F8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5E92-8DB9-4613-BDFC-D0A703E8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17674-C9C9-4B36-BE13-E519DD4283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on Softwood Classifications and Gr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685800"/>
          <a:ext cx="7543800" cy="5830920"/>
        </p:xfrm>
        <a:graphic>
          <a:graphicData uri="http://schemas.openxmlformats.org/drawingml/2006/table">
            <a:tbl>
              <a:tblPr/>
              <a:tblGrid>
                <a:gridCol w="2040120"/>
                <a:gridCol w="5503680"/>
              </a:tblGrid>
              <a:tr h="152640"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ification and Gra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cription or U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 gridSpan="2">
                  <a:txBody>
                    <a:bodyPr lIns="46440" rIns="4644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ish or selects  -  Up to 1 1/2 in. thick, 2 in. or more wide; graded on basis of appear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 &amp; BT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arly clear, with only minor defects; suitable for natural finis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re and larger defects than B &amp; BTR but suitable for paint finis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 little lower in quality than C but still suitable for paint finis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 gridSpan="2">
                  <a:txBody>
                    <a:bodyPr lIns="46440" rIns="46440" tIns="0" bIns="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oards  -  Up to 1 1/2 in. thick, 2 in. or more wide; graded for suitability for use in constru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L MER or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marL="69840" indent="-69840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ed in housing and light construction for exposed paneling, shelving, et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ST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ed for subfloors, roof sheathing, et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D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marL="63360" indent="-63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ed about the same as CONST 2 grade but a little lower in qua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IL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marL="63360" indent="-63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bines usefulness and lower cost for general construction purpo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CON 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marL="63360" indent="-63360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ed for low-grade sheathing, crating, and brac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 gridSpan="2">
                  <a:txBody>
                    <a:bodyPr lIns="46440" rIns="46440" tIns="0" bIns="0" anchor="t">
                      <a:noAutofit/>
                    </a:bodyPr>
                    <a:p>
                      <a:pPr marL="63360" indent="-63360">
                        <a:spcBef>
                          <a:spcPts val="7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mension  -  2 to 5 in. thick, 2 in. or more wi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uctural light fram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marL="63360" indent="-63360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to 4 in. thick, 2 to 4 in. wide; for engineered use when higher strength is need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lect structural (SEL ST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marL="63360" indent="-63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ed where high strength, stiffness and good appearance are need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marL="63360" indent="-63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ed about the same as SEL STR grade, but a little lower in qua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marL="63360" indent="-63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ommended for most general construction u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6800"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marL="63360" indent="-63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ed for general construction where appearance is not a fac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ght fram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to 4 in. thick, 2 to 4 in. wide; provides good appearance where high strength and high appearance are not need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stru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marL="63360" indent="-63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ommended and widely used for general framing purpo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nda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marL="63360" indent="-63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bout the same uses as construction grade, but a little lower in qua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marL="63360" indent="-63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ed for studding, blocking, plates, etc., where economy and good strength are desi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6800"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conom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marL="63360" indent="-63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itable for crating, bracing, and temporary constru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800"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u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marL="63360" indent="-6336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to 4 in. thick, 2 to 4 in. wide; only one grade for studs, which is suitable for all stud u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860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uctural joints and plank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marL="63360" indent="-6336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to 4 in. thick, 6 in. and more wide; for engineering applic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lect structur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marL="63360" indent="-63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ed where high strength and stiffness and good appearance are need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marL="63360" indent="-63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ed about the same as SEL STR grade, but a little lower qua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marL="63360" indent="-63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ommended for most general construction u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6800"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marL="63360" indent="-63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 use in general construction where appearance is not a fac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pearance and fram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marL="63360" indent="-6336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to 4 in. thick, 2 in. and more wi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marL="63360" indent="-63360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ed in housing and light construction for high strength and finest appear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 gridSpan="2">
                  <a:txBody>
                    <a:bodyPr lIns="46440" rIns="46440" tIns="0" bIns="0" anchor="t">
                      <a:noAutofit/>
                    </a:bodyPr>
                    <a:p>
                      <a:pPr marL="63360" indent="-63360">
                        <a:spcBef>
                          <a:spcPts val="7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bers  -  5 in. or more in least dimens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lect structur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marL="63360" indent="-63360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ed where superior strength and good appearance are need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marL="63360" indent="-63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milar to SEL STR grade, but a little lower in qua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marL="63360" indent="-63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ommended for general constru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marL="63360" indent="-63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ed for rough general constru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Rectangle 5"/>
          <p:cNvSpPr/>
          <p:nvPr/>
        </p:nvSpPr>
        <p:spPr>
          <a:xfrm>
            <a:off x="0" y="6627600"/>
            <a:ext cx="4191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Adapted from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Structures and Environmental Handbook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, Midwest Plan Serv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3"/>
          <p:cNvSpPr/>
          <p:nvPr/>
        </p:nvSpPr>
        <p:spPr>
          <a:xfrm>
            <a:off x="2209680" y="1522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ple Plywood Grade Sta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0" y="6627600"/>
            <a:ext cx="4191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Adapted from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Structures and Environmental Handbook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, Midwest Plan Serv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0" descr="\\Iml-files-1\Data1\PROJECTS\Agricultural Education\Online Curriculum\10-1000-A Agricultural Science II\Agricultural Mechanics II\Unit 6\Lesson 3\Images\Plywood Grade Stamps.gif"/>
          <p:cNvPicPr/>
          <p:nvPr/>
        </p:nvPicPr>
        <p:blipFill>
          <a:blip r:embed="rId1"/>
          <a:stretch/>
        </p:blipFill>
        <p:spPr>
          <a:xfrm>
            <a:off x="2286000" y="792000"/>
            <a:ext cx="45799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3"/>
          <p:cNvSpPr/>
          <p:nvPr/>
        </p:nvSpPr>
        <p:spPr>
          <a:xfrm>
            <a:off x="3352680" y="152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neer Gr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0" y="6627600"/>
            <a:ext cx="556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Agricultural Structure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 Instructional Materials Laboratory, University of Missouri-Columbia, 1999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1" descr="\\Iml-files-1\Data1\PROJECTS\Agricultural Education\Online Curriculum\10-1000-A Agricultural Science II\Agricultural Mechanics II\Unit 6\Lesson 3\Images\Veneer Grades.gif"/>
          <p:cNvPicPr/>
          <p:nvPr/>
        </p:nvPicPr>
        <p:blipFill>
          <a:blip r:embed="rId1"/>
          <a:stretch/>
        </p:blipFill>
        <p:spPr>
          <a:xfrm>
            <a:off x="3124080" y="685800"/>
            <a:ext cx="29052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3"/>
          <p:cNvSpPr/>
          <p:nvPr/>
        </p:nvSpPr>
        <p:spPr>
          <a:xfrm>
            <a:off x="2590920" y="1522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mensions of Steel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2" descr="\\Iml-files-1\Data1\PROJECTS\Agricultural Education\Online Curriculum\10-1000-A Agricultural Science II\Agricultural Mechanics II\Unit 6\Lesson 3\Images\Dimensions of Steel Stock.gif"/>
          <p:cNvPicPr/>
          <p:nvPr/>
        </p:nvPicPr>
        <p:blipFill>
          <a:blip r:embed="rId1"/>
          <a:stretch/>
        </p:blipFill>
        <p:spPr>
          <a:xfrm>
            <a:off x="1828800" y="914400"/>
            <a:ext cx="5486400" cy="58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3:29:46Z</dcterms:created>
  <dc:creator>LevsenJ</dc:creator>
  <dc:description/>
  <dc:language>en-US</dc:language>
  <cp:lastModifiedBy>streeterr</cp:lastModifiedBy>
  <dcterms:modified xsi:type="dcterms:W3CDTF">2008-03-18T15:20:59Z</dcterms:modified>
  <cp:revision>37</cp:revision>
  <dc:subject/>
  <dc:title>Slide 1</dc:title>
</cp:coreProperties>
</file>