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AF1-FE78-4CC8-9387-34FD8911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B60-7332-47EA-9114-9E85DEB4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1E5-8838-4654-B72E-18C0FE88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BA6-B6D0-400D-865F-4CCD5C7E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4F2-7240-49F0-804C-A243A21D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A51-B248-4D37-9E62-7FF62376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097-7FB7-4D21-A244-09EF5538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B51-F271-498D-AD02-8D31DAA0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EFF-560D-44C1-BA6F-0E08A25E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B53-328C-4E29-8864-A22AA0C6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EF0-56F5-403E-B912-D56FEDB7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8AA-AEBB-43E3-8EC5-CF0CB6C1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77DE-BDFD-42A3-88C9-8AC6A86C0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962000" y="228600"/>
            <a:ext cx="52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essing the Grinding Wheel Using a Mechanical Wheel Dres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\\Iml-files-1\Data1\PROJECTS\Agricultural Education\Online Curriculum\10-1000-A Agricultural Science II\Agricultural Mechanics II\Unit 4\Lesson 1\Images\Dressing the Grinding Wheel.jpg"/>
          <p:cNvPicPr/>
          <p:nvPr/>
        </p:nvPicPr>
        <p:blipFill>
          <a:blip r:embed="rId1"/>
          <a:stretch/>
        </p:blipFill>
        <p:spPr>
          <a:xfrm>
            <a:off x="1171440" y="1447920"/>
            <a:ext cx="67532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2133720" y="22860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s of a Twist Drill Cutting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\\Iml-files-1\Data1\PROJECTS\Agricultural Education\Online Curriculum\10-1000-A Agricultural Science II\Agricultural Mechanics II\Unit 4\Lesson 1\Images\Parts of a Twist Drill.jpg"/>
          <p:cNvPicPr/>
          <p:nvPr/>
        </p:nvPicPr>
        <p:blipFill>
          <a:blip r:embed="rId1"/>
          <a:stretch/>
        </p:blipFill>
        <p:spPr>
          <a:xfrm>
            <a:off x="2133720" y="838080"/>
            <a:ext cx="4700520" cy="5613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3352680" y="1066680"/>
            <a:ext cx="1905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5638680" y="1523880"/>
            <a:ext cx="19051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5486400" y="2362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362320" y="1600200"/>
            <a:ext cx="12189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267080" y="4267080"/>
            <a:ext cx="12193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5486400" y="4800600"/>
            <a:ext cx="12193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5410080" y="6095880"/>
            <a:ext cx="609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2590920" y="5791320"/>
            <a:ext cx="12189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2133720" y="4419720"/>
            <a:ext cx="1676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1752480" y="2286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ment of the Drill for Shar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\\Iml-files-1\Data1\PROJECTS\Agricultural Education\Online Curriculum\10-1000-A Agricultural Science II\Agricultural Mechanics II\Unit 4\Lesson 1\Images\Drill Placement for Sharpening.jpg"/>
          <p:cNvPicPr/>
          <p:nvPr/>
        </p:nvPicPr>
        <p:blipFill>
          <a:blip r:embed="rId1"/>
          <a:stretch/>
        </p:blipFill>
        <p:spPr>
          <a:xfrm>
            <a:off x="1676520" y="914400"/>
            <a:ext cx="5729040" cy="5824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8"/>
          <p:cNvSpPr/>
          <p:nvPr/>
        </p:nvSpPr>
        <p:spPr>
          <a:xfrm>
            <a:off x="5562720" y="1382760"/>
            <a:ext cx="2286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2819520" y="228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dging Lip Cl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5562720" y="1382760"/>
            <a:ext cx="2286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\\Iml-files-1\Data1\PROJECTS\Agricultural Education\Online Curriculum\10-1000-A Agricultural Science II\Agricultural Mechanics II\Unit 4\Lesson 1\Images\Lip Clearance.gif"/>
          <p:cNvPicPr/>
          <p:nvPr/>
        </p:nvPicPr>
        <p:blipFill>
          <a:blip r:embed="rId1"/>
          <a:stretch/>
        </p:blipFill>
        <p:spPr>
          <a:xfrm>
            <a:off x="1752480" y="685800"/>
            <a:ext cx="5586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198108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 Gauge to Check the Shape and Clearance of a Twist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5562720" y="1382760"/>
            <a:ext cx="2286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\\Iml-files-1\Data1\PROJECTS\Agricultural Education\Online Curriculum\10-1000-A Agricultural Science II\Agricultural Mechanics II\Unit 4\Lesson 1\Images\Checking a Twist Drill  With a Gauge.jpg"/>
          <p:cNvPicPr/>
          <p:nvPr/>
        </p:nvPicPr>
        <p:blipFill>
          <a:blip r:embed="rId1"/>
          <a:stretch/>
        </p:blipFill>
        <p:spPr>
          <a:xfrm>
            <a:off x="2133720" y="1066680"/>
            <a:ext cx="48434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25146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ing a Lawn Mower B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5562720" y="1382760"/>
            <a:ext cx="2286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\\Iml-files-1\Data1\PROJECTS\Agricultural Education\Online Curriculum\10-1000-A Agricultural Science II\Agricultural Mechanics II\Unit 4\Lesson 1\Images\Filing a Lawn Mower Blade.jpg"/>
          <p:cNvPicPr/>
          <p:nvPr/>
        </p:nvPicPr>
        <p:blipFill>
          <a:blip r:embed="rId1"/>
          <a:stretch/>
        </p:blipFill>
        <p:spPr>
          <a:xfrm>
            <a:off x="1924200" y="838080"/>
            <a:ext cx="5238720" cy="5156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12"/>
          <p:cNvSpPr/>
          <p:nvPr/>
        </p:nvSpPr>
        <p:spPr>
          <a:xfrm>
            <a:off x="762120" y="4591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pen the blade back to its original angle. If the angle is not known, sharpen the blade to a 45-degree 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3276720" y="228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s of a C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5562720" y="1382760"/>
            <a:ext cx="2286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\\Iml-files-1\Data1\PROJECTS\Agricultural Education\Online Curriculum\10-1000-A Agricultural Science II\Agricultural Mechanics II\Unit 4\Lesson 1\Images\Parts of a Cutter.jpg"/>
          <p:cNvPicPr/>
          <p:nvPr/>
        </p:nvPicPr>
        <p:blipFill>
          <a:blip r:embed="rId1"/>
          <a:stretch/>
        </p:blipFill>
        <p:spPr>
          <a:xfrm>
            <a:off x="838080" y="1143000"/>
            <a:ext cx="7373880" cy="4414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3886200" y="1295280"/>
            <a:ext cx="12193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876920" y="1752480"/>
            <a:ext cx="14475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6324480" y="2362320"/>
            <a:ext cx="1524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477120" y="4038480"/>
            <a:ext cx="12189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3505320" y="480060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2133720" y="419112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1066680" y="20574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2"/>
          <p:cNvSpPr/>
          <p:nvPr/>
        </p:nvSpPr>
        <p:spPr>
          <a:xfrm>
            <a:off x="5029200" y="2219400"/>
            <a:ext cx="817560" cy="39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2438280" y="2286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the Depth Gauge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5562720" y="1382760"/>
            <a:ext cx="2286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\\Iml-files-1\Data1\PROJECTS\Agricultural Education\Online Curriculum\10-1000-A Agricultural Science II\Agricultural Mechanics II\Unit 4\Lesson 1\Images\Using the Depth Gauge Tool.jpg"/>
          <p:cNvPicPr/>
          <p:nvPr/>
        </p:nvPicPr>
        <p:blipFill>
          <a:blip r:embed="rId1"/>
          <a:stretch/>
        </p:blipFill>
        <p:spPr>
          <a:xfrm>
            <a:off x="838080" y="1438200"/>
            <a:ext cx="7391520" cy="2116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5"/>
          <p:cNvSpPr/>
          <p:nvPr/>
        </p:nvSpPr>
        <p:spPr>
          <a:xfrm>
            <a:off x="685800" y="42577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tops of the depth gauges extend above the gauge tool, the part above the tool should be filed off using a flat file. The original shape of the depth gauges should be mainta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895480" y="228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 Chain 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5562720" y="1382760"/>
            <a:ext cx="2286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\\Iml-files-1\Data1\PROJECTS\Agricultural Education\Online Curriculum\10-1000-A Agricultural Science II\Agricultural Mechanics II\Unit 4\Lesson 1\Images\Proper Chain Tension.jpg"/>
          <p:cNvPicPr/>
          <p:nvPr/>
        </p:nvPicPr>
        <p:blipFill>
          <a:blip r:embed="rId1"/>
          <a:stretch/>
        </p:blipFill>
        <p:spPr>
          <a:xfrm>
            <a:off x="2317680" y="1143000"/>
            <a:ext cx="48452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29:46Z</dcterms:created>
  <dc:creator>LevsenJ</dc:creator>
  <dc:description/>
  <dc:language>en-US</dc:language>
  <cp:lastModifiedBy>GladneyCW</cp:lastModifiedBy>
  <dcterms:modified xsi:type="dcterms:W3CDTF">2008-01-16T20:30:34Z</dcterms:modified>
  <cp:revision>41</cp:revision>
  <dc:subject/>
  <dc:title>Slide 1</dc:title>
</cp:coreProperties>
</file>