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173-F28D-4822-BB09-BD467EC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60B-9229-4118-811C-8C4C027F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395-DCCF-4CD5-AF39-C6C7EEAA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804-047E-401A-963F-287FBB50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B1E-2BCB-44A5-8C20-4C64B44C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E6B-323E-4FE5-8586-5CD2A0C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93B-A256-444B-A0AD-094B923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884-75D9-4790-A817-B0BE01B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5C1-1145-4ACE-9B21-02E87AC3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030-34BD-4EF3-B21A-9263DBB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E7E-E86F-407B-963D-399326E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FF1-200A-4E11-8421-A8DA4E7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4A0-386C-48CB-BA35-011AAD8DA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2247120" y="11268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sic Procedures for Shop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0"/>
          <p:cNvSpPr/>
          <p:nvPr/>
        </p:nvSpPr>
        <p:spPr>
          <a:xfrm>
            <a:off x="806400" y="1184400"/>
            <a:ext cx="77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ere to instructions from the following sour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1"/>
          <p:cNvSpPr/>
          <p:nvPr/>
        </p:nvSpPr>
        <p:spPr>
          <a:xfrm>
            <a:off x="811080" y="1638360"/>
            <a:ext cx="774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s and warnings on container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ufacturer’s recommendations for use and maintenance of specif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s posted in the work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s given by the i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3"/>
          <p:cNvSpPr/>
          <p:nvPr/>
        </p:nvSpPr>
        <p:spPr>
          <a:xfrm>
            <a:off x="807840" y="3664080"/>
            <a:ext cx="68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r safety glasses in the shop at all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4"/>
          <p:cNvSpPr/>
          <p:nvPr/>
        </p:nvSpPr>
        <p:spPr>
          <a:xfrm>
            <a:off x="811080" y="430704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r protective gear such as gloves, earplugs, and safety shoes if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5"/>
          <p:cNvSpPr/>
          <p:nvPr/>
        </p:nvSpPr>
        <p:spPr>
          <a:xfrm>
            <a:off x="811080" y="531504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wear loose-fitting clothing that could get caught in a moving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154320" y="3049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et Metal Br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\\Iml-files-1\Data1\PROJECTS\Agricultural Education\Online Curriculum\Agricultural Science I\Agricultural Mechanics I\Unit 2\Lesson 2\Images\PressBrake.jpg"/>
          <p:cNvPicPr/>
          <p:nvPr/>
        </p:nvPicPr>
        <p:blipFill>
          <a:blip r:embed="rId1"/>
          <a:stretch/>
        </p:blipFill>
        <p:spPr>
          <a:xfrm>
            <a:off x="762120" y="785880"/>
            <a:ext cx="7619760" cy="5286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0"/>
          <p:cNvSpPr/>
          <p:nvPr/>
        </p:nvSpPr>
        <p:spPr>
          <a:xfrm>
            <a:off x="3513240" y="1073160"/>
            <a:ext cx="7617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858000" y="15238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315200" y="3276720"/>
            <a:ext cx="1066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85800" y="320040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838080" y="533520"/>
            <a:ext cx="9144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1447920" y="1143000"/>
            <a:ext cx="1143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3711600" y="304920"/>
            <a:ext cx="17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ll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\\Iml-files-1\Data1\PROJECTS\Agricultural Education\Online Curriculum\Agricultural Science I\Agricultural Mechanics I\Unit 2\Lesson 2\Images\DrillPress.jpg"/>
          <p:cNvPicPr/>
          <p:nvPr/>
        </p:nvPicPr>
        <p:blipFill>
          <a:blip r:embed="rId1"/>
          <a:stretch/>
        </p:blipFill>
        <p:spPr>
          <a:xfrm>
            <a:off x="2706840" y="838080"/>
            <a:ext cx="3730320" cy="5181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6"/>
          <p:cNvSpPr/>
          <p:nvPr/>
        </p:nvSpPr>
        <p:spPr>
          <a:xfrm>
            <a:off x="5105520" y="3124080"/>
            <a:ext cx="1371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5410080" y="4114800"/>
            <a:ext cx="1371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5867280" y="4648320"/>
            <a:ext cx="6098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2819520" y="4495680"/>
            <a:ext cx="6094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3429000" y="4267080"/>
            <a:ext cx="6094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251460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247120" y="112680"/>
            <a:ext cx="48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sic Procedures for Shop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11080" y="118440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 long hair to avoid getting it ca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811080" y="182880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work areas clean and free of cl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11080" y="2530440"/>
            <a:ext cx="76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 each tool before using it to make sure it is working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11080" y="359712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the instructor about any damaged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811080" y="429912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a tool that does not function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811080" y="500076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each tool to its proper place of sto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3505320" y="304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le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rtableDrill.jpg"/>
          <p:cNvPicPr/>
          <p:nvPr/>
        </p:nvPicPr>
        <p:blipFill>
          <a:blip r:embed="rId1"/>
          <a:stretch/>
        </p:blipFill>
        <p:spPr>
          <a:xfrm>
            <a:off x="1905120" y="1143000"/>
            <a:ext cx="5333760" cy="4700520"/>
          </a:xfrm>
          <a:prstGeom prst="rect">
            <a:avLst/>
          </a:prstGeom>
          <a:ln w="0">
            <a:noFill/>
          </a:ln>
        </p:spPr>
      </p:pic>
      <p:sp>
        <p:nvSpPr>
          <p:cNvPr id="56" name="Freeform 10"/>
          <p:cNvSpPr/>
          <p:nvPr/>
        </p:nvSpPr>
        <p:spPr>
          <a:xfrm>
            <a:off x="2138400" y="879480"/>
            <a:ext cx="109044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675400" y="3306600"/>
            <a:ext cx="1868400" cy="81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2054160" y="4608360"/>
            <a:ext cx="1647720" cy="80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2673360" y="3720960"/>
            <a:ext cx="2016000" cy="4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\\Iml-files-1\Data1\PROJECTS\Agricultural Education\Online Curriculum\Agricultural Science I\Agricultural Mechanics I\Unit 2\Lesson 2\Images\Drill Shavings.jpg"/>
          <p:cNvPicPr/>
          <p:nvPr/>
        </p:nvPicPr>
        <p:blipFill>
          <a:blip r:embed="rId1"/>
          <a:stretch/>
        </p:blipFill>
        <p:spPr>
          <a:xfrm>
            <a:off x="4191120" y="3276720"/>
            <a:ext cx="3409920" cy="2352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505320" y="304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le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ortableDrill.jpg"/>
          <p:cNvPicPr/>
          <p:nvPr/>
        </p:nvPicPr>
        <p:blipFill>
          <a:blip r:embed="rId2"/>
          <a:stretch/>
        </p:blipFill>
        <p:spPr>
          <a:xfrm>
            <a:off x="1371600" y="685800"/>
            <a:ext cx="33717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723960" y="6095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rilling in metal, be sure to secure the work. Metal shavings are sharp. Do not remove them with bare h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32767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le Nib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\\Iml-files-1\Data1\PROJECTS\Agricultural Education\Online Curriculum\Agricultural Science I\Agricultural Mechanics I\Unit 2\Lesson 2\Images\Nibbler.jpg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4995720"/>
          </a:xfrm>
          <a:prstGeom prst="rect">
            <a:avLst/>
          </a:prstGeom>
          <a:ln w="0">
            <a:noFill/>
          </a:ln>
        </p:spPr>
      </p:pic>
      <p:sp>
        <p:nvSpPr>
          <p:cNvPr id="67" name="Freeform 15"/>
          <p:cNvSpPr/>
          <p:nvPr/>
        </p:nvSpPr>
        <p:spPr>
          <a:xfrm>
            <a:off x="826920" y="1106640"/>
            <a:ext cx="1971720" cy="1712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8"/>
          <p:cNvSpPr/>
          <p:nvPr/>
        </p:nvSpPr>
        <p:spPr>
          <a:xfrm>
            <a:off x="3544920" y="714240"/>
            <a:ext cx="1096920" cy="1202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9"/>
          <p:cNvSpPr/>
          <p:nvPr/>
        </p:nvSpPr>
        <p:spPr>
          <a:xfrm>
            <a:off x="2700360" y="4127400"/>
            <a:ext cx="2289240" cy="9032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728640" y="4707000"/>
            <a:ext cx="1481040" cy="5522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920880" y="5211720"/>
            <a:ext cx="1255680" cy="77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\\Iml-files-1\Data1\PROJECTS\Agricultural Education\Online Curriculum\Agricultural Science I\Agricultural Mechanics I\Unit 2\Lesson 2\Images\Nibbler.jpg"/>
          <p:cNvPicPr/>
          <p:nvPr/>
        </p:nvPicPr>
        <p:blipFill>
          <a:blip r:embed="rId1"/>
          <a:stretch/>
        </p:blipFill>
        <p:spPr>
          <a:xfrm>
            <a:off x="1143000" y="914400"/>
            <a:ext cx="382428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\\Iml-files-1\Data1\PROJECTS\Agricultural Education\Online Curriculum\Agricultural Science I\Agricultural Mechanics I\Unit 2\Lesson 2\Images\Power Nibbler Making Interior Cut.jpg"/>
          <p:cNvPicPr/>
          <p:nvPr/>
        </p:nvPicPr>
        <p:blipFill>
          <a:blip r:embed="rId2"/>
          <a:stretch/>
        </p:blipFill>
        <p:spPr>
          <a:xfrm>
            <a:off x="4419720" y="2133720"/>
            <a:ext cx="2576520" cy="4181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2767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le Nib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23960" y="6095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nterior cuts with nibblers, make a small hole near the center with a hollow punch and gradually work out to the desired c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2685960" y="3049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d Circular Cutoff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\\Iml-files-1\Data1\PROJECTS\Agricultural Education\Online Curriculum\Agricultural Science I\Agricultural Mechanics I\Unit 2\Lesson 2\Images\CutoffSawMetal.jpg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4997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1"/>
          <p:cNvSpPr/>
          <p:nvPr/>
        </p:nvSpPr>
        <p:spPr>
          <a:xfrm>
            <a:off x="5943600" y="838080"/>
            <a:ext cx="9907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6019920" y="1828800"/>
            <a:ext cx="1828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6172200" y="259092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6172200" y="323856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6705720" y="3962520"/>
            <a:ext cx="9144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2590920" y="5410080"/>
            <a:ext cx="9144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1295280" y="1523880"/>
            <a:ext cx="9144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247920" y="304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le Gr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\\Iml-files-1\Data1\PROJECTS\Agricultural Education\Online Curriculum\Agricultural Science I\Agricultural Mechanics I\Unit 2\Lesson 2\Images\PortableGrinder.jpg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5"/>
          <p:cNvSpPr/>
          <p:nvPr/>
        </p:nvSpPr>
        <p:spPr>
          <a:xfrm>
            <a:off x="4648320" y="838080"/>
            <a:ext cx="11430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477120" y="1295280"/>
            <a:ext cx="15238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867280" y="3429000"/>
            <a:ext cx="19814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4800600" y="4495680"/>
            <a:ext cx="9907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4076640" y="5257800"/>
            <a:ext cx="17906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2781360" y="5715000"/>
            <a:ext cx="2095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3414600" y="304920"/>
            <a:ext cx="23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 Gr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\\Iml-files-1\Data1\PROJECTS\Agricultural Education\Online Curriculum\Agricultural Science I\Agricultural Mechanics I\Unit 2\Lesson 2\Images\BenchGrinder.jpg"/>
          <p:cNvPicPr/>
          <p:nvPr/>
        </p:nvPicPr>
        <p:blipFill>
          <a:blip r:embed="rId1"/>
          <a:stretch/>
        </p:blipFill>
        <p:spPr>
          <a:xfrm>
            <a:off x="762120" y="1042920"/>
            <a:ext cx="7619760" cy="4772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4"/>
          <p:cNvSpPr/>
          <p:nvPr/>
        </p:nvSpPr>
        <p:spPr>
          <a:xfrm>
            <a:off x="3733920" y="990720"/>
            <a:ext cx="2133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4114800" y="1676520"/>
            <a:ext cx="914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7162920" y="2819520"/>
            <a:ext cx="12952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5943600" y="4419720"/>
            <a:ext cx="1600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4343400" y="5181480"/>
            <a:ext cx="9907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685800" y="3200400"/>
            <a:ext cx="12952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7-11-08T22:00:51Z</dcterms:modified>
  <cp:revision>32</cp:revision>
  <dc:subject/>
  <dc:title>Slide 1</dc:title>
</cp:coreProperties>
</file>