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DCC-D176-4EFF-82D1-8689FA59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90E1-5B76-4173-844D-8BAB53AF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335-3506-4714-B242-8B67EF57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1EB-76FC-49A2-8D1A-FB461946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2066-1E09-4BAD-BE19-0A413B13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777-B300-4724-B3D4-4363F792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E6B-D33D-4038-B8BC-2C17B466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AE6D-CD75-4546-BA5D-90819692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414-FC7A-42E9-B87C-86575033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2A3-5CFE-49DA-9A97-7503571A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49B4-DF44-4DF5-8203-796FED2E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EDD-9FFA-4179-9C66-2951D92B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D64B-F877-46E5-9BFB-4597A8E60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429000" y="228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ding 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5440320" y="5410080"/>
            <a:ext cx="1600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\\Iml-files-1\Data1\PROJECTS\Agricultural Education\Online Curriculum\10-1000-A Agricultural Science II\Agricultural Mechanics II\Unit 3\Lesson 2\Images\Welding Torch.jpg"/>
          <p:cNvPicPr/>
          <p:nvPr/>
        </p:nvPicPr>
        <p:blipFill>
          <a:blip r:embed="rId1"/>
          <a:stretch/>
        </p:blipFill>
        <p:spPr>
          <a:xfrm>
            <a:off x="762120" y="1638360"/>
            <a:ext cx="76197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3048120" y="228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s for Wel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5440320" y="5410080"/>
            <a:ext cx="1600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\\Iml-files-1\Data1\PROJECTS\Agricultural Education\Online Curriculum\10-1000-A Agricultural Science II\Agricultural Mechanics II\Unit 3\Lesson 2\Images\Angles for Welding.jpg"/>
          <p:cNvPicPr/>
          <p:nvPr/>
        </p:nvPicPr>
        <p:blipFill>
          <a:blip r:embed="rId1"/>
          <a:srcRect l="0" t="1200" r="0" b="0"/>
          <a:stretch/>
        </p:blipFill>
        <p:spPr>
          <a:xfrm>
            <a:off x="2057400" y="853920"/>
            <a:ext cx="503388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2590920" y="228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rch Movement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5440320" y="5410080"/>
            <a:ext cx="1600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\\Iml-files-1\Data1\PROJECTS\Agricultural Education\Online Curriculum\10-1000-A Agricultural Science II\Agricultural Mechanics II\Unit 3\Lesson 2\Images\Torch Movement Patterns.jpg"/>
          <p:cNvPicPr/>
          <p:nvPr/>
        </p:nvPicPr>
        <p:blipFill>
          <a:blip r:embed="rId1"/>
          <a:stretch/>
        </p:blipFill>
        <p:spPr>
          <a:xfrm>
            <a:off x="1643040" y="1114560"/>
            <a:ext cx="58244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3:29:46Z</dcterms:created>
  <dc:creator>LevsenJ</dc:creator>
  <dc:description/>
  <dc:language>en-US</dc:language>
  <cp:lastModifiedBy>GladneyCW</cp:lastModifiedBy>
  <dcterms:modified xsi:type="dcterms:W3CDTF">2007-12-21T17:48:16Z</dcterms:modified>
  <cp:revision>27</cp:revision>
  <dc:subject/>
  <dc:title>Slide 1</dc:title>
</cp:coreProperties>
</file>