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DED-DD24-4F2F-B642-407EAF42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F55-B462-4783-B0E2-C1CB083F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D56-44F8-4976-A633-6CAC67B1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13CC-0E58-4610-AFE6-60F7DBD9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01B-AFFE-40C5-99B9-DCD8085B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4F3-A25B-47E6-A1E8-43B2678A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490-44B3-4CC5-924C-18A886A0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F53-FFF6-4D3D-9C08-05D3EACF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561-85DA-472E-B99A-4A80B16E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418-6031-4820-8837-D70F1404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511-417C-4521-BCC6-D92C2751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500-A370-455B-BB7B-C33286E7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933C-98A0-4C9F-88A4-910901AB5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Untitled-2.jpg"/>
          <p:cNvPicPr/>
          <p:nvPr/>
        </p:nvPicPr>
        <p:blipFill>
          <a:blip r:embed="rId1"/>
          <a:stretch/>
        </p:blipFill>
        <p:spPr>
          <a:xfrm>
            <a:off x="1357200" y="1433520"/>
            <a:ext cx="6429600" cy="3990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345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trient Requirements for a Cow through Lif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4:24:09Z</dcterms:created>
  <dc:creator>loweryb</dc:creator>
  <dc:description/>
  <dc:language>en-US</dc:language>
  <cp:lastModifiedBy>KasselE</cp:lastModifiedBy>
  <dcterms:modified xsi:type="dcterms:W3CDTF">2007-05-21T13:16:11Z</dcterms:modified>
  <cp:revision>2</cp:revision>
  <dc:subject/>
  <dc:title>Slide 1</dc:title>
</cp:coreProperties>
</file>