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26A-3E92-43C6-BDE9-F2F60B2E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63A-AF7B-4A08-8A4F-B9E64553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C12-3616-4566-A574-36745821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BAE-C0B6-4825-A785-16233CFF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FD8-75AB-4044-ACF8-1180302B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D20-6768-4A92-8178-077DBB8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ADB-1D9E-43A6-9F30-8DBF7F10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00D-A8C4-4022-8912-C06A94BE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C28-416D-4B8A-9A6B-09D6190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06A-C9CB-4798-9082-E6B5032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EB4-6817-4E50-9C99-B18F401A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BE9-0787-4174-8461-847FC41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80A4-4A8B-4A3D-BB6A-B07BCEE8E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-3.jpg"/>
          <p:cNvPicPr/>
          <p:nvPr/>
        </p:nvPicPr>
        <p:blipFill>
          <a:blip r:embed="rId1"/>
          <a:stretch/>
        </p:blipFill>
        <p:spPr>
          <a:xfrm>
            <a:off x="1190520" y="1181160"/>
            <a:ext cx="676296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298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arson Squar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28:57Z</dcterms:created>
  <dc:creator>loweryb</dc:creator>
  <dc:description/>
  <dc:language>en-US</dc:language>
  <cp:lastModifiedBy>LevsenJ</cp:lastModifiedBy>
  <dcterms:modified xsi:type="dcterms:W3CDTF">2007-05-16T18:54:53Z</dcterms:modified>
  <cp:revision>2</cp:revision>
  <dc:subject/>
  <dc:title>Slide 1</dc:title>
</cp:coreProperties>
</file>