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904-B65F-47ED-AF86-861BFB4A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C68-8187-499E-AD18-CCE2B19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921-8A90-4358-97CA-1551FAF7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57D-EA2A-45E5-9785-F382198A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E75-11F6-4320-B9D1-704C17CD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0D5-8134-44D0-8189-BE77E3B9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FFB-7020-4CB3-BEDD-CDB2BF2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413-9628-4AB7-8659-8A7AD704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A9E-B1DA-4B61-B314-20C41A36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0B3-6648-49ED-A87C-08559CF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D30-F361-44E4-9E26-EC59C57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A43-AA3E-4453-8059-F51A974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3192-B4E7-4BEB-8497-6DA56B18F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 Parts of an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\\Iml-files-1\Data1\PROJECTS\Agricultural Education\Online Curriculum\Agricultural Science I\Introduction to Animal Products\Originals\Power Points\Fig-5-4.jpg"/>
          <p:cNvPicPr/>
          <p:nvPr/>
        </p:nvPicPr>
        <p:blipFill>
          <a:blip r:embed="rId1"/>
          <a:stretch/>
        </p:blipFill>
        <p:spPr>
          <a:xfrm>
            <a:off x="2757600" y="2023920"/>
            <a:ext cx="3628800" cy="28101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850040" y="146844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te (Album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732320" y="443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510960" y="4876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183800" y="3429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r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6269760" y="15699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lk (Ovu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1"/>
          <p:cNvCxnSpPr/>
          <p:nvPr/>
        </p:nvCxnSpPr>
        <p:spPr>
          <a:xfrm>
            <a:off x="2558520" y="1957320"/>
            <a:ext cx="1220040" cy="564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49" name="Straight Arrow Connector 12"/>
          <p:cNvCxnSpPr/>
          <p:nvPr/>
        </p:nvCxnSpPr>
        <p:spPr>
          <a:xfrm>
            <a:off x="2622240" y="2189160"/>
            <a:ext cx="11278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0" name="Straight Arrow Connector 16"/>
          <p:cNvCxnSpPr>
            <a:stCxn id="44" idx="3"/>
          </p:cNvCxnSpPr>
          <p:nvPr/>
        </p:nvCxnSpPr>
        <p:spPr>
          <a:xfrm flipV="1">
            <a:off x="2418840" y="4247640"/>
            <a:ext cx="823320" cy="37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1" name="Straight Arrow Connector 20"/>
          <p:cNvCxnSpPr>
            <a:stCxn id="45" idx="1"/>
          </p:cNvCxnSpPr>
          <p:nvPr/>
        </p:nvCxnSpPr>
        <p:spPr>
          <a:xfrm flipH="1" flipV="1">
            <a:off x="5393880" y="4636440"/>
            <a:ext cx="1117440" cy="42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2" name="Straight Arrow Connector 24"/>
          <p:cNvCxnSpPr>
            <a:stCxn id="46" idx="1"/>
          </p:cNvCxnSpPr>
          <p:nvPr/>
        </p:nvCxnSpPr>
        <p:spPr>
          <a:xfrm flipH="1" flipV="1">
            <a:off x="6131880" y="3428640"/>
            <a:ext cx="105228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3" name="Straight Arrow Connector 27"/>
          <p:cNvCxnSpPr>
            <a:stCxn id="47" idx="2"/>
          </p:cNvCxnSpPr>
          <p:nvPr/>
        </p:nvCxnSpPr>
        <p:spPr>
          <a:xfrm flipH="1">
            <a:off x="4849200" y="1938240"/>
            <a:ext cx="2145960" cy="149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09:44Z</dcterms:created>
  <dc:creator>loweryb</dc:creator>
  <dc:description/>
  <dc:language>en-US</dc:language>
  <cp:lastModifiedBy>KasselE</cp:lastModifiedBy>
  <dcterms:modified xsi:type="dcterms:W3CDTF">2007-10-08T20:48:29Z</dcterms:modified>
  <cp:revision>2</cp:revision>
  <dc:subject/>
  <dc:title>Slide 1</dc:title>
</cp:coreProperties>
</file>