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7C3-242F-4872-B456-32CB13E3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F10-0414-40E8-8886-194644D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ACC-E02C-4F49-A8E7-547BC4C9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A73-7822-4718-84B0-0461003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C25-9D29-4AC6-A162-4C1606FD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B55-2D74-4CC2-AC69-ED9B91C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2FA-D264-4CD7-B913-37D6563E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6F8-103B-47C0-8A71-B848019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2F9-0A86-4281-8CCF-93D1C9F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843-1517-4AC7-ADB2-2D03F7F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878-4E6D-43A3-81A9-CF65255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D86-1DDB-4B6F-BF66-1A9FED2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3A2-66BF-4879-BF05-1DE8D78AF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Iml-files-1\Data1\PROJECTS\Agricultural Education\Online Curriculum\Agricultural Science I\Introduction to Animal Products\Originals\Power Points\Fig-4-2.jpg"/>
          <p:cNvPicPr/>
          <p:nvPr/>
        </p:nvPicPr>
        <p:blipFill>
          <a:blip r:embed="rId1"/>
          <a:stretch/>
        </p:blipFill>
        <p:spPr>
          <a:xfrm>
            <a:off x="1424160" y="900000"/>
            <a:ext cx="6295680" cy="50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Gr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Iml-files-1\Data1\PROJECTS\Agricultural Education\Online Curriculum\Agricultural Science I\Introduction to Animal Products\Originals\Power Points\Fig-4-5.jpg"/>
          <p:cNvPicPr/>
          <p:nvPr/>
        </p:nvPicPr>
        <p:blipFill>
          <a:blip r:embed="rId1"/>
          <a:stretch/>
        </p:blipFill>
        <p:spPr>
          <a:xfrm>
            <a:off x="3619440" y="738360"/>
            <a:ext cx="1905120" cy="5381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97440" y="21700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274200" y="305928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209040" y="41385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139840" y="53132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859000" y="510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sh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5755320" y="38448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1"/>
          <p:cNvCxnSpPr>
            <a:stCxn id="44" idx="3"/>
          </p:cNvCxnSpPr>
          <p:nvPr/>
        </p:nvCxnSpPr>
        <p:spPr>
          <a:xfrm flipV="1">
            <a:off x="3600360" y="2309400"/>
            <a:ext cx="1148040" cy="4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1" name="Straight Arrow Connector 12"/>
          <p:cNvCxnSpPr>
            <a:stCxn id="45" idx="3"/>
          </p:cNvCxnSpPr>
          <p:nvPr/>
        </p:nvCxnSpPr>
        <p:spPr>
          <a:xfrm>
            <a:off x="3848040" y="3244680"/>
            <a:ext cx="853200" cy="18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2" name="Straight Arrow Connector 15"/>
          <p:cNvCxnSpPr>
            <a:stCxn id="46" idx="3"/>
          </p:cNvCxnSpPr>
          <p:nvPr/>
        </p:nvCxnSpPr>
        <p:spPr>
          <a:xfrm>
            <a:off x="3689280" y="4322520"/>
            <a:ext cx="883440" cy="121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3" name="Straight Arrow Connector 18"/>
          <p:cNvCxnSpPr>
            <a:stCxn id="47" idx="3"/>
          </p:cNvCxnSpPr>
          <p:nvPr/>
        </p:nvCxnSpPr>
        <p:spPr>
          <a:xfrm flipV="1">
            <a:off x="3159000" y="5430240"/>
            <a:ext cx="1285200" cy="6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4" name="Straight Arrow Connector 21"/>
          <p:cNvCxnSpPr>
            <a:stCxn id="49" idx="1"/>
          </p:cNvCxnSpPr>
          <p:nvPr/>
        </p:nvCxnSpPr>
        <p:spPr>
          <a:xfrm flipH="1">
            <a:off x="5088960" y="4029120"/>
            <a:ext cx="665640" cy="146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5" name="Straight Arrow Connector 24"/>
          <p:cNvCxnSpPr>
            <a:stCxn id="48" idx="1"/>
          </p:cNvCxnSpPr>
          <p:nvPr/>
        </p:nvCxnSpPr>
        <p:spPr>
          <a:xfrm flipH="1">
            <a:off x="5227200" y="5283720"/>
            <a:ext cx="629280" cy="221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6" name="TextBox 27"/>
          <p:cNvSpPr/>
          <p:nvPr/>
        </p:nvSpPr>
        <p:spPr>
          <a:xfrm>
            <a:off x="0" y="193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olesale Cuts of 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03:14Z</dcterms:created>
  <dc:creator>loweryb</dc:creator>
  <dc:description/>
  <dc:language>en-US</dc:language>
  <cp:lastModifiedBy>KasselE</cp:lastModifiedBy>
  <dcterms:modified xsi:type="dcterms:W3CDTF">2007-10-09T18:20:46Z</dcterms:modified>
  <cp:revision>4</cp:revision>
  <dc:subject/>
  <dc:title>Slide 1</dc:title>
</cp:coreProperties>
</file>