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16B-E648-44F8-BADD-F7E63D66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A2E-7F39-481A-955E-67BA6B3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0A2-ED9C-475F-8AEA-CC609C41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75F-A9B1-4CF2-B142-1A8472B1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99E-1BB0-4FC5-9D09-E6A753C6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4B6-9B08-41C1-84FB-0670AE0F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C75-F79A-4EC9-8891-767C6A1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E5A-0445-4A8B-87A9-086AAB5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49D-BB28-41E6-918F-7361669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C9D-2F1E-46C9-A2E9-6EC75BD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37E-B616-4B11-882C-123BAFD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894-4212-4ABC-A32B-3B33C24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FD0A-D641-4A48-BC8B-3ECBB31D6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184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ng Percent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52520" y="1120680"/>
            <a:ext cx="835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cent muscle/percent lean of a pork carcass is adjusted to a 170 pound carcass we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s involv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   Hot carcass weight – HC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   Backfat at the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 (Tenths of an in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   Loin muscle area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 (square inches) - 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13560" y="4192560"/>
            <a:ext cx="69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8.307 – (.036 x HCW – (18.57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 backfat) + (3.734 x L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295200" y="4525920"/>
            <a:ext cx="68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7151760" y="43322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100 = % mus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0" y="22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olesale Cuts of P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\\Iml-files-1\Data1\PROJECTS\Agricultural Education\Online Curriculum\Agricultural Science I\Introduction to Animal Products\Originals\Power Points\Fig-3-3.jpg"/>
          <p:cNvPicPr/>
          <p:nvPr/>
        </p:nvPicPr>
        <p:blipFill>
          <a:blip r:embed="rId1"/>
          <a:stretch/>
        </p:blipFill>
        <p:spPr>
          <a:xfrm>
            <a:off x="1290600" y="1486080"/>
            <a:ext cx="65628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813400" y="1986120"/>
            <a:ext cx="91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houl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924640" y="2992320"/>
            <a:ext cx="9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cn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houl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815720" y="1763640"/>
            <a:ext cx="5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o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826160" y="28177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681240" y="2743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47:29Z</dcterms:created>
  <dc:creator>loweryb</dc:creator>
  <dc:description/>
  <dc:language>en-US</dc:language>
  <cp:lastModifiedBy>KasselE</cp:lastModifiedBy>
  <dcterms:modified xsi:type="dcterms:W3CDTF">2007-10-08T19:23:39Z</dcterms:modified>
  <cp:revision>2</cp:revision>
  <dc:subject/>
  <dc:title>Slide 1</dc:title>
</cp:coreProperties>
</file>