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4D4-1AF2-4E22-995E-CCBBA184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9D0-B43A-4370-B274-D31EA719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2DE-65BC-4521-A3C1-E5B2C409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AF1-877E-4DE8-A0EB-00EFD9C1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F08-F00D-44AD-90C7-BD88E51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943-CD35-411E-BDA0-9B30638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552-A9DE-4D27-A09D-95467B2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270-F5A7-4F1D-B15A-675F0FFD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F92-8561-4F40-9884-4676F48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F75-7B8C-4A51-B8F0-5ED4DBC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69F-9D35-4121-833E-151EC1D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B47-3CA2-48BC-BECD-0F0C079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BDBA-0C46-498A-8FBB-C6CF631D3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046960" y="23796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urition Presentations of a C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0" descr="_x0010_Parturition1.jpg                                               002A368A_x0008_Colossus                       BC84C498:"/>
          <p:cNvPicPr/>
          <p:nvPr/>
        </p:nvPicPr>
        <p:blipFill>
          <a:blip r:embed="rId1"/>
          <a:stretch/>
        </p:blipFill>
        <p:spPr>
          <a:xfrm>
            <a:off x="3379680" y="836640"/>
            <a:ext cx="2689200" cy="283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1" descr="_x0010_Parturition5.jpg                                               002A368A_x0008_Colossus                       BC84C498:"/>
          <p:cNvPicPr/>
          <p:nvPr/>
        </p:nvPicPr>
        <p:blipFill>
          <a:blip r:embed="rId2"/>
          <a:stretch/>
        </p:blipFill>
        <p:spPr>
          <a:xfrm>
            <a:off x="220680" y="3189240"/>
            <a:ext cx="2689200" cy="307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" descr="_x0010_Parturition3.jpg                                               002A368A_x0008_Colossus                       BC84C498:"/>
          <p:cNvPicPr/>
          <p:nvPr/>
        </p:nvPicPr>
        <p:blipFill>
          <a:blip r:embed="rId3"/>
          <a:stretch/>
        </p:blipFill>
        <p:spPr>
          <a:xfrm>
            <a:off x="6454800" y="3189240"/>
            <a:ext cx="2689200" cy="3102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3"/>
          <p:cNvSpPr/>
          <p:nvPr/>
        </p:nvSpPr>
        <p:spPr>
          <a:xfrm>
            <a:off x="3581280" y="3770280"/>
            <a:ext cx="25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4"/>
          <p:cNvSpPr/>
          <p:nvPr/>
        </p:nvSpPr>
        <p:spPr>
          <a:xfrm>
            <a:off x="144360" y="6367320"/>
            <a:ext cx="25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leg Re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5"/>
          <p:cNvSpPr/>
          <p:nvPr/>
        </p:nvSpPr>
        <p:spPr>
          <a:xfrm>
            <a:off x="6585120" y="6367320"/>
            <a:ext cx="25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Bent Back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_x0010_Parturition2.jpg                                               002A368A_x0008_Colossus                       BC84C498:"/>
          <p:cNvPicPr/>
          <p:nvPr/>
        </p:nvPicPr>
        <p:blipFill>
          <a:blip r:embed="rId1"/>
          <a:stretch/>
        </p:blipFill>
        <p:spPr>
          <a:xfrm>
            <a:off x="969840" y="166680"/>
            <a:ext cx="2689200" cy="311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_x0010_Parturition4.jpg                                               002A368A_x0008_Colossus                       BC84C498:"/>
          <p:cNvPicPr/>
          <p:nvPr/>
        </p:nvPicPr>
        <p:blipFill>
          <a:blip r:embed="rId2"/>
          <a:stretch/>
        </p:blipFill>
        <p:spPr>
          <a:xfrm>
            <a:off x="6224760" y="365040"/>
            <a:ext cx="2689200" cy="290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_x0010_Parturition6.jpg                                               002A368A_x0008_Colossus                       BC84C498:"/>
          <p:cNvPicPr/>
          <p:nvPr/>
        </p:nvPicPr>
        <p:blipFill>
          <a:blip r:embed="rId3"/>
          <a:stretch/>
        </p:blipFill>
        <p:spPr>
          <a:xfrm>
            <a:off x="1028880" y="3448080"/>
            <a:ext cx="2689200" cy="3102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_x0010_Parturition7.jpg                                               002A368A_x0008_Colossus                       BC84C498:"/>
          <p:cNvPicPr/>
          <p:nvPr/>
        </p:nvPicPr>
        <p:blipFill>
          <a:blip r:embed="rId4"/>
          <a:stretch/>
        </p:blipFill>
        <p:spPr>
          <a:xfrm>
            <a:off x="6270480" y="3559320"/>
            <a:ext cx="2689200" cy="290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2662200"/>
            <a:ext cx="25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d Legs Ext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4360" y="5864400"/>
            <a:ext cx="25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side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694480" y="580860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and Upside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146560" y="2662200"/>
            <a:ext cx="22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s with Feet Re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5:08:25Z</dcterms:modified>
  <cp:revision>31</cp:revision>
  <dc:subject/>
  <dc:title>PowerPoint Presentation</dc:title>
</cp:coreProperties>
</file>