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3D9-12F5-4713-B4A9-EE4512AE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F1D-703A-4FB7-8D8A-1B3483B6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FA6-D132-4AF0-833F-599741F3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201-BC40-435E-88F4-DA9935E8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501-481E-489F-B75E-15C30BD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F90-0E72-49AF-A84A-86D83040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41D-7246-42C5-92B4-2AB80D0E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D08-8F96-474D-A5AF-9B9108A1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8C4-91DB-4019-8829-F6C4C2C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EE1-2D05-400A-9F8F-4682E0F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EA8-F268-4FCA-A47D-44B6FAD2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291-D3F1-45F0-B986-C8BBCFF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953-2CD2-48F1-99B4-504DD944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7" descr="_x001e_TN4.1.EmbryonicMembranePig.png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3473280" y="752400"/>
            <a:ext cx="2195640" cy="535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162520" y="15228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ryonic Membranes of a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7"/>
          <p:cNvSpPr/>
          <p:nvPr/>
        </p:nvSpPr>
        <p:spPr>
          <a:xfrm>
            <a:off x="2692440" y="320364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1"/>
          <p:cNvSpPr/>
          <p:nvPr/>
        </p:nvSpPr>
        <p:spPr>
          <a:xfrm>
            <a:off x="5684760" y="31370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bilical 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2"/>
          <p:cNvSpPr/>
          <p:nvPr/>
        </p:nvSpPr>
        <p:spPr>
          <a:xfrm>
            <a:off x="5600880" y="3913200"/>
            <a:ext cx="10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7"/>
          <p:cNvSpPr/>
          <p:nvPr/>
        </p:nvSpPr>
        <p:spPr>
          <a:xfrm>
            <a:off x="5621400" y="162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ant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8"/>
          <p:cNvSpPr/>
          <p:nvPr/>
        </p:nvSpPr>
        <p:spPr>
          <a:xfrm>
            <a:off x="1498680" y="2101680"/>
            <a:ext cx="20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antoic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0"/>
          <p:cNvSpPr/>
          <p:nvPr/>
        </p:nvSpPr>
        <p:spPr>
          <a:xfrm>
            <a:off x="1762200" y="41497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nionic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8"/>
          <p:cNvSpPr/>
          <p:nvPr/>
        </p:nvSpPr>
        <p:spPr>
          <a:xfrm>
            <a:off x="2436840" y="1079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r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493920" y="33804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ation and Incubation Lengths for Different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9" descr="_x001d_Table4.2.GestationPeriods.gif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1900080" y="1187280"/>
            <a:ext cx="5343840" cy="44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45:08Z</dcterms:created>
  <dc:creator>Christopher Benedict</dc:creator>
  <dc:description/>
  <dc:language>en-US</dc:language>
  <cp:lastModifiedBy>LevsenJ</cp:lastModifiedBy>
  <dcterms:modified xsi:type="dcterms:W3CDTF">2007-06-12T15:57:04Z</dcterms:modified>
  <cp:revision>26</cp:revision>
  <dc:subject/>
  <dc:title>PowerPoint Presentation</dc:title>
</cp:coreProperties>
</file>