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02A-FFDA-498E-9996-CAA7FF5D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454-3815-4054-95EF-78446371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2DC-80A4-4ECE-B1F0-4601F7C0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3AA-B741-4C67-BC8D-FD2DEDE1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4DA-B34F-47F6-9866-332C77BD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D12-0B38-46A0-868E-1730202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3D8-AFCC-4750-96DE-78A2D4AD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BD4-3572-489D-A789-6361D08E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D27-5E15-4DE3-A86D-6F30F7D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A11-670B-4713-BEB7-CC65AE3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CE5-934B-49D0-9816-E2EA2C5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974-4BB0-4ADB-BB37-52650F54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77D-FC38-484B-8420-FEE75C3C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620440" y="23796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osomes and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1" descr="_x0016_Fig6.1.Chromosomes.jpg    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2592360" y="887400"/>
            <a:ext cx="452772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Freeform 102"/>
          <p:cNvSpPr/>
          <p:nvPr/>
        </p:nvSpPr>
        <p:spPr>
          <a:xfrm>
            <a:off x="3639960" y="1459080"/>
            <a:ext cx="1930680" cy="146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3"/>
          <p:cNvSpPr/>
          <p:nvPr/>
        </p:nvSpPr>
        <p:spPr>
          <a:xfrm>
            <a:off x="4227480" y="2986200"/>
            <a:ext cx="55872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4"/>
          <p:cNvSpPr/>
          <p:nvPr/>
        </p:nvSpPr>
        <p:spPr>
          <a:xfrm>
            <a:off x="3895560" y="3516480"/>
            <a:ext cx="91944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646440" y="1360440"/>
            <a:ext cx="2050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aired genes on each chromosome determine each of the traits possessed by the animal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ch 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4203720" y="2932200"/>
            <a:ext cx="736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or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3876840" y="347508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air col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5:15:05Z</dcterms:modified>
  <cp:revision>31</cp:revision>
  <dc:subject/>
  <dc:title>PowerPoint Presentation</dc:title>
</cp:coreProperties>
</file>