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09D-968C-4120-85FB-D9BF1D5C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DD8-D598-4EBD-9183-51E667E8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14A-E998-4EAE-BAB1-7BC99B42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381-9DA5-4F84-9689-99F594C4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0F9-AC00-465F-90E3-45EF7104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35C-1C47-46E3-A790-7A1D3A73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87C-831A-4D65-BAFB-FFD893F8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4E8-6649-4219-8FD0-B047FEC7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055-1762-4FA8-BDCD-00CB2021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B85-455E-4E94-86A4-ADDE4697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558-C5DF-489A-BBE9-97FED743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195-A2BC-4D61-BCF6-DE64932E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48EB-B3FA-4240-BA12-8D8DDF0CF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_x0019_TM1.1.BullReproForPPT.jpg      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0" y="969840"/>
            <a:ext cx="7174080" cy="5694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045160" y="152280"/>
            <a:ext cx="48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the B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4593960" y="196056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te 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6972840" y="20750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per’s 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7108560" y="269064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actor 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7108200" y="33814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6"/>
          <p:cNvSpPr/>
          <p:nvPr/>
        </p:nvSpPr>
        <p:spPr>
          <a:xfrm>
            <a:off x="7106040" y="383688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moid Flex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7"/>
          <p:cNvSpPr/>
          <p:nvPr/>
        </p:nvSpPr>
        <p:spPr>
          <a:xfrm>
            <a:off x="6993360" y="45007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8"/>
          <p:cNvSpPr/>
          <p:nvPr/>
        </p:nvSpPr>
        <p:spPr>
          <a:xfrm>
            <a:off x="6594840" y="5353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o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9"/>
          <p:cNvSpPr/>
          <p:nvPr/>
        </p:nvSpPr>
        <p:spPr>
          <a:xfrm>
            <a:off x="3693240" y="51166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didy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0"/>
          <p:cNvSpPr/>
          <p:nvPr/>
        </p:nvSpPr>
        <p:spPr>
          <a:xfrm>
            <a:off x="3211560" y="39704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1"/>
          <p:cNvSpPr/>
          <p:nvPr/>
        </p:nvSpPr>
        <p:spPr>
          <a:xfrm>
            <a:off x="3621240" y="36385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2"/>
          <p:cNvSpPr/>
          <p:nvPr/>
        </p:nvSpPr>
        <p:spPr>
          <a:xfrm>
            <a:off x="2919600" y="33163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s Defer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3"/>
          <p:cNvSpPr/>
          <p:nvPr/>
        </p:nvSpPr>
        <p:spPr>
          <a:xfrm>
            <a:off x="2625120" y="288144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4"/>
          <p:cNvSpPr/>
          <p:nvPr/>
        </p:nvSpPr>
        <p:spPr>
          <a:xfrm>
            <a:off x="2804040" y="23954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inal Ves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_x001f_TM1.3.BoarReproductionSyste.jpg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0" y="1905120"/>
            <a:ext cx="7174080" cy="3962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984680" y="15228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the Bo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031360" y="15238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inal Ves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935760" y="19810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te 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087320" y="25146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per’s 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108560" y="289548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actor 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107480" y="3429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858720" y="3733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didy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554880" y="4129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o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324240" y="22860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s Defer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822040" y="2681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3893760" y="31179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2962800" y="342108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moid Flex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3673800" y="37339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938400" y="46990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2" descr="_x001d_TM1.4.RoosterReproduction.jpg  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3817800" y="1488960"/>
            <a:ext cx="1622520" cy="4886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662480" y="15228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Fowl - Ro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018680" y="115884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477040" y="36306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s Defer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2750760" y="5310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ill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5468040" y="55022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262400" y="6329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2" descr="_x001f_TM1.5.ReproductiveRamforPPT.jpg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171360" y="482760"/>
            <a:ext cx="7174080" cy="63752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2002320" y="152280"/>
            <a:ext cx="49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the 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29400" y="14479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inal Ves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5190840" y="9730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te 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6582240" y="16272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per’s 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6878520" y="238428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actor 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6480000" y="3854520"/>
            <a:ext cx="20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moid Flex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6357960" y="43196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s Defer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6726240" y="49449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341520" y="55324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o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3200400" y="488952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didy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1"/>
          <p:cNvSpPr/>
          <p:nvPr/>
        </p:nvSpPr>
        <p:spPr>
          <a:xfrm>
            <a:off x="2886120" y="43959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3284640" y="361944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3"/>
          <p:cNvSpPr/>
          <p:nvPr/>
        </p:nvSpPr>
        <p:spPr>
          <a:xfrm>
            <a:off x="3019320" y="317340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4"/>
          <p:cNvSpPr/>
          <p:nvPr/>
        </p:nvSpPr>
        <p:spPr>
          <a:xfrm>
            <a:off x="2687760" y="273852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2" descr="_x001a_TM1.6.ReproSysStallion.jpg     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0" y="662040"/>
            <a:ext cx="7197840" cy="6195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785240" y="15228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the Sta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610520" y="17938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inal Ves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6546600" y="20653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te 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6947640" y="26049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per’s 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5"/>
          <p:cNvSpPr/>
          <p:nvPr/>
        </p:nvSpPr>
        <p:spPr>
          <a:xfrm>
            <a:off x="7108560" y="332568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actor 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7107480" y="3800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7107480" y="44067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o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7028640" y="56260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didy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2077560" y="259560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0"/>
          <p:cNvSpPr/>
          <p:nvPr/>
        </p:nvSpPr>
        <p:spPr>
          <a:xfrm>
            <a:off x="2540160" y="28908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s Defer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1"/>
          <p:cNvSpPr/>
          <p:nvPr/>
        </p:nvSpPr>
        <p:spPr>
          <a:xfrm>
            <a:off x="3094920" y="31510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3495600" y="44640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4557960" y="4851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4" descr="_x001f_TM1.7.DogReproductiveforPPT.jpg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696960" y="927000"/>
            <a:ext cx="6178680" cy="5380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041200" y="15228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the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983840" y="22161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5"/>
          <p:cNvSpPr/>
          <p:nvPr/>
        </p:nvSpPr>
        <p:spPr>
          <a:xfrm>
            <a:off x="6481440" y="31734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actor 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6"/>
          <p:cNvSpPr/>
          <p:nvPr/>
        </p:nvSpPr>
        <p:spPr>
          <a:xfrm>
            <a:off x="6557400" y="3581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7"/>
          <p:cNvSpPr/>
          <p:nvPr/>
        </p:nvSpPr>
        <p:spPr>
          <a:xfrm>
            <a:off x="6450840" y="38847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didy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8"/>
          <p:cNvSpPr/>
          <p:nvPr/>
        </p:nvSpPr>
        <p:spPr>
          <a:xfrm>
            <a:off x="6499440" y="42624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9"/>
          <p:cNvSpPr/>
          <p:nvPr/>
        </p:nvSpPr>
        <p:spPr>
          <a:xfrm>
            <a:off x="5496120" y="44528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o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3"/>
          <p:cNvSpPr/>
          <p:nvPr/>
        </p:nvSpPr>
        <p:spPr>
          <a:xfrm>
            <a:off x="2209320" y="322092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4"/>
          <p:cNvSpPr/>
          <p:nvPr/>
        </p:nvSpPr>
        <p:spPr>
          <a:xfrm>
            <a:off x="3432240" y="36655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s Defer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5"/>
          <p:cNvSpPr/>
          <p:nvPr/>
        </p:nvSpPr>
        <p:spPr>
          <a:xfrm>
            <a:off x="3658320" y="4491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6"/>
          <p:cNvSpPr/>
          <p:nvPr/>
        </p:nvSpPr>
        <p:spPr>
          <a:xfrm>
            <a:off x="4756320" y="4689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7" descr="_x001a_TM1.8.MaleRabbitforPPT.jpg     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1882800" y="1395360"/>
            <a:ext cx="6791400" cy="4221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1866240" y="1522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the Rab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582000" y="17319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8"/>
          <p:cNvSpPr/>
          <p:nvPr/>
        </p:nvSpPr>
        <p:spPr>
          <a:xfrm>
            <a:off x="5997600" y="3317760"/>
            <a:ext cx="1417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inal Ves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9"/>
          <p:cNvSpPr/>
          <p:nvPr/>
        </p:nvSpPr>
        <p:spPr>
          <a:xfrm>
            <a:off x="5969160" y="3876840"/>
            <a:ext cx="1234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4646520" y="4332240"/>
            <a:ext cx="1625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s Defer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1"/>
          <p:cNvSpPr/>
          <p:nvPr/>
        </p:nvSpPr>
        <p:spPr>
          <a:xfrm>
            <a:off x="4503960" y="4664160"/>
            <a:ext cx="1107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o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2"/>
          <p:cNvSpPr/>
          <p:nvPr/>
        </p:nvSpPr>
        <p:spPr>
          <a:xfrm>
            <a:off x="4294800" y="5602320"/>
            <a:ext cx="1401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didy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3"/>
          <p:cNvSpPr/>
          <p:nvPr/>
        </p:nvSpPr>
        <p:spPr>
          <a:xfrm>
            <a:off x="3102120" y="5611680"/>
            <a:ext cx="1031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4"/>
          <p:cNvSpPr/>
          <p:nvPr/>
        </p:nvSpPr>
        <p:spPr>
          <a:xfrm>
            <a:off x="1018080" y="4710240"/>
            <a:ext cx="1081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5"/>
          <p:cNvSpPr/>
          <p:nvPr/>
        </p:nvSpPr>
        <p:spPr>
          <a:xfrm>
            <a:off x="1090800" y="4168800"/>
            <a:ext cx="790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2865600" y="2441520"/>
            <a:ext cx="10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reth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2266200" y="15228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e Reproductive Horm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6" descr="_x001f_Fig1.4.MaleHormonesinMammal.png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2509920" y="809640"/>
            <a:ext cx="436248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7:45:08Z</dcterms:created>
  <dc:creator>Christopher Benedict</dc:creator>
  <dc:description/>
  <dc:language>en-US</dc:language>
  <cp:lastModifiedBy>LevsenJ</cp:lastModifiedBy>
  <dcterms:modified xsi:type="dcterms:W3CDTF">2007-06-12T15:33:14Z</dcterms:modified>
  <cp:revision>6</cp:revision>
  <dc:subject/>
  <dc:title>PowerPoint Presentation</dc:title>
</cp:coreProperties>
</file>