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5E68-E268-48F5-A344-2BF744BD7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E031-1427-4EF1-BAFA-6EE5F5E7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A2C8-ABEF-402E-9BC9-97D143EB1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1E13-85DA-4EEA-A501-CAFE885E6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0AA8-C000-43CA-AA9D-F4246250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0BAB-C2C8-4A74-A5D6-4B179857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B3B6-F127-4B53-9FD2-B78D97D7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10E0-104C-412D-84CC-FCBD0492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C3FA-BC76-4677-B500-F8AAD93F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DA02-D619-413D-91E7-9EE2AB48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D400-5E63-4DC8-9FF9-840ED658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3D36-BF4B-4423-B9F9-C84FC899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251E-5AD5-46CF-9300-F099C2CB7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487080" y="631800"/>
            <a:ext cx="812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erty Age, Estrous Cycle Length, and Estrus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98" descr="_x0016_TM3.1.EstrousCycle.gif                                         0029A34C_x0008_Colossus                       BC84C498:"/>
          <p:cNvPicPr/>
          <p:nvPr/>
        </p:nvPicPr>
        <p:blipFill>
          <a:blip r:embed="rId1"/>
          <a:stretch/>
        </p:blipFill>
        <p:spPr>
          <a:xfrm>
            <a:off x="984240" y="1630440"/>
            <a:ext cx="717408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17:45:08Z</dcterms:created>
  <dc:creator>Christopher Benedict</dc:creator>
  <dc:description/>
  <dc:language>en-US</dc:language>
  <cp:lastModifiedBy>LevsenJ</cp:lastModifiedBy>
  <dcterms:modified xsi:type="dcterms:W3CDTF">2007-06-12T19:44:36Z</dcterms:modified>
  <cp:revision>27</cp:revision>
  <dc:subject/>
  <dc:title>PowerPoint Presentation</dc:title>
</cp:coreProperties>
</file>