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F42F-9115-495F-8BE3-98C4E2712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3EBF-7D02-46FE-BB2E-4C4A945F4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89C9-A4C3-4FEA-BC86-DB65795AC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8BB4-81B6-4C14-BEF0-EA6A60B5D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1B35-FB6E-475D-856C-CAACC5D2C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3332-33E6-4EBA-B4BB-CBD53D3AC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7DAD-5587-4533-8516-FDC6D1533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A258-2733-44CE-AA7C-5AC98D0E5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F55D-42EE-4749-A5DD-31B55D752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DBC0-12B1-4EA6-A546-D6B4D9222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AB00-4E4B-428D-8EDB-A20F2A8ED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EBB0-14C5-448F-9408-513A4FA48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059CA-5729-4868-B865-6CBBBDDD95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0" y="2206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station Ta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919080" y="1019160"/>
          <a:ext cx="7305840" cy="4819680"/>
        </p:xfrm>
        <a:graphic>
          <a:graphicData uri="http://schemas.openxmlformats.org/drawingml/2006/table">
            <a:tbl>
              <a:tblPr/>
              <a:tblGrid>
                <a:gridCol w="1827360"/>
                <a:gridCol w="1825560"/>
                <a:gridCol w="1825560"/>
                <a:gridCol w="182736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ATE OF SERV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UE D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ATE OF SERVIC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UE D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anuary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ctober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ly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ril 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anuary 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ctober 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ly 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ril 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ebruary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vember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gust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y 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ebruary 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vember 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gust 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y 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rch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cember 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ptember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ne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rch 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cember 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ptember 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ne 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ril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anuary 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ctober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ly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ril 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anuary 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ctober 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ly 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y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ebruary 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vember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gust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y 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ebruary 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vember 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gust 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ne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rch 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cember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ptember 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ne 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rch 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cember 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ptember 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1T14:25:03Z</dcterms:created>
  <dc:creator>loweryb</dc:creator>
  <dc:description/>
  <dc:language>en-US</dc:language>
  <cp:lastModifiedBy>KasselE</cp:lastModifiedBy>
  <dcterms:modified xsi:type="dcterms:W3CDTF">2007-06-25T15:45:38Z</dcterms:modified>
  <cp:revision>3</cp:revision>
  <dc:subject/>
  <dc:title>Slide 1</dc:title>
</cp:coreProperties>
</file>