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D38-CBFD-4FD7-B839-B8247C3F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36D-FC08-4DE3-BA6A-04EC2AF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354-2100-40C2-AAAD-1A7E3FA8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F15-F904-4A4B-93CA-258077C5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E0E-93C7-4C36-AA53-E95FAD97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984-E101-41CF-9606-87ED4370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28F-37D7-4BDE-9DE4-B36D1C7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EC9-89EA-40A2-A7DD-BA43C7C5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8B2-0473-4482-8A1D-41103219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DCB-8E98-445C-8FD2-EDADE60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17D-5F4B-43A0-8DAE-6560CCE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5F6-D321-4455-BAD3-2B2FE64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E77-3E41-4E55-9397-89F73F51F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Iml-files-1\Data1\PROJECTS\Agricultural Education\Online Curriculum\Agricultural Science I\Introduction to Beef Production\Originals\Colorized\Tm-1.1.gif"/>
          <p:cNvPicPr/>
          <p:nvPr/>
        </p:nvPicPr>
        <p:blipFill>
          <a:blip r:embed="rId1"/>
          <a:stretch/>
        </p:blipFill>
        <p:spPr>
          <a:xfrm>
            <a:off x="3092400" y="460440"/>
            <a:ext cx="3651480" cy="5937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ef Cattle Industry Flow 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5:16:41Z</dcterms:created>
  <dc:creator>loweryb</dc:creator>
  <dc:description/>
  <dc:language>en-US</dc:language>
  <cp:lastModifiedBy>KasselE</cp:lastModifiedBy>
  <dcterms:modified xsi:type="dcterms:W3CDTF">2007-06-25T14:23:08Z</dcterms:modified>
  <cp:revision>1</cp:revision>
  <dc:subject/>
  <dc:title>Slide 1</dc:title>
</cp:coreProperties>
</file>