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3448-2248-495F-A68C-494B27DD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E283-2C21-4766-956E-04652134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9FB3-85B1-4FF4-9AC0-5C796CA99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1ADF-D1F9-4A15-B63E-6BDB7767A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475F-0986-4DE3-96B1-349971E4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2C15-7E5D-4882-9130-BAC38A03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32CE-D65C-4723-BA54-B09A56E6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FEA5-A187-464A-A8F9-CFD4CACD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2D0D-E557-4EB0-B75A-C6BBFF1D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28DC-93B6-491F-A31E-02584882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BBF8-91E7-4FE8-9FE6-6BB44F42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C5D2-08A6-47CC-97F0-D59B1C2A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CD22-77BC-49CD-A984-9E2F1E307D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0" y="131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712880" y="873000"/>
          <a:ext cx="5813280" cy="5211720"/>
        </p:xfrm>
        <a:graphic>
          <a:graphicData uri="http://schemas.openxmlformats.org/drawingml/2006/table">
            <a:tbl>
              <a:tblPr/>
              <a:tblGrid>
                <a:gridCol w="1592280"/>
                <a:gridCol w="4221000"/>
              </a:tblGrid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w/Ca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ndling Fac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ading/Unloading 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ed/Hay Sto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eb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ndling Fac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ading/Unloading 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ed/Hay Sto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ckgroun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ndling Fac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ading/Unloading 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edl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ndling Fac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ading/Unloading 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ed Sto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ed M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eding Lo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nity Ba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w/Sale Ba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f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elaborate handling/working fac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13:57:42Z</dcterms:created>
  <dc:creator>loweryb</dc:creator>
  <dc:description/>
  <dc:language>en-US</dc:language>
  <cp:lastModifiedBy>KasselE</cp:lastModifiedBy>
  <dcterms:modified xsi:type="dcterms:W3CDTF">2007-06-25T15:36:44Z</dcterms:modified>
  <cp:revision>5</cp:revision>
  <dc:subject/>
  <dc:title>Slide 1</dc:title>
</cp:coreProperties>
</file>