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A42-E45A-4FEF-94E7-BE96AFA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5AD-B757-4A60-996F-A2264181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700-A6DC-45AC-AC5F-FFCC33E1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946-8A8C-4570-AAC0-20F9E46D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328-FEFE-45C2-813E-69FDDFB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986-1664-4C25-8CF5-2EEDCCF9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B77-12DC-4C36-9BED-EE9B4332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936-B691-4B81-B0DE-2C571F9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E44-448A-40BF-B8C1-AE04A883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7A7-6379-420D-B538-1F511B96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51A-D270-4B88-8FC0-B52507E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C77-6B6B-4C39-B9B6-886FDF0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6860-A280-42C3-A910-4469A7923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d Health Program Based on Spring Calving (March 1 to April 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579600"/>
          <a:ext cx="6096240" cy="6157800"/>
        </p:xfrm>
        <a:graphic>
          <a:graphicData uri="http://schemas.openxmlformats.org/drawingml/2006/table">
            <a:tbl>
              <a:tblPr/>
              <a:tblGrid>
                <a:gridCol w="1327320"/>
                <a:gridCol w="476892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high quality hay for cow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r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high quality hay for cow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 cows twice daily for the new calves. Tag calves at birt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 calves for scou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 cows twice daily for new calves. Tag calves at birt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 calves for scours. Semen check herd bul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cinate cows for IBR, BVD, clostridial diseases, leptospirosis, and vibriosis. Vaccinate bulls for IBR, BVD, clostridial diseases, leptospirosis, and vibriosis. Administer products for internal and external parasite contr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21 – Turn bulls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cinate calves for clostridial diseases, PI3, BVD, IBR, and BRSV. Make sure fly control measures are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 booster shots for PI3, BVD, IBR, and BRSV. Maintain fly contr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20 – Lock up bu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cinate heifers for brucellosis. Maintain fly control. Pregnancy check all cows; sell those that are op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n calves. Vaccinate calves for pasteurella. Treat calves for internal and external parasites. Maintain fly contro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high quality hay/forages for cow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high quality hay/forages for cow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high quality hay for cow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Iml-files-1\Data1\PROJECTS\Agricultural Education\Online Curriculum\Agricultural Science I\Introduction to Beef Production\Originals\Colorized\power points\Fig-5.1.jpg"/>
          <p:cNvPicPr/>
          <p:nvPr/>
        </p:nvPicPr>
        <p:blipFill>
          <a:blip r:embed="rId1"/>
          <a:stretch/>
        </p:blipFill>
        <p:spPr>
          <a:xfrm>
            <a:off x="2071800" y="1112760"/>
            <a:ext cx="5000400" cy="3324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30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of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0:47:47Z</dcterms:created>
  <dc:creator>loweryb</dc:creator>
  <dc:description/>
  <dc:language>en-US</dc:language>
  <cp:lastModifiedBy>loweryb</cp:lastModifiedBy>
  <dcterms:modified xsi:type="dcterms:W3CDTF">2007-06-25T15:47:04Z</dcterms:modified>
  <cp:revision>2</cp:revision>
  <dc:subject/>
  <dc:title>Slide 1</dc:title>
</cp:coreProperties>
</file>