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CF1A-4F77-49C0-BB3F-91A0B6A0F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B74A-8937-49DB-BCF3-5EF4DCF2E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CF73-AEC9-49FD-A7E1-625ACE923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22C8-C106-4DA2-84B4-ACB9A3369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AFDB-E393-4010-A611-C72FEB483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9DE3-BD66-45B1-ABC9-D5FF55585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C5C7-F05D-4733-8724-750E93A8C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E8AA-73E5-453F-904B-43A56E22D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01177-1958-4EC0-A5B2-061E8453F2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F932A-ABCE-4312-B997-0687CFA923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2CA64-C972-4F5F-9204-465CFC5D0D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4659C-076C-47B3-AF7F-AD03B46E6F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B7D73-67EF-4413-82BB-A717055988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5B291-C482-4BDB-A80F-8DF5CEDA8D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22B76-5FDB-4839-A5B3-93880780D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02AA-8DCA-4DF1-B5D0-359A5C50D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154AD-D851-4648-A298-60E99E7719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0826A-E998-4306-8478-F78ABAFD4C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CEFAD-69F1-4DC6-ACEF-174E797774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7DB20-269F-47D4-969A-39999EF932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250BA-9E63-41AD-BEA8-458312450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4E31-467E-4B41-B98A-29F564E08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3F49-B0D9-4FED-87DC-3B46B269C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392B-B4E8-4084-BA6A-A1C97377E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C9BF-FDED-43F8-8CD7-444327150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ED8C-F2F8-4753-BA72-733F32EFC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A496-8750-4DAA-88A4-C2159D26D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310D-C7B3-41B9-A9EA-7253165A0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8199E0D-BDED-4AC6-88B3-9F568D760BD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315200" y="0"/>
            <a:ext cx="1828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65280" y="304920"/>
            <a:ext cx="3017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FD5F908-85EC-42A8-8576-945EE8479DE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1" lang="en-US" sz="4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28951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7680" indent="0">
              <a:spcBef>
                <a:spcPts val="799"/>
              </a:spcBef>
              <a:buNone/>
              <a:tabLst>
                <a:tab algn="l" pos="0"/>
                <a:tab algn="r" pos="9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10-1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Marketing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7680" indent="0">
              <a:spcBef>
                <a:spcPts val="799"/>
              </a:spcBef>
              <a:buNone/>
              <a:tabLst>
                <a:tab algn="l" pos="0"/>
                <a:tab algn="r" pos="9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10-2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Develop Effective Products </a:t>
            </a:r>
            <a:br>
              <a:rPr sz="3200"/>
            </a:b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7680" indent="0">
              <a:spcBef>
                <a:spcPts val="799"/>
              </a:spcBef>
              <a:buNone/>
              <a:tabLst>
                <a:tab algn="l" pos="0"/>
                <a:tab algn="r" pos="9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10-3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Price and Distribut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7680" indent="0">
              <a:spcBef>
                <a:spcPts val="799"/>
              </a:spcBef>
              <a:buNone/>
              <a:tabLst>
                <a:tab algn="l" pos="0"/>
                <a:tab algn="r" pos="9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10-4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Plan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853000" y="3049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5360B60-060B-4938-90B6-7DE630AB839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STEPS IN THE CONSUMER DECISION-MAKING PROCESS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a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6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6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nd evaluate altern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6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urchase d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6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ffectiveness of the d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06AE418-FBDB-423B-9D38-C28DE6E03C9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 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in the consumer decision-making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70A8117-E1A1-46B2-833C-128A33825CF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10-2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Develop Effective Products and Servic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y the importance of marketing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mponents of a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services differ from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DBAC548-F8D6-46D0-8D99-89D8D1A32FD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p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sh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F3D5C4C-09E4-4D70-AFBF-80F28AF2E14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REATE AND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ROVE PRODUC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ly new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improvements in existing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improvements in existing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7D2B779-CFE2-43B7-848F-177DE17CD03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PLAN MARKETING RESEARCH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 marketing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61a2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 the marketing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61a2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udy the sit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61a2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 a data collection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61a2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her and analyz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61a2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se a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C74ADAD-10E8-49C9-9E46-047150A7346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TYPES OF RESEARCH STUDIES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81A6637-E51E-4B6E-9841-420738CE867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 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steps in a marketing research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DDC8A8F-5320-412E-AE62-CCF0E6B8190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PRODUCT PLANN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of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plann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and financia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production and test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-scal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EA5DA0E-44D1-4C49-A934-4FF1C8803F9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 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mponents of a produ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598F4E6-E691-41A8-A992-B50D81F8D90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10-1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Marketing Basic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mportant marketing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teps in a marketing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onsumer decision-mak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A6E2823-94C1-4CA7-AF14-48E8D98B4F4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ERVIC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p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sh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DCA689D-5AC1-4B8D-A3D5-3EC97AECB2B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 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ways are services different from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BCAB37C-E334-4D65-8868-42E818E5BF9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10-3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Price and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Distribute Produc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ow the selling price of a product is calcu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 between a direct and an indirect channel of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92FF139-B562-48D2-AA9F-470A043D7F2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of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0AE2C42-E3EB-416E-A1B8-794386BB4ED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VALUE AND PRIC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ers usually want to pay the lowest pric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lers want to charge the highest pric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F78AAA6-6F55-4774-9493-FE5414BE292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PRICING FACTOR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and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8C13E52-66F2-4547-B2BF-43641A05CE1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PRICE A PRODUC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pr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4114800"/>
          <a:ext cx="5790960" cy="822240"/>
        </p:xfrm>
        <a:graphic>
          <a:graphicData uri="http://schemas.openxmlformats.org/drawingml/2006/table">
            <a:tbl>
              <a:tblPr/>
              <a:tblGrid>
                <a:gridCol w="1295280"/>
                <a:gridCol w="228600"/>
                <a:gridCol w="1295280"/>
                <a:gridCol w="228600"/>
                <a:gridCol w="1524240"/>
                <a:gridCol w="228600"/>
                <a:gridCol w="99036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ling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expen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800600" y="2590920"/>
          <a:ext cx="4191120" cy="822240"/>
        </p:xfrm>
        <a:graphic>
          <a:graphicData uri="http://schemas.openxmlformats.org/drawingml/2006/table">
            <a:tbl>
              <a:tblPr/>
              <a:tblGrid>
                <a:gridCol w="1252440"/>
                <a:gridCol w="220680"/>
                <a:gridCol w="1104840"/>
                <a:gridCol w="368280"/>
                <a:gridCol w="124488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ling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07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97F8082-DB29-4830-832D-8B80F3AFA47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PRICE A PRODUC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2DAE8B0-3483-4028-A8CD-4C7F19B87FF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 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ormula for calculating the selling price of a produ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FA94747-BA9E-4EF8-A3A3-06E6D6ED396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HANNELS OF DISTRIBUTION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distribu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asso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s and channel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C7EAA75-DD55-4362-9B2F-15B55BA7AF3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4340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mo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EB37058-B290-4CFD-B26F-0EC6856BFB6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 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direct and an indirect channel of distrib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F5A74B4-DEBC-465F-B951-A8B58A5AD24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10-4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Plan Promotion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y the importance of communication in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describe the common types of pro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D6DE670-A57B-48CD-9B0E-D5EDC86F37F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493B84C-9BBF-497D-A592-295B8B7A35D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OMMUNICATION 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ng through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C20583F-AAEF-44D6-BDC0-0C606D39616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COMPONENTS OF </a:t>
            </a:r>
            <a:br>
              <a:rPr sz="4000"/>
            </a:b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EFFECTIVE COMMUNICATION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671400" y="2585880"/>
            <a:ext cx="7801200" cy="16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64E4ED9-4917-49A6-B761-DE016142562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 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dentifying a target market improve promotion commun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348A5C1-0F5A-4183-8FD8-9C76C181CB8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PROMOTION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zed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ers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D689140-BF11-409B-A0A8-D3E58B781FB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 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advantages and disadvantages of the major types of pro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6919C32-B19E-4B21-8401-6ABC66B3584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UNDERSTAND MARKE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ED0C96F-9C20-404C-9A5C-49E1D12C913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MARKETING FUNC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591080" cy="4324320"/>
          </a:xfrm>
          <a:prstGeom prst="rect">
            <a:avLst/>
          </a:prstGeom>
          <a:ln w="9360">
            <a:solidFill>
              <a:srgbClr val="c6e079"/>
            </a:solidFill>
            <a:miter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CE26DFA-8689-4B93-B0C5-87EFC501CA3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 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rketing and the seven marketing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1036DBF-084B-48C2-9713-1FCBD23C6B4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MARKETING STRATEG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successful marketing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 target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marketing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9E3A405-A865-4DB3-A265-23614B1FC9C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 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wo steps in developing a marketing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3B50AFA-88FA-475F-BBD7-7C20365B51B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UNDERSTAND CUSTOMER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mo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16:08Z</dcterms:created>
  <dc:creator>M. C. McLaughlin</dc:creator>
  <dc:description/>
  <dc:language>en-US</dc:language>
  <cp:lastModifiedBy>mconrad</cp:lastModifiedBy>
  <dcterms:modified xsi:type="dcterms:W3CDTF">2012-07-06T12:53:35Z</dcterms:modified>
  <cp:revision>6</cp:revision>
  <dc:subject/>
  <dc:title>Chapter10 Marketing</dc:title>
</cp:coreProperties>
</file>