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8AEF-ACFB-4D20-A195-DCAA6FCC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2872-C384-4859-B06E-CB8E8C54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6ADA-CA97-4F1A-846F-E41161E3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E98E-133B-4A7D-A436-4E5A11F2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8A23-561A-473D-A62A-38DE415A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666B-316A-40F6-97F7-3A5EBBC1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743D-9683-4E2B-A047-166D583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C0E-D872-4129-9880-BA6A2940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9DF1-ED08-4C2D-B9C0-891402A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2411-B4FC-4566-A3AD-DD80ED1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763-0840-4649-BDE8-70830194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29C1-7E3B-4E21-8FB5-0ED84BA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1906-17C6-435B-B40A-4450D09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122-8005-41D8-BFB0-8520ACB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01D-AAFE-4F47-9EBE-52BD0A4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A193-7928-465C-9524-821066AA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CE2-6DD1-447B-901E-87F58F56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F25C-10B4-4C18-8BE3-318DBDB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B3AE-2BA3-488D-8027-FC1F1A1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CE04-5D34-4296-BD98-8FD7008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AA68-E21E-4DAD-8AD2-F67AA410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854B-4C25-45BB-8FC9-FCCA5FD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A959-EF19-457D-84BC-C9A416B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5B89-83AB-445D-8D58-8518D56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6E11-F47B-4C43-86EB-9069109188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B8B-D5E2-46AB-B9B2-FA5176EE6C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ffffcc"/>
                </a:solidFill>
                <a:latin typeface="Tahoma"/>
              </a:rPr>
              <a:t>Business Letter</a:t>
            </a:r>
            <a:endParaRPr b="0" lang="en-US" sz="131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formal closing is followed by a comma.  Only the first word is capitalize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Closing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writer’s name is typed four lines below the closing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Signature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6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Yours truly,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Script MT Bold"/>
              </a:rPr>
              <a:t>Susan J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san Jon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71800" y="3713040"/>
            <a:ext cx="64771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incerely yours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necticut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Script MT Bold"/>
              </a:rPr>
              <a:t>Susan J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san J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500" autoRev="1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7" dur="500" autoRev="1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2280" y="157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heading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gives the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riter’s address and the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te.  A comma is placed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etween city and stat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Heading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234 South 3</a:t>
            </a:r>
            <a:r>
              <a:rPr b="0" lang="en-US" sz="70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 Street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Drew, MS 38737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June 6, 2001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Inside Address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inside address gives the name and address of the person or company receiving the lett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r. Robert Harris, Directo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ealth Care Cent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.O. Box 123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rew, MS 3873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,82,118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420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e formal greeting  is always followed by a colon (:).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Formal Greeting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6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Dear Sir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spcBef>
                <a:spcPts val="16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Dear Madam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spcBef>
                <a:spcPts val="16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Dear Mr. Harris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body states the purpose of the letter.  Facts are given in a brief, logical way.  Each paragraph is indente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The Body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194616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hen you write a business letter, make your message clear and brief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cc"/>
                </a:solidFill>
                <a:latin typeface="Tahoma"/>
              </a:rPr>
              <a:t>The Body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2:13:19Z</dcterms:created>
  <dc:creator>Drew</dc:creator>
  <dc:description/>
  <dc:language>en-US</dc:language>
  <cp:lastModifiedBy>vabel</cp:lastModifiedBy>
  <dcterms:modified xsi:type="dcterms:W3CDTF">2011-11-02T15:20:39Z</dcterms:modified>
  <cp:revision>8</cp:revision>
  <dc:subject/>
  <dc:title>Business Letter</dc:title>
</cp:coreProperties>
</file>