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2AC3-9426-4139-A973-65ECF0459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2CAE-84BC-4F16-8601-B0740206A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3C3E-607D-4F7D-BFAA-CBB17333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7B55-7D32-4F17-A3F0-28894447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9171D8-BFA6-41EB-837D-650CF993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48FE40-6B86-47B6-8B8D-CB296572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D69DE4-DC07-4B6F-8A53-712B3FBC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41E1D3-3651-4F6B-8FF5-F883436F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7C6131-306C-4ADD-BECC-8A349B4B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884CF5-D623-416F-B645-0C9F4FB0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6D5627-3BA2-4F61-B909-2F5EE015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21AB6F-1ECA-405B-BD93-04EAA30D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533B31-369D-499C-BCC3-6AFF8EBB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EE3C33-CD38-4B1D-BC6C-1724F5DF4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7BF8-EA4A-43CA-9FDC-ED4925C23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6272E0-D2C7-4184-90F3-19222496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4B963B-2C21-4F73-9A54-83AA8CF9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1281E3-20D8-4EC6-9511-B6ADC680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B786BE-80E0-4AE2-9688-119BB27D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111BAC-D119-46D5-B76F-40293EAC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E94319-7322-4DC3-8FB7-47B9B0B6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CA15EB-EEC5-4E81-B7FD-0B7DD355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6AE3F6-9319-4514-8834-648888DC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C406F9-7852-45C0-9B8C-D8C70A7B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39949D-1C2B-455D-8E1F-10A09A04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6660-2927-433C-99D5-78B0B13B9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C33353-820F-4547-AE41-7C8E87E8A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7E7D8-0671-40A7-B56F-083A06064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44C76-3DBD-4F51-B41A-44E21CE2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8C2CB-C74E-4604-8C91-709FB0AF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90153-A17B-497F-8499-8CCC497F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C9FBE-8C44-4B65-AA0C-1C21FBFE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14B48-646A-47BC-8C22-CAC1DC6C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4029D-CA7C-4A2E-A610-2D6C90D2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AF111-95AC-48DB-860E-3406AB70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3DA86-F1E4-4070-93A5-84632227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0AB6-3350-4BED-92ED-6DC282768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7272C-667A-4A09-A01A-FB557A9E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FF16F-14A0-4C25-AA73-3072F6C23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435BE-A2D9-4A5A-9E8C-5C3DEC095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D10581-6467-4097-9826-4EBD1720C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5BC9DF-8D8A-4E7B-B854-ADA80E3B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190C7F-8ECE-4D07-BFFA-74FC8675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FDA656-94C2-491A-A702-F9F05D1E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F1BC5F-421E-4C59-887C-B089634D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D8120B-A7F9-40C0-8734-69D54E1C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404722-6574-47AA-81D0-185C7C41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CA18-105D-46C6-90D9-2A38F523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9D05C1-A3A7-489C-B136-7E650B68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0D6595-C242-4FB8-B49B-8DDBFE3D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CB8393-24E6-4180-BE5A-3B7ED21E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79B016-D8B4-4750-A909-267DA6181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5417B9-E960-4C32-9FA1-FCAFA862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79C3-AE71-4643-AA0C-542DF894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EB84-3690-46A2-976A-FCF58667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1FB3-C0FC-4516-BB9C-96B035EC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263C-C705-4C9F-86F3-FC23B43D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A120-0700-4434-90E4-D51EADE9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6045-0DA7-488E-8FE4-F7006940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7AE5-2806-413C-9D7E-53B6B82D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1ADD-5A21-4ACB-866D-48D28ED0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58A7-2D6C-447C-A797-368D5268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5D40-9F28-459F-998A-FD0A3E21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B31B-64F2-4CD3-990B-78794DCEC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724DD-340A-473F-83EF-8710D9A5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540FB-DB49-46BA-8BAE-4A61580F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9AB12-6CA9-46B2-AB64-1BA1CA47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5C3F5-353A-499C-B840-A2B20EEA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BFFF2-D988-49F8-B26A-053BBDCF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5570-D726-4924-9DCA-6270CD0C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CE9F1-8C5D-4479-8DC0-2171A6C2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A2247-A64F-4953-8847-64882ABE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3056C-6EEB-4D91-B2FF-C9D3E519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7E65E-7C26-42E6-94F8-46D37EAA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A2B9E-CF9F-40BB-AA2E-2B71A5ED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438BE-E299-4BD9-8FAC-B2EBF52A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1AC2B-A36D-45C5-8BF9-CAE3442D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220B4-652D-4301-909C-0AF624C28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CF587-141C-47FF-BC0A-5FFB7961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35DC1-5890-4119-8A97-2B481B63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E82A-4FCB-4A14-B9B1-CF72257F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99B0B-213F-480E-8400-AA9A8157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D8AA0-2E9A-4B08-AC95-963267CB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6EC0D-6DCC-467D-AFA6-4D200202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C2740-6ED6-42D2-984E-621AA6D1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4F1FD-F4A1-4211-9C30-4F75F81F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BA6D4-FBAB-4804-9D3E-BBBF4E96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562E4-AF32-4942-A3D7-8AD0C88F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E726A-1CFF-46AC-897C-3C58AE5D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817DC-F60A-42CF-B5FD-1996345DA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A8140-EE84-4951-844F-E2FAE9014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8405-EC18-41F2-93F6-AD2C5DEC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520B6-3595-47E5-B24F-E8298F36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F034C-4327-4E4E-A5C5-35FF70FB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7713A-7E6B-48C4-A5E8-A14C2746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5755D-F7A0-43F9-BF44-D6500666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E84A4-7701-4207-8383-6B219F4E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4F5CA-2C53-42F5-A55F-421CC7CC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45589-FDA0-4962-ABDA-C27B2E1C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C393E-9EAE-498F-8AE9-84205D2B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D9B5E-B0AD-4FDB-9EEF-C810C91B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CEDB7-95CF-455E-8897-CBDFA5F2B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436F-DF4E-4FF5-A2BB-994B1627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C719F-1ABF-4A9D-9E14-0FD457CF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66321-442E-42C3-8655-0E826309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3EAC4-3C39-43FA-A60A-3877ED3D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2A165-E396-47B0-B0D5-52B61F61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EF47B-63F3-4D1B-93B7-B7FFD6E8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4AEFA-6CD4-4575-A5C7-EE341EC7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C3509-B348-4D2B-9B31-508F8E88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DE034-BEB7-49F0-811D-DDAAC811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12595-3248-4D8E-BC6E-B6714DD1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8C79A-2526-42A6-B348-D7B296C2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FCFB-3AEC-4F8E-9CD3-58F1FD5F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80489-8ACC-4C53-BCE3-1B2EC1AD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D5F83-53BE-4034-8E28-2086C17B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C38DB-571F-4B8B-8CA5-020B9595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6522B-80F1-4778-B98E-64A0E872F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E08A3-0221-4CD8-8F8D-229E8AA2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0EB93-3832-4147-8B0B-010F0924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1CCBC-38DC-4E75-9F9B-D06C01D1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05933-1924-480B-8958-C309EBB0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9A3DC-11C1-4EB3-83AD-21C5BC95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2A528-EB64-497F-9C47-4D5D9D38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F47D-904C-4DC2-BB91-12792EDF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A775F-BB7A-42EA-B303-8332959F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C7F3C-9B13-4630-8B19-22BF8519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DB146-F189-4DDC-B576-EDFB4A6B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F324E-22BB-4E77-81E8-AB1B571A2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0AA74-1508-47D5-993E-ED2DC23F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B5328-A10A-462B-82CC-7E613780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20814-F2E3-4CAB-BE25-DAADEE9D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F6376-DE0C-43F0-87E6-76126BD3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8D391-B891-492F-A3D5-2A6065AA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F3598-C905-4E0F-861C-18CCDF18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3172-0E03-4FA1-A729-2259D166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2C5F4-453E-4202-AFD7-26581602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F27CD-15D1-492F-BF1C-4984A1D1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A8A96-9D9E-4790-B201-E1B7E021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09691-E3F0-4D73-B7A0-AD0DB0A0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924AA-F359-4AF5-8173-6118C54A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490F4-A141-4257-9544-8D655B645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0BE3B-0EDA-45DA-B15E-3EABA064D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7BCD2B-352A-48B6-8A37-313EC3EB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10915D-6128-4488-84CE-5E8944E0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0323D7-268A-4773-8BD2-F8B88588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CA6A-C73D-4327-A293-E536EBE9E0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2330-073A-46A3-8948-C8EFA70DB7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2F24-BFA5-457A-9238-A94B8009E4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5575-E6B0-4F3A-9C50-240FB4E232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21A0-4FFB-46AD-97E1-066B9C9714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2530-218F-4D7F-A60A-AFEF3B686D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6A9F-F995-4ABF-8670-55522B561F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D754-359C-4FA0-95F1-E1666E88A8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B2F8-9787-4291-A80C-1734FAC095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7BA6-E324-4392-A1F2-17D6AF3C01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3394-AD21-40D7-B590-648813845F6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6904-B60A-4075-BAFD-9E4F5BCE21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JOB APPLICATI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Arial Unicode MS"/>
              </a:rPr>
              <a:t>Preparing for Employment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Job/Employment Applic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ost employers make the application a requiremen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clude basic information on your education, skills, work history &amp; referenc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ven if you have a resume &amp; an interview, you will usually need to complete an application form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e honest!  If information is discovered to be untrue you could be fired later for falsification of company document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b9899"/>
                </a:solidFill>
                <a:latin typeface="Georgia"/>
              </a:rPr>
              <a:t>What do employers look for in an application?</a:t>
            </a:r>
            <a:endParaRPr b="0" lang="en-US" sz="3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bility to follow instruct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Keep it neat, fill out the application neatly and completely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bility to hold a job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Questions concerning your employment history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Your achieveme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Mention past accomplishment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oroughnes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nswer all questions, no blank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raw a line or place N/A (not applicable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Job Applic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lways include a resume with your employment applicat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pleting an application does not mean you will have an interview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mpleting the applic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LLOW DIRECTIONS!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ather information and materials needed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k pen(s)  - blue or black ink or type!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urrent &amp; previous address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ocial security numbe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ducation information – names &amp; addresses of schools &amp; dat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ork records – names, addresses, phone numbers of past employer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Business or machine skill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Name of organizations you have participated in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List of referenc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opies of your resume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21:06:15Z</dcterms:created>
  <dc:creator>Crystal Oetting</dc:creator>
  <dc:description/>
  <dc:language>en-US</dc:language>
  <cp:lastModifiedBy>Windows User</cp:lastModifiedBy>
  <dcterms:modified xsi:type="dcterms:W3CDTF">2012-12-03T15:17:33Z</dcterms:modified>
  <cp:revision>26</cp:revision>
  <dc:subject/>
  <dc:title>Chapter 1</dc:title>
</cp:coreProperties>
</file>