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6E30FA6-BD55-430F-A635-FEF9BAAA2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5D286D-7DBE-4805-B9FA-4339DCEBB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638-0009-4C3D-B233-C3E1696D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06AE-D8F8-465B-A2BB-76AFE7C3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86040-74EF-4588-AEFE-AF734624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EAD5F-82A3-41A1-B7B3-6B91B919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5B1F1E-99B3-47DA-AC1E-BCA11E57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5F3C3-333D-4A4E-8652-D2ACFDE5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3E27D-76FD-4E37-B7E8-61AD2C9F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1ACAE-82DF-4841-9D7D-D9856AE3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3D1C2-1864-44FA-AFF3-4F576E88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99513B-86C0-4F25-9430-9FFDCC42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E1FDE-DD02-497D-9438-0FAA79BA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54003D-3BA1-40F3-B356-56A8914E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9A4-2D70-4F21-A340-5EF969D9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7AC921-3554-4302-8C99-967505EB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4905C-13AC-434E-887F-D7250535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9F701-567A-4CCF-A472-CE6FF5BA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01C19-24E8-42B2-8226-008213FB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A1D48-678A-417F-AA7E-763258C7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00C49-5F7E-451C-B743-4D69A6A0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5C871-447A-46C8-A054-69E11BD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BE842A-474A-4E08-A78A-71D54C8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03783-B461-402D-ADB4-ADE65D1A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12EF4-FB5D-40D9-9465-F0FC0AD8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292-B0A6-4729-8C19-AA213CB9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C5669-4480-4947-95A9-28709C3F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9CD07-C142-4E2E-B4EB-AF6E5E7E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27F12-CA89-48F7-8445-84DC612F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EDE59-663E-4CF7-AE01-62AE4B75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B18C5-51D2-41E2-9E65-03D59289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47A41-24A9-47B9-83B8-BEC9BCA0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A52D4-C86C-4A6B-A36F-369BC006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5C5D2-1D67-46D3-AFCC-0E62643C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EE3BE-FE33-4E13-B60B-71A819FB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2C529-4BC8-4CCB-B03F-14D5941D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84D9-B4A1-4EB9-961D-1DFD311F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8C027-6522-4826-AD0F-DCF5E6E0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3B5DF-E268-4631-94A3-728F4854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37F37-F75C-4376-97AE-8AFD24CA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B1CD03-465A-46DE-95A0-7D853424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87AE8-06BF-42B0-8857-CECD2870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19496-B343-4193-A497-2B304748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2F8613-CDF9-442B-A20E-D5E4CD26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A77FA-C7C2-4EA2-8370-E00AF3E4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4342C5-3650-47BA-846B-348EEF38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781D9-9C1E-48A0-A2C0-632DD649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3971-32D0-4207-A77D-9BE62585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35D19-2D63-4F76-919B-A730CEFF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125EB-41EA-4A16-A194-BE73A7BF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55A59-C5C0-4D46-9E73-963E540C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8CBF3-6DDE-4547-9440-91F8333A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5485F-B391-4504-95D2-2731CE7B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174B-6107-4356-91CC-34E31187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7085-CA2A-44C7-BFA1-1ECAC3D5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21E0-D2B5-416E-A6AF-4AE9394B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3679-8617-4DE4-925D-B0D676AE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EF61-10B3-4D60-960D-7D76EC97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E27-A075-4185-A000-1DEA1EDD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DE0B-1CD7-48A8-A7D2-46B0669B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D84E-3CB0-453C-9333-27B428CA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C9AD-62DF-453A-AC66-483C523F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C100-B17B-41BF-A083-84352096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CA36-D8AF-4664-BEA9-FFA38D42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3369-45BB-4B6C-AFB6-CD032A7D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78912-A5D1-4F73-A36B-63FB7680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621B-7A1D-4CAE-A61F-968E7281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F668-FA9D-474F-B840-E6397D06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FE16-ABDB-45BA-A425-ADFD2B63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EAB-DE21-4279-8999-0287AA8B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CAFBA-FF05-4178-BB7A-1C6DE41B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B8679-22DC-4AC5-A9FA-F924FB3C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21A7-90BA-4FA5-A199-5933A662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4BBB-375F-4E91-B79C-382CF912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9DBD-E8B4-4FBE-8662-D82A6699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0F50E-CB2B-4815-927C-0649EEC5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18F6E-F422-4217-B828-B118DB0D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87D3C-DB33-411E-A803-D0CDF000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1B584-AE8F-499E-A165-C73A5C56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B7B8B-A619-4572-8B95-97AC4CA5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F4C-0B33-404E-BF0D-A2E1F63D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55E00-06BF-4A2C-91C4-CF7BCB0E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62ABB-8ED2-46DE-A94E-92492C2C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4B1B2-F73F-4AA7-A697-1729310A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2E47C-E95B-4541-824B-5726A1FC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C4B6B-51FD-40BB-B358-F77DA023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DC3E6-22FC-4A30-AF12-3C6C88D1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A1E98-96DE-47A1-9BAB-28F5B99B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5F1C4-519D-4684-97EF-D564DE0A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B5B85-C140-4CE2-B47F-17C4521B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4DF89-2E1E-4791-9419-F79E04D7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416-1540-47B2-9BAE-8A5E87AB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7DE81-2E73-4F88-AFEA-F6251ABC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4EE9E-0767-4283-B842-E5DC87B6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ECF1B-7AC7-4CE4-AC41-D45AA17D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B5D65-FC75-4253-B750-3BC6CB23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FA8F6-0FF6-4D76-8A38-4BFBDCF1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34C8B-B287-4A9E-B3AA-2609CD77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BEA6F-79CE-4C56-A826-10D663B7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4F7DC-3FE3-4AA2-BEDF-CC4D855E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D69BE-BD37-4803-931B-515F77E6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A7A05-82E0-4503-882A-3C0AD1B5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9C6-7928-4ABD-9FDE-9EE24283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AF615-0E03-46D0-AFB2-2B8181AF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4CF1D-4D4A-4499-B055-490F7B99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2B083-58C3-4D54-A643-CAC6B0B2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202CB-E6D7-4B0A-B7FB-CFEB0998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F7D60-540F-415B-9F21-9E3C570D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3CC5B-76F2-4FFF-8F6F-B4C818D8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49FEC-4CEA-4CC9-91B1-1561A83E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75F3F-73AD-4C87-B964-EF00E218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C3ABD-83A0-494C-B70C-46C7AFBD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62598-5F17-4C5D-A77F-312C6175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3D4-A27D-4AF5-AC4C-7F8915EC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3C97E-7E9A-47A5-847D-FDF3F826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08AEB-0A19-4DA0-ADAC-5C1750D7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027B9-4C59-4261-AD7E-BF88F3AF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A329C-5685-46E7-8F89-28641A7B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B3464-899A-4F3B-9BE9-A0F4DCAA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58521-9345-4CB9-A6A5-43DB693E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8A3F5-251E-4256-8BCC-7A5CF02C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6A0B3-12A3-44A2-9955-E2D189B5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5E857-660E-49B7-91C0-6BA49C1C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1F2AE-4463-4374-9BD4-B2C7F2D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F6E-E8C4-4618-8E38-39D81D98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57701-9F6A-4DAB-82B0-19791372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77874-DD03-447B-8B3D-6CE31B50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C3860-1078-4739-AC91-DFA7D43E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56149-7C1B-412D-B881-6B9BADAC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C1121-3F20-4CE6-8827-2C59C030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A9318-1F22-47E6-B077-E8724069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5BDA6-17C8-4647-AB4F-1E614633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9CCAA-6A6E-493C-A331-18A2CC9D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43C90-BA0A-416E-97B1-02999F15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CB655-09E2-42F4-9CD5-CB2F6CDF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AD7-A024-44F6-B2AE-BBA275FF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A65BD-551A-429E-9B8F-AF574D4B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C38DA-97FA-4B50-9C12-AE06D916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7CD30-0CE0-48EB-A15E-1D739489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D4804-0E40-4E8D-9534-D792979A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A08BE-302C-4192-9B87-95BFE617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55679-CADA-4698-91B0-82EC9679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ADC16-E90F-4F93-966E-45C3B718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1F602-6BAD-4DE8-B7AF-C87032F6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6CCB7-E98E-4222-8780-8899216A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CB815-1BF1-4D1C-BFB7-8D4BAFE8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753D-3B8E-4585-9C53-66A21CAC40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0CC9-7AE7-46E9-9FAE-B7D4896929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4E21-D4B6-49CB-AE98-0CC1D9C494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8DA0-7B7F-47FC-BCE5-E149026E04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1D26-E2DF-40E3-874E-77AB926FF1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8115-E532-4DBF-BC58-F9C49E1C7B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F6F8-6680-4AB5-875C-17E81B2BD2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499C-4571-43E1-BCE9-5DBA8AAFBA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0551-6839-4F4F-BB4A-2126D35D67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FFDD-CB98-4018-9551-4351700BC8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3FEF-B2AE-40A4-9E8B-A125624D7E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BEE7-5D1B-4E02-8683-350EA56DAE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1.  COVER LETTER &amp; REFERENCE LIS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b9899"/>
                </a:solidFill>
                <a:latin typeface="Arial"/>
              </a:rPr>
              <a:t>Letter of Application/Cover Letter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always accompany a resu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ten directly to the employ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flects your interest in the position &amp; organ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be typed with no erro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 paper matching your resu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Business letter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ver Let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w simple paragraphs that state the job for which you are applying, your qualifications, &amp; your request for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ear &amp; concise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eps to write a cover let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dress the letter to a specific pers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52560" indent="-49536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ll the company to get a name of the human resource manager or manager in the department you are applying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 the purpose of your letter &amp; position you are applying fo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 qualifications that make you well suited for the jo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quest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gn your le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e brief, clear &amp; careful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ofread your letter for cont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someone else edit your le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ver letter cont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ning paragraph 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are you writ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sition you are applying f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you learned of the open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ddle paragraph 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are you interested in working for the employ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you desire this type of wor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int out qualifications, achievements, training, etc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osing paragraph –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fer to resume &amp; encourage ac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sk for an interview or end with a question that requires a rep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ference Li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references that will speak well of you when they are asked about you by a prospective employ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lect those that can talk about skills that relate to the specific job for which you are apply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od references inclu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rmer employ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each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rien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ighbo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general, family members or relatives should not be used as referenc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6:53Z</dcterms:modified>
  <cp:revision>24</cp:revision>
  <dc:subject/>
  <dc:title>Chapter 1</dc:title>
</cp:coreProperties>
</file>