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509890-484B-4C17-AF6B-BB3BD841E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C6D25CE-25CF-4B9F-9E6B-E888FB4B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ADA-B171-4024-BB29-86874708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9CCA-C28E-4975-83AE-F25EDFF0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684EB-84AD-4063-A601-5EFC4C9D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853C5-13F3-46BD-9AD8-07CFB30B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43B0CB-F029-49EF-B4FB-910C80A1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F1046-95F7-41C5-B5A3-A2FE97D3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ADA9B3-835B-4807-B4B4-FC750841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AB71B-8767-48B0-86B9-81FC7ABC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8CC12-719D-49A6-954E-03EF14BC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AD5D8-3E58-4B65-B280-8CAFED0C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34747-40C9-411D-86A0-6AB60E27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BD895-D772-44AA-A820-793CB134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F80-A5E7-4CB5-B862-C51CA2C44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2F56C6-73DC-440F-8FCC-229B0EE6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D2FA9-04D3-4C7B-94D8-7D23ECD8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CE468-1729-4A50-BF49-B2F5079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3F0A0-208F-477B-B0A6-A1E4B763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C94822-39DE-4BD2-B573-34BFB0D8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B6FBF1-205C-4C74-86EB-77E0256D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4E0EA-0159-4A05-9B6E-83EC50D8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67518-85DD-4158-A416-EDF9080F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E29E0-0F5D-4330-90C2-21D4667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19B91-605D-4252-AE89-1CC3B966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4D0-D387-4B97-B9A2-27D12AC4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11EE4F-C009-450B-9F83-37B46029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F34A1-E5C0-4820-BF3C-5E759ADA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8EEA5-9E4A-43C9-A0E0-4D1E140B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40533-A758-4873-ACEC-1F6019D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51675-EEA4-4037-BC01-1C06F6DF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63245-2281-4863-905E-EC47B1B2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31198-4211-449C-BB05-FFAF8BA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A2DF2-064A-498D-83C5-6B97249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3EAC5-1598-4005-839B-80B8B17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3B808-6428-41C4-9E2B-6055DC11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FCC4-6D59-4196-A78A-79CC253F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4129E-CEE1-400F-8588-DC0F235C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EEA3C-18FA-446E-9EE3-FC3DDD11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489E1-5A8E-4011-8917-A7D9B083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98949-E582-4297-9A0B-856308D4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93A0D3-22DF-43E7-8416-BF4E097E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FB5D7-D7B7-4DDE-A365-006C5421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C86E3-C07F-4A11-8A3C-5905D3A6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E1B61-96D9-4451-BBA6-D3781EC3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CEB77-21E3-423F-810B-8053700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DC8297-7BC5-40F7-A8F5-D6548D3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C782-AD13-4C06-976E-3D83CA72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8398AE-4D13-4D65-ABEF-E91D5E1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D426D-953E-40F0-BB7E-EFA2EED3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6FBB39-3365-49C7-B94D-24E336C0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F31C64-FFD7-409E-90A6-FCD23293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4A017-0228-4DBC-80B3-CD0AA443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624B-0C3B-42A9-8A53-882E7C54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67A7-47CA-4922-A353-83F5874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6ACA-8E01-4578-B967-02707387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C06E-B897-44DF-B4FB-F6F393A4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E93A-237D-43CC-8161-1BFD88AB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306-F0A3-467A-B625-F6F3037F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2F79-0B41-4AE6-BBEB-AA18ABD9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ABF9-049A-490D-BD66-CC290B9E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F13B-BBD8-4C40-AD40-0DAAA8A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2A9A-C7D7-42DB-8738-1DFA8599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458E-C001-49F0-9B41-FAAA0F60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C0F8-6FFE-4391-9E24-557AD678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F54F-EC10-4946-811B-1328F599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190E-010D-4D52-9862-9A2A3AB0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DA00-4D2F-40FD-814C-A6C7F6AE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65E22-A4FE-4BB2-95A4-50965DE6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1DDF-A545-4BEF-83FA-05D95291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42C9-D4E5-4002-9EB5-3AB3E17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7F57-F345-4B53-88BA-19F4225F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70B7-3BC0-4D6E-871C-44376249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5C146-DDDA-4307-9238-9355AB0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69A4-3171-4D8D-A3B6-E785CA7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AA0E0-C907-4CE3-B146-CB4AE08E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A964-E3EF-4942-A404-C3129134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AD99-81DC-4F97-99EC-AA7BB78E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A9FF-BC6D-4562-9F34-9197CA19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EEF2-2729-42B7-A4D8-CDD6A5FE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3157-B925-4269-8A3B-B2D0CA1D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71BF-B592-4EBE-9FC3-1E3F10F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6ADC3-736F-4E2C-83F7-E18F03A4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1EE0-762C-4EA0-9159-6D2D15D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D464E-6290-42FA-B2E5-B52904C2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E4C8E-F126-48E1-99A4-82ED4960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3DE0-4FC7-43FA-B46B-90FD09C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8B9A-2B32-42A4-ACC0-F80962EF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72BF-AB2E-48FC-BBBA-20EFA2A5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9D15-0E78-49CB-AB7B-86CE816F7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3748E-92B2-4C1D-9C0C-0A4A65C5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371-574D-4693-93B7-E45BAC94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91D5-DA27-40A8-9351-369C8A90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358F7-5111-4FC5-8CB2-6C899D72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32605-0AAD-4066-9872-139CCEE5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DD2C-1B39-4703-82CC-03DDC410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45E57-A879-4002-B4FF-404006A1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A0E6-1B02-4615-B7FB-3583A68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5B4A3-D0F4-4943-AFA2-ADCE1D4D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B85D-49A4-4E9A-84E2-101FF8E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131B0-7BE4-4C53-A80A-57749D07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D25B0-2B78-4556-9A7B-DA626F7E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C34E-0C18-4CA3-9382-D259D73B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36B52-6BA2-4108-B4F4-4C04BDDA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9226A-17F7-459F-8C07-C2B2DA56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B757F-2017-4A5B-AB5C-0274CB63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CDE7-10A9-4D9D-A208-007C4F78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60963-1FFF-44F3-8FA0-89E0F3C6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68167-D7AB-4623-9B98-8D5A85EE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DD1D8-263C-43B7-92D0-849F128E3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7455A-F7B4-457D-8A9B-0DB95B5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78A74-BDBC-4DE1-A639-1E457B1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265D-91E2-422E-A771-22F4CE0F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48B-6BE6-4110-8AA2-10EF769D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8B12-AAFB-480D-B8C9-E3BF05EC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657F-6929-4FE9-9F9F-AE37FB4A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7AE6-BD70-4662-857B-21B94AC5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FDBF1-9AAD-4CE2-907B-18CCBDD2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92E89-DD82-4CED-AD33-ECDD32C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22DFB-0FFE-4609-B19D-242E4921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CBEC4-D0DE-4BE2-8F57-D54F7D0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DD23A-AEB8-4DEA-A124-C0260F4B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49E59-7D87-4C87-AE6E-B3549245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BA755-B1DB-4CBA-BB06-C0AA9D1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5C5-17F7-4E4B-8AE9-E5221552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E7223-39E6-4977-A455-69815F39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6373-ADDE-4ECD-85FC-1D0ABB74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A1E62-3A08-426B-8264-9CD2C786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810F-ADFB-432E-B00F-9EFE2FA4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B4AF8-5C99-4172-9B74-A6D320D8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A7082-6D4C-487B-8104-FA00AC17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383F-0002-4413-AEA3-F676DFB6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D2F08-FC01-4467-BD14-9EE4B4FD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E0602-4DE5-4CCA-B73F-787F3887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C8B8B-76AA-4231-8CED-F262C0BF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BE0-2CD8-4C51-ABC7-0BF52E4B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4E75F-CFC7-4ED1-BB5B-A115F6EC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01EA-8AD1-4164-8F15-0E97B615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9A3D8-89CA-4986-885B-0A64FAA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211E0-B4AC-4D70-A140-C9131633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C9FE7-7977-4B64-B2DD-96C7416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59DF-10F0-41FE-ABE5-FABC4AE9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CA08B-635A-40A9-8FE8-20666423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C8AA8-11CB-49C0-B0FC-29A9BEB4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A99E4-BF6D-47AF-8357-E5C15E40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26809-883F-47D6-9EA5-10CFFA8D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A546-2CD9-41B3-8077-3579C1606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A802-0C82-4098-805F-51444EBA7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9F5C-4143-4C72-A77D-EA1283BE2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B321-C45C-4DBB-B43E-5E62642843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AA3-FC1D-4EB4-8D77-FBF0140CED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BB58-F0D8-4299-8AC1-37333CC85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67B-5735-4568-951D-C2C6337F9E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058-DEBC-4D6E-B1A0-7517D528E1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8C6F-AE0F-4EC3-876D-ED505949D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C721-DA71-4934-BFD4-324F6A8DE8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CD07-2E73-4534-BB7E-7445A19E62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A0B0-4D2E-4062-91C0-3BA557E355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1.  COVER LETTER &amp; REFERENCE LIST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b9899"/>
                </a:solidFill>
                <a:latin typeface="Arial"/>
              </a:rPr>
              <a:t>Letter of Application/Cover Letter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always accompany a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ten directly to the employ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flects your interest in the position &amp; organiz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ould be typed with no erro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 paper matching your resu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 Business letter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ew simple paragraphs that state the job for which you are applying, your qualifications, &amp; your request for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ear &amp; concise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teps to write a cover lett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ddress the letter to a specific pers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952560" indent="-49536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ll the company to get a name of the human resource manager or manager in the department you are applying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the purpose of your letter &amp; position you are applying fo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te qualifications that make you well suited for the job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quest an interview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33520" indent="-53352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e brief, clear &amp; careful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ofread your letter for conte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ave someone else edit your lett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over letter cont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ing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writ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sition you are applying fo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How you learned of the opening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ddle paragraph 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are you interested in working for the employ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hy you desire this type of wor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int out qualifications, achievements, training, etc.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osing paragraph –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efer to resume &amp; encourage ac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sk for an interview or end with a question that requires a reply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ference Lis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references that will speak well of you when they are asked about you by a prospective employer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lect those that can talk about skills that relate to the specific job for which you are apply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references includ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ormer employ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Teache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riend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Neighbor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general, family members or relatives should not be used as reference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6:53Z</dcterms:modified>
  <cp:revision>24</cp:revision>
  <dc:subject/>
  <dc:title>Chapter 1</dc:title>
</cp:coreProperties>
</file>