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8067-1E78-4AB6-8C9E-C39511042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5A1E-2BB6-4386-9BB8-BBEBBC631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032D-E2D1-4176-82DB-EF50FEF88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4DF2-5F65-4795-807A-153CDB5A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6D3CC5-7682-4772-9D2C-01D22D77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3026F6-94EA-4A40-851D-30C87316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9F2037-47B7-4555-9B90-2234AD98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3FC8D7-DC71-4751-B563-AD79E629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678998-03DF-4E8E-987A-69DDDCE1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542A64-1554-4267-9479-04EF1E25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1AB791-D882-4F1B-A632-1F06ED42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9C7727-F6C3-48FF-AEA6-65C480B8C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163227-AC93-4FAA-A45D-36F83F5EA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71A0C7-4092-4F08-841D-A46EA89B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4CBA-36D9-436F-9153-AF0EAD709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5827D8-0F50-40D6-86F2-B3DA2DE7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3D6425-E310-4351-B0E8-B4C21EA0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4F0D30-D80F-4429-99ED-BC5DFC22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01017E-93B4-4382-9B87-C459018E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563B37-F14B-4835-ADBA-4B5997FF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EA73EF-0F88-4684-AF4E-C71A1B8B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8902E0-E50C-442A-8E9F-3A28B9DF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4EDA69-28E7-4DB2-8F95-6377E939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C27F46-3DE9-4072-9794-7F206CAA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733C54-0760-4EBA-B6BE-8EA9D32CF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B800-B272-4864-A6F2-792A59FF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47CF08-3534-4157-9BE0-9085C39B6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A722B-69C7-4E8E-8570-FE374A8BB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2BEBD-1ADC-4F16-B194-68F4CA29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7D841-E9F7-431A-A203-7D677C73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57C03-0F6D-464F-8FC0-3D9CDCEC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305E2-9197-43F3-A8E2-92F30170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62B24-5864-42DB-8E23-9AAFE497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D85B1-9430-439D-AC07-5530A5B9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86D62-75AE-4F39-B9E7-CE7A0822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92AFD-0D48-4DCF-B93C-D05D1C72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B811-387A-4F99-83CF-48561C55A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29C1E-7498-43E6-B6A2-E6EC06D7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67434-5D25-4593-B354-34EEAC88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CBF63-062C-43CD-A74F-5E322A3A0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82F516-C24D-462D-B32A-D3F38C70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367E51-8EEA-440A-88E3-3D28CFA0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F3B217-1AD4-49DC-9C23-3DF6CF0B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F6C2E0-FE92-4F42-B295-56EA92B3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8EB3D1-092B-4EC8-8FDE-CF50B5C4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551CCE-13AB-46EC-981D-86C87C17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CB49E2-9242-4454-9CE2-199F288F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6D16-85E6-4FE5-8C30-253FE900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5097F1-FED8-4F12-9011-3B5EB959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3CCD93-1BB6-4715-A226-91E28AB3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E82BAC-1FD1-4DFE-870F-179C33FC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F723A0-2433-4A91-9123-F91311E85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7E95DB-A006-46DD-B684-C3AD6BEF5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4E96-72A3-49EB-A0C3-B4F36CC0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A031E-12A3-4755-B864-7C7B5258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0C3A-1073-4EC5-9341-48E5AD50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7B13-AFDD-4551-8DDC-A11B822F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CAFB-BBB8-4898-A561-B3EA6F23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AA91-E0AC-4C16-A570-1703EF41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2CA4-6FEC-4DD7-83A8-92B1923B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187B-3E2B-4867-BDD6-07C34CAE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8828-B9EA-4A3A-BC26-F13FEB7D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29E5-D972-44BB-B734-F7A1B11C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D90E-1F28-4608-BC9F-6912EBE4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56F68-5058-44DE-A7DD-5F501CF96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F7009-82E6-4E99-A0A2-64424917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6E127-3090-4DF6-8647-C06EEA86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5C5AC-DE45-4DE0-A10B-FC8D1E57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DDEAA-9505-4478-B278-7D237AA8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3D8C-5127-4BA2-A4EC-D1412D52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B94DD-2E0F-4FEA-B78B-F0A370B6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0623F-A3A8-4FE4-AE0D-0D943698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B74FA-7D91-4DE8-BFF7-6CE417D3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4C409-0542-4736-BF18-FCF3241E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34D03-F351-4063-95B1-4FE2F83B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5D5E7-A3D0-4379-B213-70C2BA717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73ECD-6A4A-400F-A357-69A4058A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905CD-803B-4BD4-A771-ACFBB4FA6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DECD8-07D5-4DBC-B38C-78D81160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72AF8-F999-4965-AAAD-A9C6E137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81B8-50E7-4C25-B19D-819DC7E5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25F95-7966-4933-9BE3-46541DE2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4D74F-8170-4E87-9895-070172A9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97DC3-4846-44DC-ABB2-690E4717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98B28-6C9C-414D-B58E-C657484F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00A9A-9C8A-44B3-8B57-B11A3FB9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BDA06-4FE8-4F4B-8B1C-F7835E5C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E679E-4386-4D7E-9A65-749215B3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0C894-133B-4D6F-A71D-5E327478D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BA7E3-1A06-47B7-86D2-6933D65E1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5EC6E-9AC8-4572-B361-99DACE57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70A4-CEC7-4AEC-8989-95E2AC66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B1E53-4DAC-4E05-B7D1-47818B2A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502E3-52CD-4B65-B370-0B2129B0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4305A-8558-4901-8FDC-1B737BD8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A66E1-9E77-448D-B0BE-53FA8A49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18113-5CBF-4A78-AB70-BED48634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6E40C-C1C3-4F51-BAFD-965BD715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A1267-02F1-41F5-961E-694794E0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D073C-CC48-421D-8EF7-DC30ACAD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2BACD-4B4C-4F8F-A785-51E2E1D8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46BBF-8207-4DB1-B51E-F81E20AF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C9EE-27FF-41DC-9390-13298F66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7D1A7-003A-4329-B8BC-11C92E87D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4EE6E-3CC0-49F1-BEC2-FCA6B64FB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B1C1E-0D64-408D-905E-2ECAEBD5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A185B-DBE8-417E-9623-24D48BE9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7C5A1-FBF4-42D3-A922-BC2AA45B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D49BE-FC94-4325-8554-94056DE2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D6263-74BB-443D-B1E0-2AB723FC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07D2B-76AE-4C82-8586-75D03472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C4443-557C-4057-B0CF-92D9931A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7A48E-4334-4878-B96B-2E89879E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8C4E-2B99-4A9B-84B8-C6A0032B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45CCC-E707-4DFD-BDB0-7C00CB3A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867CE-33EE-4937-AB0A-0210DC50D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8FB59-F66B-43CA-8EC1-47AEB4C8D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4C508-0567-43D2-AF22-CFA4FDB7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21FFA-5F49-4975-9242-46DCD421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23261-1833-40CB-BE34-4F3C4710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9470D-968B-4A6A-BA50-8E00C91D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59D1E-AF1F-4121-9BE3-E6925A8A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52301-F475-4561-9BA5-A13EA7E1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EF923-D18E-4E26-B87F-4E42D372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4E48-100B-4719-B638-6CB8FC6B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1CE1F-97F5-4AE6-9898-57FFFE12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7BDAE-F8CD-4D6C-A826-EC57FEA5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85DA3-3E7D-4410-8452-EA621C47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4A655-50A4-4908-9EA9-2E9BF6EE8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AA4A4-5E39-4B43-B764-48DD7985A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3E7F8-0A71-4EC4-B5EB-4A587D64E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D36B6-D651-4BE3-9F9D-46ADB2CE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6F702-5E4D-45EB-A45C-0748D7F7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B31B5-85C4-48BF-854A-97652868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2910D-A728-4DCF-BBEF-5C739343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0E9E-41FD-4847-9849-69D1E6FF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21536-CE05-493B-8A3E-047EAD26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E8175-D17B-4516-8184-6D0E80D6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095C3-B5FB-4BED-9D52-948EF0AB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32597-7641-4093-8030-F5FECB0B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6FD21-63E2-452B-ACCC-005784B8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FA365-1389-422F-A368-066766C72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CB629-6D7E-4856-95C5-57CEB9C13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C53828-8F19-4C5E-B169-07C58835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3F4617-3B3E-4472-A08E-D7196BB9A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304A7F-0A18-4D66-9F7F-6A8E9B18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EEFD-5EC0-43C1-B2FE-D24FCF4A95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F852-E81A-4537-A88A-D9B02C94B0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97AB-AC00-4B55-8CC3-B7AD2CAAF3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0918-A0C2-40D6-BDA8-A610FA2516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FF96-2268-4507-B5D4-C471A5EF5C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B070-7695-4EB7-8639-F45FB9E57D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8908-0D06-4C34-BDF7-EF72C00B9A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9BD6-9BD1-47D6-95E5-DABFD80AF9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A2BC-32CD-4F46-838B-006313CDA9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FBC0-075B-4694-B8D6-128BCE4059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AD8E-72E5-403A-B4FD-C227BE2BBD9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2BD7-02A4-42BD-815C-791B9FA7FE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STEP 10 – WHAT TO DO BEFORE LEAVING A JOB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STEP 11 – THE BEST WAY TO LEAVE A JOB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STEP 12 – REFERENCE LETTER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Arial Unicode MS"/>
              </a:rPr>
              <a:t>Preparing for Employment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21:06:15Z</dcterms:created>
  <dc:creator>Crystal Oetting</dc:creator>
  <dc:description/>
  <dc:language>en-US</dc:language>
  <cp:lastModifiedBy>Windows User</cp:lastModifiedBy>
  <dcterms:modified xsi:type="dcterms:W3CDTF">2012-12-03T15:19:20Z</dcterms:modified>
  <cp:revision>45</cp:revision>
  <dc:subject/>
  <dc:title>Chapter 1</dc:title>
</cp:coreProperties>
</file>