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470-F7C0-47CB-B1BE-0EDDBF27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A143-1E75-4F31-9278-033C45DD9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E57-17FC-4AD4-9A7F-1A3C9038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6420-CE60-4B46-9FA0-DBBDB6E9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6807A-2485-45E9-85EC-351A3BD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2A76C-761F-4329-A514-60C7B089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73B126-9203-4E42-8B74-B9F43B5D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1E003B-7764-4F50-ADC0-AD96B50D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99C5D-0244-4D4B-A209-C730285B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D6C63-BFD9-43AF-92E0-0E4E2121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8C832-71CA-490F-8CE4-316A6DC9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A3AAC-1166-4E25-BE99-3074961A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C6FCE-15ED-4513-83D8-728D131B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9141D-048E-4615-A58B-E6D74E53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44A-EDD1-4495-8E3A-EF27C617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301489-CAF0-4FBA-906E-31A3B94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488E4-AA6D-4CF8-AAEF-EFB2339D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B89D9-F052-4110-A02C-89921C3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A1B04-2AAF-42E6-B64E-C75F146C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BBB8A4-E5AA-4482-A138-4F614F52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BD184-ABCA-4DA4-A33C-1FEDCA90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E3238-D94F-4DF1-BB4D-E0B2BF0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DEEB3F-DD66-4705-AF5B-F0133409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AB86E9-21E9-442D-A6ED-E9A695F9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C7DF48-5117-4963-952F-62106468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B40-A80F-462F-9DE6-FF4CD4D9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5AEBAE-C8ED-47D6-AE26-47CE43A3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3CAA4-7E08-448E-BCED-3CD7F075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3BFD0-369A-4CC5-AB2D-917A0B13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74850-5BF3-4395-87BA-30B5EA20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B5661-10F0-42EE-9383-DE577781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F0408-E17D-4D15-AF83-CCE07124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8303D-F89B-47E1-8DA0-DF282DA7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55270-0583-41BC-A032-CB922F60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44744-B555-4323-89BB-0158D08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C9BCA-F600-41F6-9A54-840783B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145F-7AA1-4DC5-B46D-D2A547EB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8E618-A57B-4C95-B023-D450FAED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24242-366B-4773-8FF0-2FEB6DDE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2F8DE-D85F-4C98-B76D-B47E0596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447C9-9DB6-4FE4-A878-F15A0327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CB84C-FCEE-41AA-8EE5-D8E4A392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44B6D-07C2-495C-ABBF-CAE2CA40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22196F-4AC6-416F-85B0-A795A6FF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2274B-1189-4104-8B8F-5F6749BB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56449-45DD-4734-B0BB-D21C9C07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CDBC2A-C4F2-4AAD-AC28-E80AD048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7725-6200-470A-8AC4-79009E3B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39B40B-3F57-452A-99D6-81F6158A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B08D4B-5C6F-4069-89BB-C202B11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9A5AE-E59B-4C5D-90EF-8FA19D08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2D4A1-CD9D-4418-935F-D846FB3E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E0870-B865-44FE-BAB7-0CD549B6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B9C5-27D0-4063-B9ED-BF0143E5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BCA2-34BD-4F40-8AE8-C66875DF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8CC5-5CEC-4C4C-B4BF-16D645E9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0E6C-8E3C-4FE3-9738-C02D525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4F4F-7D24-40C0-A6A9-0E156C9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67C8-0615-442E-83BC-3C15B9E0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97E2-5B92-4CE8-947E-EDF1C0D6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F3BD-67F6-4F95-80E4-55FD086C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CF5F-445A-4433-AEE1-029BDF8C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0AA6-2088-4E84-BEAE-A6E0C8FE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BE00-AAE8-4126-AB2E-52B4073C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9CBC7-F12B-4E3C-BAD7-17FB92C1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C93CE-4379-4546-84D2-F7D65191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F4F2-3EE2-4FCB-83DD-776BA8FB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0E4ED-D8B8-42F3-988B-AD336026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D031-B2CE-4558-8BBD-B7A8FED2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0FC-C66F-40BB-86FC-A27E1620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E2603-CEBD-4079-B653-E43BE1FA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ECDE-3C89-4C72-B135-7D4268F4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9841-EAA0-4063-A21C-DC9E7C7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520C-B4F9-4A47-852C-A538C3FC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B38CC-2A74-4917-9F29-7D01CCE2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31FFF-B5C7-4BF0-8993-887CA32B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2E78B-2C08-4BC4-A1BB-CB805C82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77CDC-3562-4EFB-A233-CA67244F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605F2-E0F7-4018-8799-55672E6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0A04-BA1B-44B8-BBB6-E180D63F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BC6-1AA5-432F-89FD-C3838C6C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B1C64-8B66-4D3B-B928-B3B27AD6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176C0-4B29-47ED-9E41-724991DD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92304-08CD-4451-822E-7B81FE46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C636-6A27-4A51-A1E4-40412A3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83E0B-671F-4737-B4E2-188A94AE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6807-8384-413F-84D2-FFC23564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51C46-857A-45A5-BDCC-B6685C9C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69C35-4B88-4C3E-AE3B-B225E22C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F9BE4-F5D4-4CE9-88CF-9C604DBC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02C0-CC9C-4A63-927E-C4F82874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0F1-A6C5-4D8E-834D-C589D5E0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FF950-D687-4D56-8747-8B7811A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057D7-C6A8-4166-9D84-ACCF7F79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B1DD6-628A-4E77-8867-DBB595FD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026AC-1C97-4601-89DA-B9CC90C0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5ECC1-B1D4-42F1-88C0-0B4DDCBE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CE64-C325-4117-A9A1-51608877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A57B5-1070-4A15-BFB2-7B572A5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79C8F-F69A-4A78-942D-F2DC452C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9CF4F-8C68-4E83-88CF-057342F4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DF7CC-A71D-4D7C-91C6-7B0DB795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890-2E3A-4E21-A985-5E8046B1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39E9A-7CD0-4570-9E84-CD5ADF96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85A3-2572-4ED0-A466-FC84A571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7DEF9-E6FC-4503-B28D-033C1B5B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BEA61-B14B-40A1-9469-1EE0459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FAC20-7D06-4F91-A7CE-A6CE6897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1AE8A-5DA3-4DC2-B08D-F97468A9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3D04-28F1-4893-AD73-42D33065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0D078-FD1D-42DB-9810-FDBA0AB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28A54-55F1-452B-A45A-2DF7FBA1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B5127-FE49-4411-A822-D61C560E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586-CB2C-4840-896D-E3598727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924B0-0E1C-4827-A5C3-A91FA80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9EEDF-5EC8-48BC-9529-3040E199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AF2D-E784-4176-89E6-934E8BFA4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05263-772C-41AC-984C-3D85E047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7D0D1-B6DD-477A-9397-731106C2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8C8D-CDE6-4C6F-A434-B4EEC339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39EE8-EE25-49BA-A852-D5D15784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B538E-C969-4366-A513-F5402783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B0748-C2DC-4525-9A69-0008C934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8CECA-9F11-4E40-A505-81FF85F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D7D-81D3-4E7F-9284-71A1AE9B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8BDE8-0E27-4E5E-8496-E09EC2F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0675D-1BE6-4998-9C0B-E2BA274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3388E-1BDE-44F4-86C3-9FDF143B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FCEE7-6797-4D8A-B00D-7A2E08A8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9D34D-0467-4421-8FE2-0DA5BBB3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2F739-392C-4AEB-8EE1-0B91B2CA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A5976-A7D3-4941-8F0D-C84E253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4CDA8-62D1-4062-A03D-D6C0AF3B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032C5-0FFC-4112-86D0-EFF4A005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329CC-C8D0-426E-B59F-42CB8832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BD1-94BD-47CD-A40B-F80B16AE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D6FD3-7508-4806-850F-0E49B350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B81D3-8372-4D38-B84E-661D8401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A034D-DA8A-464E-A1F6-29F6641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BDE54-CBC9-4C61-A9F2-5EDF9C6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A55AF-E204-461A-8EF6-F2C1652B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8520F-7217-48B3-8192-6F77DD2D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FAA02-3200-438F-9164-D4E71F5E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98300-DBE2-41E0-BFA5-182791BB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C62D1-1A61-461F-AB72-A58764DE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DF9FA-76C6-43D3-96A5-094B5BB2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9878-9B57-4A29-8A0A-6DD6FC5BE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18D9-A36A-4EE0-9912-D0960E8B45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EB55-47C4-42B6-9C67-C54455F506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0243-77CB-482C-B645-A0943A77A2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238D-B5A3-4E25-9D36-91B5C8C6D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2AC1-6EE5-467C-8640-AF7CC65DE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3323-7035-49AC-A645-1C5E501F07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5DDD-E569-407B-9380-3F2549235B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03E-9A89-44C3-A9A4-9AC2C0061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6269-8E82-4F6C-8584-1421F85EFD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0397-7E8D-4132-860F-4D171B3A61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0882-E60C-402A-90D1-44F0C3FEC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FIND JOB LEADS &amp; RESEARCHING A COMPANY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8:12Z</dcterms:modified>
  <cp:revision>27</cp:revision>
  <dc:subject/>
  <dc:title>Chapter 1</dc:title>
</cp:coreProperties>
</file>