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1F0E-EB89-4122-9854-E32D17B23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352F-93A2-49B8-9AA5-C59064D52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89B4-C3A8-4F51-B7CC-911B3901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3FAE-F0BF-48F7-8D50-4165758A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BBF42C-0CF6-4807-BBA4-C59D38C0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16F2A-BC6C-4BDF-9FB8-1F5C25C9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4C3EA-88B8-40D8-96CD-8C8D29E0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94A407-67AC-44EE-B62B-DC5B2254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EE4AEF-3A3C-4D18-A348-D5E7CA29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1A85C0-931E-42EE-BC05-6AB606E5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C0F35-27F3-494D-9C49-47F314EC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A34EA3-B2D0-4FD1-B797-C0B8934F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86535-132A-4998-9D2C-D92CBA6CD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6AD0F7-89E1-4B1C-8B2B-CBD30E20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31D-6734-41C6-8FA2-67D5C692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57C1F-25B4-4F45-AC39-D033BA33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5A4927-4118-4EB0-AA76-DE625BB5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60F7A3-E4CA-45AE-870F-980AF574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D9F59A-2E06-44F3-BA96-052B82FC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71FA08-9B89-486A-B1E2-D036EE12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516CEF-4D41-4638-B666-E5892A3E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C093A1-6B80-494C-848B-5A675C82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660E9D-140D-4A35-8BDB-88266C39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66BF1A-52D8-4D42-B93C-5CAA89D1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CA36E-3AD6-49A0-A12B-66A1B423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DF3-4BD1-46D4-9D53-F2E24DE6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D0DA3B-D8B1-45FB-BB9E-D4C0716B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A49FE-8D07-4C2E-8AD0-369D0B6E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3EC62-6C5F-4347-BBE8-12A08509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710FA-51B6-4B1D-B7EE-D0882EB3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4B68F-90B1-4F64-976E-5256CD8A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376A9-A9F4-4898-9CD4-702FA85D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9725C-677E-4B07-A602-FB99AD4F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D2256-1697-481C-A4E9-F527EF6A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8D082-844D-4F6A-BEF9-71D27E60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66104-A91D-42FB-896B-8608A2E6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2554-CD0E-47F1-B4E0-CB15C01F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78FC8-F3D5-4D4C-A773-0187560D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CD75D7-C3FC-4413-B85E-A7EBEC87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A73DC-DBE7-47D5-A3C3-F4013570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C3FF0-8B99-4E2E-8FA7-1403F071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44DB0E-4B6D-46CB-9F6C-78E93BD3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33393-CF67-4DE9-ABFA-42FAE1AE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15D43F-46D0-4857-AAFF-E32AC9A2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2DE393-4BCB-4A50-98DF-26F7E15C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5B7F66-AD58-4E1C-8AB0-FF4EAA30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F500DB-6E8D-4B50-B7B2-49720DFD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A5F9-3BC3-4837-8483-6AA2B7ED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CA77EC-4C73-4E02-9921-BA601FF1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15E4EA-60E1-4845-AE09-CAC01206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1181EC-7593-4E5E-ADB2-EDD064C6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84437E-8FD2-4457-AD95-38FE2CE6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DE8527-6EE8-40C2-893E-19F6D734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98C4-5F02-4272-93CC-287ADD28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66AB-E37A-4D1D-9AE0-54586326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54FD-020C-4239-9FE6-CC0DC054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8589-D084-4B15-B516-382AC963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94C5-3A0D-4A6C-A5CD-311120C0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C32C-BBDF-4DCC-97E1-FEBEDAFA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32C8-8AB1-49C7-BECF-16401C58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B225-C411-4F9F-9A61-C2C466DB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3CA6-E792-4A17-83C2-16D98478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26A7-9B2C-40F2-9249-853B4DEA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B22A-8E4A-4BF4-8067-93BA487D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57A0A-72D6-4B10-8E71-10F8DEFA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F4BF8-6532-4D83-BBAF-E9496FA1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AA542-F995-4FD7-B280-B2DD4F6A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70266-FFD3-4FAA-817D-1D744339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A1670-CDF5-45F6-8BDF-3B810DA3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2125-B13D-48AC-AEB5-D55DE45D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4ACB3-D863-41B3-81B9-3792350F9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244F3-DAAD-4063-9313-3515EE75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DC60C-32A7-4064-9925-041814D4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68923-A166-4A4E-8AA4-F83635F8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9D91E-BBA2-4182-AA69-28D1C7C2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2A003-AACA-4B67-9665-CB104461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8E7C4-2E2E-4816-90B9-5D9EFB8C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75AFC-6E8F-4382-A1DE-4D79AE74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466B4-9F84-4DE5-8E73-A80C4A5A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813C6-A4A0-4924-BE52-FF178568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B0A5-C951-45FE-9B00-94CB2AAB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16000-5700-4B29-BEC3-84C69C0C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2AC8A-48C7-4CB5-B60A-E86605A9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17F22-AA78-44AE-8797-65F74F9D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C8C8D-02C2-4DF8-A031-9FCBA29A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1DE01-E241-4EE5-B504-0D53C855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5D80C-D4E7-48B5-8EA0-8328AF7B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19225-D6B2-4279-AD12-1D0DDC45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9A40C-9F66-495A-A659-C1E302D3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F02E0-03A6-4E90-B4E1-674B1300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A5DA2-C6C9-406D-8CA2-9E65595E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9140-AACB-484E-9233-FAB14FFE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D44C0-9D3C-4B3F-86EA-6E71C131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970D2-BD60-4D80-B2AD-C06B6FCC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106C4-736A-4997-AD7F-70712B9C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CE89C-8A47-49BB-9ACB-11591C56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37780-F04C-4FB0-A97E-8B878CE3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892D3-3757-4FDA-90FB-5E0B079B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0E4F8-C49F-4018-989F-167E8C67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ABCB4-3D91-4FB9-B5A8-8F9DBE37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578D3-8AA1-4CC7-9F5C-F4185F21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09C47-8CFE-46D8-84FA-B0CD1171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498-C31E-4D12-BE43-1D3DA20B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6CC3C-6811-42B6-B0CC-293C7576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07115-9364-4D29-A709-1C473559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2A27E-D6E0-412F-A1C3-1093624A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FAEFB-0558-41F0-B1D1-AFEA2DAB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BE323-FE57-4CE7-935B-5CA12A7E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CDCE0-AB1D-4A77-B469-3433D99C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57A1F-FC67-41AF-AFDC-C3D3472F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E4A47-30F0-4D96-B24D-2D2ECC7E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CA46C-DC48-45D1-BC21-39524783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2D54A-7CED-4314-8EBB-7425F656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4172-8409-4ADC-BA56-F4D19A3B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F43BF-DD53-41AF-BC2E-59A98347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D5F93-CEB8-4E45-9B22-3394A8A5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AD83E-70A9-495F-9136-C7D695DC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4531B-1C22-44FD-A55B-FB2DA745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60D0A-CC84-4533-A341-29755EE1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835B7-8F81-44C8-8E49-A1214521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88777-F891-4C27-AD83-46C5F1CA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50D06-46CA-429E-B176-C389CEEF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D9CF5-1D5C-4ECA-8DF9-4FF7F594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558AE-868F-4341-9BFA-FED87354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D02-20C4-41FA-B646-E302D978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8D5B7-7D28-477A-B56D-6DA13B7E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0BFC5-F7C2-49A8-89ED-8633C601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B5A73-BFE2-4AE5-8B93-8ACA5833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9AFD1-555C-47D6-A9E3-B19595DF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8D742-F340-4C3C-AE8C-9667B5D9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6C7E3-6022-4BE3-8AE3-21DBBE04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65597-B840-466E-9211-5C91F265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D640B-C525-4AC3-845D-82B5B4C8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75CFE-DE4D-44B8-8F35-38558AFF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68AD5-6EE0-455B-B389-C36B8ACC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F2E4-1367-459D-8B10-AC0089A3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300A4-3AAE-49D2-B1EF-3F5E40D0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6BA81-12A4-4EFD-988F-A790EC60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729F7-1964-456E-BD06-24BC2030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DBE54-ADDA-4546-8E96-6587097D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1373F-FDF0-4ED0-955F-EEC14807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F80F1-C400-4C4A-BFFC-BA57542C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525CF-1B8D-494A-9DA9-97D71F47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3CE80-BC40-4FC6-9644-A8587A8C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CA9B7-4A01-4517-9C01-6AC9B4A4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A93A7-B200-4FB6-82FE-6E80CEA0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423A-86A5-4867-A33A-325ECCF227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80F7-E646-4DF2-A61E-34C800F112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3E76-5225-4246-B88B-35D4D0DE5E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2E78-9116-452F-857A-275853A13D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70A8-8177-4FA8-B155-D6CD4E3812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5998-7305-410E-98B1-564E0AEEBA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1D56-C878-4C9F-9C19-F25AFA0114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74D4-4BC4-40B6-A4FA-286F5E29FE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7897-E76B-4FAC-9D05-9E8B131E0D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DA5A-0887-49B2-A154-3F60AFC6F2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1DD3-0F64-452A-B0D3-74EF0860E14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616C-0545-4B62-961A-1AFDC20B59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JOB APPLICA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Arial Unicode MS"/>
              </a:rPr>
              <a:t>Preparing for Employ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Job/Employment Applic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st employers make the application a requirem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clude basic information on your education, skills, work history &amp; referenc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ven if you have a resume &amp; an interview, you will usually need to complete an application for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e honest!  If information is discovered to be untrue you could be fired later for falsification of company document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b9899"/>
                </a:solidFill>
                <a:latin typeface="Georgia"/>
              </a:rPr>
              <a:t>What do employers look for in an application?</a:t>
            </a:r>
            <a:endParaRPr b="0" lang="en-US" sz="3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ility to follow instruc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Keep it neat, fill out the application neatly and completely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ility to hold a job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Questions concerning your employment history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our achievemen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Mention past accomplishment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oroughn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nswer all questions, no blank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raw a line or place N/A (not applicable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Job Applica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ways include a resume with your employment applica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leting an application does not mean you will have an interview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mpleting the applic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LLOW DIRECTIONS!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ather information and materials needed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Ink pen(s)  - blue or black ink or type!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urrent &amp; previous address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ocial security numb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ducation information – names &amp; addresses of schools &amp; dat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ork records – names, addresses, phone numbers of past employ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Business or machine skill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ame of organizations you have participated in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ist of referen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pies of your resume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21:06:15Z</dcterms:created>
  <dc:creator>Crystal Oetting</dc:creator>
  <dc:description/>
  <dc:language>en-US</dc:language>
  <cp:lastModifiedBy>Windows User</cp:lastModifiedBy>
  <dcterms:modified xsi:type="dcterms:W3CDTF">2012-12-03T15:17:33Z</dcterms:modified>
  <cp:revision>26</cp:revision>
  <dc:subject/>
  <dc:title>Chapter 1</dc:title>
</cp:coreProperties>
</file>