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52D-69EB-4786-8EA5-C4617F30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397F-DAB2-4CF6-9A49-CBD4BF40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C88-0509-45F7-914C-095873B3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88F-EA40-440F-9452-F1176507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8202-C90D-44DD-93CE-2B4B49A3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0D77-28E0-4168-9089-0B79E445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7B62-2B29-47D0-A1B3-06C7DF97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7C97-C05D-466E-A436-4763E538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7F3C-3DBB-4328-ACB5-5A1B446D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1C80-45EB-4BA6-B119-41C8ECC3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8789-E834-486E-B6F9-64506749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EE3D-FE61-4012-8A25-2681FEEC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4DB5-42F3-4E63-A22E-D3612CD8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F014-FBF9-4E95-99CA-65707534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2F78-782E-4DC8-BC64-774343F4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E583-84FE-480C-9095-8A9D09FB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16E4-28C7-4814-9EC4-BD06F664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455-57A8-4DD1-A30B-C60D7AF9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882-523D-4D2A-8F2F-0934DDC4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ACD-B506-483F-9363-F798B2AD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9363-C24C-488A-8581-7380E3B8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340E-AD4E-43FA-B060-F131C338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2E4-AF01-48C7-99A9-9E41A418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450-C7B6-41EF-AA66-9BBEBE2B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9EF1-F901-4936-99AF-49D66F77B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1944-07E2-4C02-A062-4A47BB8E4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eas of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us on the WHOLE chil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WA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ysic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ss - Large muscles – exam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w and develop to their 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e - Small muscles – exam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ps with writing and hand-eye coordin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/Pair/Share – Think of three things you have done using your gross motor and fine motor skills since you have been in school toda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gnitiv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rything with the brain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ild synapses early – start at bir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/Pair/Share – What activities have you done today requiring your cognitive area of development? List 30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 to interact with ot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frie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confli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eye contact and body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/Pair/Share – Think of the last time you needed to interact with a group of people, what social skills did you ne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otio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feel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empat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k well with ot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ild self-ident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/Pair/Share – How good are you at identifying how you feel? Or help others with their feelings? Let’s sha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rning right from wro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ough books, conversations, playing, modeling 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happens if we don’t learn right from wro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/Pair/Share - What are the consequences to society if not enhanc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3:54:15Z</dcterms:created>
  <dc:creator>Parkway</dc:creator>
  <dc:description/>
  <dc:language>en-US</dc:language>
  <cp:lastModifiedBy>Parkway</cp:lastModifiedBy>
  <dcterms:modified xsi:type="dcterms:W3CDTF">2012-11-10T21:12:09Z</dcterms:modified>
  <cp:revision>4</cp:revision>
  <dc:subject/>
  <dc:title>Areas of Development</dc:title>
</cp:coreProperties>
</file>