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A693-738F-4ECD-8694-ECD794D4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E58F-CAE6-4769-AB61-7C90FFFB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8A14-EAF4-4C7F-B3EA-BA2081069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DA39-594F-4344-8563-F8CC04767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363B-B115-4036-B6B3-BB940F245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0C54-004B-4121-87E9-E9FFE432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63A6-7281-4B1E-BF3D-4F9C5D5A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1B25-3411-4E69-9658-5B50E73E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A9CA-3840-437D-8D79-672D4B39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4981-56B8-48B8-BFBE-35931AC1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A1FE-BF73-4D88-87EC-91E7EF68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7CDF-F5F2-4DED-A11B-7DFF9E35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9C77-D4D9-44F5-A3AE-BC273500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8D2F-21BD-4AEB-831C-2126C3BA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7587-AC40-4F7D-A7E8-615EE989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44BF-DE44-4B9C-A18A-2152AF43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117F-995C-436A-84D1-55FCA193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C947-18B1-4950-8915-DBEDBBB9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DB09-0B28-4C62-8F99-32D939AD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AA3F-1CC7-4AA6-8C7A-3D10106A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11F9-CA1B-436A-A028-CC43A2B6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E010-D8DE-49A2-B2FD-205FAAB8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50D5-ECD5-4CC4-92AF-97595068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12C9-EE3A-42E8-A9A0-B751E98F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07A5-548D-46B3-8B5D-1B43B772471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8EFB-EADB-42B5-A74A-50AA6127E84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Toddler – Ages 1 to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..my favorite ag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(besides you guys!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TextBox 1"/>
          <p:cNvSpPr/>
          <p:nvPr/>
        </p:nvSpPr>
        <p:spPr>
          <a:xfrm>
            <a:off x="4267080" y="58672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structional Strategy 4_Toddler Powerpoin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hysical Develop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ne motor skills increase dramatical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ross motor – cruise, walk, run, jump, ki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ed hand eye coordin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tter control of sphincter muscles – time for potty trai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utrition – texture, shape, nutrient rich, and appe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ygiene, routine medical checkups, childproofing your home, environmental haza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cial/Emotional Develop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mperament – your unique respon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dependence, frustration, realization of being a separate pers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f-centered – temper tantru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courage independence, set clear expectations, use positive guidance and discipli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del behavior and social skills (taking turns, being kind, build empathy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ellectual Develop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ing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rect – learn what you are purposely teach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idental – learn something else in the proc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uided – help discover on their ow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urt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ivity and Imagin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rallel Pla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operative Pla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urturing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vide multipurpose toy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low for unstructured time (down tim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sist your inner criti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lay musical instruments, listen to music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ading and Math readiness –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ow to handle book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ssociate words with finger point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nse of accomplishment with finishing book and repeti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zes, shapes, amounts - water table, sand table – what else??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NGUAGE is everything – talk, read, nurture native langu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01:51:00Z</dcterms:created>
  <dc:creator>Parkway</dc:creator>
  <dc:description/>
  <dc:language>en-US</dc:language>
  <cp:lastModifiedBy>lherring</cp:lastModifiedBy>
  <cp:lastPrinted>2012-11-09T21:18:38Z</cp:lastPrinted>
  <dcterms:modified xsi:type="dcterms:W3CDTF">2013-04-11T21:18:05Z</dcterms:modified>
  <cp:revision>8</cp:revision>
  <dc:subject/>
  <dc:title>The Toddler – Ages 1 to3</dc:title>
</cp:coreProperties>
</file>