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2E2-650B-4734-B747-02655060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195-131D-4BA7-A19A-5D274460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FC8-60EF-430C-B923-F2008B27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30A-3521-40E5-A740-C2D849D5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58BC-9576-4751-A3E9-19668E6B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5CF0-1EDF-499F-BDCE-D9397D09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1737-54B4-4EE4-BCB3-30F7CECD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A47C-225C-4D08-B942-CE97C3EB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4B09-AD98-45C8-B365-33C5F9AA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89E6-6B5D-46EC-BCCB-851F8CE9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9F1-CB2D-4820-BF46-4FC08C3F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3A8-8C95-4D2F-B5B3-366ABA9E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F580-01EF-485A-B0FC-CFA1B7D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C8DF-5384-431B-9DFF-49A1E68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175-17B6-4BE3-AF02-1F6A2E4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D4DA-9BDE-4B5E-84FD-66CFA006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2EF4-5D2D-4B85-B593-1BB6FB8C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682-9283-4DD1-9910-1C10B30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9CF-BAC7-4F7D-8367-DC1B9F5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582-71B5-4121-B0A5-3C4496DA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469-8C29-4D63-A100-8B00C653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809-2CAE-45FE-B5D9-120380C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FB0-3A4B-4674-B7BE-0FD6BDE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9D5-309E-417E-A7E7-C8487C7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91CA-2BA6-4D9A-9C0F-F2F457093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22AD-B723-4505-B02B-079BAE449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Preschoo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s 4 –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, Social, Emotional, Intellectual and Moral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038480" y="617220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structional Strategy 5_Preschooler Powerpoi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Self-Confid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portunities to perform w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ve praise and encour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lan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courage individua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AFETY firs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m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 LIGHT, GREEN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ground safe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 Sea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e and gross motor skills dramatically improve!  See hand prefer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opi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ircle and cro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opi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riangle and a squ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writes ent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Gross ski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lternates feet walking up 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HUG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kip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alternating f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s rope and rides a two whee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e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and Emoti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desire independence! Self-centered, defiant, impatient, loud, boastful, loving, affectionate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en’t we 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– may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hysical viol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et feelings hurt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e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sult, nag, make f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F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Active imag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pt the f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t child express without ridicu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ce the f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ies????????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and Emoti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Jealou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orr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look for signs of expressed tension….like what? What do you do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ca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ies to calm d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lease 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book about iss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clear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spond to inappropriate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 about mistakes in priv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ife long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ow love despite mis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ntuate the posi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uild empa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llectu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e Intellig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– understand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 ste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ire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– understand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13,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– read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simpl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inu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 through pl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trition is essenti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s alway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luences on nutri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active role in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etting a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oor nutrition undermines (weakens) heal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esity – consumes more calories than burns through physical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lf-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courage indepen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, dress, brush teeth, care for clot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ilet training – by 4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birthday accidents only because of dist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cturnal Enur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re comm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3:03:28Z</dcterms:created>
  <dc:creator>Parkway</dc:creator>
  <dc:description/>
  <dc:language>en-US</dc:language>
  <cp:lastModifiedBy>lherring</cp:lastModifiedBy>
  <dcterms:modified xsi:type="dcterms:W3CDTF">2013-04-11T21:17:48Z</dcterms:modified>
  <cp:revision>9</cp:revision>
  <dc:subject/>
  <dc:title>The Preschooler</dc:title>
</cp:coreProperties>
</file>