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1CA-AA46-4982-B398-2B89EF5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0C9-DDBB-49E6-B2B5-F8F5DA3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C1C-DED0-4018-B952-6414064B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8B-AFC5-49C4-A77C-0238A258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6090-F3C0-415C-9D7E-601A654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F8D-676A-4457-8DAF-16F8488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C28-1466-44FA-83FC-0A38B3F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082E-04FF-43DF-AC9F-DD3E72A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FD4F-1EC9-459E-A9C6-1BD937D6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2E4F-0E34-4FE8-A2D9-7340F53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EABE-66E2-43EC-BA6A-5DFD5D0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F0-260D-408A-B745-87E18E4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829-EE26-4A26-B304-2D02176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E24-1FE8-4A2A-9E09-3B1CC77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C99B-4228-4547-80C0-335B7311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C0EB-66E5-49D2-A4EB-E9F2F528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665-F85E-4545-B4D5-548E0A49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0287A-49CD-4F7E-99EF-A66C0F21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BA563-A0AF-4B1D-9691-9A6BA63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3B017-7BC2-4869-8B4D-7A4CDD9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C14FC-F65D-45F8-A5F3-0BD67943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DDB69-90FB-4E58-8640-A9281811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94A-658C-4A3F-9593-143A3271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8FE59-F218-4ADC-8A09-0255582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80C29-62CD-4FA8-9C0D-36D871D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DD26D-8070-4239-97AB-E20B3C06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9677C-DEAC-4681-8658-40371ED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A179C-59D3-42E6-A03E-B5252D0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D1181-7760-425A-B81F-99DA7B19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CE24A-AAED-4E56-9AA5-A704703C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4072-6F98-421C-8BFC-FF421359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F235-944C-4255-AEAE-A16EA52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1F13-69E6-44A4-BF5B-29200D9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A1F-F6CA-42F2-AD8C-1547032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34A5-58DA-4391-AD75-11934C8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BED2-FC1C-4C99-A540-19CC435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BD3C-F57D-44FD-A2F0-6F7DE215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245E-B4E2-4EF0-9A8B-84BAAF4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34EB-0B6F-4E12-BD2C-7E272A9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A5D8-D2A1-4323-AC8A-D29062A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F0A1-0DE3-4835-A23A-145ED0E3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1B63-7878-4C90-B316-A0F281F3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6218-8540-4651-A759-3D1E93B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940E-5CE0-4993-AB9E-1E79E47E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FB4-A0FC-4B48-B275-652D5F48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CD53-A366-4329-B6C7-B2C59CB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88BE-9C8D-4F02-9024-CEBCF80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68F3-1E17-410C-B30C-2CB89DB6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2CFA-C7AA-4461-BB53-CC650AB2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A7070-009D-4AED-B4A5-FE6E070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BDA9-40F0-405E-A36F-6A8C565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D1A2-134A-4629-9177-9872741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CB6F-BACC-4FA6-A646-2318F79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3A12-427B-48F5-9557-4DBF3653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3BA6-BD6D-4BC1-B2D9-732C4436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196-8530-4FB8-8609-9291F8C0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305A-9266-4AEE-9A9C-86FAA6B3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238-8B44-4B84-AEB1-4056179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990-9413-4D19-AC1F-868D97A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693-2698-491E-9134-6958A677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5869-BF39-493E-B390-6DADE863B8C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E07-23A5-4613-A219-5B9AF32C8422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801-F0E6-4EBB-BF26-B11670C0866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8F7-268F-4029-BAA8-A839DA0900A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314-B052-4434-8C62-AC0B2201211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egnancy-calendar.adoption.com/first-trimester/week-1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4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Fetal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igns of Pregnancy: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676160" y="2666520"/>
            <a:ext cx="61434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issed Perio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orning Sickness (nause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atig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reast Tenderne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First Trimester:  Week 1-13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57200" y="1600200"/>
          <a:ext cx="8229600" cy="37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Cell multipl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sick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Face, eyes, ears, bones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issed menstru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ll organs present, although imm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Frequent 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Content Placeholder 1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505320" cy="31244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723920" y="761760"/>
            <a:ext cx="33051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First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736880" y="1447560"/>
            <a:ext cx="329868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1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: Smaller than the size of a grain of rice, weighs less than 1 ounce.  By end of the first month, the heart is beating and the brain, nervous system, arms &amp; legs start to form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2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Smaller than the size of a grape (1”); still less than 1 ounce. Major organs (heart and lungs) are fully formed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3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About size of a pickle (4”); weighs little more than 1 ounce. Teeth start developing; may hear heart beat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econd Trimester:  Week 14 - 28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1319040"/>
          <a:ext cx="8229600" cy="50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k thumb, swallow, hiccup, eyes clo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Most discomfort of early pregnancy are 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Fetus becomes active, teeth devel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other can feel the 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Fat begins to be deposited under the skin, practice breathing beg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 lot of fetal 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Content Placeholder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581280" cy="2968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723920" y="685440"/>
            <a:ext cx="3305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Second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736880" y="1676520"/>
            <a:ext cx="329868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4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bout as long as a carrot (6”); weighs 5 ounces. Has eyelashes and eyebrows; kicks and moves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5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As long as an eggplant (8-12”); weighs about 1 pound.  Has fingernails now!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6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pineapple (12”); weighs about 1 ½ pound. Skin is red and wrinkled, covered with fine, soft hair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Third Trimester:  Week 29 - 4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6002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Periods of activity, followed by periods of 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Posture is effected by size of fe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oves into head down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Backache, leg cramps, shortness of breath, tired, fetus k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Disease fighting antibodies acquired by the fetus from the mother’s bl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Baby drops, false labor may occ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Content Placeholder 9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3305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Third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736880" y="1676520"/>
            <a:ext cx="329868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7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 As long as a celery stalk (15”), weighs about 3 pounds. Can suck thumb and hear mom’s voice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8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watermelon (18”), weighs about 5 pounds. Brain is growing very fast! Lungs still not ready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9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loaf of Italian bread (20”), weighs about 7 pounds. Lungs are mature now and ready to work on their own.       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pregnancy-calendar.adoption.com/first-trimester/week-1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59:09Z</dcterms:created>
  <dc:creator>hstmcnew</dc:creator>
  <dc:description/>
  <dc:language>en-US</dc:language>
  <cp:lastModifiedBy>lherring</cp:lastModifiedBy>
  <dcterms:modified xsi:type="dcterms:W3CDTF">2012-12-14T17:21:47Z</dcterms:modified>
  <cp:revision>11</cp:revision>
  <dc:subject/>
  <dc:title>Fetal Development</dc:title>
</cp:coreProperties>
</file>