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DB42-7601-40DE-9DDC-9833C0A3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B48-6631-4379-BF8E-D35C3664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D43-7200-4BAF-A115-89CEC519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D98-3058-416D-A46F-DAAC09E9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7483-8A22-4F58-BCCC-20CB1EA7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3EF1-ED43-4C38-B851-FE51304E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846E-FF00-4368-8C78-FB45E874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1E6F-2658-4A2D-AC4C-8006FB86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A7F9-256F-49D0-B9FA-65DD9422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EE44-2CF1-4EA0-BE54-9D676098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32EF-3812-468B-B701-680C7A19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65B-D1F4-4802-B338-240C6E41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8D1C-E72D-47EE-89B3-6C2B289B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E45F-95D1-4818-9714-B2A3901E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6B03-070F-409A-AA3A-24A4A00B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3DB8-EBEE-469F-831F-3741C79B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B0B0-CE74-4E38-9580-298139E6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01876-63D5-4025-83B7-2F8D0613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3C4CD-6B75-4F0E-A8F0-40B65E2A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B4128-BCAC-4AB5-B6C6-0EA35D77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BCDC6-E812-468B-B2C3-390C18FE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39B8-F2EC-4BBE-A08E-BA036DE1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96A-002F-4C30-BB8F-405C1B4C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B9DA-29AB-49EB-9B56-57CDD50F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3A77-758B-4755-96EF-C45DF18C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B1DDF-F129-4C49-9D06-5639493D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AF7EF-9A2B-4606-B468-B879575E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3D40C-F219-40AF-921D-4B969C62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CDAD-46BB-4D8D-B2FE-ABF3EAD3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1F58-C78C-42F1-B0DA-8C0F4E17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8075D-6424-4F19-9898-A3BC81E7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9D65A-5EDB-488D-B7AA-4141121F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1C5B1-1810-4A4B-8B2E-8288E74C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345-6F72-4391-B675-8AA0488E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4D5BE-1B11-4C05-9246-6E90BEA0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AD666-73D7-4E83-9246-A2F18636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E26BC-F888-43FB-89FE-959B9923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06AA4-F901-428F-A3D2-79CB6075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6098C-BEC2-4528-993E-072E548F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7B7DE-8F0F-46FA-9FD9-CA7BA7B5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5FD05-B02A-477D-81FE-4BBD55C3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42ADC-312E-4C28-B326-F22ED511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02B26-9464-4D93-B51B-97F612A9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BEE34-02E9-4F73-B57B-7C88C65C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896-8341-414E-A0D7-944FB362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612FC-3C3A-4A75-8821-3A9A2FFD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57CFA-1982-40B0-8726-F9B94CF8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363C8-FF3B-40B6-AA2B-6B8D4535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DF4FD-3EAE-464B-A50A-8E9E20C9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2BBCF-0501-4A81-8E92-E4548733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6A227-70C2-4554-A6FF-D7FBCF79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115AE-2A3D-471F-9DD6-3A72C5E1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9EB8D-4685-46BA-AB78-2D64A8D3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6177D-717E-4300-9EB2-1F91039C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1CF22-6A87-4B20-840F-CB78A513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0A0-1839-4602-A03A-EE157ABC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0051D-78C9-4B2C-9721-2B701542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310-4DAA-4F38-BDA1-533D553B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C70-9C17-444E-9235-EC52C233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E82-5034-4532-8326-7A056B14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2E1F-9D09-44C7-8399-FE45EBA0DE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044C-F5CE-44F5-8AC8-DEB552CBBA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09A5-DE9B-42E6-A705-079B476070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7018-DD6A-498F-A1E1-C305A9A4FCEC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54FB-2BFD-4305-BC1D-13BCC963366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PREGNANCY TEST(S)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Poor Richard"/>
              </a:rPr>
              <a:t>ULTRASOUND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oor Richard"/>
              </a:rPr>
              <a:t>Sound waves to take a picture of the fetus</a:t>
            </a:r>
            <a:r>
              <a:rPr b="1" lang="en-US" sz="3600" spc="-1" strike="noStrike">
                <a:solidFill>
                  <a:srgbClr val="000000"/>
                </a:solidFill>
                <a:latin typeface="Poor Richard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oor Richard"/>
              </a:rPr>
              <a:t>Rub a cool gel over the abdomen and run a “wand” like piece of equipment over gel to see the fetus inside the womb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USES OF THE ULTRASOUND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Tubal pregnancy (Ectopic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Multiples (twins, triplets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Verify due dat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Check fetal growth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Possible miscarriag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Help perform other test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Diagnose some birth defect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Help select a delivery metho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AMNIOCENTESI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oor Richard"/>
              </a:rPr>
              <a:t>A test using a small amount of amniotic fluid withdrawn through a needle inserted in the abdomen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Amniocentesis"/>
          <p:cNvPicPr/>
          <p:nvPr/>
        </p:nvPicPr>
        <p:blipFill>
          <a:blip r:embed="rId1"/>
          <a:stretch/>
        </p:blipFill>
        <p:spPr>
          <a:xfrm>
            <a:off x="1523880" y="380880"/>
            <a:ext cx="6172200" cy="4267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WHEN IS AN “AMNIO” USED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Most common use is to test for Down Syndrome when the expectant mother is over the age of 35.  *Down Syndrome:  extra #21 chromosome causing mental retardation, heart defects, flat face, slanted eyes, low set ear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Previous child with birth defect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Family history of genetic disorder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AMNIOCENTESIS CONTINUED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oor Richard"/>
              </a:rPr>
              <a:t>Suspected neural tube defects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oor Richard"/>
              </a:rPr>
              <a:t>**Procedure involves some risks – only performed when there is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Poor Richard"/>
              </a:rPr>
              <a:t>valid</a:t>
            </a:r>
            <a:r>
              <a:rPr b="1" lang="en-US" sz="3600" spc="-1" strike="noStrike">
                <a:solidFill>
                  <a:srgbClr val="000000"/>
                </a:solidFill>
                <a:latin typeface="Poor Richard"/>
              </a:rPr>
              <a:t> medical reason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oor Richard"/>
              </a:rPr>
              <a:t>**Performed in the fourth month of pregnancy or later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ALPHA FETOPROTEIN (AFP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Poor Richard"/>
              </a:rPr>
              <a:t>Test of mother’s bloo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71560" indent="-46944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Poor Richar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AFP is produced in baby’s liver and is excreted through the placenta into the mother’s blood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71560" indent="-46944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Poor Richar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Test is done between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oor Richar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 and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oor Richar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 week of pregnancy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71560" indent="-46944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Poor Richar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A HIGH number of AFP could indicate the baby has a neural tube defect such as spina bifid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7:09:44Z</dcterms:created>
  <dc:creator>hstmcnew</dc:creator>
  <dc:description/>
  <dc:language>en-US</dc:language>
  <cp:lastModifiedBy>Picard, Teresa</cp:lastModifiedBy>
  <dcterms:modified xsi:type="dcterms:W3CDTF">2012-11-08T20:24:21Z</dcterms:modified>
  <cp:revision>7</cp:revision>
  <dc:subject/>
  <dc:title>Pregnancy Test(s)</dc:title>
</cp:coreProperties>
</file>