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70DE-F8C6-4504-B2B5-4251FCC60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3690-22D5-44DB-8C34-91BED48E9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2B7C-E38B-4DAB-B3C5-B6DFE4519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3DA0-E476-4486-91D4-199BA23B2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4F7FC-9850-4584-A7E3-E35292B6C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0C9E0-E582-4FFE-95B5-E0BAB800B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313C2-BC8A-4882-9DF5-32DBF9021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608D3-7C3D-42C3-89C4-DF2197D97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B6262-A777-49B6-AFEA-B2260166A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5D226-644C-4BD6-ABA5-27F70BE44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CD816-0296-444A-A935-69F4665A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1AEE-28F5-42EE-8894-C7ED0F4C5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5501E-85D5-4635-B844-2502C076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A519B-C5FF-401E-8DA6-720EBB49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93BDD-B92F-4BED-9CC8-F1ECA2D06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0442B-3163-45D9-A1D3-7F53E0D47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7F97F-F45D-4C39-98B4-38A6F7D5D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A3A8-89AA-43CE-BBA2-49BF0952E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4DB7-6443-47D5-B0E2-94A866BFE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BE1B-A17A-4495-BAE9-E23209395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FBBF-61B7-4D73-A2CD-4691B17D2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9A51-29EF-4891-8881-729D0AAE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7BFD-9A05-43AC-BDA8-74F1127B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495C-1865-4F0E-A1F3-C0EBA79A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00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643D8-045C-4668-9BC9-BEBAFE1C4BD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00ff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5B88D-2A73-4F2D-988B-D7B5DC3DAE7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eewhatyouread.com/chapter.php?book_id=1&amp;chapter_id=2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6600ff"/>
                </a:solidFill>
                <a:latin typeface="Garamond"/>
              </a:rPr>
              <a:t>The Birth Process</a:t>
            </a:r>
            <a:endParaRPr b="0" lang="en-US" sz="5800" spc="-1" strike="noStrike">
              <a:solidFill>
                <a:srgbClr val="6600ff"/>
              </a:solidFill>
              <a:latin typeface="Garamond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2514600" y="3200400"/>
            <a:ext cx="419112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ff"/>
                </a:solidFill>
                <a:latin typeface="Garamond"/>
              </a:rPr>
              <a:t>Signs of beginning of labor</a:t>
            </a:r>
            <a:br>
              <a:rPr sz="4000"/>
            </a:br>
            <a:r>
              <a:rPr b="0" lang="en-US" sz="14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www.seewhatyouread.com/chapter.php?book_id=1&amp;chapter_id=2</a:t>
            </a:r>
            <a:br>
              <a:rPr sz="1400"/>
            </a:br>
            <a:endParaRPr b="0" lang="en-US" sz="1400" spc="-1" strike="noStrike">
              <a:solidFill>
                <a:srgbClr val="6600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.  Baby settles deep into the mother’s pelvis called “lightening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.  Losing the mucus plug, called “bloody show”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**mucus plug is a thick mucus that develops to prevent bacteria from entering the cervix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.  Losing amniotic fluid, called “water breaking” or breaking of wat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99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.  Contractions:  the tightening and releasing of the uterine musc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Garamond"/>
              </a:rPr>
              <a:t>Three Stages of Labor</a:t>
            </a:r>
            <a:endParaRPr b="0" lang="en-US" sz="4400" spc="-1" strike="noStrike">
              <a:solidFill>
                <a:srgbClr val="6600ff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ge O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actions are opening the cervix, called “dilating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ually 4” (10 centimeter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bies head moves lower into the pelv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actions begin to last longer AND get closer togeth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Garamond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648320" cy="3828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2"/>
          <a:stretch/>
        </p:blipFill>
        <p:spPr>
          <a:xfrm>
            <a:off x="4572000" y="3067200"/>
            <a:ext cx="457200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Garamond"/>
              </a:rPr>
              <a:t>Stage Two</a:t>
            </a:r>
            <a:endParaRPr b="0" lang="en-US" sz="4400" spc="-1" strike="noStrike">
              <a:solidFill>
                <a:srgbClr val="6600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rvix is completely dilated and that baby’s head has slipped out of the uterus, followed by the rest of the baby’s bod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ractions move the baby down through the pelvis (birth canal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tual birth of the bab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3446640" cy="2797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3886200" y="2817720"/>
            <a:ext cx="5051520" cy="40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Garamond"/>
              </a:rPr>
              <a:t>Stage Three</a:t>
            </a:r>
            <a:endParaRPr b="0" lang="en-US" sz="4400" spc="-1" strike="noStrike">
              <a:solidFill>
                <a:srgbClr val="6600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terus gives birth to the placen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has given nourishment to the baby and is no longer needed.  It is pulled away from the uterine wall and expelled by contractio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y little discomf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2003400" y="1384200"/>
            <a:ext cx="5137200" cy="40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sarean Birth:  delivery of a baby through a surgical incision in the mother’s abdomen.  How many can a woman have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show vide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bstetrician:  a doctor who specializes in pregnancy and birth (Ob/GY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tnatal:  period beginning after the birth of the baby.  (what w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pr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al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22:18:20Z</dcterms:created>
  <dc:creator>hstmcnew</dc:creator>
  <dc:description/>
  <dc:language>en-US</dc:language>
  <cp:lastModifiedBy>Picard, Teresa</cp:lastModifiedBy>
  <dcterms:modified xsi:type="dcterms:W3CDTF">2012-11-08T02:35:00Z</dcterms:modified>
  <cp:revision>4</cp:revision>
  <dc:subject/>
  <dc:title>The Birth Process</dc:title>
</cp:coreProperties>
</file>