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815-E3A9-402A-BBE6-26F0363C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348-97FF-46BA-BDB3-054E6A2A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165-A913-45DD-AE7A-7BBA45BC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C69-17F2-44C8-B3D7-7AA4A037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F4F-1BA3-4331-AC04-2673FCAB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DB37-5D55-4FA4-AC7A-7451DBF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AEB-388A-4A0B-A4C0-8C866EAA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90A3-DDD6-466E-8467-5C904E7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6311-EC8B-46F5-95A6-870C042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F848-5B6F-4DE5-9C9E-C0FEB1A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B5D-394A-481C-A428-B4F2AFB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97D-8729-4EAA-B9CC-48E23366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8112-6FA2-4F89-A466-AA61B979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57B8-C7FA-4118-8BF3-5C111F3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C61E-BDC1-4A4F-94F6-4495378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A8E9-0AA0-4E17-8252-CE158CF8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EC4-5393-4D50-ABCF-B6EACDA2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27C-5ADD-43EB-9102-6E1A4A84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AC3-D4B5-494C-8498-51E3028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E15-1749-4633-9F7C-DB35C0F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F13-AEB2-427B-8152-87D76088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48D-712D-43DF-A2D8-BDFF805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3D4-2D69-4F4C-819B-660DBA4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5EC-FCDC-4FD3-83B9-B7CCBC0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AEB-012A-4E70-A3B5-67CAC8B42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3101-7D75-4FB1-A422-89E733161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Preschoo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s 4 –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, Social, Emotional, Intellectual and Moral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038480" y="617220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tructional Strategy 5_Preschooler Powerpo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Self-Confid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portunities to perform w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praise and encour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lan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courage individua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FETY firs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m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LIGHT, GREEN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ground safe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S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e and gross motor skills dramatically improve!  See hand prefe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opi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ircle and cr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opi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riangle and a squ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writes ent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Gross ski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lternates feet walking up stai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HUG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kip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alternating f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s rope and rides a two whee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desire independence! Self-centered, defiant, impatient, loud, boastful, loving, affectionate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en’t we 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may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hysical viol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et feelings hur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e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sult, nag, make f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Active imag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pt the f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t child express without ridic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ce the f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ies????????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orr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look for signs of expressed tension….like what? What do you do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ca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ies to calm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lease 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book about iss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clea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pond to inappropriate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 about mistakes in priv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ife long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ow love despite mis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ntuate the 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uild empa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llectu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e Intellig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understan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ste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r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understand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3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– rea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simpl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 through p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trition is essenti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s alway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luences on nutri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active role in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ting an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or nutrition undermines (weakens)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esity – consumes more calories than burns through physical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f-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courage indepen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, dress, brush teeth, care for clot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ilet training – by 4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birthday accidents only because of dist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cturnal Enur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re comm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3:03:28Z</dcterms:created>
  <dc:creator>Parkway</dc:creator>
  <dc:description/>
  <dc:language>en-US</dc:language>
  <cp:lastModifiedBy>lherring</cp:lastModifiedBy>
  <dcterms:modified xsi:type="dcterms:W3CDTF">2013-04-11T21:17:48Z</dcterms:modified>
  <cp:revision>9</cp:revision>
  <dc:subject/>
  <dc:title>The Preschooler</dc:title>
</cp:coreProperties>
</file>