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3F75-77E9-4916-85C8-12F775033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E033-2BA3-4152-AE74-952C62C0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F898-2287-4BD0-A243-B5A9FCD9C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CF17-6B08-4691-9418-63E1D6633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AF58-ECE4-48B3-B058-1AB587687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0446-B6D6-4D84-93F2-382ADB78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E7DE3-02B4-4914-861F-9F8CD55B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6337-6FA0-4FD0-B604-FE288FB1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75263-02EA-44A4-9B21-0C86F366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1C1A-A1F0-410F-B1B3-D39A644C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3AC4-041B-4687-B99C-9306606B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E3E0-7DEA-4874-A7AD-742BA6FD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CB45-672E-4F18-AFE1-BE5288FE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D589-F4A7-41A6-AA5C-FEDD55D5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0F9A-42F0-4138-B83D-31522DBED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7FD2-9E5E-40BB-8557-CC4396DFC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68F2-BFDD-4DCC-AE98-929065308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64AC-601C-47BE-BD90-5573031A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52EA-B2EF-4E38-8057-2B8B5AB3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352F-8932-450B-9C72-EE0A8D4D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4175-328C-4808-9E13-F4856E9F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E443-3196-45E8-9BA6-006601C1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07BC-A1C5-4310-BAC0-8A10BA4C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3FFA-E55E-4D37-A9F0-35A2F869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4B38-17DF-4223-B876-39D6B9A5BCD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7830-4A84-4F6D-9F97-D793FBC1D29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Toddler – Ages 1 to3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..my favorite age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(besides you guys!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TextBox 1"/>
          <p:cNvSpPr/>
          <p:nvPr/>
        </p:nvSpPr>
        <p:spPr>
          <a:xfrm>
            <a:off x="4267080" y="58672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structional Strategy 4_Toddler Powerpoin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hysical Develop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ne motor skills increase dramaticall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ross motor – cruise, walk, run, jump, kic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reased hand eye coordin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tter control of sphincter muscles – time for potty trai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utrition – texture, shape, nutrient rich, and appe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ygiene, routine medical checkups, childproofing your home, environmental hazar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cial/Emotional Develop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mperament – your unique respon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dependence, frustration, realization of being a separate pers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lf-centered – temper tantru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courage independence, set clear expectations, use positive guidance and discipli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del behavior and social skills (taking turns, being kind, build empathy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ellectual Develop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ing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rect – learn what you are purposely teach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idental – learn something else in the proce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uided – help discover on their ow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urt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ivity and Imagin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rallel Pla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operative Pla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urturing Lear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ovide multipurpose toy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llow for unstructured time (down tim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sist your inner criti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lay musical instruments, listen to music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ading and Math readiness –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ow to handle book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ssociate words with finger point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nse of accomplishment with finishing book and repeti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zes, shapes, amounts - water table, sand table – what else??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ANGUAGE is everything – talk, read, nurture native langua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01:51:00Z</dcterms:created>
  <dc:creator>Parkway</dc:creator>
  <dc:description/>
  <dc:language>en-US</dc:language>
  <cp:lastModifiedBy>lherring</cp:lastModifiedBy>
  <cp:lastPrinted>2012-11-09T21:18:38Z</cp:lastPrinted>
  <dcterms:modified xsi:type="dcterms:W3CDTF">2013-04-11T21:18:05Z</dcterms:modified>
  <cp:revision>8</cp:revision>
  <dc:subject/>
  <dc:title>The Toddler – Ages 1 to3</dc:title>
</cp:coreProperties>
</file>