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5E3-9D4B-4475-A3DA-5BE2B4D5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41F-27C2-491D-B5A4-3280583B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3B8-DA8D-465B-920E-73F1BF8B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F62-A0BC-40EA-82C8-BE05909A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D7E0-6F92-403E-82EA-1783BDF2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0E37-7F88-4C69-8975-465C942D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D14C-9BB8-45AB-B9D1-FCA339D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F4BF-5E74-4D54-9BBC-E95E35C1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D18D-CDDA-4642-A260-F53639A6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D526-281D-4EFF-A89C-A8DC7721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BE66-2D22-4C28-BDCF-81896203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CAC-3AD1-4A00-9D55-8EE9B96F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1536-D7CE-4A89-8FF7-E75B79CB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FF9A-B518-4BBA-8DC6-76B05A7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3221-4729-425A-A778-C48453F0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111A-9B88-4434-9635-9C9C5701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497D-CADF-4548-8A5C-6E40CD7F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B2E0-CDB2-4A3D-A4B0-4635C626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DDA4-4F81-43CC-B457-6B9BD1B6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0AB28-7873-4C58-B6B2-A8F2E1BD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865A-75B2-4C04-B7B1-B76FD224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ABA8-2C17-4F5F-A522-F59C8C3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EA4-DD61-4695-8649-2BCEB28A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0FC1-CE8D-456B-AB90-4898F46F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7BA2-631B-40AF-B347-5BEBA86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018A-06E2-475C-BE9A-411F62B5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7DA2-C3BF-4068-B62F-C75B546A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4F9A-A024-4220-B6F8-A0BAD032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ABF2-F21B-4B4C-9561-291A50C6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1570-CBEB-404C-8D57-3316976C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A2836-335E-47EE-8F7F-BA1C8CB7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B888-26F7-4113-BC5E-EBE5C5EE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4F31-D320-4630-9CA3-C2C71341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6D7-30C5-4B46-81A4-EFDB34A4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4F615-C28A-4226-BDF9-D0CD2ECF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E907-C4CF-4E4D-AB4D-ED82F33D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6602-916A-4D40-9588-49DB86C7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6E23C-E05B-4459-B230-25BF290D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BB8C-EC7F-4E7B-BDEA-E13606F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4001-A0BE-4088-8374-199902F1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3075B-A0B2-4099-B2DD-0EF29BC8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81348-AC36-4FC6-A41E-68173C47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0E06-C54A-4CC9-A9F0-2D0011E6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3BF07-4C0B-466B-9B36-87488A52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D8E-A80D-4E49-B3BA-EF73C611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2106E-B07A-4AE5-97CC-C0CB63DF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A56EB-2885-4C5F-9DCA-579FCFF0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47DF-4535-4FA2-82EA-B18DB180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A0B6D-3588-4164-BD30-DF5B24EB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7F76-90DA-4918-AD97-7B199A29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F7CD7-12DE-48FD-AF66-F57E80E2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3DD4-DF4F-487A-B0E7-35545830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050CE-D4F0-414D-A239-F607B73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6FD3-2F60-4C7C-8A55-66B34835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0544-6213-4633-B1AD-4FA94D34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64C-6E19-4DC0-8FB4-50BBD56F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185F-41D3-41DD-8A31-126B2630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000-E40F-490E-9AED-1109619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CFF-AF81-4689-8FB0-C266338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AD7-35F1-4871-B5EB-1C46935E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4F30-94A1-426C-8A7A-D91C8516E0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0DA6-E6CA-4ADB-B467-8F2F92094C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3CC1-7B09-4E97-998F-AB4B826EC5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F8CE-AA7E-41AE-9BFC-EFDBE77B32D9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4F1-5810-44B3-B13B-BF8995CD1D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REGNANCY TEST(S)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Poor Richard"/>
              </a:rPr>
              <a:t>ULTRASOUN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oor Richard"/>
              </a:rPr>
              <a:t>Sound waves to take a picture of the fetus</a:t>
            </a: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or Richard"/>
              </a:rPr>
              <a:t>Rub a cool gel over the abdomen and run a “wand” like piece of equipment over gel to see the fetus inside the womb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USES OF THE ULTRASOUN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Tubal pregnancy (Ectopic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Multiples (twins, triplets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Verify due da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Check fetal growth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Possible miscarriag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Help perform other tes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Diagnose some birth defec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Help select a delivery metho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AMNIOCENTESI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A test using a small amount of amniotic fluid withdrawn through a needle inserted in the abdomen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Amniocentesis"/>
          <p:cNvPicPr/>
          <p:nvPr/>
        </p:nvPicPr>
        <p:blipFill>
          <a:blip r:embed="rId1"/>
          <a:stretch/>
        </p:blipFill>
        <p:spPr>
          <a:xfrm>
            <a:off x="1523880" y="380880"/>
            <a:ext cx="6172200" cy="4267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WHEN IS AN “AMNIO” USED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Most common use is to test for Down Syndrome when the expectant mother is over the age of 35.  *Down Syndrome:  extra #21 chromosome causing mental retardation, heart defects, flat face, slanted eyes, low set ear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Previous child with birth defec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Family history of genetic disorder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AMNIOCENTESIS CONTINUED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Suspected neural tube defects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**Procedure involves some risks – only performed when there is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Poor Richard"/>
              </a:rPr>
              <a:t>valid</a:t>
            </a: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 medical reason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oor Richard"/>
              </a:rPr>
              <a:t>**Performed in the fourth month of pregnancy or later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ALPHA FETOPROTEIN (AFP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oor Richard"/>
              </a:rPr>
              <a:t>Test of mother’s bloo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71560" indent="-4694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Poor Richar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AFP is produced in baby’s liver and is excreted through the placenta into the mother’s blood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71560" indent="-4694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Poor Richar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Test is done between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oor Richar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 and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oor Richar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 week of pregnanc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71560" indent="-4694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Poor Richar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A HIGH number of AFP could indicate the baby has a neural tube defect such as spina bifid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7:09:44Z</dcterms:created>
  <dc:creator>hstmcnew</dc:creator>
  <dc:description/>
  <dc:language>en-US</dc:language>
  <cp:lastModifiedBy>Picard, Teresa</cp:lastModifiedBy>
  <dcterms:modified xsi:type="dcterms:W3CDTF">2012-11-08T20:24:21Z</dcterms:modified>
  <cp:revision>7</cp:revision>
  <dc:subject/>
  <dc:title>Pregnancy Test(s)</dc:title>
</cp:coreProperties>
</file>