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5CC8-72CC-4DD8-B9B4-146E6A887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6FCA-E152-4462-B619-3C14FE98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0567-6235-4BC3-A69F-48D07B619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CD81-DDE8-4B73-BE90-757767CB6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2238-D8A8-4412-A7D5-507539BD0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A94A-63A1-4821-9A49-333EDF79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38775-FE0A-47B8-B67B-4CD808B0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8FF4-39E8-4EE8-A536-2B12F63D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BE9E-9D46-4288-872E-57E45A04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1EB9-CCDB-40C3-9B6E-CB41B2F9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0E72-9DBC-4E35-93DF-AC5C38BC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BB1E-2ACE-4ED4-A632-1F8A2177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51E9-3116-4670-B31C-A4B22CF4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0565-52C5-48D3-B1BB-263A83F6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4005-72BB-44BA-B545-F47287FC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086F-8549-47D1-AA0A-5DA4EB982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3F55C-D111-4048-9592-990B5F68E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64B1-9C49-4923-8674-EE8DABC4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4A25-8E7B-4608-ADCD-B7A6F21D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84A7-E445-410F-B3A6-4FF3306C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CF08-7E78-44D7-A223-1426D6C0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DC40-08CD-4C54-9BAA-8C9600F6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9AA5-6C58-44EE-9326-34691CA1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F204-DED0-43D5-8191-22E6105F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FD41-D12A-4764-8297-8665C30B59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4EA6-1164-4B17-806C-73BCEF1B391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eewhatyouread.com/chapter.php?book_id=1&amp;chapter_id=2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00ff"/>
                </a:solidFill>
                <a:latin typeface="Garamond"/>
              </a:rPr>
              <a:t>The Birth Process</a:t>
            </a:r>
            <a:endParaRPr b="0" lang="en-US" sz="5800" spc="-1" strike="noStrike">
              <a:solidFill>
                <a:srgbClr val="6600ff"/>
              </a:solidFill>
              <a:latin typeface="Garamond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2514600" y="3200400"/>
            <a:ext cx="41911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Garamond"/>
              </a:rPr>
              <a:t>Signs of beginning of labor</a:t>
            </a:r>
            <a:br>
              <a:rPr sz="4000"/>
            </a:br>
            <a:r>
              <a:rPr b="0" lang="en-US" sz="14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www.seewhatyouread.com/chapter.php?book_id=1&amp;chapter_id=2</a:t>
            </a:r>
            <a:br>
              <a:rPr sz="1400"/>
            </a:br>
            <a:endParaRPr b="0" lang="en-US" sz="1400" spc="-1" strike="noStrike">
              <a:solidFill>
                <a:srgbClr val="6600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  Baby settles deep into the mother’s pelvis called “lightening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  Losing the mucus plug, called “bloody show”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**mucus plug is a thick mucus that develops to prevent bacteria from entering the cervix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.  Losing amniotic fluid, called “water breaking” or breaking of wa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9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  Contractions:  the tightening and releasing of the uterine musc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Garamond"/>
              </a:rPr>
              <a:t>Three Stages of Labor</a:t>
            </a:r>
            <a:endParaRPr b="0" lang="en-US" sz="4400" spc="-1" strike="noStrike">
              <a:solidFill>
                <a:srgbClr val="6600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ge 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actions are opening the cervix, called “dilating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ually 4” (10 centimete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bies head moves lower into the pelv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actions begin to last longer AND get closer toget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Garamond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3828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2"/>
          <a:stretch/>
        </p:blipFill>
        <p:spPr>
          <a:xfrm>
            <a:off x="4572000" y="3067200"/>
            <a:ext cx="457200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Garamond"/>
              </a:rPr>
              <a:t>Stage Two</a:t>
            </a:r>
            <a:endParaRPr b="0" lang="en-US" sz="4400" spc="-1" strike="noStrike">
              <a:solidFill>
                <a:srgbClr val="6600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rvix is completely dilated and that baby’s head has slipped out of the uterus, followed by the rest of the baby’s bod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ractions move the baby down through the pelvis (birth canal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ual birth of the bab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3446640" cy="2797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3886200" y="2817720"/>
            <a:ext cx="505152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Garamond"/>
              </a:rPr>
              <a:t>Stage Three</a:t>
            </a:r>
            <a:endParaRPr b="0" lang="en-US" sz="4400" spc="-1" strike="noStrike">
              <a:solidFill>
                <a:srgbClr val="6600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terus gives birth to the placen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has given nourishment to the baby and is no longer needed.  It is pulled away from the uterine wall and expelled by contrac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y little discomf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2003400" y="1384200"/>
            <a:ext cx="5137200" cy="40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sarean Birth:  delivery of a baby through a surgical incision in the mother’s abdomen.  How many can a woman hav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show vide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bstetrician:  a doctor who specializes in pregnancy and birth (Ob/GY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tnatal:  period beginning after the birth of the baby.  (what w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r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al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22:18:20Z</dcterms:created>
  <dc:creator>hstmcnew</dc:creator>
  <dc:description/>
  <dc:language>en-US</dc:language>
  <cp:lastModifiedBy>Picard, Teresa</cp:lastModifiedBy>
  <dcterms:modified xsi:type="dcterms:W3CDTF">2012-11-08T02:35:00Z</dcterms:modified>
  <cp:revision>4</cp:revision>
  <dc:subject/>
  <dc:title>The Birth Process</dc:title>
</cp:coreProperties>
</file>