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F59-5441-4D2B-8177-9A17ED58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37F-6230-4800-8249-A9645F5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171-0880-4BFA-BFDB-B2941B80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2B0-62FE-4AB3-8904-55D63C7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8EFB-9084-4BBD-97EC-31A4AF0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562-F8B0-4105-8A7A-90F0C7CF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979-5819-4E94-860F-B784D60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9244-E70A-483D-B34A-FECDC7B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881-84F9-4BC0-9900-5127E2C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0DC7-CECE-411B-876F-6F327BDB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6CA-9BE5-46F5-B4DC-044506F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882-FA37-47C7-AFB0-DDE928FB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D6C-8783-4CA9-9A28-89C3DE9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73F8-3AE4-401B-8061-1D620B78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1FC-260F-43B5-A823-18EA46F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AA43-6508-48B9-AB20-51A178BF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B109-1B09-43D8-9A36-C0571875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CAEAA-570B-421C-9F9A-0DAE022E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1A529-101B-4FE5-8981-2FEAB362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B3BFC-0E10-42C8-8000-4A1A5D5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31857-B467-44D8-993E-7A9C610D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BE4B7-131D-4C9C-BE7A-85247695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868-9051-47BF-AC6E-2573BD0E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E6C11-216D-4E0A-A1C4-7F0F220E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80568-8340-49EE-96EF-080B500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E7308-7D51-4228-9D5B-8EFF5A2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4169E-42ED-4DD8-99DD-512B2C9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47C24-967F-4DD1-B8D2-FCE775B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53BB0-2856-438A-9D98-3F7C104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D16B5-B085-441A-A70B-3A9F29BD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27FDD-5009-42A9-B19B-18117459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DADC-56ED-40FC-9FD7-7CA1567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104B-83AD-4E16-87F6-CCB2551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2FC-728A-4BBB-87C4-8CE9B0F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AD37-D7D0-47CB-A59D-8A55869F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72BB-7FF8-425A-98F8-8C89D1D7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ED1D-6427-4C11-9F01-62932FB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A639-95CE-405D-BFD9-CEE5C53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F252-1D8D-473F-91D9-A75E15A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6AC6-FC4B-41DC-996E-B30D4A4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2D7B-F225-4BEA-81FC-E5311B2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7970-1CF1-4AE9-AA40-B782A9B2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D430-2EC8-4688-99A5-06D42E7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C735-22C3-4CEF-9F2C-87E826F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0B8-FD87-4BA7-B61F-3A1E3592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A601-6897-461E-8DE9-BCA938D3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2A5FF-B3EE-41A3-B3E1-C46BE69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8BFF-9E49-4C61-BA19-C619D3EF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EC19-1A14-4C1F-9C5D-6ED56441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5C88-786D-4EF6-B945-F7AEDF8A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F53E-1DBE-4B02-9C83-360E0E2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D636-0E6D-413F-8FCE-3EC37D1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5D44-7DC9-405A-ABED-F077DDF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A6C3-11CE-4661-9A9A-B9BC600E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5282-3604-4519-8C4B-84D1F897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214-361F-40BD-AC68-050E40E9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FD90-E1F9-47EC-BCF8-29C7479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0B8-68E5-460E-802B-A83761C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4C3-B144-40B3-AA9A-0756DBB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E7C-4212-47E7-850A-33D82C5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94A-CC2B-41D1-BE93-7FD445AC029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D2A-781C-42F2-A5E9-643AB796E02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6E1-6D3E-4065-9C6B-62A4EE7F5AD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458-16C9-4496-A2D2-4FD1F4C3DFF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5AD-F064-40CB-9E7A-922B493A7B0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egnancy-calendar.adoption.com/first-trimester/week-1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4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Fetal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igns of Pregnancy: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676160" y="2666520"/>
            <a:ext cx="61434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issed Perio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orning Sickness (nausea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atig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reast Tenderne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First Trimester:  Week 1-13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57200" y="1600200"/>
          <a:ext cx="8229600" cy="37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Cell multipl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sick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Face, eyes, ears, bones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issed menstru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ll organs present, although imm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Frequent 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Content Placeholder 1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505320" cy="31244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723920" y="761760"/>
            <a:ext cx="33051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First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736880" y="1447560"/>
            <a:ext cx="329868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1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: Smaller than the size of a grain of rice, weighs less than 1 ounce.  By end of the first month, the heart is beating and the brain, nervous system, arms &amp; legs start to form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2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Smaller than the size of a grape (1”); still less than 1 ounce. Major organs (heart and lungs) are fully formed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3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About size of a pickle (4”); weighs little more than 1 ounce. Teeth start developing; may hear heart beat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econd Trimester:  Week 14 - 28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" y="1319040"/>
          <a:ext cx="8229600" cy="50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k thumb, swallow, hiccup, eyes clo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Most discomfort of early pregnancy are 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Fetus becomes active, teeth devel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other can feel the ba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Fat begins to be deposited under the skin, practice breathing beg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A lot of fetal 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Content Placeholder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581280" cy="2968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723920" y="685440"/>
            <a:ext cx="3305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Second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736880" y="1676520"/>
            <a:ext cx="329868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4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bout as long as a carrot (6”); weighs 5 ounces. Has eyelashes and eyebrows; kicks and moves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5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As long as an eggplant (8-12”); weighs about 1 pound.  Has fingernails now!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6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pineapple (12”); weighs about 1 ½ pound. Skin is red and wrinkled, covered with fine, soft hair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Third Trimester:  Week 29 - 4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6002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atal 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on 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Periods of activity, followed by periods of 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Posture is effected by size of fe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Moves into head down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Backache, leg cramps, shortness of breath, tired, fetus k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Disease fighting antibodies acquired by the fetus from the mother’s bl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Baby drops, false labor may occ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Content Placeholder 9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3305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c600"/>
                </a:solidFill>
                <a:latin typeface="Century Gothic"/>
              </a:rPr>
              <a:t>Third Trimester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736880" y="1676520"/>
            <a:ext cx="329868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7: 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 As long as a celery stalk (15”), weighs about 3 pounds. Can suck thumb and hear mom’s voice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8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watermelon (18”), weighs about 5 pounds. Brain is growing very fast! Lungs still not ready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242"/>
                </a:solidFill>
                <a:latin typeface="Century Gothic"/>
              </a:rPr>
              <a:t>Month 9:</a:t>
            </a:r>
            <a:r>
              <a:rPr b="0" lang="en-US" sz="1600" spc="-1" strike="noStrike">
                <a:solidFill>
                  <a:srgbClr val="424242"/>
                </a:solidFill>
                <a:latin typeface="Century Gothic"/>
              </a:rPr>
              <a:t> As long as a loaf of Italian bread (20”), weighs about 7 pounds. Lungs are mature now and ready to work on their own.       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pregnancy-calendar.adoption.com/first-trimester/week-1.ht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5:59:09Z</dcterms:created>
  <dc:creator>hstmcnew</dc:creator>
  <dc:description/>
  <dc:language>en-US</dc:language>
  <cp:lastModifiedBy>lherring</cp:lastModifiedBy>
  <dcterms:modified xsi:type="dcterms:W3CDTF">2012-12-14T17:21:47Z</dcterms:modified>
  <cp:revision>11</cp:revision>
  <dc:subject/>
  <dc:title>Fetal Development</dc:title>
</cp:coreProperties>
</file>