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F76-BF39-446E-ADF2-121F9DAB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9E5-03DF-4691-9081-6C5DEACE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7433-0B99-413F-A567-0253B70C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0F03-84E1-4A85-BF4C-99BDE4B5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FEB8-3D4F-4155-8929-436B3214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032B-624C-4B53-91D2-700B67D8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3296-90EA-477E-9840-CBA13860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78A1-88F8-4D4A-BD15-1BABEA35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0223-A2EE-4C7E-8526-900A2D5C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195D-AC32-4B25-B7A2-F86C4785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7729-6A98-4A5E-90ED-B9501A7B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2791-960F-412C-83FC-07095DD3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8C4F-D039-49EE-BB74-5B52D00B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7867-D8C4-4B1F-B849-E20692C9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52E8-A1BB-4F0F-B80C-BE2781A2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CD4C-7CA3-490B-B2D4-F8E7657B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0FC2-E5CD-48B5-A0C6-C875492E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A6E2-193E-4A02-A08F-57DF856D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AD0-8762-4E4A-97E6-546E7BDC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CF2-ED18-4F29-B670-D190D3D9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0F09-CF2D-40CF-925C-DD19CE8B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1D3-78C1-4B83-9322-DB97FF97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379-8573-4F74-AAD7-A5CDC118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7C4D-4511-4280-B54F-DDC65B75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E259-7251-4CD3-8084-94630F5EE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7E38-D745-4766-AA51-60F8A093C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eas of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us on the WHOLE chil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WA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ysic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ss - Large muscles – exam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w and develop to their 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e - Small muscles – exam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ps with writing and hand-eye coordin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/Pair/Share – Think of three things you have done using your gross motor and fine motor skills since you have been in school toda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gnitiv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rything with the brain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ild synapses early – start at bir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/Pair/Share – What activities have you done today requiring your cognitive area of development? List 30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 to interact with ot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frie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confli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eye contact and body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/Pair/Share – Think of the last time you needed to interact with a group of people, what social skills did you ne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otio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feel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empat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k well with ot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ild self-ident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/Pair/Share – How good are you at identifying how you feel? Or help others with their feelings? Let’s sha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rning right from wro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ough books, conversations, playing, modeling behav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happens if we don’t learn right from wro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/Pair/Share - What are the consequences to society if not enhanc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3:54:15Z</dcterms:created>
  <dc:creator>Parkway</dc:creator>
  <dc:description/>
  <dc:language>en-US</dc:language>
  <cp:lastModifiedBy>Parkway</cp:lastModifiedBy>
  <dcterms:modified xsi:type="dcterms:W3CDTF">2012-11-10T21:12:09Z</dcterms:modified>
  <cp:revision>4</cp:revision>
  <dc:subject/>
  <dc:title>Areas of Development</dc:title>
</cp:coreProperties>
</file>