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2.jpeg" ContentType="image/jpeg"/>
  <Override PartName="/ppt/media/image11.png" ContentType="image/png"/>
  <Override PartName="/ppt/media/image16.jpeg" ContentType="image/jpeg"/>
  <Override PartName="/ppt/media/image14.jpeg" ContentType="image/jpeg"/>
  <Override PartName="/ppt/media/image9.jpeg" ContentType="image/jpeg"/>
  <Override PartName="/ppt/media/image13.jpeg" ContentType="image/jpeg"/>
  <Override PartName="/ppt/media/image2.jpeg" ContentType="image/jpeg"/>
  <Override PartName="/ppt/media/image5.jpeg" ContentType="image/jpeg"/>
  <Override PartName="/ppt/media/image8.jpeg" ContentType="image/jpeg"/>
  <Override PartName="/ppt/media/whoosh.wav" ContentType="audio/x-wav"/>
  <Override PartName="/ppt/media/image10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jpeg" ContentType="image/jpe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92E12-27EB-4D29-8A09-AE34997CF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4878F-0E3C-4FC7-B3DA-2D39AA1EE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05B22-2817-4718-8D72-A57407D40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0E566-E81D-4621-834A-93C79E5F5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9CC04-A6CB-4AC8-A592-DE6CD0A42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9DA7E-96CD-44EE-8047-2F277B5B4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18AC4-ABA2-45A1-93FA-D2D4B163C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71780-D9AA-4DC5-AB02-611DA09F4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E26FD-CCE5-4C6E-8D96-8E7EB4C5D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48376-6DC3-404B-AF63-CEF04A966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9A1AA-8F0F-4E3D-9576-2A7A5ADCD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5E1B5-0DA8-4DE3-B764-6C441A55C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46439-534B-40BD-9B83-08925A868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E0A57-BA61-4E33-B11A-5983947D4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B03AF-0F0C-43A5-B10C-5FD550C84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85BAF-4063-4135-848F-6704B24A9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41F35-FC82-4D72-B1E1-EFFA36A6E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FEFB29-FAE4-41EF-9C74-B32B90AB7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3663A3-84AA-4DA8-99CF-7F3E0BE97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78F794-4A7A-4C6C-924E-AF91EA071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441E8D-7D81-4621-A6CE-FF76BAA59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48D5A4-DE88-499F-BA9D-5EA77F6A2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50DA2-16F3-4DCD-A81F-3D5587521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F3FF8D-C2AD-48BA-9D77-B132F2412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6E03EA-C51F-4E5E-93C3-17B287EDA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9114F3-BD12-47C2-8FC4-03EF7B5A9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BE590F-72C7-4F9B-AE96-AFD347498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858523-0A1D-4B40-834C-801F80CD4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C9718D-BB10-4EC1-B175-E5A2C21DB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7BEFA4-B04D-40C3-AC9C-113658D78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981FD0-DD85-467D-8FA1-45BC46F95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B6563B-4F58-4695-B928-9866594DE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CFAB71-1CF8-4A02-A0C0-B2F80B35A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53646-86D1-433F-B0BC-91C1B9DE4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6B55D5-133E-4710-B299-F5B4BAD85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3A788B-D8B7-45EA-AB12-9C0852D1A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0ACADC-050F-4961-BDA7-FBDA058F8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13B4C4-1FC9-4AAF-B4EC-923969582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686F78-D578-49DA-937B-6D6F19E00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35B5A5-A1D2-4586-A951-00C07C124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E58B1A-7729-499F-99E6-9EDBF1A92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60A2D5-444A-49B7-8585-C744A69B2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98DAF5-A185-4698-8F82-7A2AF8FBB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689037-573C-4FD7-9589-8CEA1CECC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09E1E-ECFE-4D7B-B21C-9CA5D1C69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BFCFE0-9904-4226-A42F-71803923D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84F177-EBB3-40BA-8D15-32990E9E4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91AC3B-B9AF-443A-8E29-61253EC48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367AA3-683A-468C-AB2D-A6F110BD5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49696B-D467-4224-8CBD-34CB8CFA8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1DD957-2AAB-4D9C-9728-4EAC15D95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9FAF84-57AD-4847-9D61-2F219208E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80223F-0718-4376-B229-7B084811E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D93823-F3F0-4C88-9001-60C974911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E79640-DEC0-4DED-AF5B-263086F12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D05B6-05FD-407F-B776-F545A5C2D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90C5DC-C515-44FA-8585-FCCE4004C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7F215F-C7F5-4646-A027-7EE5079BD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6B73DE-DF1D-4A95-B27C-8ED226B41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21AA43-69BD-40E7-8137-28E44BB31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43C4ED-52EC-4E26-8AE2-C403CAB8F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0EA18C-1663-4261-8308-CC09B2606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DAFDD7-314F-4AE4-865A-922EFECF3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193F2B-2929-430A-A947-C6C552BC5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0356F3-2546-4F1D-B4F2-67A0D8F41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302135-5DB0-4F5D-A302-01626AD48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C1FEE-888F-43BB-8F14-C8E8BC5C6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BFBD6C-027E-44B8-A385-0F0BBC2E3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F68121-4581-4EA4-AA9E-E18623792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8E718E-1EB7-4B82-964F-DCB220828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06EA5C-1EAB-44A1-8CB9-40C2CBF22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6666BD-F924-462C-B794-BBE119D0A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CD7747-5923-4672-AEE7-7CBCD6E82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4720FD-0211-4376-9B69-3A6EEDBDD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C491EC-8980-4F8C-B91C-2E327811D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EE8940-D48A-463C-B4E1-2DBD90C1E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002AD2-D10E-4937-AD22-A353748ED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66B9A-D95C-4D12-A888-006BB265A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F896B2-7FFD-4E83-9E7F-17882BA5E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A6D05F-659A-480C-A283-777F6C4B7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BD0CEB-16DE-4E57-8587-CBCFB07BC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A364B7-173D-4B41-841D-0EBE9F395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53F63F-2924-4A41-AC6B-51066A552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A776F-5206-4F6F-A3F2-01DB899FB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>
                <a:gd name="textAreaLeft" fmla="*/ 0 w 2876400"/>
                <a:gd name="textAreaRight" fmla="*/ 2876760 w 2876400"/>
                <a:gd name="textAreaTop" fmla="*/ 0 h 714240"/>
                <a:gd name="textAreaBottom" fmla="*/ 714600 h 71424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>
                <a:gd name="textAreaLeft" fmla="*/ 0 w 5544720"/>
                <a:gd name="textAreaRight" fmla="*/ 5545080 w 554472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>
                <a:gd name="textAreaLeft" fmla="*/ 0 w 5468040"/>
                <a:gd name="textAreaRight" fmla="*/ 5468400 w 5468040"/>
                <a:gd name="textAreaTop" fmla="*/ 0 h 774720"/>
                <a:gd name="textAreaBottom" fmla="*/ 775080 h 77472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>
                <a:gd name="textAreaLeft" fmla="*/ 0 w 3308040"/>
                <a:gd name="textAreaRight" fmla="*/ 3308400 w 3308040"/>
                <a:gd name="textAreaTop" fmla="*/ 0 h 651960"/>
                <a:gd name="textAreaBottom" fmla="*/ 652320 h 65196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>
                <a:gd name="textAreaLeft" fmla="*/ 0 w 8723520"/>
                <a:gd name="textAreaRight" fmla="*/ 8723880 w 8723520"/>
                <a:gd name="textAreaTop" fmla="*/ 0 h 1330560"/>
                <a:gd name="textAreaBottom" fmla="*/ 1330920 h 133056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F1451-5396-4269-AE42-A245CB1B02E6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>
                <a:gd name="textAreaLeft" fmla="*/ 0 w 2880000"/>
                <a:gd name="textAreaRight" fmla="*/ 2880000 w 2880000"/>
                <a:gd name="textAreaTop" fmla="*/ 0 h 714240"/>
                <a:gd name="textAreaBottom" fmla="*/ 714600 h 71424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>
                <a:gd name="textAreaLeft" fmla="*/ 0 w 5551920"/>
                <a:gd name="textAreaRight" fmla="*/ 5552280 w 5551920"/>
                <a:gd name="textAreaTop" fmla="*/ 0 h 850320"/>
                <a:gd name="textAreaBottom" fmla="*/ 850680 h 85032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>
                <a:gd name="textAreaLeft" fmla="*/ 0 w 5475240"/>
                <a:gd name="textAreaRight" fmla="*/ 5475600 w 5475240"/>
                <a:gd name="textAreaTop" fmla="*/ 0 h 774360"/>
                <a:gd name="textAreaBottom" fmla="*/ 774720 h 77436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>
                <a:gd name="textAreaLeft" fmla="*/ 0 w 3312360"/>
                <a:gd name="textAreaRight" fmla="*/ 3312720 w 3312360"/>
                <a:gd name="textAreaTop" fmla="*/ 0 h 651600"/>
                <a:gd name="textAreaBottom" fmla="*/ 651600 h 65160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>
                <a:gd name="textAreaLeft" fmla="*/ 0 w 8723520"/>
                <a:gd name="textAreaRight" fmla="*/ 8723880 w 8723520"/>
                <a:gd name="textAreaTop" fmla="*/ 0 h 1330200"/>
                <a:gd name="textAreaBottom" fmla="*/ 1330560 h 133020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3E54E-964B-494A-A249-5347974FE1F4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4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>
              <a:gd name="textAreaLeft" fmla="*/ 0 w 2876400"/>
              <a:gd name="textAreaRight" fmla="*/ 2876760 w 2876400"/>
              <a:gd name="textAreaTop" fmla="*/ 0 h 714240"/>
              <a:gd name="textAreaBottom" fmla="*/ 714600 h 714240"/>
            </a:gdLst>
            <a:ahLst/>
            <a:rect l="textAreaLeft" t="textAreaTop" r="textAreaRight" b="textAreaBottom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>
              <a:gd name="textAreaLeft" fmla="*/ 0 w 5545080"/>
              <a:gd name="textAreaRight" fmla="*/ 5545440 w 5545080"/>
              <a:gd name="textAreaTop" fmla="*/ 0 h 850680"/>
              <a:gd name="textAreaBottom" fmla="*/ 851040 h 850680"/>
            </a:gdLst>
            <a:ahLst/>
            <a:rect l="textAreaLeft" t="textAreaTop" r="textAreaRight" b="textAreaBottom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>
              <a:gd name="textAreaLeft" fmla="*/ 0 w 5467320"/>
              <a:gd name="textAreaRight" fmla="*/ 5467680 w 5467320"/>
              <a:gd name="textAreaTop" fmla="*/ 0 h 774720"/>
              <a:gd name="textAreaBottom" fmla="*/ 775080 h 774720"/>
            </a:gdLst>
            <a:ahLst/>
            <a:rect l="textAreaLeft" t="textAreaTop" r="textAreaRight" b="textAreaBottom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>
              <a:gd name="textAreaLeft" fmla="*/ 0 w 3306600"/>
              <a:gd name="textAreaRight" fmla="*/ 3306960 w 3306600"/>
              <a:gd name="textAreaTop" fmla="*/ 0 h 652680"/>
              <a:gd name="textAreaBottom" fmla="*/ 653040 h 652680"/>
            </a:gdLst>
            <a:ahLst/>
            <a:rect l="textAreaLeft" t="textAreaTop" r="textAreaRight" b="textAreaBottom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>
              <a:gd name="textAreaLeft" fmla="*/ 0 w 8723520"/>
              <a:gd name="textAreaRight" fmla="*/ 8723880 w 8723520"/>
              <a:gd name="textAreaTop" fmla="*/ 0 h 1328760"/>
              <a:gd name="textAreaBottom" fmla="*/ 1329120 h 1328760"/>
            </a:gdLst>
            <a:ahLst/>
            <a:rect l="textAreaLeft" t="textAreaTop" r="textAreaRight" b="textAreaBottom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A0C19-A553-43BA-9A21-42200FBDB88F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Group 1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>
                <a:gd name="textAreaLeft" fmla="*/ 0 w 2876400"/>
                <a:gd name="textAreaRight" fmla="*/ 2876760 w 2876400"/>
                <a:gd name="textAreaTop" fmla="*/ 0 h 714240"/>
                <a:gd name="textAreaBottom" fmla="*/ 714600 h 71424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>
                <a:gd name="textAreaLeft" fmla="*/ 0 w 5544720"/>
                <a:gd name="textAreaRight" fmla="*/ 5545080 w 554472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>
                <a:gd name="textAreaLeft" fmla="*/ 0 w 5468040"/>
                <a:gd name="textAreaRight" fmla="*/ 5468400 w 5468040"/>
                <a:gd name="textAreaTop" fmla="*/ 0 h 774720"/>
                <a:gd name="textAreaBottom" fmla="*/ 775080 h 77472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>
                <a:gd name="textAreaLeft" fmla="*/ 0 w 3308040"/>
                <a:gd name="textAreaRight" fmla="*/ 3308400 w 3308040"/>
                <a:gd name="textAreaTop" fmla="*/ 0 h 651960"/>
                <a:gd name="textAreaBottom" fmla="*/ 652320 h 65196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25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>
                <a:gd name="textAreaLeft" fmla="*/ 0 w 8723520"/>
                <a:gd name="textAreaRight" fmla="*/ 8723880 w 8723520"/>
                <a:gd name="textAreaTop" fmla="*/ 0 h 1330560"/>
                <a:gd name="textAreaBottom" fmla="*/ 1330920 h 133056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5CF4F-3D1C-4494-8D23-88F3EAB056EF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>
                <a:gd name="textAreaLeft" fmla="*/ 0 w 2880000"/>
                <a:gd name="textAreaRight" fmla="*/ 2880000 w 2880000"/>
                <a:gd name="textAreaTop" fmla="*/ 0 h 715320"/>
                <a:gd name="textAreaBottom" fmla="*/ 715680 h 71532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>
                <a:gd name="textAreaLeft" fmla="*/ 0 w 5551920"/>
                <a:gd name="textAreaRight" fmla="*/ 5552280 w 5551920"/>
                <a:gd name="textAreaTop" fmla="*/ 0 h 851400"/>
                <a:gd name="textAreaBottom" fmla="*/ 851760 h 85140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>
                <a:gd name="textAreaLeft" fmla="*/ 0 w 5475240"/>
                <a:gd name="textAreaRight" fmla="*/ 5475600 w 5475240"/>
                <a:gd name="textAreaTop" fmla="*/ 0 h 775440"/>
                <a:gd name="textAreaBottom" fmla="*/ 775800 h 77544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>
                <a:gd name="textAreaLeft" fmla="*/ 0 w 3312360"/>
                <a:gd name="textAreaRight" fmla="*/ 3312720 w 3312360"/>
                <a:gd name="textAreaTop" fmla="*/ 0 h 652680"/>
                <a:gd name="textAreaBottom" fmla="*/ 653040 h 65268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25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>
                <a:gd name="textAreaLeft" fmla="*/ 0 w 8723520"/>
                <a:gd name="textAreaRight" fmla="*/ 8723880 w 8723520"/>
                <a:gd name="textAreaTop" fmla="*/ 0 h 1332000"/>
                <a:gd name="textAreaBottom" fmla="*/ 1332360 h 133200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EEBB2-7FCC-41F4-BCAE-686E821F2B72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Group 15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>
                <a:gd name="textAreaLeft" fmla="*/ 0 w 2880000"/>
                <a:gd name="textAreaRight" fmla="*/ 2880000 w 2880000"/>
                <a:gd name="textAreaTop" fmla="*/ 0 h 714240"/>
                <a:gd name="textAreaBottom" fmla="*/ 714600 h 71424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>
                <a:gd name="textAreaLeft" fmla="*/ 0 w 5551920"/>
                <a:gd name="textAreaRight" fmla="*/ 5552280 w 5551920"/>
                <a:gd name="textAreaTop" fmla="*/ 0 h 850320"/>
                <a:gd name="textAreaBottom" fmla="*/ 850680 h 85032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>
                <a:gd name="textAreaLeft" fmla="*/ 0 w 5475240"/>
                <a:gd name="textAreaRight" fmla="*/ 5475600 w 5475240"/>
                <a:gd name="textAreaTop" fmla="*/ 0 h 774360"/>
                <a:gd name="textAreaBottom" fmla="*/ 774720 h 77436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>
                <a:gd name="textAreaLeft" fmla="*/ 0 w 3312360"/>
                <a:gd name="textAreaRight" fmla="*/ 3312720 w 3312360"/>
                <a:gd name="textAreaTop" fmla="*/ 0 h 651600"/>
                <a:gd name="textAreaBottom" fmla="*/ 651600 h 65160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2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>
                <a:gd name="textAreaLeft" fmla="*/ 0 w 8723520"/>
                <a:gd name="textAreaRight" fmla="*/ 8723880 w 8723520"/>
                <a:gd name="textAreaTop" fmla="*/ 0 h 1330200"/>
                <a:gd name="textAreaBottom" fmla="*/ 1330560 h 133020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BAAD4-2BE5-4A52-928C-774D8B3F4A4C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15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>
                <a:gd name="textAreaLeft" fmla="*/ 0 w 2880000"/>
                <a:gd name="textAreaRight" fmla="*/ 2880000 w 2880000"/>
                <a:gd name="textAreaTop" fmla="*/ 0 h 715320"/>
                <a:gd name="textAreaBottom" fmla="*/ 715680 h 71532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>
                <a:gd name="textAreaLeft" fmla="*/ 0 w 5551920"/>
                <a:gd name="textAreaRight" fmla="*/ 5552280 w 5551920"/>
                <a:gd name="textAreaTop" fmla="*/ 0 h 851400"/>
                <a:gd name="textAreaBottom" fmla="*/ 851760 h 85140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>
                <a:gd name="textAreaLeft" fmla="*/ 0 w 5475240"/>
                <a:gd name="textAreaRight" fmla="*/ 5475600 w 5475240"/>
                <a:gd name="textAreaTop" fmla="*/ 0 h 775440"/>
                <a:gd name="textAreaBottom" fmla="*/ 775800 h 77544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>
                <a:gd name="textAreaLeft" fmla="*/ 0 w 3312360"/>
                <a:gd name="textAreaRight" fmla="*/ 3312720 w 3312360"/>
                <a:gd name="textAreaTop" fmla="*/ 0 h 652680"/>
                <a:gd name="textAreaBottom" fmla="*/ 653040 h 65268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25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>
                <a:gd name="textAreaLeft" fmla="*/ 0 w 8723520"/>
                <a:gd name="textAreaRight" fmla="*/ 8723880 w 8723520"/>
                <a:gd name="textAreaTop" fmla="*/ 0 h 1332000"/>
                <a:gd name="textAreaBottom" fmla="*/ 1332360 h 133200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FA10D-3F73-481F-91AD-177E51C30654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277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en-US" sz="1800" spc="-1" strike="noStrike">
                <a:solidFill>
                  <a:srgbClr val="000000"/>
                </a:solidFill>
                <a:latin typeface="Candara"/>
              </a:rPr>
              <a:t>Child Development II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andara"/>
              </a:rPr>
              <a:t>Unit 3: Observing Children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andara"/>
              </a:rPr>
              <a:t>Instructional Strategy 1 – Observing Young Children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lang="en-US" sz="4400" spc="-1" strike="noStrike">
                <a:solidFill>
                  <a:srgbClr val="000000"/>
                </a:solidFill>
                <a:latin typeface="Candara"/>
              </a:rPr>
              <a:t>OBSERVING YOUNG CHILDREN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761760" y="3428640"/>
            <a:ext cx="746748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ndara"/>
              </a:rPr>
              <a:t>Discuss what you think is happening with the children on the following slides: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 txBox="1"/>
          <p:nvPr/>
        </p:nvSpPr>
        <p:spPr>
          <a:xfrm>
            <a:off x="457200" y="2590920"/>
            <a:ext cx="4191120" cy="35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Annie has difficulty sharing.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1" lang="en-US" sz="5400" spc="-1" strike="noStrike">
                <a:solidFill>
                  <a:srgbClr val="000000"/>
                </a:solidFill>
                <a:latin typeface="Candara"/>
              </a:rPr>
              <a:t>OR</a:t>
            </a:r>
            <a:endParaRPr b="0" lang="en-US" sz="5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Annie never shares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ndara"/>
              </a:rPr>
              <a:t>Avoid making assumptions:</a:t>
            </a:r>
            <a:br>
              <a:rPr sz="4400"/>
            </a:br>
            <a:r>
              <a:rPr b="0" lang="en-US" sz="2800" spc="-1" strike="noStrike">
                <a:solidFill>
                  <a:srgbClr val="ffffff"/>
                </a:solidFill>
                <a:latin typeface="Candara"/>
              </a:rPr>
              <a:t>Which statement is correct?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59" name="Picture 8" descr="Image"/>
          <p:cNvPicPr/>
          <p:nvPr/>
        </p:nvPicPr>
        <p:blipFill>
          <a:blip r:embed="rId1"/>
          <a:stretch/>
        </p:blipFill>
        <p:spPr>
          <a:xfrm>
            <a:off x="5105520" y="2552760"/>
            <a:ext cx="32004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Picture 4" descr="http://www.drudion.org.uk/scarey_kids.jpg"/>
          <p:cNvPicPr/>
          <p:nvPr/>
        </p:nvPicPr>
        <p:blipFill>
          <a:blip r:embed="rId1"/>
          <a:stretch/>
        </p:blipFill>
        <p:spPr>
          <a:xfrm>
            <a:off x="4572000" y="2666880"/>
            <a:ext cx="3809880" cy="3810240"/>
          </a:xfrm>
          <a:prstGeom prst="rect">
            <a:avLst/>
          </a:prstGeom>
          <a:ln w="0">
            <a:noFill/>
          </a:ln>
        </p:spPr>
      </p:pic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ndara"/>
              </a:rPr>
              <a:t>Avoid labels:</a:t>
            </a:r>
            <a:br>
              <a:rPr sz="4400"/>
            </a:br>
            <a:r>
              <a:rPr b="0" lang="en-US" sz="2800" spc="-1" strike="noStrike">
                <a:solidFill>
                  <a:srgbClr val="ffffff"/>
                </a:solidFill>
                <a:latin typeface="Candara"/>
              </a:rPr>
              <a:t>Which statement is correct?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2" name="Text Box 5"/>
          <p:cNvSpPr/>
          <p:nvPr/>
        </p:nvSpPr>
        <p:spPr>
          <a:xfrm>
            <a:off x="685800" y="21337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6"/>
          <p:cNvSpPr/>
          <p:nvPr/>
        </p:nvSpPr>
        <p:spPr>
          <a:xfrm>
            <a:off x="304920" y="2500200"/>
            <a:ext cx="38098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mmy is mea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mmy often acts out hi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gressive feel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 txBox="1"/>
          <p:nvPr/>
        </p:nvSpPr>
        <p:spPr>
          <a:xfrm>
            <a:off x="456840" y="1600200"/>
            <a:ext cx="380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ndara"/>
              </a:rPr>
              <a:t>Avoid conclusions you are not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andara"/>
              </a:rPr>
              <a:t>qualified to make: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6" name="Rectangle 4"/>
          <p:cNvSpPr/>
          <p:nvPr/>
        </p:nvSpPr>
        <p:spPr>
          <a:xfrm>
            <a:off x="133200" y="254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Picture 6" descr="Picture of teacher helping child"/>
          <p:cNvPicPr/>
          <p:nvPr/>
        </p:nvPicPr>
        <p:blipFill>
          <a:blip r:embed="rId1"/>
          <a:stretch/>
        </p:blipFill>
        <p:spPr>
          <a:xfrm>
            <a:off x="4700520" y="2743200"/>
            <a:ext cx="4062600" cy="2895480"/>
          </a:xfrm>
          <a:prstGeom prst="rect">
            <a:avLst/>
          </a:prstGeom>
          <a:ln w="0">
            <a:noFill/>
          </a:ln>
        </p:spPr>
      </p:pic>
      <p:sp>
        <p:nvSpPr>
          <p:cNvPr id="368" name="Text Box 7"/>
          <p:cNvSpPr/>
          <p:nvPr/>
        </p:nvSpPr>
        <p:spPr>
          <a:xfrm>
            <a:off x="250200" y="2209680"/>
            <a:ext cx="41965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llie can’t do anything b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mself because he is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ngest in a large fam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they do everything f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llie needs to develop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ility to do things for himself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 txBox="1"/>
          <p:nvPr/>
        </p:nvSpPr>
        <p:spPr>
          <a:xfrm>
            <a:off x="457200" y="1600200"/>
            <a:ext cx="2743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ndara"/>
              </a:rPr>
              <a:t>Don’t compare children: </a:t>
            </a:r>
            <a:br>
              <a:rPr sz="4000"/>
            </a:br>
            <a:r>
              <a:rPr b="0" lang="en-US" sz="2500" spc="-1" strike="noStrike">
                <a:solidFill>
                  <a:srgbClr val="000000"/>
                </a:solidFill>
                <a:latin typeface="Candara"/>
              </a:rPr>
              <a:t>They develop at different rates. </a:t>
            </a:r>
            <a:br>
              <a:rPr sz="2500"/>
            </a:br>
            <a:r>
              <a:rPr b="0" lang="en-US" sz="2500" spc="-1" strike="noStrike">
                <a:solidFill>
                  <a:srgbClr val="ffffff"/>
                </a:solidFill>
                <a:latin typeface="Candara"/>
              </a:rPr>
              <a:t> Which statement is correct?</a:t>
            </a:r>
            <a:endParaRPr b="0" lang="en-US" sz="25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1" name="Rectangle 4"/>
          <p:cNvSpPr/>
          <p:nvPr/>
        </p:nvSpPr>
        <p:spPr>
          <a:xfrm>
            <a:off x="504720" y="81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7"/>
          <p:cNvSpPr/>
          <p:nvPr/>
        </p:nvSpPr>
        <p:spPr>
          <a:xfrm>
            <a:off x="685800" y="2286000"/>
            <a:ext cx="3673440" cy="21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mmy falls off his bike a lo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8"/>
          <p:cNvSpPr/>
          <p:nvPr/>
        </p:nvSpPr>
        <p:spPr>
          <a:xfrm>
            <a:off x="688320" y="4305240"/>
            <a:ext cx="2620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mmy must 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ckward.  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s not ride h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ke as well 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other childr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4" name="Picture 8" descr="C:\Users\hstpicard\Desktop\untitled.png"/>
          <p:cNvPicPr/>
          <p:nvPr/>
        </p:nvPicPr>
        <p:blipFill>
          <a:blip r:embed="rId1"/>
          <a:stretch/>
        </p:blipFill>
        <p:spPr>
          <a:xfrm>
            <a:off x="4419720" y="2743200"/>
            <a:ext cx="388620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 txBox="1"/>
          <p:nvPr/>
        </p:nvSpPr>
        <p:spPr>
          <a:xfrm>
            <a:off x="871560" y="2514600"/>
            <a:ext cx="7408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43040" indent="-743040">
              <a:lnSpc>
                <a:spcPct val="90000"/>
              </a:lnSpc>
              <a:spcBef>
                <a:spcPts val="1001"/>
              </a:spcBef>
              <a:buClr>
                <a:srgbClr val="31b6fd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ndara"/>
              </a:rPr>
              <a:t>Objective observations simply state the facts and are not based on opinions.</a:t>
            </a:r>
            <a:endParaRPr b="0" lang="en-US" sz="4000" spc="-1" strike="noStrike">
              <a:solidFill>
                <a:srgbClr val="073e87"/>
              </a:solidFill>
              <a:latin typeface="Candara"/>
            </a:endParaRPr>
          </a:p>
          <a:p>
            <a:pPr marL="743040" indent="-7430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ndara"/>
              </a:rPr>
              <a:t>It is important but difficult to remain objective at all time.</a:t>
            </a:r>
            <a:endParaRPr b="0" lang="en-US" sz="4000" spc="-1" strike="noStrike">
              <a:solidFill>
                <a:srgbClr val="073e87"/>
              </a:solidFill>
              <a:latin typeface="Candara"/>
            </a:endParaRPr>
          </a:p>
          <a:p>
            <a:pPr marL="743040" indent="-743040">
              <a:lnSpc>
                <a:spcPct val="90000"/>
              </a:lnSpc>
              <a:spcBef>
                <a:spcPts val="10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ndara"/>
              </a:rPr>
              <a:t>BE OBJECTIVE!</a:t>
            </a:r>
            <a:br>
              <a:rPr sz="4400"/>
            </a:br>
            <a:r>
              <a:rPr b="1" lang="en-US" sz="2400" spc="-1" strike="noStrike">
                <a:solidFill>
                  <a:srgbClr val="000000"/>
                </a:solidFill>
                <a:latin typeface="Candara"/>
              </a:rPr>
              <a:t>Tab #3---Objective vs. Subjective</a:t>
            </a:r>
            <a:endParaRPr b="0" lang="en-US" sz="2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ndara"/>
              </a:rPr>
              <a:t>DO NOT BE SUBJECTIVE: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4920" y="2057040"/>
            <a:ext cx="50292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0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Candara"/>
              </a:rPr>
              <a:t>Subjective </a:t>
            </a:r>
            <a:r>
              <a:rPr b="0" lang="en-US" sz="4000" spc="-1" strike="noStrike">
                <a:solidFill>
                  <a:srgbClr val="000000"/>
                </a:solidFill>
                <a:latin typeface="Candara"/>
              </a:rPr>
              <a:t>observations state an </a:t>
            </a:r>
            <a:r>
              <a:rPr b="1" lang="en-US" sz="4000" spc="-1" strike="noStrike">
                <a:solidFill>
                  <a:srgbClr val="000000"/>
                </a:solidFill>
                <a:latin typeface="Candara"/>
              </a:rPr>
              <a:t>opinion </a:t>
            </a:r>
            <a:r>
              <a:rPr b="0" lang="en-US" sz="4000" spc="-1" strike="noStrike">
                <a:solidFill>
                  <a:srgbClr val="000000"/>
                </a:solidFill>
                <a:latin typeface="Candara"/>
              </a:rPr>
              <a:t>of the observer.</a:t>
            </a:r>
            <a:endParaRPr b="0" lang="en-US" sz="4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9" name="Text Box 7"/>
          <p:cNvSpPr/>
          <p:nvPr/>
        </p:nvSpPr>
        <p:spPr>
          <a:xfrm>
            <a:off x="380880" y="4648320"/>
            <a:ext cx="5410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bservations must be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solid facts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- objectiv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0" name="Picture 13" descr="C:\Documents and Settings\Bruce\My Documents\My Pictures\soft-clouds-blue-sky.jpg"/>
          <p:cNvPicPr/>
          <p:nvPr/>
        </p:nvPicPr>
        <p:blipFill>
          <a:blip r:embed="rId1"/>
          <a:stretch/>
        </p:blipFill>
        <p:spPr>
          <a:xfrm>
            <a:off x="5334120" y="1828800"/>
            <a:ext cx="3230280" cy="191916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14" descr="C:\Documents and Settings\Bruce\My Documents\My Pictures\rock.jpg"/>
          <p:cNvPicPr/>
          <p:nvPr/>
        </p:nvPicPr>
        <p:blipFill>
          <a:blip r:embed="rId2"/>
          <a:stretch/>
        </p:blipFill>
        <p:spPr>
          <a:xfrm>
            <a:off x="5891040" y="4032360"/>
            <a:ext cx="267336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28240" y="304920"/>
            <a:ext cx="8381880" cy="167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ndara"/>
              </a:rPr>
              <a:t>Decide which of the following statements are</a:t>
            </a:r>
            <a:br>
              <a:rPr sz="3200"/>
            </a:br>
            <a:r>
              <a:rPr b="1" lang="en-US" sz="3200" spc="-1" strike="noStrike" u="sng">
                <a:solidFill>
                  <a:srgbClr val="000000"/>
                </a:solidFill>
                <a:uFillTx/>
                <a:latin typeface="Candara"/>
              </a:rPr>
              <a:t>Subjective</a:t>
            </a:r>
            <a:r>
              <a:rPr b="1" lang="en-US" sz="3200" spc="-1" strike="noStrike">
                <a:solidFill>
                  <a:srgbClr val="000000"/>
                </a:solidFill>
                <a:latin typeface="Candara"/>
              </a:rPr>
              <a:t> and which ar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andara"/>
              </a:rPr>
              <a:t>Objective</a:t>
            </a:r>
            <a:r>
              <a:rPr b="1" lang="en-US" sz="3200" spc="-1" strike="noStrike">
                <a:solidFill>
                  <a:srgbClr val="000000"/>
                </a:solidFill>
                <a:latin typeface="Candara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Picture 2" descr="twssnake3"/>
          <p:cNvPicPr/>
          <p:nvPr/>
        </p:nvPicPr>
        <p:blipFill>
          <a:blip r:embed="rId1"/>
          <a:stretch/>
        </p:blipFill>
        <p:spPr>
          <a:xfrm>
            <a:off x="609480" y="533520"/>
            <a:ext cx="7867800" cy="4572000"/>
          </a:xfrm>
          <a:prstGeom prst="rect">
            <a:avLst/>
          </a:prstGeom>
          <a:ln w="0">
            <a:noFill/>
          </a:ln>
        </p:spPr>
      </p:pic>
      <p:sp>
        <p:nvSpPr>
          <p:cNvPr id="384" name="Text Box 3"/>
          <p:cNvSpPr/>
          <p:nvPr/>
        </p:nvSpPr>
        <p:spPr>
          <a:xfrm>
            <a:off x="533520" y="5257800"/>
            <a:ext cx="8229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k looks away when the teacher showed him a snake.  He said, “I don’t like snakes, they feel funny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k was afraid because he said he didn’t like snak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2"/>
          <p:cNvSpPr/>
          <p:nvPr/>
        </p:nvSpPr>
        <p:spPr>
          <a:xfrm>
            <a:off x="371520" y="1611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Picture 4" descr="Playing with MusicBlocks"/>
          <p:cNvPicPr/>
          <p:nvPr/>
        </p:nvPicPr>
        <p:blipFill>
          <a:blip r:embed="rId1"/>
          <a:stretch/>
        </p:blipFill>
        <p:spPr>
          <a:xfrm>
            <a:off x="4648320" y="2895480"/>
            <a:ext cx="4046400" cy="3543480"/>
          </a:xfrm>
          <a:prstGeom prst="rect">
            <a:avLst/>
          </a:prstGeom>
          <a:ln w="0">
            <a:noFill/>
          </a:ln>
        </p:spPr>
      </p:pic>
      <p:sp>
        <p:nvSpPr>
          <p:cNvPr id="387" name="Text Box 5"/>
          <p:cNvSpPr/>
          <p:nvPr/>
        </p:nvSpPr>
        <p:spPr>
          <a:xfrm>
            <a:off x="380880" y="2917800"/>
            <a:ext cx="39625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yler was playing with the music blocks.  When Carly &amp; Josh asked to play, Tyler agreed and showed them ho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7"/>
          <p:cNvSpPr/>
          <p:nvPr/>
        </p:nvSpPr>
        <p:spPr>
          <a:xfrm>
            <a:off x="423720" y="1633680"/>
            <a:ext cx="7767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yler is a good boy and gets along well with the other childr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Picture 3" descr="Swinging"/>
          <p:cNvPicPr/>
          <p:nvPr/>
        </p:nvPicPr>
        <p:blipFill>
          <a:blip r:embed="rId1"/>
          <a:stretch/>
        </p:blipFill>
        <p:spPr>
          <a:xfrm>
            <a:off x="474840" y="615960"/>
            <a:ext cx="4413240" cy="4641840"/>
          </a:xfrm>
          <a:prstGeom prst="rect">
            <a:avLst/>
          </a:prstGeom>
          <a:ln w="0">
            <a:noFill/>
          </a:ln>
        </p:spPr>
      </p:pic>
      <p:sp>
        <p:nvSpPr>
          <p:cNvPr id="390" name="Text Box 4"/>
          <p:cNvSpPr/>
          <p:nvPr/>
        </p:nvSpPr>
        <p:spPr>
          <a:xfrm>
            <a:off x="5105520" y="1752480"/>
            <a:ext cx="37494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ddie wanted to swing but two others were already there.  She picked up a rock and threw it at th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6"/>
          <p:cNvSpPr/>
          <p:nvPr/>
        </p:nvSpPr>
        <p:spPr>
          <a:xfrm>
            <a:off x="685800" y="5486400"/>
            <a:ext cx="7924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ddie got mad and threw a rock because she does not share wel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Picture 4" descr="Untitled-27"/>
          <p:cNvPicPr/>
          <p:nvPr/>
        </p:nvPicPr>
        <p:blipFill>
          <a:blip r:embed="rId1"/>
          <a:stretch/>
        </p:blipFill>
        <p:spPr>
          <a:xfrm>
            <a:off x="609480" y="609480"/>
            <a:ext cx="7925040" cy="5554800"/>
          </a:xfrm>
          <a:prstGeom prst="rect">
            <a:avLst/>
          </a:prstGeom>
          <a:ln w="0">
            <a:noFill/>
          </a:ln>
        </p:spPr>
      </p:pic>
      <p:sp>
        <p:nvSpPr>
          <p:cNvPr id="338" name="Text Box 7"/>
          <p:cNvSpPr/>
          <p:nvPr/>
        </p:nvSpPr>
        <p:spPr>
          <a:xfrm>
            <a:off x="822240" y="62085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8"/>
          <p:cNvSpPr/>
          <p:nvPr/>
        </p:nvSpPr>
        <p:spPr>
          <a:xfrm>
            <a:off x="1828800" y="6302520"/>
            <a:ext cx="601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cey is sitting on the slide, just res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29480" indent="-429480">
              <a:lnSpc>
                <a:spcPct val="90000"/>
              </a:lnSpc>
              <a:spcBef>
                <a:spcPts val="601"/>
              </a:spcBef>
              <a:buClr>
                <a:srgbClr val="31b6fd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ndara"/>
              </a:rPr>
              <a:t>Use the instruction sheet for finishing your Layered Book.  The remaining tabs (#4--#7) of your layered book has a specific heading with information that should be included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429480" indent="-429480">
              <a:lnSpc>
                <a:spcPct val="90000"/>
              </a:lnSpc>
              <a:spcBef>
                <a:spcPts val="601"/>
              </a:spcBef>
              <a:buClr>
                <a:srgbClr val="31b6fd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ndara"/>
              </a:rPr>
              <a:t>Use your textbook, internet, or other resources to locate the information that is required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429480" indent="-429480">
              <a:lnSpc>
                <a:spcPct val="90000"/>
              </a:lnSpc>
              <a:spcBef>
                <a:spcPts val="601"/>
              </a:spcBef>
              <a:buClr>
                <a:srgbClr val="31b6fd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ndara"/>
              </a:rPr>
              <a:t>In addition to the required information, you can add any pictures or additional information that will help you remember this information.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429480" indent="-429480">
              <a:lnSpc>
                <a:spcPct val="9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429480" indent="-429480">
              <a:lnSpc>
                <a:spcPct val="9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ndara"/>
              </a:rPr>
              <a:t>TYPES OF OBSERVATIONS: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Picture 4" descr="Picture29"/>
          <p:cNvPicPr/>
          <p:nvPr/>
        </p:nvPicPr>
        <p:blipFill>
          <a:blip r:embed="rId1"/>
          <a:stretch/>
        </p:blipFill>
        <p:spPr>
          <a:xfrm>
            <a:off x="4114800" y="609480"/>
            <a:ext cx="4343400" cy="5943600"/>
          </a:xfrm>
          <a:prstGeom prst="rect">
            <a:avLst/>
          </a:prstGeom>
          <a:ln w="0">
            <a:noFill/>
          </a:ln>
        </p:spPr>
      </p:pic>
      <p:sp>
        <p:nvSpPr>
          <p:cNvPr id="341" name="Text Box 5"/>
          <p:cNvSpPr/>
          <p:nvPr/>
        </p:nvSpPr>
        <p:spPr>
          <a:xfrm>
            <a:off x="365040" y="3465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6"/>
          <p:cNvSpPr/>
          <p:nvPr/>
        </p:nvSpPr>
        <p:spPr>
          <a:xfrm>
            <a:off x="379080" y="2133720"/>
            <a:ext cx="35852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ker usually likes to pla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y himself, but chose to b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Zac today.  If he do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oose a friend it is usuall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ac or Jacob.  He loves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 funn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Picture 4" descr="Picture31"/>
          <p:cNvPicPr/>
          <p:nvPr/>
        </p:nvPicPr>
        <p:blipFill>
          <a:blip r:embed="rId1"/>
          <a:stretch/>
        </p:blipFill>
        <p:spPr>
          <a:xfrm>
            <a:off x="3124080" y="533520"/>
            <a:ext cx="5508720" cy="5986440"/>
          </a:xfrm>
          <a:prstGeom prst="rect">
            <a:avLst/>
          </a:prstGeom>
          <a:ln w="0">
            <a:noFill/>
          </a:ln>
        </p:spPr>
      </p:pic>
      <p:sp>
        <p:nvSpPr>
          <p:cNvPr id="344" name="Text Box 5"/>
          <p:cNvSpPr/>
          <p:nvPr/>
        </p:nvSpPr>
        <p:spPr>
          <a:xfrm>
            <a:off x="333360" y="2057400"/>
            <a:ext cx="263844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amryn is barely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d has a hard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ying awake.  Mom  says she gets enough sleep so we wonder if it could be a physical problem or an emotional probl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Picture 4" descr="Picture5"/>
          <p:cNvPicPr/>
          <p:nvPr/>
        </p:nvPicPr>
        <p:blipFill>
          <a:blip r:embed="rId1"/>
          <a:stretch/>
        </p:blipFill>
        <p:spPr>
          <a:xfrm>
            <a:off x="228600" y="609480"/>
            <a:ext cx="8639280" cy="4724640"/>
          </a:xfrm>
          <a:prstGeom prst="rect">
            <a:avLst/>
          </a:prstGeom>
          <a:ln w="0">
            <a:noFill/>
          </a:ln>
        </p:spPr>
      </p:pic>
      <p:sp>
        <p:nvSpPr>
          <p:cNvPr id="346" name="Text Box 5"/>
          <p:cNvSpPr/>
          <p:nvPr/>
        </p:nvSpPr>
        <p:spPr>
          <a:xfrm>
            <a:off x="318960" y="5562720"/>
            <a:ext cx="8864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allin often plays with play dough.  He has chosen to roll and cut wi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okie cutters today.  Other favorite activities are dress up and puzz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Picture 1029" descr="volcanoeruption2"/>
          <p:cNvPicPr/>
          <p:nvPr/>
        </p:nvPicPr>
        <p:blipFill>
          <a:blip r:embed="rId1"/>
          <a:stretch/>
        </p:blipFill>
        <p:spPr>
          <a:xfrm>
            <a:off x="609480" y="533520"/>
            <a:ext cx="7934400" cy="5257800"/>
          </a:xfrm>
          <a:prstGeom prst="rect">
            <a:avLst/>
          </a:prstGeom>
          <a:ln w="0">
            <a:noFill/>
          </a:ln>
        </p:spPr>
      </p:pic>
      <p:sp>
        <p:nvSpPr>
          <p:cNvPr id="348" name="Text Box 1030"/>
          <p:cNvSpPr/>
          <p:nvPr/>
        </p:nvSpPr>
        <p:spPr>
          <a:xfrm>
            <a:off x="252000" y="5943600"/>
            <a:ext cx="8649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little girl behind the teacher is not able to get inside the group 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e what is happening.  She just stands there and watches the oth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Text Box 1030"/>
          <p:cNvSpPr/>
          <p:nvPr/>
        </p:nvSpPr>
        <p:spPr>
          <a:xfrm>
            <a:off x="717480" y="5378400"/>
            <a:ext cx="8207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anny was fighting with John, Joe saw them fighting and decid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help Danny.  Joe said, “I’ll help you out, Danny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Picture 1032" descr="C:\Documents and Settings\Bruce\My Documents\My Pictures\fight.jpg"/>
          <p:cNvPicPr/>
          <p:nvPr/>
        </p:nvPicPr>
        <p:blipFill>
          <a:blip r:embed="rId1"/>
          <a:stretch/>
        </p:blipFill>
        <p:spPr>
          <a:xfrm>
            <a:off x="2209680" y="838080"/>
            <a:ext cx="4381560" cy="4322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 txBox="1"/>
          <p:nvPr/>
        </p:nvSpPr>
        <p:spPr>
          <a:xfrm>
            <a:off x="457200" y="22860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25160" indent="-425160">
              <a:lnSpc>
                <a:spcPct val="90000"/>
              </a:lnSpc>
              <a:spcBef>
                <a:spcPts val="601"/>
              </a:spcBef>
              <a:buClr>
                <a:srgbClr val="31b6fd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ndara"/>
              </a:rPr>
              <a:t>Students gather supplies (4 pieces of paper, color pencils, etc.) to create a “Layered Book”.  Follow teachers instructions in folding to create layered book for notes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425160" indent="-425160">
              <a:lnSpc>
                <a:spcPct val="90000"/>
              </a:lnSpc>
              <a:spcBef>
                <a:spcPts val="601"/>
              </a:spcBef>
              <a:buClr>
                <a:srgbClr val="31b6fd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ndara"/>
              </a:rPr>
              <a:t>Students are to read a handout called “Why Observe Children”.  After reading, students should list the 7 reasons why children should be observed on the bottom tab (#8) of their layered book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425160" indent="-425160">
              <a:lnSpc>
                <a:spcPct val="90000"/>
              </a:lnSpc>
              <a:spcBef>
                <a:spcPts val="601"/>
              </a:spcBef>
              <a:buClr>
                <a:srgbClr val="31b6fd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ndara"/>
              </a:rPr>
              <a:t>Students should follow the instructions for specific tab titles for the rest of the layers.  Information from the following slides will be used for Tabs #2 and #3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425160" indent="-425160">
              <a:lnSpc>
                <a:spcPct val="90000"/>
              </a:lnSpc>
              <a:spcBef>
                <a:spcPts val="601"/>
              </a:spcBef>
              <a:buClr>
                <a:srgbClr val="31b6fd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ndara"/>
              </a:rPr>
              <a:t>Other resources will be used for Tabs #4----#7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425160" indent="-425160">
              <a:lnSpc>
                <a:spcPct val="90000"/>
              </a:lnSpc>
              <a:spcBef>
                <a:spcPts val="601"/>
              </a:spcBef>
              <a:buClr>
                <a:srgbClr val="31b6fd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425160" indent="-425160">
              <a:lnSpc>
                <a:spcPct val="90000"/>
              </a:lnSpc>
              <a:spcBef>
                <a:spcPts val="601"/>
              </a:spcBef>
              <a:buClr>
                <a:srgbClr val="31b6fd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425160" indent="-425160">
              <a:lnSpc>
                <a:spcPct val="9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425160" indent="-4251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425160" indent="-425160">
              <a:lnSpc>
                <a:spcPct val="9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ndara"/>
              </a:rPr>
              <a:t>WHY OBSERVE CHILDREN?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3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3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3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3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ndara"/>
              </a:rPr>
              <a:t>HOW TO OBSERVE</a:t>
            </a:r>
            <a:br>
              <a:rPr sz="4400"/>
            </a:br>
            <a:r>
              <a:rPr b="1" lang="en-US" sz="2400" spc="-1" strike="noStrike">
                <a:solidFill>
                  <a:srgbClr val="000000"/>
                </a:solidFill>
                <a:latin typeface="Candara"/>
              </a:rPr>
              <a:t>Tab #2---Do’s and Don’ts</a:t>
            </a:r>
            <a:endParaRPr b="0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52280" y="2047680"/>
            <a:ext cx="4572000" cy="414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45520" indent="-24552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ndara"/>
              </a:rPr>
              <a:t>It is best to observe from a distance without the child knowing they are being observed.  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45520" indent="-24552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ndara"/>
              </a:rPr>
              <a:t>Wear simple, appropriate clothing to blend in.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45520" indent="-24552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ndara"/>
              </a:rPr>
              <a:t>Sit in a low chair when in a classroom (avoid standing over the children)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45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45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356" name="Picture 5" descr=""/>
          <p:cNvPicPr/>
          <p:nvPr/>
        </p:nvPicPr>
        <p:blipFill>
          <a:blip r:embed="rId1"/>
          <a:stretch/>
        </p:blipFill>
        <p:spPr>
          <a:xfrm>
            <a:off x="4724280" y="2057400"/>
            <a:ext cx="41148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7T16:20:25Z</dcterms:created>
  <dc:creator>Wendy Crapo</dc:creator>
  <dc:description/>
  <dc:language>en-US</dc:language>
  <cp:lastModifiedBy>lherring</cp:lastModifiedBy>
  <dcterms:modified xsi:type="dcterms:W3CDTF">2013-12-24T16:24:35Z</dcterms:modified>
  <cp:revision>29</cp:revision>
  <dc:subject/>
  <dc:title>OBSERVING YOUNG CHILDREN</dc:title>
</cp:coreProperties>
</file>