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C28-6F5F-4B27-BE6C-24F008A3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ED3-720A-4B9E-ACD7-D59C269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A05-A123-4802-8CFF-44654CB4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8FD-D806-4CAA-BCFE-00B45D5D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FE6-2825-4E9F-83A7-DDBA3994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02C-BFB7-4004-A55D-D975A5E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3DC5-61EF-416D-ACB7-0DFFB0A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8CE3-038F-4A26-8D24-8C0FCFD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9908-9597-4B4D-AFEB-2241813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8BE-5F22-4B89-9A0C-FE9D262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7F01-7420-44DC-89BB-5E4CFCD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0F3-0656-4575-8FA4-D0F5541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C66-AA39-4539-BB76-C54FC7B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1479-28AA-4637-8A6E-4294CEA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3CEE-06F6-4143-9B73-AE8EA220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5E4-5C1D-4C18-8F46-2D96A157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BF4F-6F4B-42BD-9F9A-C08AD726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F7F-46E8-4FDD-A199-014A57D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715-DA64-4E0E-8933-E64BF72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4B0-AD23-4C60-81A9-11A05E6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E8C-1934-457B-9EA3-92F4DFA0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0C3-E8C0-40D6-94D9-30C6D4F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F5B-A0FE-4C08-9078-3436686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0CE-87EF-441F-8583-C78AE8B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24D-22A5-40B5-875A-E6CFEDD9D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139-050A-4BE0-B839-89BEEF4F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ceptiona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2 - Creating Stimulating Environments for Childr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structional Strategy 6 - Exceptional Learners PowerPoi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EBB-36DC-4D97-9F32-357E10B616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lt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onic Health Need - Illness that persists over a period of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allergies, arthritis, asthma, cystic fibrosis, diabetes, epilepsy, hemophilia and leuk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9274-06A8-407B-8972-D31A6B39D5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 Disability - Intellectual functioning is significantly below the developmental milestones for his/her 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Down Syndr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1D4-DC4F-492F-8A2C-172BAAEB03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Disabilities - Having a problem with one or more basic skills of le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Deco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Comprehen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Compu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tion Deficit Disorder (ADD), Attention Deficit Hyperactive Disorder (ADH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 used in the classroo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4CB3-F0BC-4C6F-82BC-3CF43FBACA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/Emotional Impair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al Disorder - Condition that affects one’s social/emotional fun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: Aut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FFD-5B18-482B-AEB0-DABD9F5C65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f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ed= Having exceptional skills in one or more of 6 are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ve or Productive Th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 Intellectual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ychomotor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Academic apti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 or Performing 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Open-ended learning activities for creative children and small group activities to build leadership ski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2C46-893B-478D-90FF-AABA8A418F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Everyth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44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First, Disability Sec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“Jon, who has a wheelchair” or “Jon, who has brown eye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The Wheelchair Kid” or “disabled J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make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trategies a chance to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patient – with child and Yoursel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4E6-0FAC-4085-85C3-88588416F2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commodating Al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Creative Curriculum, what other ways can we accommodate all learners to ensure student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Dif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Experiences and Cul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 Inter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lish Language Lea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8B3F-8849-4012-9B10-512F089C40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ndividuals with Disabilities Education Ac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hat all states provide education for children who are developmentally delay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-5 year old children with disabilities that require special education services much be provided with individual education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nts, toddlers, and preschoolers who might have a physical, sensory, cognitive, or emotional disability are guaranteed the right to a professional assessment under the Federal Education of Handicapped Children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C3B-A1C6-4173-90C7-D905D67260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ing children with special needs in regular classro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hildren to learn in the least restrictive environment and gain skills by interacting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ith disabilities have children who are nondisabled as role models which can lead to imi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BF6E-FA92-4A92-8F85-79D854C96D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EP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Individualized Education Pla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al document written for each child with a diagnosed dis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 that each child receives an appropriate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CE9A-2957-46E5-AA91-F4771AF1E4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s’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part in identifying children with special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speech clinicians, school psychologists, health professionals, and other resource persons to design individual 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e parents to participate in their child’s education. It is their right. Find out what they are feeling as well as thin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program decisions on input from several resources including parents, other professionals, and personal observ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1B4-175F-44DD-9BE0-8221BB21B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ring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ring Impairment - Problem in one or more parts of the ear; prevents child from hearing adequ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ing Suggestions: Speak clearly in a normal volume and speed while looking into the child’s eyes. Pause and wait for a response after you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CE9E-226D-43A5-A5D6-CD934C9FF8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ec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articulate= Cannot be understood by teachers or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ech Impairments= Interference with specific sounds or sound bl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ticulation Problems= Most often omissions, distortions, or substitutions of vowels or consonants or bo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ttering= Repetition, hesitation, or prolongation of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ce Disorders= Abnormal pitch, loudness, flexibility, and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ching Suggestions: Model good voice characteristics. Plan activities so all children will experience suc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0290-44B2-450B-BF8B-385C4EEF9B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sion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 Impairments - Any eye or nerve problem that prevents people from seeing norm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Identification: squinting, crossed eyes, adjusting head in awkward positions, excessive eye rubbing, and excessive blin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: omblyopia, glaucoma, nearsightedness, farsightedness, and color de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Hang children’s work at eye level. Keep large print books. Encourage children to describe what they remember using their other sen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9A1C-82DD-48FA-AFF5-87D869ABEB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cerebral palsy, spina bifida, muscular dystrophy, and ampu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Suggestions: Modify chairs to accommodate child. Serve finger foods as often as possible for snack. Secure all carpeting or rugs to floor so child does not slip or trip on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389D-A577-4B1B-8D60-540FA70EF2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6:27Z</dcterms:created>
  <dc:creator>Parkway</dc:creator>
  <dc:description/>
  <dc:language>en-US</dc:language>
  <cp:lastModifiedBy>lherring</cp:lastModifiedBy>
  <dcterms:modified xsi:type="dcterms:W3CDTF">2013-12-24T16:21:15Z</dcterms:modified>
  <cp:revision>15</cp:revision>
  <dc:subject/>
  <dc:title>Disabilities</dc:title>
</cp:coreProperties>
</file>