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067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06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62080" y="679320"/>
            <a:ext cx="4533840" cy="3400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685800" y="4306680"/>
            <a:ext cx="5486400" cy="40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1192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4400" y="861192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5AB9D-6E52-411A-B10F-EDB0030D70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62080" y="679320"/>
            <a:ext cx="4533840" cy="340056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06680"/>
            <a:ext cx="5486400" cy="408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Slide Number Placeholder 3"/>
          <p:cNvSpPr/>
          <p:nvPr/>
        </p:nvSpPr>
        <p:spPr>
          <a:xfrm>
            <a:off x="3884760" y="86122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FEDC9-7C03-4AAA-A220-7E4EF1E7651A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CA8B6-4518-4AD1-804C-1A70D220D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00461-96A9-4FCF-BE94-63AE64FD7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53126-30BD-4EE4-87BC-04A5F4E8D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65B94-B739-488E-B293-7F7265D4A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73879-CB27-4798-B10B-23D7CC092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916D4-8676-4C0A-9144-FD1E086A2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6E45A-D77A-4DC0-9132-0475A85E4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98D02-A008-47D8-A165-7B952E5FC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4876A-731B-4748-B1F3-5AF985EB4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00BAE-088F-4CAA-89D0-5B570DD44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99F0D-6A38-4863-9DB3-50A944BFA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99E8B-9DB2-4DB8-8211-BEA19E10F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C2940-BA40-4A24-B692-52BF6233C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882EF-97E8-46FF-B951-8227C2898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77DC5-FF85-4788-A959-CDBB23AED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1193E-E1BF-4725-B5BC-1810F38AC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B188C-6002-4588-B44E-AB50BDAB4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B6A9A-3DAE-46A1-A13D-56506F3A9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EB61B-3406-4E70-A53E-70D0CD409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325AE-525B-45EE-8D95-A75546837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02B12-4E1B-48AA-8EBD-5726B6293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EF2A5-2BAB-4BD7-8782-90FDE898D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39436-2F64-4799-A716-039870283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93924-4BD2-41D8-91B7-28BA4619E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structional Strategy_3_Designing the Environment, Curriculum and Learning Activ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073D4-F2F2-46EF-819A-AEB32B9F2E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0840" y="-86400"/>
            <a:ext cx="2428560" cy="2248560"/>
            <a:chOff x="7170840" y="-86400"/>
            <a:chExt cx="2428560" cy="224856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0840" y="-86400"/>
              <a:ext cx="2428560" cy="2248560"/>
              <a:chOff x="7170840" y="-86400"/>
              <a:chExt cx="2428560" cy="224856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0840" y="-86400"/>
                <a:ext cx="2428560" cy="2248560"/>
                <a:chOff x="7170840" y="-86400"/>
                <a:chExt cx="2428560" cy="224856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280" y="112680"/>
                  <a:ext cx="243360" cy="198720"/>
                </a:xfrm>
                <a:custGeom>
                  <a:avLst/>
                  <a:gdLst>
                    <a:gd name="textAreaLeft" fmla="*/ 0 w 243360"/>
                    <a:gd name="textAreaRight" fmla="*/ 243360 w 24336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7200" y="524520"/>
                  <a:ext cx="427680" cy="695160"/>
                </a:xfrm>
                <a:custGeom>
                  <a:avLst/>
                  <a:gdLst>
                    <a:gd name="textAreaLeft" fmla="*/ 0 w 427680"/>
                    <a:gd name="textAreaRight" fmla="*/ 428040 w 427680"/>
                    <a:gd name="textAreaTop" fmla="*/ 0 h 695160"/>
                    <a:gd name="textAreaBottom" fmla="*/ 695520 h 69516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5160" y="285840"/>
                  <a:ext cx="803160" cy="1425600"/>
                </a:xfrm>
                <a:custGeom>
                  <a:avLst/>
                  <a:gdLst>
                    <a:gd name="textAreaLeft" fmla="*/ 0 w 803160"/>
                    <a:gd name="textAreaRight" fmla="*/ 803520 w 80316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2120" y="-28800"/>
                  <a:ext cx="1205640" cy="2133360"/>
                </a:xfrm>
                <a:custGeom>
                  <a:avLst/>
                  <a:gdLst>
                    <a:gd name="textAreaLeft" fmla="*/ 0 w 1205640"/>
                    <a:gd name="textAreaRight" fmla="*/ 1206000 w 120564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2480" y="1422360"/>
                  <a:ext cx="268560" cy="193680"/>
                </a:xfrm>
                <a:custGeom>
                  <a:avLst/>
                  <a:gdLst>
                    <a:gd name="textAreaLeft" fmla="*/ 0 w 268560"/>
                    <a:gd name="textAreaRight" fmla="*/ 268920 w 26856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640"/>
                  <a:ext cx="287640" cy="228600"/>
                </a:xfrm>
                <a:custGeom>
                  <a:avLst/>
                  <a:gdLst>
                    <a:gd name="textAreaLeft" fmla="*/ 0 w 287640"/>
                    <a:gd name="textAreaRight" fmla="*/ 288000 w 28764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640" cy="233640"/>
                </a:xfrm>
                <a:custGeom>
                  <a:avLst/>
                  <a:gdLst>
                    <a:gd name="textAreaLeft" fmla="*/ 0 w 287640"/>
                    <a:gd name="textAreaRight" fmla="*/ 288000 w 28764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7000" y="221760"/>
                  <a:ext cx="284400" cy="219240"/>
                </a:xfrm>
                <a:custGeom>
                  <a:avLst/>
                  <a:gdLst>
                    <a:gd name="textAreaLeft" fmla="*/ 0 w 284400"/>
                    <a:gd name="textAreaRight" fmla="*/ 284760 w 28440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520" y="4318920"/>
            <a:ext cx="978120" cy="1158480"/>
            <a:chOff x="7796520" y="4318920"/>
            <a:chExt cx="978120" cy="115848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5120"/>
                <a:gd name="textAreaBottom" fmla="*/ 465480 h 46512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60440"/>
                <a:gd name="textAreaBottom" fmla="*/ 460800 h 46044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>
                <a:gd name="textAreaLeft" fmla="*/ 0 w 660240"/>
                <a:gd name="textAreaRight" fmla="*/ 660600 w 660240"/>
                <a:gd name="textAreaTop" fmla="*/ 0 h 420840"/>
                <a:gd name="textAreaBottom" fmla="*/ 421200 h 4208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520" y="4318920"/>
              <a:ext cx="978120" cy="1158480"/>
              <a:chOff x="7796520" y="4318920"/>
              <a:chExt cx="978120" cy="115848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040" y="5064120"/>
                <a:ext cx="93960" cy="9612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120"/>
                  <a:gd name="textAreaBottom" fmla="*/ 96480 h 9612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200" y="4652280"/>
                <a:ext cx="1058760" cy="49176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1760"/>
                  <a:gd name="textAreaBottom" fmla="*/ 492120 h 49176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3400" y="4758120"/>
                <a:ext cx="749520" cy="27828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8280"/>
                  <a:gd name="textAreaBottom" fmla="*/ 278640 h 2782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480"/>
                <a:ext cx="100080" cy="1861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86120"/>
                  <a:gd name="textAreaBottom" fmla="*/ 186480 h 18612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52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520"/>
                  <a:gd name="textAreaBottom" fmla="*/ 164880 h 16452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structional Strategy_3_Designing the Environment, Curriculum and Learning Activ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FB220-EB48-4E0D-BDA3-611A700412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orestandards.org/" TargetMode="Externa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Formative%20Assessment%20_2%20_Design%20Your%20Classroom.docx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295280" y="2133720"/>
            <a:ext cx="6400800" cy="227304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Designing the Environment, Curriculum and Activitie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Herr, J. (2008).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Working with young children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. Tinley Park, IL: The Goodheart-Wilcox Company, Inc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Footer Placeholder 2"/>
          <p:cNvSpPr/>
          <p:nvPr/>
        </p:nvSpPr>
        <p:spPr>
          <a:xfrm>
            <a:off x="457200" y="5791320"/>
            <a:ext cx="81532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Child Development II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it 2 – Creating Stimulating Environments for Childre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nstructional Strategy 8 - Designing the Environmen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aiandra GD"/>
              </a:rPr>
              <a:t>Block Pla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23640" y="781200"/>
            <a:ext cx="80578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aiandra G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iandra GD"/>
              </a:rPr>
              <a:t>Usually includes days of the week, time periods, and scheduled activitie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aiandra G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iandra GD"/>
              </a:rPr>
              <a:t>The plans also contain a variety of activities that may be used in future year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9" name="Picture 1" descr=""/>
          <p:cNvPicPr/>
          <p:nvPr/>
        </p:nvPicPr>
        <p:blipFill>
          <a:blip r:embed="rId1"/>
          <a:stretch/>
        </p:blipFill>
        <p:spPr>
          <a:xfrm>
            <a:off x="1752480" y="2832120"/>
            <a:ext cx="4953240" cy="3570120"/>
          </a:xfrm>
          <a:prstGeom prst="rect">
            <a:avLst/>
          </a:prstGeom>
          <a:ln w="0">
            <a:noFill/>
          </a:ln>
        </p:spPr>
      </p:pic>
      <p:sp>
        <p:nvSpPr>
          <p:cNvPr id="210" name="Slide Number Placeholder 1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5C184-6AA4-432C-BFA5-70741F780BC3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aiandra GD"/>
              </a:rPr>
              <a:t>Developmental Goa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aiandra G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iandra GD"/>
              </a:rPr>
              <a:t>Tell the “why” of the activity.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aiandra G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iandra GD"/>
              </a:rPr>
              <a:t>What is the purpose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aiandra G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iandra GD"/>
              </a:rPr>
              <a:t>Ask yourself, “What can the children learn from this experience?”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aiandra G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iandra GD"/>
              </a:rPr>
              <a:t>Must align with </a:t>
            </a:r>
            <a:r>
              <a:rPr b="0" lang="en-US" sz="3200" spc="-1" strike="noStrike" u="sng">
                <a:solidFill>
                  <a:srgbClr val="00b200"/>
                </a:solidFill>
                <a:uFillTx/>
                <a:latin typeface="Maiandra GD"/>
                <a:hlinkClick r:id="rId1"/>
              </a:rPr>
              <a:t>Common Core Standard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Slide Number Placeholder 1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531EB-EF77-4502-BF71-DEBF947BF2B4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06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aiandra GD"/>
              </a:rPr>
              <a:t>Lesson Pla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Maiandra G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More detailed than block plans - provides step-by-step direction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Maiandra G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Contain the following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aiandra G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aiandra GD"/>
              </a:rPr>
              <a:t>Developmental goal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aiandra G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aiandra GD"/>
              </a:rPr>
              <a:t>Learning objectiv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aiandra G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aiandra GD"/>
              </a:rPr>
              <a:t>Materials neede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aiandra G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aiandra GD"/>
              </a:rPr>
              <a:t>Motiva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aiandra G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aiandra GD"/>
              </a:rPr>
              <a:t>Procedur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aiandra G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aiandra GD"/>
              </a:rPr>
              <a:t>Closure/transi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aiandra G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aiandra GD"/>
              </a:rPr>
              <a:t>Evalua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Curved Left Arrow 1"/>
          <p:cNvSpPr/>
          <p:nvPr/>
        </p:nvSpPr>
        <p:spPr>
          <a:xfrm>
            <a:off x="4114800" y="3352680"/>
            <a:ext cx="914400" cy="2514600"/>
          </a:xfrm>
          <a:custGeom>
            <a:avLst/>
            <a:gdLst>
              <a:gd name="textAreaLeft" fmla="*/ 122400 w 914400"/>
              <a:gd name="textAreaRight" fmla="*/ 792000 w 914400"/>
              <a:gd name="textAreaTop" fmla="*/ 542880 h 2514600"/>
              <a:gd name="textAreaBottom" fmla="*/ 1857600 h 2514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328" stAng="-5400000" swAng="5400000"/>
                <a:lnTo>
                  <a:pt x="21600" y="11291"/>
                </a:lnTo>
                <a:arcTo wR="21600" hR="9328" stAng="0" swAng="3547438"/>
                <a:lnTo>
                  <a:pt x="5400" y="21304"/>
                </a:lnTo>
                <a:lnTo>
                  <a:pt x="0" y="19637"/>
                </a:lnTo>
                <a:lnTo>
                  <a:pt x="5400" y="17377"/>
                </a:lnTo>
                <a:lnTo>
                  <a:pt x="5400" y="18359"/>
                </a:lnTo>
                <a:arcTo wR="21600" hR="9328" stAng="3547438" swAng="-3390464"/>
                <a:lnTo>
                  <a:pt x="21480" y="10309"/>
                </a:lnTo>
                <a:arcTo wR="21600" hR="9328" stAng="-156973" swAng="-5243027"/>
                <a:close/>
              </a:path>
              <a:path fill="darkenLess" w="21600" h="21600">
                <a:moveTo>
                  <a:pt x="0" y="0"/>
                </a:moveTo>
                <a:arcTo wR="21600" hR="9328" stAng="-5400000" swAng="5400000"/>
                <a:lnTo>
                  <a:pt x="21600" y="11291"/>
                </a:lnTo>
                <a:arcTo wR="21600" hR="9328" stAng="0" swAng="-156973"/>
                <a:lnTo>
                  <a:pt x="21480" y="10309"/>
                </a:lnTo>
                <a:arcTo wR="21600" hR="9328" stAng="-156973" swAng="-5243027"/>
                <a:close/>
              </a:path>
            </a:pathLst>
          </a:custGeom>
          <a:solidFill>
            <a:srgbClr val="ffe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7" name="Rectangle 2" descr=""/>
          <p:cNvPicPr/>
          <p:nvPr/>
        </p:nvPicPr>
        <p:blipFill>
          <a:blip r:embed="rId1"/>
          <a:stretch/>
        </p:blipFill>
        <p:spPr>
          <a:xfrm>
            <a:off x="3932280" y="2176560"/>
            <a:ext cx="4919760" cy="3144600"/>
          </a:xfrm>
          <a:prstGeom prst="rect">
            <a:avLst/>
          </a:prstGeom>
          <a:ln w="0">
            <a:noFill/>
          </a:ln>
        </p:spPr>
      </p:pic>
      <p:sp>
        <p:nvSpPr>
          <p:cNvPr id="218" name="Slide Number Placeholder 1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0F745-2BD6-4FAE-9328-84C6C4C30414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arning Objectives – It’s as easy at A-B-C-D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228600" y="1828800"/>
            <a:ext cx="81532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scribes the expected outcome of an activity.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dience – Wh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havior – What they will d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nditions - What you AS THE TEACHER will d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gree – to what performanc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ET’S PRACTICE writing Learning Objectives!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Slide Number Placeholder 1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3C3F8-8BC5-49D5-85E7-09FDFE713F90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aiandra GD"/>
              </a:rPr>
              <a:t>Motiv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aiandra G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iandra GD"/>
              </a:rPr>
              <a:t>How you will gain the children’s attention?  How will you “HOOK” them or get the curious or excited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aiandra G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iandra GD"/>
              </a:rPr>
              <a:t>Example:  You are going to teach a lesson on the seasons.  How would you hook them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aiandra G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iandra GD"/>
              </a:rPr>
              <a:t>Let’s brainstorm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Slide Number Placeholder 1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3AF7E-A447-4360-912C-E96041AE06E7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aiandra GD"/>
              </a:rPr>
              <a:t>Procedur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aiandra G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iandra GD"/>
              </a:rPr>
              <a:t>Resembles a cookboo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aiandra G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iandra GD"/>
              </a:rPr>
              <a:t>Simple, step-by-step directions should be provided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aiandra G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iandra GD"/>
              </a:rPr>
              <a:t>Should be in order and numbere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aiandra G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iandra GD"/>
              </a:rPr>
              <a:t>Very detaile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aiandra G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iandra GD"/>
              </a:rPr>
              <a:t>Include “What you will say” in quotation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Slide Number Placeholder 1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A0889-8E8A-4005-817A-0B1CDB2DE165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aiandra GD"/>
              </a:rPr>
              <a:t>Materia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aiandra G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iandra GD"/>
              </a:rPr>
              <a:t>List everything that is needed for the activit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aiandra G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iandra GD"/>
              </a:rPr>
              <a:t>Helps stay organize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aiandra G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iandra GD"/>
              </a:rPr>
              <a:t>Another teacher should be able to pick up the lesson plan and be able to complete it from the beginning to end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aiandra G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iandra GD"/>
              </a:rPr>
              <a:t>List all websites, book titles, suppli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Slide Number Placeholder 1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D700C-D615-417F-8BB0-8FEC1EFC4396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aiandra GD"/>
              </a:rPr>
              <a:t>Evalu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aiandra G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iandra GD"/>
              </a:rPr>
              <a:t>How will you know the lesson was a success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aiandra G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iandra GD"/>
              </a:rPr>
              <a:t>Has EACH child achieved the learning objective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aiandra G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iandra GD"/>
              </a:rPr>
              <a:t>To what degree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aiandra G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iandra GD"/>
              </a:rPr>
              <a:t>What further support or re-teaching is necessary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Slide Number Placeholder 1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0A718-AA81-4ACA-ACA9-2BEFE6BEE1D7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aiandra GD"/>
              </a:rPr>
              <a:t>Closure/Transi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aiandra G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iandra GD"/>
              </a:rPr>
              <a:t>How an activity will end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aiandra G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iandra GD"/>
              </a:rPr>
              <a:t>May include clean up tasks or sampling a food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aiandra G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iandra GD"/>
              </a:rPr>
              <a:t>Transition refers to moving from one activity to anoth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aiandra G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iandra GD"/>
              </a:rPr>
              <a:t>Must state in your lesson plan the “exact language” you will us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Slide Number Placeholder 1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CF96F-6C85-4340-B261-4E27986367BA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fter each Less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FLECTION is KEY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etermine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at went well? Not so well? Ways to improve?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llect evidence for student portfolios to see growth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Slide Number Placeholder 1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64A88-A1DC-47E0-A418-4A5CA1F57A90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nvironment or Layou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tudent center-focuse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rrange areas around edges of room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ovide open, creative area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ovide private spac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rt and snack near water sourc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at else should we consider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Slide Number Placeholder 1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FD965-66A5-4390-A959-EB39892B8E4C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t’s write a lesson together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) Themed web (Unit) and concepts  (ideas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2) Three Learning objectives from EACH concept (idea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) Each Lesson plan comes from one or two learning objectiv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et’s practice – Theme: The Farm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Slide Number Placeholder 1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43C96-71B5-46F4-958F-4072A64694B4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06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me: The Far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57200" y="1371240"/>
            <a:ext cx="7696080" cy="4343400"/>
          </a:xfrm>
          <a:prstGeom prst="rect">
            <a:avLst/>
          </a:prstGeom>
          <a:ln w="0">
            <a:noFill/>
          </a:ln>
        </p:spPr>
      </p:pic>
      <p:sp>
        <p:nvSpPr>
          <p:cNvPr id="245" name="Oval 4"/>
          <p:cNvSpPr/>
          <p:nvPr/>
        </p:nvSpPr>
        <p:spPr>
          <a:xfrm>
            <a:off x="3429000" y="2895480"/>
            <a:ext cx="1828800" cy="91440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e Farm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" name="Oval 5"/>
          <p:cNvSpPr/>
          <p:nvPr/>
        </p:nvSpPr>
        <p:spPr>
          <a:xfrm>
            <a:off x="5486400" y="1752480"/>
            <a:ext cx="1143000" cy="91440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" name="Oval 6"/>
          <p:cNvSpPr/>
          <p:nvPr/>
        </p:nvSpPr>
        <p:spPr>
          <a:xfrm>
            <a:off x="5562720" y="3809880"/>
            <a:ext cx="1066680" cy="83844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" name="Oval 7"/>
          <p:cNvSpPr/>
          <p:nvPr/>
        </p:nvSpPr>
        <p:spPr>
          <a:xfrm>
            <a:off x="1676520" y="2666880"/>
            <a:ext cx="990360" cy="91440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249" name="Straight Arrow Connector 9"/>
          <p:cNvCxnSpPr/>
          <p:nvPr/>
        </p:nvCxnSpPr>
        <p:spPr>
          <a:xfrm>
            <a:off x="2171520" y="3581280"/>
            <a:ext cx="1080" cy="1067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50" name="Straight Arrow Connector 11"/>
          <p:cNvCxnSpPr>
            <a:stCxn id="248" idx="2"/>
          </p:cNvCxnSpPr>
          <p:nvPr/>
        </p:nvCxnSpPr>
        <p:spPr>
          <a:xfrm flipH="1">
            <a:off x="1218960" y="3123720"/>
            <a:ext cx="457920" cy="68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51" name="Straight Arrow Connector 13"/>
          <p:cNvCxnSpPr/>
          <p:nvPr/>
        </p:nvCxnSpPr>
        <p:spPr>
          <a:xfrm flipH="1" flipV="1">
            <a:off x="1828080" y="2209320"/>
            <a:ext cx="22932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52" name="Straight Arrow Connector 16"/>
          <p:cNvCxnSpPr>
            <a:stCxn id="245" idx="2"/>
          </p:cNvCxnSpPr>
          <p:nvPr/>
        </p:nvCxnSpPr>
        <p:spPr>
          <a:xfrm flipH="1" flipV="1">
            <a:off x="2666160" y="3123360"/>
            <a:ext cx="76284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53" name="Straight Arrow Connector 18"/>
          <p:cNvCxnSpPr>
            <a:endCxn id="246" idx="3"/>
          </p:cNvCxnSpPr>
          <p:nvPr/>
        </p:nvCxnSpPr>
        <p:spPr>
          <a:xfrm flipV="1">
            <a:off x="5257800" y="2533320"/>
            <a:ext cx="396000" cy="591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54" name="Straight Arrow Connector 20"/>
          <p:cNvCxnSpPr>
            <a:endCxn id="247" idx="1"/>
          </p:cNvCxnSpPr>
          <p:nvPr/>
        </p:nvCxnSpPr>
        <p:spPr>
          <a:xfrm>
            <a:off x="5257440" y="3580920"/>
            <a:ext cx="461160" cy="351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55" name="Slide Number Placeholder 1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115F0-D0C6-4262-80AD-2C2B303612FD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rganizing the Classroom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hapter 9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an-N-Pick – Choose one area for you to research and share with the class!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151920" y="1828800"/>
            <a:ext cx="4800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lock Building Are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rt Are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ramatic Pla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nsory Are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oodworking Are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leeping Are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mall Manipulative Are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952880" y="175248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anguage Are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usic Are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ivate Spac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cience Are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th Are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echnology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ating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ross Moto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Slide Number Placeholder 1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3AE8E-3757-4E4D-BD9E-E954ADA894EB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tator Toys or Activities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pectator toy – one dimensional – battery operated truck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ctivities – multidimensional, multifaceted, exploratory, non-sexist, multicultural, non-violen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urchase through cooperatives to get best pric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plenish consumable supplies, accept donations, be creative and resourcefu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Slide Number Placeholder 1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1809D-40D3-4EDB-8274-9FEE9998F337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sign Your Preschoo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52280" y="175248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You will design your own preschool using the guidelines in the textbook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1"/>
              </a:rPr>
              <a:t>Design Your Classroom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3" name="Content Placeholder 5" descr=""/>
          <p:cNvPicPr/>
          <p:nvPr/>
        </p:nvPicPr>
        <p:blipFill>
          <a:blip r:embed="rId2"/>
          <a:stretch/>
        </p:blipFill>
        <p:spPr>
          <a:xfrm>
            <a:off x="4114800" y="1828800"/>
            <a:ext cx="4191120" cy="3852720"/>
          </a:xfrm>
          <a:prstGeom prst="rect">
            <a:avLst/>
          </a:prstGeom>
          <a:ln w="0">
            <a:noFill/>
          </a:ln>
        </p:spPr>
      </p:pic>
      <p:sp>
        <p:nvSpPr>
          <p:cNvPr id="174" name="Slide Number Placeholder 1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677CF-46B9-4DC3-9222-30E518FCB519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440" y="-15264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urriculum –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signing Backward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1532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ow do you make the perfect apple pie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et’s work backwards to determine the steps necessary to make a perfect apple pi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orking backwards to make sure we offer various learning activities to reach our program goals while attending to the whole child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Slide Number Placeholder 1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F7F65-6754-4B91-A1DC-024816CF8369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does “Whole” child mean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velop positive self-concept, independence, problem solving skills,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spect and understand cultural diversity, respect individualit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velop effective language skills, positive social skills, and the relationship between people, events and object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Slide Number Placeholder 1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BF254-8CF0-4F8C-9101-112510B3C014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Steps in Curriculum Planning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earning as seen as a constant process of exploring and questioning the environmen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sider learning styles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mergent curriculum – “emerges” from the child’s interest and experienc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mes – one main topic or idea around which the classroom activities are planne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ebbing – outline major concepts (ideas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lock plan – overall view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esson plan – individual learning experiences that make up the block pla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Slide Number Placeholder 1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8815D-D027-4DC1-A6C4-E8F5CEABB3E8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ebbing or Concept Mapp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Oval 3"/>
          <p:cNvSpPr/>
          <p:nvPr/>
        </p:nvSpPr>
        <p:spPr>
          <a:xfrm>
            <a:off x="3505320" y="3200400"/>
            <a:ext cx="2209680" cy="144792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87" name="Straight Arrow Connector 5"/>
          <p:cNvCxnSpPr>
            <a:stCxn id="186" idx="7"/>
          </p:cNvCxnSpPr>
          <p:nvPr/>
        </p:nvCxnSpPr>
        <p:spPr>
          <a:xfrm flipV="1">
            <a:off x="5391000" y="2666160"/>
            <a:ext cx="705240" cy="747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88" name="Straight Arrow Connector 7"/>
          <p:cNvCxnSpPr>
            <a:stCxn id="186" idx="1"/>
          </p:cNvCxnSpPr>
          <p:nvPr/>
        </p:nvCxnSpPr>
        <p:spPr>
          <a:xfrm flipH="1" flipV="1">
            <a:off x="3047400" y="2818800"/>
            <a:ext cx="781560" cy="594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89" name="Straight Arrow Connector 9"/>
          <p:cNvCxnSpPr>
            <a:stCxn id="186" idx="3"/>
          </p:cNvCxnSpPr>
          <p:nvPr/>
        </p:nvCxnSpPr>
        <p:spPr>
          <a:xfrm flipH="1">
            <a:off x="3200040" y="4435200"/>
            <a:ext cx="629280" cy="670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90" name="Straight Arrow Connector 11"/>
          <p:cNvCxnSpPr/>
          <p:nvPr/>
        </p:nvCxnSpPr>
        <p:spPr>
          <a:xfrm>
            <a:off x="5715000" y="4191120"/>
            <a:ext cx="838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91" name="Oval 12"/>
          <p:cNvSpPr/>
          <p:nvPr/>
        </p:nvSpPr>
        <p:spPr>
          <a:xfrm>
            <a:off x="2057400" y="2133720"/>
            <a:ext cx="1447920" cy="906480"/>
          </a:xfrm>
          <a:prstGeom prst="ellipse">
            <a:avLst/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Oval 13"/>
          <p:cNvSpPr/>
          <p:nvPr/>
        </p:nvSpPr>
        <p:spPr>
          <a:xfrm>
            <a:off x="2057400" y="4770360"/>
            <a:ext cx="1143000" cy="639720"/>
          </a:xfrm>
          <a:prstGeom prst="ellipse">
            <a:avLst/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Oval 14"/>
          <p:cNvSpPr/>
          <p:nvPr/>
        </p:nvSpPr>
        <p:spPr>
          <a:xfrm>
            <a:off x="6134040" y="2286000"/>
            <a:ext cx="1104840" cy="830160"/>
          </a:xfrm>
          <a:prstGeom prst="ellipse">
            <a:avLst/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Oval 15"/>
          <p:cNvSpPr/>
          <p:nvPr/>
        </p:nvSpPr>
        <p:spPr>
          <a:xfrm>
            <a:off x="6553080" y="4313160"/>
            <a:ext cx="1238400" cy="914400"/>
          </a:xfrm>
          <a:prstGeom prst="ellipse">
            <a:avLst/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TextBox 16"/>
          <p:cNvSpPr/>
          <p:nvPr/>
        </p:nvSpPr>
        <p:spPr>
          <a:xfrm>
            <a:off x="4114800" y="36576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em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TextBox 17"/>
          <p:cNvSpPr/>
          <p:nvPr/>
        </p:nvSpPr>
        <p:spPr>
          <a:xfrm>
            <a:off x="6248520" y="2546280"/>
            <a:ext cx="125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Concep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TextBox 18"/>
          <p:cNvSpPr/>
          <p:nvPr/>
        </p:nvSpPr>
        <p:spPr>
          <a:xfrm>
            <a:off x="6534000" y="4616280"/>
            <a:ext cx="125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Concep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TextBox 19"/>
          <p:cNvSpPr/>
          <p:nvPr/>
        </p:nvSpPr>
        <p:spPr>
          <a:xfrm>
            <a:off x="2181240" y="4937040"/>
            <a:ext cx="125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Concep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TextBox 20"/>
          <p:cNvSpPr/>
          <p:nvPr/>
        </p:nvSpPr>
        <p:spPr>
          <a:xfrm>
            <a:off x="2271600" y="2432160"/>
            <a:ext cx="125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Concep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200" name="Straight Arrow Connector 22"/>
          <p:cNvCxnSpPr/>
          <p:nvPr/>
        </p:nvCxnSpPr>
        <p:spPr>
          <a:xfrm flipH="1">
            <a:off x="1983960" y="2985840"/>
            <a:ext cx="419760" cy="541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01" name="Straight Arrow Connector 24"/>
          <p:cNvCxnSpPr/>
          <p:nvPr/>
        </p:nvCxnSpPr>
        <p:spPr>
          <a:xfrm flipH="1">
            <a:off x="1447200" y="2625480"/>
            <a:ext cx="61020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02" name="Straight Arrow Connector 26"/>
          <p:cNvCxnSpPr/>
          <p:nvPr/>
        </p:nvCxnSpPr>
        <p:spPr>
          <a:xfrm>
            <a:off x="2809440" y="3026880"/>
            <a:ext cx="391320" cy="63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03" name="Oval 27"/>
          <p:cNvSpPr/>
          <p:nvPr/>
        </p:nvSpPr>
        <p:spPr>
          <a:xfrm>
            <a:off x="457200" y="2854440"/>
            <a:ext cx="1295280" cy="803160"/>
          </a:xfrm>
          <a:prstGeom prst="ellipse">
            <a:avLst/>
          </a:prstGeom>
          <a:solidFill>
            <a:srgbClr val="d9d9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arning Objectives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Oval 28"/>
          <p:cNvSpPr/>
          <p:nvPr/>
        </p:nvSpPr>
        <p:spPr>
          <a:xfrm>
            <a:off x="1324080" y="3505320"/>
            <a:ext cx="1295280" cy="801720"/>
          </a:xfrm>
          <a:prstGeom prst="ellipse">
            <a:avLst/>
          </a:prstGeom>
          <a:solidFill>
            <a:srgbClr val="d9d9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arning Objectives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Oval 29"/>
          <p:cNvSpPr/>
          <p:nvPr/>
        </p:nvSpPr>
        <p:spPr>
          <a:xfrm>
            <a:off x="2457360" y="3624120"/>
            <a:ext cx="1295640" cy="803520"/>
          </a:xfrm>
          <a:prstGeom prst="ellipse">
            <a:avLst/>
          </a:prstGeom>
          <a:solidFill>
            <a:srgbClr val="d9d9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arning Objectives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Slide Number Placeholder 1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E1B18-B688-466F-8B48-A370C93CE972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8T21:47:45Z</dcterms:created>
  <dc:creator>Parkway</dc:creator>
  <dc:description/>
  <dc:language>en-US</dc:language>
  <cp:lastModifiedBy>lherring</cp:lastModifiedBy>
  <cp:lastPrinted>2013-01-31T19:21:07Z</cp:lastPrinted>
  <dcterms:modified xsi:type="dcterms:W3CDTF">2013-12-24T16:20:59Z</dcterms:modified>
  <cp:revision>37</cp:revision>
  <dc:subject/>
  <dc:title>Designing the Environment, Curriculum and Activities</dc:title>
</cp:coreProperties>
</file>