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jpeg" ContentType="image/jpeg"/>
  <Override PartName="/ppt/media/image6.wmf" ContentType="image/x-wmf"/>
  <Override PartName="/ppt/media/image11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wmf" ContentType="image/x-wmf"/>
  <Override PartName="/ppt/media/image4.jpeg" ContentType="image/jpeg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067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12DF3-B082-4478-B3AB-5FB0BED49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7EA5D-A40A-4D6B-9A8A-ED87E2C6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CF8E4-F268-4533-80B5-112AF3754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5112B-BBD0-4848-BC34-61BC8B146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18FC-29FF-4DB3-ABC1-267198FE5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608B-A664-4BE5-ADFF-9EBE0917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4DC6-2AEE-4E13-9357-B885B1C4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E21E4-9960-409E-9AD3-9BB432F9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D8C6-D36C-46B6-BBCF-025D27AB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A021-3B82-4D80-A20F-3772F44F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5B4F1-BF9C-43A3-A3EE-D874A5A6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3C80A-40AF-4B31-8DD3-8A416E50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30B0-CB23-4E21-A45C-1994C464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4CB92-B5E0-4F3B-A8C4-3B5253A2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7D4EC-6EE2-447A-85A4-DDB650F6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D78B-817C-4BA5-B2B6-DD52A3B5E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E413-4047-4C5A-AE78-E8E26EA29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7CD68-D156-42F0-9B20-FC91953A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5002F-F0E6-4121-AEE4-5D170173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140B4-C204-4508-9206-FEDA2B41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AEB88-FE7C-4773-8233-049B02DE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1DE4E-60AC-4803-9D19-87DD0F00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656FB-33DA-416A-8FF9-6AD51C3F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B475E-5EC2-4E2B-AC99-4AD30C13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7B65-298D-4A1F-9BC4-B03710E743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2E41-F070-442F-B18C-259A82DA6C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mazon.com/exec/obidos/tg/stores/detail/-/toys/B00005V95K/ref=br_fq_t_abl_1/102-2058243-3627332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mazon.com/exec/obidos/tg/detail/-/B00005BUSZ/ref=br_fq_t_glbl_3/102-2058243-3627332?v=glance&amp;s=toys&amp;n=280372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mazon.com/exec/obidos/tg/detail/-/B00005NN3P/qid=1048687903/br=1-7/ref=br_lf_t_7/102-2058243-3627332?v=glance&amp;s=toys&amp;n=497366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wmf"/><Relationship Id="rId11" Type="http://schemas.openxmlformats.org/officeDocument/2006/relationships/image" Target="../media/image14.wmf"/><Relationship Id="rId12" Type="http://schemas.openxmlformats.org/officeDocument/2006/relationships/image" Target="../media/image15.wmf"/><Relationship Id="rId13" Type="http://schemas.openxmlformats.org/officeDocument/2006/relationships/image" Target="../media/image16.wmf"/><Relationship Id="rId14" Type="http://schemas.openxmlformats.org/officeDocument/2006/relationships/image" Target="../media/image15.wmf"/><Relationship Id="rId15" Type="http://schemas.openxmlformats.org/officeDocument/2006/relationships/image" Target="../media/image17.wmf"/><Relationship Id="rId16" Type="http://schemas.openxmlformats.org/officeDocument/2006/relationships/image" Target="../media/image15.wmf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Age-Appropriate Toys</a:t>
            </a: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-990720" y="4419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Child Development I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Unit 2: Creating Stimulating Environments for Child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Instructional Strategy 4 – Age -Appropriate Toy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10- to 14-year-old child</a:t>
            </a:r>
            <a:br>
              <a:rPr sz="4400"/>
            </a:b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What do these toys enhance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bbies and scientific activities are ideal for this age group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uter gam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wing, knitting, needlework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croscopes/telescop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able and board gam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orts equipmen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bby collection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 thinking why these toys are age appropriate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Picture 5" descr="B000087H7T"/>
          <p:cNvPicPr/>
          <p:nvPr/>
        </p:nvPicPr>
        <p:blipFill>
          <a:blip r:embed="rId1"/>
          <a:stretch/>
        </p:blipFill>
        <p:spPr>
          <a:xfrm>
            <a:off x="6248520" y="3686040"/>
            <a:ext cx="230508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ge-Appropriate Toys Assign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440" y="1828440"/>
            <a:ext cx="39625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arch the internet for five toys appropriate to each age leve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py and paste the picture into your Word document.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scribe the toy and why it is appropriat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ke sure your name is on your pape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int and turn in to m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800240" y="1828800"/>
            <a:ext cx="3886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ge level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ewborn – 1 yea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1 year – 2 yea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2 – 5 yea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5 – 9 yea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10 – 14 yea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structional Activity_2_Age-Appropriate Toys Assignment.docx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Newborn to l-year-old bab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hoose brightly-colored, lightweight toys that appeal to your baby's sight, hearing and touch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loth, plastic or board books with large pictures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Large blocks of wood or plastic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ots and pans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attles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oft, washable animals, dolls or balls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right, movable objects that are out of baby's reach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usy boards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loating bath toys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queeze toys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4" descr="B00005V95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84800" y="1981080"/>
            <a:ext cx="18068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Quick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rite down five toys that are appropriate for newborn to one year olds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y are these appropriate for children until age on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1- to 2-year-old toddl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oys for this age group should be safe and be able to withstand a toddler's curious natur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oth, plastic or board books with large picture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urdy doll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Kiddy car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usical top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esting block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ush and pull toys (remember - no long strings)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acking toy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oy telephones (without cords)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B00005BUSZ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1447920"/>
            <a:ext cx="251460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Quick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are five examples of toys appropriate for a 1 or 2 year ol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t this age, what do they “have” that will help them lear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2- to 5-year-old preschool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oys for this age group can be creative or imitate the activity of parents and older children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ooks (short stories or action stories)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lackboard and chalk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uilding block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rayons, nontoxic finger paints, clay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ammer and bench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ousekeeping toy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utdoor toys: sandbox (with a lid), slide, swing, playhouse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ransportation toys (tricycles, cars, wagons)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ape or record player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mple puzzles with large piece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ress-up clothe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ea party utensil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6" descr="B00005NN3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4343400"/>
            <a:ext cx="21114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Quick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nking of everything we have learned about the Creative Curriculum, list 10 toys that are appropriate for a 2-5 year ol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’s sh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5- to 9-year-old chil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oys for this age group should help your child develop new skills and creativity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lunt scissors, sewing set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ard game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octor and nurse kit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and puppet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all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icycles with helmet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raft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lectric train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per doll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Jump rope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oller skates with protective gear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ports equipmen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able game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20" descr="B00005OBCJ"/>
          <p:cNvPicPr/>
          <p:nvPr/>
        </p:nvPicPr>
        <p:blipFill>
          <a:blip r:embed="rId1"/>
          <a:stretch/>
        </p:blipFill>
        <p:spPr>
          <a:xfrm>
            <a:off x="6526080" y="2057400"/>
            <a:ext cx="1852920" cy="2895480"/>
          </a:xfrm>
          <a:prstGeom prst="rect">
            <a:avLst/>
          </a:prstGeom>
          <a:ln w="0">
            <a:noFill/>
          </a:ln>
        </p:spPr>
      </p:pic>
      <p:pic>
        <p:nvPicPr>
          <p:cNvPr id="122" name="DefaultOcx" descr=""/>
          <p:cNvPicPr/>
          <p:nvPr/>
        </p:nvPicPr>
        <p:blipFill>
          <a:blip r:embed="rId2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3" name="HTMLHidden1" descr=""/>
          <p:cNvPicPr/>
          <p:nvPr/>
        </p:nvPicPr>
        <p:blipFill>
          <a:blip r:embed="rId3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4" name="HTMLHidden2" descr=""/>
          <p:cNvPicPr/>
          <p:nvPr/>
        </p:nvPicPr>
        <p:blipFill>
          <a:blip r:embed="rId4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5" name="HTMLHidden3" descr=""/>
          <p:cNvPicPr/>
          <p:nvPr/>
        </p:nvPicPr>
        <p:blipFill>
          <a:blip r:embed="rId5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6" name="HTMLHidden4" descr=""/>
          <p:cNvPicPr/>
          <p:nvPr/>
        </p:nvPicPr>
        <p:blipFill>
          <a:blip r:embed="rId6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7" name="HTMLHidden5" descr=""/>
          <p:cNvPicPr/>
          <p:nvPr/>
        </p:nvPicPr>
        <p:blipFill>
          <a:blip r:embed="rId7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8" name="HTMLHidden6" descr=""/>
          <p:cNvPicPr/>
          <p:nvPr/>
        </p:nvPicPr>
        <p:blipFill>
          <a:blip r:embed="rId8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9" name="HTMLHidden7" descr=""/>
          <p:cNvPicPr/>
          <p:nvPr/>
        </p:nvPicPr>
        <p:blipFill>
          <a:blip r:embed="rId9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0" name="HTMLHidden8" descr=""/>
          <p:cNvPicPr/>
          <p:nvPr/>
        </p:nvPicPr>
        <p:blipFill>
          <a:blip r:embed="rId10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1" name="HTMLHidden9" descr=""/>
          <p:cNvPicPr/>
          <p:nvPr/>
        </p:nvPicPr>
        <p:blipFill>
          <a:blip r:embed="rId11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2" name="HTMLHidden10" descr=""/>
          <p:cNvPicPr/>
          <p:nvPr/>
        </p:nvPicPr>
        <p:blipFill>
          <a:blip r:embed="rId12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3" name="HTMLHidden11" descr=""/>
          <p:cNvPicPr/>
          <p:nvPr/>
        </p:nvPicPr>
        <p:blipFill>
          <a:blip r:embed="rId13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4" name="HTMLHidden12" descr=""/>
          <p:cNvPicPr/>
          <p:nvPr/>
        </p:nvPicPr>
        <p:blipFill>
          <a:blip r:embed="rId14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5" name="HTMLHidden13" descr=""/>
          <p:cNvPicPr/>
          <p:nvPr/>
        </p:nvPicPr>
        <p:blipFill>
          <a:blip r:embed="rId15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6" name="HTMLHidden14" descr=""/>
          <p:cNvPicPr/>
          <p:nvPr/>
        </p:nvPicPr>
        <p:blipFill>
          <a:blip r:embed="rId16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Quick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nk of a toy that would enhance 5-9 year olds that would enhance each area of development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cial –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motional 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gnitive –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hysical 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gnitive 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6T13:56:38Z</dcterms:created>
  <dc:creator>jskidmore</dc:creator>
  <dc:description/>
  <dc:language>en-US</dc:language>
  <cp:lastModifiedBy>lherring</cp:lastModifiedBy>
  <cp:lastPrinted>2013-01-31T19:11:54Z</cp:lastPrinted>
  <dcterms:modified xsi:type="dcterms:W3CDTF">2013-12-24T16:19:10Z</dcterms:modified>
  <cp:revision>13</cp:revision>
  <dc:subject/>
  <dc:title>Age-Appropriate Toys </dc:title>
</cp:coreProperties>
</file>