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8F1-038A-48F1-8B7C-D52C83C3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205-3081-4D40-92A8-CEB39159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1270-6611-47F8-8B67-6EB5371B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0BE9-1398-4EF4-95AF-0893A337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3147-2118-405E-BA6A-82BFE0BB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6C27-76F9-4F95-9694-96EE6C16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6279-52AB-45BD-9705-55962708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3A94-335D-493B-A385-17223C4F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D030-0F6F-4ACD-B4C3-44253483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0916-631C-4C1E-92AB-2F36FC9A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BFC7-522F-4465-B300-38D2F068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D2D-B6EF-4567-836F-D0714BCD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AD4B-C8C1-42A6-B1EE-59BC1E8F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66C1-8052-4D93-B761-3439826B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2BB6-D9DB-41EF-A931-57828A34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5FB9-D170-4962-BE43-BAF7ED1B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F9B7-CA14-4C20-8612-6382BAC6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564-2A19-444E-8931-A73EFDF7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83F-466D-4686-A555-21E42AEA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99F-B713-40D7-8383-E128DC7B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0FB-A4CF-435C-B54E-7AB30DD1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C33-6835-435E-B5F5-54AE0B60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9FB-969D-4D61-A410-172CB54F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6746-8C53-4D18-861B-1A1D5C82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081B-E101-4281-8382-7FF80D06C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499C-D8BB-4E28-921C-AD6F55BC7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xceptional Learn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68580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ild Development I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it 2 - Creating Stimulating Environments for Childr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structional Activity 6- Exceptional Learners PowerPoint Student Worksheet and Acti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alth Disord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 Health Need - Illness that __________ over a period of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s: allergies, arthritis, asthma, cystic fibrosis, diabetes, epilepsy, hemophilia and leukem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gnitive Disabi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gnitive Disability - _____________ functioning is significantly ___________ the developmental milestones for his/her 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_______  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Disabi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rning Disabilities - Having a problem with one or more _____________ skills of lear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ing Deco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ing Comprehen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th Reaso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th Compu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tention Deficit Disorder (ADD), Attention Deficit ________________ Disorder (ADH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ategies used in the classroom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/Emotional Impair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al _________ - Condition that affects one’s _______/emotional fun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s: Autis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fted- Having exceptional skills in one or more of 6 are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ve or Productive Think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l Intellectual 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dership 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sychomotor 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fic Academic aptitu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sual or Performing A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ing Suggestions: Open-ended learning activities for ____________ children and small group activities to build ______________ ski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Everyth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440" y="18288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 _______, Disability 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“Jon, who has a wheelchair” or “Jon, who has brown eyes”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“The Wheelchair Kid” or “disabled Jo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’t make assump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strategies a chance to 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 _________ – with ______ and 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FUN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commodating All Learn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The Creative Curriculum, what other ways can we accommodate all learners to ensure student succes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6870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you to research and bring t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nex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las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Do you have any personal experience with any of these exceptionalities? List how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For next class, you will need to research one exceptionality you are curious about and describe five characteristics not listed in this PowerPoi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Plus detail five ways teachers can enhance learning for this disabil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Please list your citat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DEA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Individuals with Disabilities Education Ac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s that all states provide education for children who are _________ 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3-5 year old children with disabilities that require _______ education _______ much be provided with individual education pro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ants, toddlers, and preschoolers who might have a physical, sensory, cognitive, or emotional disability are guaranteed the right to a professional assessment under the Federal Education of Handicapped Children 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ing children with special needs in _____________ classroo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children to learn in the ________ ____________environment and gain skills by interacting with ot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ildren with disabilities have children who are nondisabled as role models which can lead to imi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EP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__________ ________ ______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 document written for each child with a diagnosed dis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sures that _______ child receives an appropriate edu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chers’ Ro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e part in ____________ children with special nee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with speech clinicians, school psychologists, health professionals, and other resource persons to design ___________program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urage parents to participate in their child’s education. It is their _______. Find out what they are feeling as well as think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 program decisions on input from several resources including parents, other professionals, and personal ____________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______ Disord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aring Impairment - Problem in one or more parts of the ear; prevents child from hearing adequate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aching Suggestions: Speak clearly in a _________ volume and speed while looking into the child’s eyes. ______ and wait for a response after you spea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ech Disord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__ -  Cannot be understood by teachers or pe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ech ___________- Interference with specific sounds or sound ble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____ Problems -  Most often omissions, distortions, or substitutions of _______ or _________ or bo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_ - Repetition, hesitation, or prolongation of wo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ice Disorders - Abnormal pitch, loudness, flexibility, and qu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aching Suggestions: ________good voice characteristics. Plan activities so all children will experience succe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ision Disord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ual Impairments - Any eye or nerve problem that prevents people from seeing normal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 Identification: squinting, crossed eyes, adjusting head in awkward positions, excessive eye rubbing, and ___________ blin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s: omblyopia, glaucoma, nearsightedness, farsightedness, and color defici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ing Suggestions: Hang children’s work at eye level. Keep large print books. __________ children to describe what they _________ using their other __________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_____ Disabi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s: cerebral palsy, spina bifida, muscular dystrophy, and ampu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aching Suggestions: ______ chairs to accommodate child. Serve finger foods as often as possible for snack. _________ all carpeting or rugs to floor so child does not slip or trip on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20:06:27Z</dcterms:created>
  <dc:creator>Parkway</dc:creator>
  <dc:description/>
  <dc:language>en-US</dc:language>
  <cp:lastModifiedBy>lherring</cp:lastModifiedBy>
  <dcterms:modified xsi:type="dcterms:W3CDTF">2013-12-24T16:10:40Z</dcterms:modified>
  <cp:revision>19</cp:revision>
  <dc:subject/>
  <dc:title>Disabilities</dc:title>
</cp:coreProperties>
</file>