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3BF-60CA-4FBF-A108-45DB04E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697-6652-4AE2-8CC5-F5930EF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FED-0EE9-4CD4-93BF-05923C33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FCB-6C43-4AAC-ABEA-AA52FC15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4F3-7F31-4A6A-9772-E399E948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FF6D-412D-4081-9670-65C5CEB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904-F00B-495E-A9DE-2F4FCAFB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C51D-7956-456C-995F-9183870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F9E-57A7-4EBD-84E7-CE2D85A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CAD0-9C2B-42C2-B557-79F4B0C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BBC-73A9-40A1-A2F8-B00CBDD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F09-2D1B-48DB-ABC7-DEC5D40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3375-9CB6-4DA7-9B40-24D26A0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E489-1106-4508-B009-740A4EB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BC93-D99B-4D8C-BA98-7F901D7C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932-AD28-4E15-ACA0-87C44F46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8FAA-40C6-4BCE-B900-36154AEB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130-4CDD-4018-AB15-97BA1B6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5F4-F91A-44CF-B6D1-3C59724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858-2186-4CA2-8840-6239CC0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07-281D-4C3F-86D2-54DF255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0A1-671F-41AB-B52F-640CF4D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F74-BC92-404A-967D-B473E88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C4D-CF76-4F35-8403-190728D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1_The Creative Curriculum Power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047-3A10-489F-ADB8-D38784B21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al Strategy_1_The Creative Curriculum Power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838D-B2BE-4874-A9B8-E88505AE7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estandards.org/the-standard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restandards.org/the-standard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72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Creative Curriculum for Prescho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 2: Creating Stimulating Environments for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ructional Strategy 2 – The Creative Curriculum for Prescho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Creative Curriculum PowerPo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amily’s Ro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ies are the first and lifelong influence on a chi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and families can build partnerships to support children’s learning and develop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communication is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C5B-132D-441D-9009-D9A36DAF2A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 Content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/Emot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267080" y="16765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/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lish Language Acqui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66A8-CE66-422C-A820-4236FD5FB6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8 Objectives – Alignment w/ CC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1066680"/>
          <a:ext cx="6096240" cy="5400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cial-Emo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ulates own emotions and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travel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s to and understands increasingly complex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ablishes and sustains positive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balanc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language to express thoughts and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tes cooperatively and construct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gross-motor manipulative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appropriate conversational and other communic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fine-motor strength and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FBAE-BB82-4122-8FFA-9372D9D572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47920" y="152280"/>
          <a:ext cx="6095880" cy="5765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g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te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ositive approach to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honological awar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number concepts and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embers and connects exper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alpha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and describes spatial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classifications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print and its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ares and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ymbols and images to represent something not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rehends and responds to books and other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pat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emergent writing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05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A0BB-856D-437F-BCA0-5FA3EA0463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38080" y="304920"/>
          <a:ext cx="7086600" cy="576576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cience/T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ci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cientific inqui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about 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the visual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characteristics of liv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ws basic understanding of people and how they 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musical concepts and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physical properties of objects and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change related to familiar people or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dance and movement 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knowledge of the Earth’s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simple geographic 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es drama through actions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tools and other technology to perform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0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7C0-A749-454A-B128-BB0ECC6D64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838080" y="533520"/>
          <a:ext cx="2032200" cy="305424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glish Language A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gress in listening to and understanding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monstrates progress in speaking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3505320" y="1523880"/>
            <a:ext cx="4647960" cy="82548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orta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stery is not expected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3540240" y="2957400"/>
            <a:ext cx="4647960" cy="265428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s is on social/emotional development, self-regulation, developing interpersonal skills and exposure to content.  Research dictates age-appropriate instructional prac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CB0C-BCDE-4747-887B-7206465514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earning Enviro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ing point for implementing Creative Curriculu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hysical environment and the daily structure create classroo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ducive to teaching and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for experimentation and risk-free for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4CF-32A3-436A-A5D9-162F7C8292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lassroom is Comfortable and Attracti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365760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wants to spend time in a place that makes them feel comfortable and relax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time is spent in school, so the C.C. environment is homey, not institutio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y the message, “this is a fun and safe place to learn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B18-C5FB-4DFD-A97F-771B40754A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en (11) Ce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matic 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ys and 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4720" y="1599840"/>
            <a:ext cx="4041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nd an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ic and Mov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do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areas incorporate student interes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905120" y="5410080"/>
            <a:ext cx="655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centers are represented every d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752480" y="4773600"/>
            <a:ext cx="6683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nterest area incorporates language arts, math and sci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D11-58C1-48DA-B1D4-C779F0649D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2286000" y="1676520"/>
            <a:ext cx="4419720" cy="441936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ganization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e Creative Curriculum for Pre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048120" y="2514600"/>
            <a:ext cx="2971800" cy="289548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 rot="19288800">
            <a:off x="2133720" y="251424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hildren Develop and Le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86000" y="33526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6019560" y="33526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8"/>
          <p:cNvSpPr/>
          <p:nvPr/>
        </p:nvSpPr>
        <p:spPr>
          <a:xfrm flipH="1">
            <a:off x="3124080" y="5410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4100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1"/>
          <p:cNvSpPr/>
          <p:nvPr/>
        </p:nvSpPr>
        <p:spPr>
          <a:xfrm rot="2118600">
            <a:off x="3967920" y="2403000"/>
            <a:ext cx="26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rn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2"/>
          <p:cNvSpPr/>
          <p:nvPr/>
        </p:nvSpPr>
        <p:spPr>
          <a:xfrm rot="6522600">
            <a:off x="4626360" y="451512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hildren Le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3"/>
          <p:cNvSpPr/>
          <p:nvPr/>
        </p:nvSpPr>
        <p:spPr>
          <a:xfrm flipH="1" rot="28200">
            <a:off x="3124080" y="571500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4"/>
          <p:cNvSpPr/>
          <p:nvPr/>
        </p:nvSpPr>
        <p:spPr>
          <a:xfrm flipH="1" rot="4497000">
            <a:off x="1654200" y="4515840"/>
            <a:ext cx="26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mily’s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2666880" y="6095880"/>
            <a:ext cx="373392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895480" y="6172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and Re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429000" y="3048120"/>
            <a:ext cx="22096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matic Pl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ys and Gam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 and Wat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ic and Mov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2F5-B1BE-4A99-9E8D-C7776D5B3F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ry and Resear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 Piaget, Maslow, and Eriks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ened by Vygotsky and Gardn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 on learning, the brain, and resili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-based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priate for all students (including ESL and students with various abilities and disabiliti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2286000" y="4800600"/>
            <a:ext cx="5486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do you know about Piaget, Maslow, Erikson, Vygotsky and Gardn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down each theorist in your notebook and four facts you remember about each theorist.  Be ready to share with your partner in 10 minutes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F9E-77A5-4A95-87C1-9BF503FB31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ve Curriculum Purpos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19320" y="1523880"/>
            <a:ext cx="6095880" cy="4241880"/>
          </a:xfrm>
          <a:prstGeom prst="rect">
            <a:avLst/>
          </a:prstGeom>
          <a:solidFill>
            <a:srgbClr val="ff0000">
              <a:alpha val="65000"/>
            </a:srgbClr>
          </a:solidFill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ve, purposeful play is a vehicle for meaningful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velopment of social competence is a key focus for the preschool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iculum and assessment must be link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ies are partners in children’s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acher’s role is vital in connecting content, teaching, and lear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children, including those with special needs, can thrive in an appropriate preschool classroo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A234-BDFF-449E-ACE9-2F4E8C5160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hildren Develop and Lea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areas of development:  social/emotional, physical, cognitive, and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present with different needs:  gender, temperament, interests, life experiences, learning styles, culture, special needs,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mental Continuum used to observe children’s development, support learning, and track their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BF6A-5400-4903-9BEE-D1E15E0DBB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table group, describe FOUR things you would find at a beach.  Now using each of the four words plug them into how they are like the areas of development and describe why!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ra points for the “WOW” fa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895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development is like _______ because ___________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al/Emotional Development is like ___________ because 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gnitive development is like ____________ because 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 development is like _________ because _________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2B6D-9F6A-4766-ADF9-DD902226CD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o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engage in ongoing cycle of observing,    guiding learning, and assessing children’s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is basis for building relationships with children and planning appropriate instruction for each chi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guide children’s learning by using a variety of instructional strateg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track children’s progress using a systematic approa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s use assessment (data collection, observations, student work portfolio) to inform their decisions and ensure each child is making progr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F75-7C35-4295-9A3F-47719CF88E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Elements of Intentional Te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1143000"/>
          <a:ext cx="7421760" cy="4479840"/>
        </p:xfrm>
        <a:graphic>
          <a:graphicData uri="http://schemas.openxmlformats.org/drawingml/2006/table">
            <a:tbl>
              <a:tblPr/>
              <a:tblGrid>
                <a:gridCol w="3711600"/>
                <a:gridCol w="3710160"/>
              </a:tblGrid>
              <a:tr h="23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a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urposefu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when they use their knowledge of child development and content standards to decid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h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to teach includ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ite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the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ocial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Calibri"/>
                          <a:hlinkClick r:id="rId1"/>
                        </a:rPr>
                        <a:t>Common Core Standard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use knowledge of how children think and learn to determin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h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an experience is likely to b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eaningfu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to children.  Meaningful experienc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ild on what children already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quire problem sol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volve tool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ncourage children to interact with ot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eachers consider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etting: when and whe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experiences will be most effective.  These includ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terest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arge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mall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outines and trans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n the basis of their observations, teachers think ab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ho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best to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upport learn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 They use five teaching strategi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cknowledging and describ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xt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emonst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Giving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Box 1"/>
          <p:cNvSpPr/>
          <p:nvPr/>
        </p:nvSpPr>
        <p:spPr>
          <a:xfrm>
            <a:off x="1828800" y="57913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up into four groups – each person in the group is responsible for researching one bullet point and giving two examples of each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A0C-15CF-41A3-A331-64326C08A5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Common Co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link above to look at the Communication Arts and Math Common Core Standards for children to lea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B0E-E214-4C57-8744-F2D2CCC912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2:27:18Z</dcterms:created>
  <dc:creator>Clayton Public Schools</dc:creator>
  <dc:description/>
  <dc:language>en-US</dc:language>
  <cp:lastModifiedBy>lherring</cp:lastModifiedBy>
  <cp:lastPrinted>2013-01-31T18:36:58Z</cp:lastPrinted>
  <dcterms:modified xsi:type="dcterms:W3CDTF">2013-12-24T16:19:23Z</dcterms:modified>
  <cp:revision>169</cp:revision>
  <dc:subject/>
  <dc:title>The Creative Curriculum for PreSchool</dc:title>
</cp:coreProperties>
</file>