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1BC-AAF8-4E1B-8B96-1E15000E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47B-5B63-4EC0-87B4-77750A2C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148-4CF0-4E52-8003-31EAA298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7FD-3167-47C9-AC91-0A5FCDB2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E1E7-52BD-42C6-AF23-51F5969F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3DE6-16EC-4C14-91E5-975CBC8B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31CE-A315-46B2-9CE1-A5B8A799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7AB3-7157-4663-946F-C077958D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6C57-665A-4E36-9284-E84277A6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6159-A9F3-4A85-A2A8-288C23B3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BFE9-FE87-45AE-B372-779EB0F0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00E-05CA-40AB-98AF-5A886E3F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6DDF-B66C-4353-B5C6-D60D2D3D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37DC-E9A1-4677-BA97-857B6739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BB50-6113-461C-B688-5C34AABD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14E1-5590-4110-9B30-5069623E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D2C8-E80E-43BC-9F63-501FBC34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D76-67EE-4D1F-930F-CFE6E7EC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A94-5DD4-4158-86A1-3B60E963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54E-C1A4-4FC0-AC31-B1DB9310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88F-03E6-4CE5-BDF6-5AF655ED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88D-1975-4AAE-B162-08825EBF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02B-4199-42C0-A370-45D298F5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05A-438A-4D49-B30D-3BA1B22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6974-9F70-4965-9413-78B649C0D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3F45-5E5B-40E2-B2CD-6A07F5C2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xceptional Learn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68580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 Development 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2 - Creating Stimulating Environments for Childr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structional Activity 6- Exceptional Learners PowerPoint Student Worksheet an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alth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 Health Need - Illness that __________ over a period of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: allergies, arthritis, asthma, cystic fibrosis, diabetes, epilepsy, hemophilia and leuk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gnitive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gnitive Disability - _____________ functioning is significantly ___________ the developmental milestones for his/her 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_______ 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rning Disabilities - Having a problem with one or more _____________ skills of lear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ing Deco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ing Comprehen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h Reas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h Compu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ntion Deficit Disorder (ADD), Attention Deficit ________________ Disorder (ADH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ies used in the classroo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/Emotional Impair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al _________ - Condition that affects one’s _______/emotional fun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s: Aut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fted- Having exceptional skills in one or more of 6 are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ve or Productive Thin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 Intellectual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ership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ychomotor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 Academic aptitu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ual or Performing A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Suggestions: Open-ended learning activities for ____________ children and small group activities to build ______________ ski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Everyth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440" y="18288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 _______, Disability 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“Jon, who has a wheelchair” or “Jon, who has brown eyes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The Wheelchair Kid” or “disabled Jo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’t make assump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strategies a chance to 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_________ – with ______ and 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FU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commodating All Learn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The Creative Curriculum, what other ways can we accommodate all learners to ensure student succes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6870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you to research and bring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nex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las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Do you have any personal experience with any of these exceptionalities? List h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For next class, you will need to research one exceptionality you are curious about and describe five characteristics not listed in this Power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Plus detail five ways teachers can enhance learning for this disabil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Please list your cit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DEA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Individuals with Disabilities Education Ac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that all states provide education for children who are _________ 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3-5 year old children with disabilities that require _______ education _______ much be provided with individual education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ants, toddlers, and preschoolers who might have a physical, sensory, cognitive, or emotional disability are guaranteed the right to a professional assessment under the Federal Education of Handicapped Children 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ing children with special needs in _____________ classroo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children to learn in the ________ ____________environment and gain skills by interacting with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ren with disabilities have children who are nondisabled as role models which can lead to imi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EP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__________ ________ ______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 document written for each child with a diagnosed dis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sures that _______ child receives an appropriate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chers’ Ro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part in ____________ children with special nee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with speech clinicians, school psychologists, health professionals, and other resource persons to design ___________progra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urage parents to participate in their child’s education. It is their _______. Find out what they are feeling as well as think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 program decisions on input from several resources including parents, other professionals, and personal ____________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______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ring Impairment - Problem in one or more parts of the ear; prevents child from hearing adequat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ing Suggestions: Speak clearly in a _________ volume and speed while looking into the child’s eyes. ______ and wait for a response after you spea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ech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 -  Cannot be understood by teachers or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ech ___________- Interference with specific sounds or sound bl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 Problems -  Most often omissions, distortions, or substitutions of _______ or _________ or bo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 - Repetition, hesitation, or prolongation of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ice Disorders - Abnormal pitch, loudness, flexibility, and qu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aching Suggestions: ________good voice characteristics. Plan activities so all children will experience succ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sion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ual Impairments - Any eye or nerve problem that prevents people from seeing norm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 Identification: squinting, crossed eyes, adjusting head in awkward positions, excessive eye rubbing, and ___________ blin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: omblyopia, glaucoma, nearsightedness, farsightedness, and color defici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Suggestions: Hang children’s work at eye level. Keep large print books. __________ children to describe what they _________ using their other __________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_____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: cerebral palsy, spina bifida, muscular dystrophy, and ampu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ing Suggestions: ______ chairs to accommodate child. Serve finger foods as often as possible for snack. _________ all carpeting or rugs to floor so child does not slip or trip on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0:06:27Z</dcterms:created>
  <dc:creator>Parkway</dc:creator>
  <dc:description/>
  <dc:language>en-US</dc:language>
  <cp:lastModifiedBy>lherring</cp:lastModifiedBy>
  <dcterms:modified xsi:type="dcterms:W3CDTF">2013-12-24T16:10:40Z</dcterms:modified>
  <cp:revision>19</cp:revision>
  <dc:subject/>
  <dc:title>Disabilities</dc:title>
</cp:coreProperties>
</file>