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217D-849A-4FB4-9787-60252775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B033-7E38-4D76-8961-3E244A0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7664-2DD8-4073-A906-48ECE360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846B-DB4A-4B24-9DFF-43EA3203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FF3-C8B6-4284-BBFC-221ADF66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7D3F-E72C-49AD-925B-0BC4BD3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BEC-515D-4D15-A14D-7B79545A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B3D0-D24C-4EE7-8EF0-26E3771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438-6653-449A-A837-1413B71F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C599-9F75-4CE7-A0DF-A930C55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5D70-01A2-48FF-8416-A06DF48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E2AC-05D7-4F34-AF8E-6101AB2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7D9-8A12-4ED2-A0F5-0248D05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9EC3-3F11-4C24-A0F1-C59F92D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A6D-7505-4B02-9B22-DA152DB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E4CD-92F2-4142-B21C-3A9C65D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09CD-3A51-41D5-B199-2EB15408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5082-913F-4B2E-A0DC-3AAE756D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031D-A31F-4692-8754-98FB8173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5AE4-0C38-4198-89D8-0A0EE074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7432-3C50-4CEE-A2D6-55E9EED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326D-455A-4FF3-86D4-BDECF37E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176B-88D1-4BED-B150-3520AB87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9DE8-2331-4995-9C6A-03ABDC4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8F9-53A2-482D-8DD5-8662FC52B5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0C5-2EFE-4AB3-A06B-4B6C773882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stores/detail/-/toys/B00005V95K/ref=br_fq_t_abl_1/102-2058243-362733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05BUSZ/ref=br_fq_t_glbl_3/102-2058243-3627332?v=glance&amp;s=toys&amp;n=2803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05NN3P/qid=1048687903/br=1-7/ref=br_lf_t_7/102-2058243-3627332?v=glance&amp;s=toys&amp;n=4973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5.wmf"/><Relationship Id="rId15" Type="http://schemas.openxmlformats.org/officeDocument/2006/relationships/image" Target="../media/image17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Age-Appropriate Toys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990720" y="4419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Child Development I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Unit 2: Creating Stimulating Environments for Child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Instructional Strategy 4 – Age -Appropriate To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10- to 14-year-old chil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What do these toys enhan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bbies and scientific activities are ideal for this age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 gam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wing, knitting, needle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copes/telescop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 and board gam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equip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bby collec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thinking why these toys are age appropriat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5" descr="B000087H7T"/>
          <p:cNvPicPr/>
          <p:nvPr/>
        </p:nvPicPr>
        <p:blipFill>
          <a:blip r:embed="rId1"/>
          <a:stretch/>
        </p:blipFill>
        <p:spPr>
          <a:xfrm>
            <a:off x="6248520" y="3686040"/>
            <a:ext cx="23050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-Appropriate Toys Assign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8284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arch the internet for five toys appropriate to each age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py and paste the picture into your Word documen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 the toy and why it is appropri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e sure your name is on your pap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 and turn in to 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00240" y="18288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e level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wborn – 1 y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year – 2 y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– 5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 – 9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 – 14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ctional Activity_2_Age-Appropriate Toys Assignment.doc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ewborn to l-year-old bab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oose brightly-colored, lightweight toys that appeal to your baby's sight, hearing and touch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oth, plastic or board books with large pictur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blocks of wood or plastic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ts and pan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attl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, washable animals, dolls or ball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ight, movable objects that are out of baby's reach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sy boar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oating bath toy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queeze toy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B00005V95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4800" y="1981080"/>
            <a:ext cx="1806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down five toys that are appropriate for newborn to one year old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are these appropriate for children until age on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1- to 2-year-old todd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ys for this age group should be safe and be able to withstand a toddler's curious natu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oth, plastic or board books with large pictur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rdy dol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iddy car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ical to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sting block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sh and pull toys (remember - no long string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cking toy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y telephones (without cord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00005BUS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five examples of toys appropriate for a 1 or 2 year ol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is age, what do they “have” that will help them lear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2- to 5-year-old preschoo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ys for this age group can be creative or imitate the activity of parents and older childre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oks (short stories or action storie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lackboard and chalk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ilding block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ayons, nontoxic finger paints, cla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mmer and ben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usekeeping toy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utdoor toys: sandbox (with a lid), slide, swing, playhous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ortation toys (tricycles, cars, wagon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pe or record play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puzzles with large piec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ess-up cloth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 party utensi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B00005NN3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2111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of everything we have learned about the Creative Curriculum, list 10 toys that are appropriate for a 2-5 year 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’s sh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5- to 9-year-old ch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ys for this age group should help your child develop new skills and creativity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nt scissors, sewing s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rd gam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tor and nurse ki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 pupp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cycles with helm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f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ctric trai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per dol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mp rop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ller skates with protective ge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rts equip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 gam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0" descr="B00005OBCJ"/>
          <p:cNvPicPr/>
          <p:nvPr/>
        </p:nvPicPr>
        <p:blipFill>
          <a:blip r:embed="rId1"/>
          <a:stretch/>
        </p:blipFill>
        <p:spPr>
          <a:xfrm>
            <a:off x="6526080" y="2057400"/>
            <a:ext cx="185292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HTMLHidden2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HTMLHidden3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HTMLHidden4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7" name="HTMLHidden5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HTMLHidden6" descr=""/>
          <p:cNvPicPr/>
          <p:nvPr/>
        </p:nvPicPr>
        <p:blipFill>
          <a:blip r:embed="rId8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HTMLHidden7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HTMLHidden8" descr=""/>
          <p:cNvPicPr/>
          <p:nvPr/>
        </p:nvPicPr>
        <p:blipFill>
          <a:blip r:embed="rId10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HTMLHidden9" descr=""/>
          <p:cNvPicPr/>
          <p:nvPr/>
        </p:nvPicPr>
        <p:blipFill>
          <a:blip r:embed="rId1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HTMLHidden10" descr=""/>
          <p:cNvPicPr/>
          <p:nvPr/>
        </p:nvPicPr>
        <p:blipFill>
          <a:blip r:embed="rId1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3" name="HTMLHidden11" descr=""/>
          <p:cNvPicPr/>
          <p:nvPr/>
        </p:nvPicPr>
        <p:blipFill>
          <a:blip r:embed="rId1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4" name="HTMLHidden12" descr=""/>
          <p:cNvPicPr/>
          <p:nvPr/>
        </p:nvPicPr>
        <p:blipFill>
          <a:blip r:embed="rId1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HTMLHidden13" descr=""/>
          <p:cNvPicPr/>
          <p:nvPr/>
        </p:nvPicPr>
        <p:blipFill>
          <a:blip r:embed="rId1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HTMLHidden14" descr=""/>
          <p:cNvPicPr/>
          <p:nvPr/>
        </p:nvPicPr>
        <p:blipFill>
          <a:blip r:embed="rId1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 of a toy that would enhance 5-9 year olds that would enhance each area of developme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ve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ve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3:56:38Z</dcterms:created>
  <dc:creator>jskidmore</dc:creator>
  <dc:description/>
  <dc:language>en-US</dc:language>
  <cp:lastModifiedBy>lherring</cp:lastModifiedBy>
  <cp:lastPrinted>2013-01-31T19:11:54Z</cp:lastPrinted>
  <dcterms:modified xsi:type="dcterms:W3CDTF">2013-12-24T16:19:10Z</dcterms:modified>
  <cp:revision>13</cp:revision>
  <dc:subject/>
  <dc:title>Age-Appropriate Toys </dc:title>
</cp:coreProperties>
</file>