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1D3-5853-41B1-B0D5-1AFF4AF6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0F0-C886-40E2-9D51-D4B302D5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1A8-D931-4247-821F-D00CB0B4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4C3-09C0-4E5C-91C1-56327B26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0CED-FE4B-4430-A5B0-F5873858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9B86-BC24-49CD-9EFF-2C400FE2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CDA4-A617-4ADB-A879-2770C912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9B92-0128-43ED-BDCC-1DA1E569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041E-EF83-4452-A873-11DF0EE6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18E9-4A17-4C62-B07A-D304CE47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C96F-C96A-4C79-9A0D-6CE8CE74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629-473F-438C-B153-D5F18204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E8BB-1CA8-482C-A7FB-720C4570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A950-8C52-4DF9-BD5B-736B481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77F6-629A-427B-AC10-E4EF99FD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8BAE-3C4D-4623-B390-17B8611A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6B05-4414-4681-9B75-7C481AB5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056-EA1B-4738-85A2-287B9851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2BA-56F5-42C3-8B9B-B5C110E5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054-1465-4457-B13A-6F4EE351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7EE-08DF-4790-AB45-256840F9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EA3-AB24-4782-B757-D3DEF89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E94-E69B-4E39-84FD-872D2E96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05D-F2C1-4BE2-92CA-F4C451D9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al Strategy_1_The Creative Curriculum Power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DED2-5862-4A0D-B910-7AEAE4B8F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custGeom>
                  <a:avLst/>
                  <a:gdLst>
                    <a:gd name="textAreaLeft" fmla="*/ 0 w 806400"/>
                    <a:gd name="textAreaRight" fmla="*/ 806760 w 8064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custGeom>
                  <a:avLst/>
                  <a:gdLst>
                    <a:gd name="textAreaLeft" fmla="*/ 0 w 1210680"/>
                    <a:gd name="textAreaRight" fmla="*/ 1210680 w 12106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al Strategy_1_The Creative Curriculum Power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F7C5-D7E3-4472-BE1A-CF465EA4E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estandards.org/the-standards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orestandards.org/the-standard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057400"/>
            <a:ext cx="6400800" cy="1727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Creative Curriculum for Prescho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ld Development I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 2: Creating Stimulating Environments for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ructional Strategy 2 – The Creative Curriculum for Preschoo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Creative Curriculum PowerPoi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amily’s Ro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6781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ies are the first and lifelong influence on a chi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and families can build partnerships to support children’s learning and develop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n communication is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178-6C9A-4856-9388-86B273E5A3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 Content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/Emot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gni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267080" y="167652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ce/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lish Language Acqui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0A5D-2A12-4DF2-8FE1-E02B907C24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8 Objectives – Alignment w/ CC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3880" y="1066680"/>
          <a:ext cx="6096240" cy="5400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cial-Emo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ulates own emotions and behavi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traveling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ens to and understands increasingly complex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ablishes and sustains positive relation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balancing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language to express thoughts and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cipates cooperatively and constructiv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gross-motor manipulative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appropriate conversational and other communication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fine-motor strength and 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B8DC-4B62-40CF-A438-901D1170B7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47920" y="152280"/>
          <a:ext cx="6095880" cy="5765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g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te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th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ositive approach to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honological awar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number concepts and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members and connects exper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the alpha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and describes spatial relation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classifications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print and its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ares and meas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symbols and images to represent something not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rehends and responds to books and other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patte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emergent writing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05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CCCE-33B8-4A1E-A6E4-28188DCA55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838080" y="304920"/>
          <a:ext cx="7086600" cy="576576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cience/T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cial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scientific inqui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about 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the visual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the characteristics of liv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ws basic understanding of people and how they 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musical concepts and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the physical properties of objects and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change related to familiar people or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dance and movement 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the Earth’s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simple geographic know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drama through actions and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tools and other technology to perform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0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DD9E-9E82-4803-BC3B-586864CD09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838080" y="533520"/>
          <a:ext cx="2032200" cy="305424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glish Language Aqui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rogress in listening to and understanding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rogress in speaking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3"/>
          <p:cNvSpPr/>
          <p:nvPr/>
        </p:nvSpPr>
        <p:spPr>
          <a:xfrm>
            <a:off x="3505320" y="1523880"/>
            <a:ext cx="4647960" cy="825480"/>
          </a:xfrm>
          <a:prstGeom prst="rect">
            <a:avLst/>
          </a:prstGeom>
          <a:noFill/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orta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stery is not expected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3540240" y="2957400"/>
            <a:ext cx="4647960" cy="2654280"/>
          </a:xfrm>
          <a:prstGeom prst="rect">
            <a:avLst/>
          </a:prstGeom>
          <a:noFill/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s is on social/emotional development, self-regulation, developing interpersonal skills and exposure to content.  Research dictates age-appropriate instructional prac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34F-B0C3-4CAC-A1A0-9DAFC663F4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earning Enviro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ing point for implementing Creative Curriculu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hysical environment and the daily structure create classroom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ducive to teaching and lear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for experimentation and risk-free for lear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D3F6-3785-4219-AC8A-E4D588CB2B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Classroom is Comfortable and Attracti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365760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one wants to spend time in a place that makes them feel comfortable and relax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time is spent in school, so the C.C. environment is homey, not institution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y the message, “this is a fun and safe place to learn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8D8C-28D8-4639-9821-CB1C2C865C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en (11) Ce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matic 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ys and G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4720" y="1599840"/>
            <a:ext cx="4041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nd an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ic and Mov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do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 areas incorporate student interes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905120" y="5410080"/>
            <a:ext cx="6553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centers are represented every d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752480" y="4773600"/>
            <a:ext cx="6683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interest area incorporates language arts, math and sci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F14A-094D-484B-BE9D-5D58C37E98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2286000" y="1676520"/>
            <a:ext cx="4419720" cy="4419360"/>
          </a:xfrm>
          <a:prstGeom prst="pentag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ganization of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The Creative Curriculum for Pre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3048120" y="2514600"/>
            <a:ext cx="2971800" cy="2895480"/>
          </a:xfrm>
          <a:prstGeom prst="pentag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 rot="19288800">
            <a:off x="2133720" y="251424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hildren Develop and Lear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286000" y="33526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6019560" y="33526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8"/>
          <p:cNvSpPr/>
          <p:nvPr/>
        </p:nvSpPr>
        <p:spPr>
          <a:xfrm flipH="1">
            <a:off x="3124080" y="5410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54100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4956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1"/>
          <p:cNvSpPr/>
          <p:nvPr/>
        </p:nvSpPr>
        <p:spPr>
          <a:xfrm rot="2118600">
            <a:off x="3967920" y="2403000"/>
            <a:ext cx="26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rning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2"/>
          <p:cNvSpPr/>
          <p:nvPr/>
        </p:nvSpPr>
        <p:spPr>
          <a:xfrm rot="6522600">
            <a:off x="4626360" y="4515120"/>
            <a:ext cx="26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hildren Lear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3"/>
          <p:cNvSpPr/>
          <p:nvPr/>
        </p:nvSpPr>
        <p:spPr>
          <a:xfrm flipH="1" rot="28200">
            <a:off x="3124080" y="5715000"/>
            <a:ext cx="26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4"/>
          <p:cNvSpPr/>
          <p:nvPr/>
        </p:nvSpPr>
        <p:spPr>
          <a:xfrm flipH="1" rot="4497000">
            <a:off x="1654200" y="4515840"/>
            <a:ext cx="26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mily’s 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2666880" y="6095880"/>
            <a:ext cx="373392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2895480" y="6172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and Re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3429000" y="3048120"/>
            <a:ext cx="220968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matic Pla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ys and Gam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d and Wat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ic and Move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D576-D9FD-4D86-8EAA-F2B4852B2C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ory and Resear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 Piaget, Maslow, and Eriks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ngthened by Vygotsky and Gardn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arch on learning, the brain, and resilie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ngth-based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priate for all students (including ESL and students with various abilities and disabiliti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2286000" y="4800600"/>
            <a:ext cx="5486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do you know about Piaget, Maslow, Erikson, Vygotsky and Gardner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down each theorist in your notebook and four facts you remember about each theorist.  Be ready to share with your partner in 10 minutes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DDE1-C052-406F-82B4-36DA4ADE992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ve Curriculum Purpos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219320" y="1523880"/>
            <a:ext cx="6095880" cy="4241880"/>
          </a:xfrm>
          <a:prstGeom prst="rect">
            <a:avLst/>
          </a:prstGeom>
          <a:solidFill>
            <a:srgbClr val="ff0000">
              <a:alpha val="65000"/>
            </a:srgbClr>
          </a:solidFill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ructive, purposeful play is a vehicle for meaningful lear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velopment of social competence is a key focus for the preschool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iculum and assessment must be link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lies are partners in children’s lear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acher’s role is vital in connecting content, teaching, and lear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children, including those with special needs, can thrive in an appropriate preschool classroo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500F-15D3-47A7-985E-2F4CF7A131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hildren Develop and Lea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areas of development:  social/emotional, physical, cognitive, and 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present with different needs:  gender, temperament, interests, life experiences, learning styles, culture, special needs, es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mental Continuum used to observe children’s development, support learning, and track their progr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3598-879D-400B-8AEA-129A4CFAFA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table group, describe FOUR things you would find at a beach.  Now using each of the four words plug them into how they are like the areas of development and describe why!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ra points for the “WOW” fac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895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 development is like _______ because ____________________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ial/Emotional Development is like ___________ because _________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gnitive development is like ____________ because ________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age development is like _________ because _________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1202-A0AC-4725-A581-D8CCB6B68A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o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engage in ongoing cycle of observing,    guiding learning, and assessing children’s progr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tion is basis for building relationships with children and planning appropriate instruction for each chi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guide children’s learning by using a variety of instructional strateg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track children’s progress using a systematic approa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use assessment (data collection, observations, student work portfolio) to inform their decisions and ensure each child is making progr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DE16-CCE9-4951-B44C-587D78A266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Elements of Intentional Te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1143000"/>
          <a:ext cx="7421760" cy="4479840"/>
        </p:xfrm>
        <a:graphic>
          <a:graphicData uri="http://schemas.openxmlformats.org/drawingml/2006/table">
            <a:tbl>
              <a:tblPr/>
              <a:tblGrid>
                <a:gridCol w="3711600"/>
                <a:gridCol w="3710160"/>
              </a:tblGrid>
              <a:tr h="235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eachers ar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urposefu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when they use their knowledge of child development and content standards to decid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wh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to teach includ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Lite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thema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c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ocial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echn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Calibri"/>
                          <a:hlinkClick r:id="rId1"/>
                        </a:rPr>
                        <a:t>Common Core Standard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eachers use knowledge of how children think and learn to determin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wh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an experience is likely to b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eaningfu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to children.  Meaningful experienc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uild on what children already k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quire problem sol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nvolve tools and 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Encourage children to interact with ot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eachers consider th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etting: when and whe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experiences will be most effective.  These includ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nterest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Large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mall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outines and trans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n the basis of their observations, teachers think ab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ho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best to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upport learn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 They use five teaching strategi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cknowledging and describ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o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Ext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emonstra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Giving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Box 1"/>
          <p:cNvSpPr/>
          <p:nvPr/>
        </p:nvSpPr>
        <p:spPr>
          <a:xfrm>
            <a:off x="1828800" y="57913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ide up into four groups – each person in the group is responsible for researching one bullet point and giving two examples of each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3EF6-4265-4E2C-9782-AA477DBCED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Common Co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the link above to look at the Communication Arts and Math Common Core Standards for children to lea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A5BA-FCAD-46AF-A863-7AFB7CE279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2:27:18Z</dcterms:created>
  <dc:creator>Clayton Public Schools</dc:creator>
  <dc:description/>
  <dc:language>en-US</dc:language>
  <cp:lastModifiedBy>lherring</cp:lastModifiedBy>
  <cp:lastPrinted>2013-01-31T18:36:58Z</cp:lastPrinted>
  <dcterms:modified xsi:type="dcterms:W3CDTF">2013-12-24T16:19:23Z</dcterms:modified>
  <cp:revision>169</cp:revision>
  <dc:subject/>
  <dc:title>The Creative Curriculum for PreSchool</dc:title>
</cp:coreProperties>
</file>