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4716-53F9-4E74-A95F-512BFE62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303-5736-4062-B5F6-BBBE0442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80B-06FF-42AB-99AB-F6DA02F8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5764-D59D-4307-8A0A-FDB05ADD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E1A1-C347-4334-B094-01642685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7E51-3DA9-4606-8266-57E407F8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0A9C-F62E-4586-B403-F1D2E579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DEF7-05E3-4A27-BCA3-C002C700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A836-8FEB-4221-9EBE-ED10046A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CD7A-8A0A-406F-BAEE-86859516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76C9-1AF2-481A-953D-11B3993C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1026-ABDF-4C1E-A619-1C7D1190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6FA6-F46E-4FE3-B1F5-9A9F80A3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6FD4-1878-4538-BBD8-636AEE78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93A1-A829-46C9-B75A-8A389A5F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C2CB-BED3-4A0C-94C2-305AE2E8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3E81-2E20-4241-B49C-4E20C5E1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ECD-C9C7-4069-BA1A-5AA3663D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0F7C-EAAF-43BD-9C3F-3FF5ED1D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BD6-31EA-4E6A-9157-C3D69DAD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029-E407-4F14-8D2C-BA87E7F6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1E3-F1AE-4F02-ACEA-5F7DF2F3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394A-4CB4-404E-8863-E7C81641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4AB-752A-42F0-A5CE-E3C45EB5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F0C8-3FF3-418A-A5AA-FB8D308A0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B03E-93EF-428C-9E9F-62F9A9CD0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xceptional Learn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ild Development I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it 2 - Creating Stimulating Environments for Childr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structional Strategy 6 - Exceptional Learners PowerPoi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9028-530F-4004-AE3F-860541F6B1E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alth Disord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ronic Health Need - Illness that persists over a period of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s: allergies, arthritis, asthma, cystic fibrosis, diabetes, epilepsy, hemophilia and leukem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EEBE-896B-470C-BA82-544A190DC98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gnitive Disabi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gnitive Disability - Intellectual functioning is significantly below the developmental milestones for his/her 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Down Syndro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93A2-5B40-4ECD-B092-5A3042D7110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Disabi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rning Disabilities - Having a problem with one or more basic skills of lear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ing Deco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ing Comprehen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th Reaso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th Compu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tention Deficit Disorder (ADD), Attention Deficit Hyperactive Disorder (ADH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ategies used in the classroom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1C07-A0F8-4AC4-B3AB-891F1420DF7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/Emotional Impair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al Disorder - Condition that affects one’s social/emotional fun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s: Autis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108B-7551-4929-9B51-B2FF17BAB00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if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fted= Having exceptional skills in one or more of 6 are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ve or Productive Think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l Intellectual 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dership 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sychomotor 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fic Academic aptitu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sual or Performing A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ing Suggestions: Open-ended learning activities for creative children and small group activities to build leadership ski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1E49-4A8B-427B-A4B7-491389B45D2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Everyth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440" y="18288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 First, Disability Seco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“Jon, who has a wheelchair” or “Jon, who has brown eyes”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“The Wheelchair Kid” or “disabled Jo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’t make assump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strategies a chance to 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 patient – with child and Yoursel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FUN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90C0-FA64-4070-82B7-0E531353013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commodating All Learn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The Creative Curriculum, what other ways can we accommodate all learners to ensure student succes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 Differ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fe Experiences and Cul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dividual Intere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glish Language Learn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399E-081B-4B7D-872C-142234676E4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DEA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Individuals with Disabilities Education Ac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s that all states provide education for children who are developmentally delay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3-5 year old children with disabilities that require special education services much be provided with individual education pro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ants, toddlers, and preschoolers who might have a physical, sensory, cognitive, or emotional disability are guaranteed the right to a professional assessment under the Federal Education of Handicapped Children 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D76A-FA22-47CF-A71D-C6584C893E5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l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ing children with special needs in regular classroo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children to learn in the least restrictive environment and gain skills by interacting with ot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ildren with disabilities have children who are nondisabled as role models which can lead to imi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B586-CF6C-4C57-B163-39D6CFA69AC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EP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Individualized Education Plan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gal document written for each child with a diagnosed dis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sures that each child receives an appropriate edu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6EE2-6752-4651-8146-FECE2CE9E60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chers’ Ro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e part in identifying children with special nee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with speech clinicians, school psychologists, health professionals, and other resource persons to design individual program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urage parents to participate in their child’s education. It is their right. Find out what they are feeling as well as think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 program decisions on input from several resources including parents, other professionals, and personal observ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1A37-2BFA-4CA1-B9EC-FD808A59A33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aring Disord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aring Impairment - Problem in one or more parts of the ear; prevents child from hearing adequate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aching Suggestions: Speak clearly in a normal volume and speed while looking into the child’s eyes. Pause and wait for a response after you spea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1F41-0C1A-455C-A0EE-F7BA9093923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ech Disord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articulate= Cannot be understood by teachers or pe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ech Impairments= Interference with specific sounds or sound ble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ticulation Problems= Most often omissions, distortions, or substitutions of vowels or consonants or bo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ttering= Repetition, hesitation, or prolongation of wo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ice Disorders= Abnormal pitch, loudness, flexibility, and qu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aching Suggestions: Model good voice characteristics. Plan activities so all children will experience succe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6996-3B19-444D-A749-E6E8A6408FD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ision Disord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ual Impairments - Any eye or nerve problem that prevents people from seeing normal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rly Identification: squinting, crossed eyes, adjusting head in awkward positions, excessive eye rubbing, and excessive blin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s: omblyopia, glaucoma, nearsightedness, farsightedness, and color defici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ing Suggestions: Hang children’s work at eye level. Keep large print books. Encourage children to describe what they remember using their other sens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0F10-4C11-438A-AE8F-67B55AFEDFD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ysical Disabi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s: cerebral palsy, spina bifida, muscular dystrophy, and ampu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aching Suggestions: Modify chairs to accommodate child. Serve finger foods as often as possible for snack. Secure all carpeting or rugs to floor so child does not slip or trip on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5A30-F3C0-433B-9F97-34A1BD99825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20:06:27Z</dcterms:created>
  <dc:creator>Parkway</dc:creator>
  <dc:description/>
  <dc:language>en-US</dc:language>
  <cp:lastModifiedBy>lherring</cp:lastModifiedBy>
  <dcterms:modified xsi:type="dcterms:W3CDTF">2013-12-24T16:21:15Z</dcterms:modified>
  <cp:revision>15</cp:revision>
  <dc:subject/>
  <dc:title>Disabilities</dc:title>
</cp:coreProperties>
</file>