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6.jpeg" ContentType="image/jpeg"/>
  <Override PartName="/ppt/media/image14.jpeg" ContentType="image/jpeg"/>
  <Override PartName="/ppt/media/image9.jpeg" ContentType="image/jpeg"/>
  <Override PartName="/ppt/media/image13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whoosh.wav" ContentType="audio/x-wav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7983-0477-4991-84ED-FC721A20C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DDD2-2F37-42D3-9AA2-36600D6F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9815-4352-46EB-980F-875C1AF9A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58AA-2662-43C7-8283-BC2E1C423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628E-3C87-42DB-AF12-3B4577C10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344F-0F03-453B-B399-728F7228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5FF3-6013-447C-8AA1-65445E4E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4945-35EA-486C-A68B-698F543F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2084-657A-4FDE-B49F-7B30CFC6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2EB4-E09D-48A2-A877-0870BBA4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A621-821A-4291-83EA-71A1155F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D8D8-77B7-4BCD-91DE-B2DC50EA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16C1-8F8D-4130-A832-D4190DF2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8FA04-13E9-47BF-8804-064B337D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904A-8ACD-44D4-B7BD-1FEFC644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70F6-A7A6-44FF-AE3C-447593221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FA63-A758-43F8-B059-A8BFCDE9E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13174-4587-448A-9C66-E8F36BFF3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F0520-0FDC-4184-BCAF-7CF0ECD0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8D7FB-0714-428B-965D-BF772014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3D0BC-6C59-4CA7-B064-2D5FC999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EBF9D-AABF-4E23-8E4C-79805784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8A48-F4C2-4DF6-A5F7-B55DD251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BFE06-2C47-461F-BCD9-D1F11F64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93ED8-30AB-405C-94BD-870435C2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EC9B5-7BDE-426E-A177-5F25D7B7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8821C-4D1B-47B0-A379-2B921344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5CF46-9B71-4BB3-ADEA-738AAC1F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B30FC-B50E-4A74-B2AA-869782C29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7EB13-F024-44A5-BA27-CBBDC9311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28EDE-3E4E-4CC4-AD6A-31218D97D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9956A-CA18-48F9-8B0B-81D7D5C2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7FB2B-3E96-4A64-A32D-651D8CA3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FB0F-B92B-4FE5-B187-2BE53591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A9C44-3D53-414F-ABFA-E52398AE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CF6CD-E8CA-4213-B6CE-B6DE44E4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61095-7840-455F-B917-9E891A90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B7CCC-D293-4A21-8B5A-DC9A1D14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06F8A-EBE1-4BF8-BC34-3D45451F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6102D-6710-4174-992A-221CBDF5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0481A-F69A-4150-8191-E6516483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A2960-A671-4FA9-9C2C-963C43DFF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ABF24-9E2B-4CB1-982E-520400F9E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690C8-BAD3-4CEC-A148-C9CDE236D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668C-132A-403C-9B3D-2BBDB398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174A0-A628-4AC3-A4F8-4238DCC0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78623-F9E4-4716-ACDE-108706C2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B0C14-BCF9-4322-90AA-863C8DA4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9BC4F-1B6E-471F-BE13-7E6B7ACE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92D2F-81B9-4252-B8E4-E6DAC150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C32D6-C49B-4716-97ED-42DDC3DB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D5F4F-5F9E-43E6-92A9-E4124E0B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BC22B-C5FE-4F1E-B04F-49266A1C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16560-2A3B-471B-B51D-EB220427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1C7B4-281C-4CF0-A3B0-053F8B41C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5C1C-821F-4761-BA55-FD98F8F7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B7933-ED7E-4D8F-8FBF-BE9A506BD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E6BA2-4E9A-449A-AF9A-A5D2BD861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B7F4D-420A-420A-B185-7B21D1E7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992FE-1FD6-4933-BEDE-739E0E66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E391E-79D4-4D50-A794-C35D238C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3C389-1AE2-45F2-86A6-27BE0F34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17501-B694-49BF-9AD9-E6429641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1A469-9209-49FB-BF5E-C808BC4E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A66F1-ABFD-4DE1-9CF0-2B705E34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ADF00-2AD8-48EE-9D51-D67BF905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8089-966E-427A-8F51-AA906DBA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EC7EA-F302-4A20-9A7D-1238446B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BA0A9-77DA-475D-A8BD-08D6DC7C2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28AAC-6965-40BB-99B8-29955EC10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84A39-8DF9-4782-BCB8-E39E66F27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F435B-C07D-4E2D-B2FA-A709D9C1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C1FF8-5DCF-4913-AB96-A91CF0E1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B9164-3EB9-4A90-8591-D93AB804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0D9D1-29DD-47D1-8B82-BA5BA35C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FF57E-7558-4187-A8A6-2A86D642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0B34B-89B7-4E7F-B846-C75EC669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800C-004B-4B0C-ABE1-CF373417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9A54B-117D-4B09-8E82-B18FFB9E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B41C4-F01C-4C55-9055-389C678D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15800-0F3B-4C98-B28D-25580943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ABCAA-6163-4F06-9B76-3FE4F3A6D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F7BF7-9C04-409F-A257-7ABB61AD2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D2D5-2F62-43DB-BAE5-F4AC1FFE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D5E9-D72A-42BC-8A92-85CC863E9E01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4357-7CA0-40C8-905B-D721BF4DF7BE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3B27-E99F-46C9-93A0-3633B79B27AE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9C9D-0A9D-4054-899F-99AE6342AEB4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0ED2-7677-45C1-84B7-28BB50E989A9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1FB3-278E-449B-915C-8555632B3C76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0C8A-17AC-431D-9F23-6D462BC25F7C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77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Child Development I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Unit 3: Observing Childr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Instructional Strategy 1 – Observing Young Children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OBSERVING YOUNG CHILDREN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761760" y="3428640"/>
            <a:ext cx="74674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ndara"/>
              </a:rPr>
              <a:t>Discuss what you think is happening with the children on the following slides: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457200" y="2590920"/>
            <a:ext cx="419112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Annie has difficulty sharing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Candara"/>
              </a:rPr>
              <a:t>OR</a:t>
            </a: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Annie never shares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ndara"/>
              </a:rPr>
              <a:t>Avoid making assumptions:</a:t>
            </a:r>
            <a:br>
              <a:rPr sz="4400"/>
            </a:br>
            <a:r>
              <a:rPr b="0" lang="en-US" sz="2800" spc="-1" strike="noStrike">
                <a:solidFill>
                  <a:srgbClr val="ffffff"/>
                </a:solidFill>
                <a:latin typeface="Candara"/>
              </a:rPr>
              <a:t>Which statement is correct?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9" name="Picture 8" descr="Image"/>
          <p:cNvPicPr/>
          <p:nvPr/>
        </p:nvPicPr>
        <p:blipFill>
          <a:blip r:embed="rId1"/>
          <a:stretch/>
        </p:blipFill>
        <p:spPr>
          <a:xfrm>
            <a:off x="5105520" y="255276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4" descr="http://www.drudion.org.uk/scarey_kids.jpg"/>
          <p:cNvPicPr/>
          <p:nvPr/>
        </p:nvPicPr>
        <p:blipFill>
          <a:blip r:embed="rId1"/>
          <a:stretch/>
        </p:blipFill>
        <p:spPr>
          <a:xfrm>
            <a:off x="4572000" y="2666880"/>
            <a:ext cx="3809880" cy="381024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Avoid labels:</a:t>
            </a:r>
            <a:br>
              <a:rPr sz="4400"/>
            </a:br>
            <a:r>
              <a:rPr b="0" lang="en-US" sz="2800" spc="-1" strike="noStrike">
                <a:solidFill>
                  <a:srgbClr val="ffffff"/>
                </a:solidFill>
                <a:latin typeface="Candara"/>
              </a:rPr>
              <a:t>Which statement is correct?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2" name="Text Box 5"/>
          <p:cNvSpPr/>
          <p:nvPr/>
        </p:nvSpPr>
        <p:spPr>
          <a:xfrm>
            <a:off x="685800" y="2133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304920" y="2500200"/>
            <a:ext cx="38098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my is me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my often acts out h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gressive feel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45684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ndara"/>
              </a:rPr>
              <a:t>Avoid conclusions you are not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ndara"/>
              </a:rPr>
              <a:t>qualified to make: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13320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6" descr="Picture of teacher helping child"/>
          <p:cNvPicPr/>
          <p:nvPr/>
        </p:nvPicPr>
        <p:blipFill>
          <a:blip r:embed="rId1"/>
          <a:stretch/>
        </p:blipFill>
        <p:spPr>
          <a:xfrm>
            <a:off x="4700520" y="2743200"/>
            <a:ext cx="4062600" cy="289548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7"/>
          <p:cNvSpPr/>
          <p:nvPr/>
        </p:nvSpPr>
        <p:spPr>
          <a:xfrm>
            <a:off x="250200" y="2209680"/>
            <a:ext cx="4196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lie can’t do anything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mself because he is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ngest in a large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y do everything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lie needs to develop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do things for him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57200" y="1600200"/>
            <a:ext cx="274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ndara"/>
              </a:rPr>
              <a:t>Don’t compare children: </a:t>
            </a:r>
            <a:br>
              <a:rPr sz="4000"/>
            </a:b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They develop at different rates.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Candara"/>
              </a:rPr>
              <a:t> Which statement is correct?</a:t>
            </a: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504720" y="81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7"/>
          <p:cNvSpPr/>
          <p:nvPr/>
        </p:nvSpPr>
        <p:spPr>
          <a:xfrm>
            <a:off x="685800" y="2286000"/>
            <a:ext cx="367344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my falls off his bike a l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8"/>
          <p:cNvSpPr/>
          <p:nvPr/>
        </p:nvSpPr>
        <p:spPr>
          <a:xfrm>
            <a:off x="688320" y="4305240"/>
            <a:ext cx="262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my must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ward. 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ride 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ke as well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ther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8" descr="C:\Users\hstpicard\Desktop\untitled.png"/>
          <p:cNvPicPr/>
          <p:nvPr/>
        </p:nvPicPr>
        <p:blipFill>
          <a:blip r:embed="rId1"/>
          <a:stretch/>
        </p:blipFill>
        <p:spPr>
          <a:xfrm>
            <a:off x="4419720" y="2743200"/>
            <a:ext cx="38862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871560" y="2514600"/>
            <a:ext cx="7408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ndara"/>
              </a:rPr>
              <a:t>Objective observations simply state the facts and are not based on opinions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743040" indent="-7430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ndara"/>
              </a:rPr>
              <a:t>It is important but difficult to remain objective at all time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BE OBJECTIVE!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Tab #3---Objective vs. Subjective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DO NOT BE SUBJECTIVE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920" y="2057040"/>
            <a:ext cx="50292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Subjective </a:t>
            </a:r>
            <a:r>
              <a:rPr b="0" lang="en-US" sz="4000" spc="-1" strike="noStrike">
                <a:solidFill>
                  <a:srgbClr val="000000"/>
                </a:solidFill>
                <a:latin typeface="Candara"/>
              </a:rPr>
              <a:t>observations state an </a:t>
            </a:r>
            <a:r>
              <a:rPr b="1" lang="en-US" sz="4000" spc="-1" strike="noStrike">
                <a:solidFill>
                  <a:srgbClr val="000000"/>
                </a:solidFill>
                <a:latin typeface="Candara"/>
              </a:rPr>
              <a:t>opinion </a:t>
            </a:r>
            <a:r>
              <a:rPr b="0" lang="en-US" sz="4000" spc="-1" strike="noStrike">
                <a:solidFill>
                  <a:srgbClr val="000000"/>
                </a:solidFill>
                <a:latin typeface="Candara"/>
              </a:rPr>
              <a:t>of the observer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380880" y="4648320"/>
            <a:ext cx="54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servations must b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olid facts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objecti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3" descr="C:\Documents and Settings\Bruce\My Documents\My Pictures\soft-clouds-blue-sky.jpg"/>
          <p:cNvPicPr/>
          <p:nvPr/>
        </p:nvPicPr>
        <p:blipFill>
          <a:blip r:embed="rId1"/>
          <a:stretch/>
        </p:blipFill>
        <p:spPr>
          <a:xfrm>
            <a:off x="5334120" y="1828800"/>
            <a:ext cx="3230280" cy="19191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4" descr="C:\Documents and Settings\Bruce\My Documents\My Pictures\rock.jpg"/>
          <p:cNvPicPr/>
          <p:nvPr/>
        </p:nvPicPr>
        <p:blipFill>
          <a:blip r:embed="rId2"/>
          <a:stretch/>
        </p:blipFill>
        <p:spPr>
          <a:xfrm>
            <a:off x="5891040" y="4032360"/>
            <a:ext cx="26733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ndara"/>
              </a:rPr>
              <a:t>Decide which of the following statements are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Candara"/>
              </a:rPr>
              <a:t>Subjective</a:t>
            </a:r>
            <a:r>
              <a:rPr b="1" lang="en-US" sz="3200" spc="-1" strike="noStrike">
                <a:solidFill>
                  <a:srgbClr val="000000"/>
                </a:solidFill>
                <a:latin typeface="Candara"/>
              </a:rPr>
              <a:t> and which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ndara"/>
              </a:rPr>
              <a:t>Objective</a:t>
            </a:r>
            <a:r>
              <a:rPr b="1" lang="en-US" sz="3200" spc="-1" strike="noStrike">
                <a:solidFill>
                  <a:srgbClr val="000000"/>
                </a:solidFill>
                <a:latin typeface="Candar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twssnake3"/>
          <p:cNvPicPr/>
          <p:nvPr/>
        </p:nvPicPr>
        <p:blipFill>
          <a:blip r:embed="rId1"/>
          <a:stretch/>
        </p:blipFill>
        <p:spPr>
          <a:xfrm>
            <a:off x="609480" y="533520"/>
            <a:ext cx="7867800" cy="457200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3"/>
          <p:cNvSpPr/>
          <p:nvPr/>
        </p:nvSpPr>
        <p:spPr>
          <a:xfrm>
            <a:off x="533520" y="525780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 looks away when the teacher showed him a snake.  He said, “I don’t like snakes, they feel funny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 was afraid because he said he didn’t like snak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3715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4" descr="Playing with MusicBlocks"/>
          <p:cNvPicPr/>
          <p:nvPr/>
        </p:nvPicPr>
        <p:blipFill>
          <a:blip r:embed="rId1"/>
          <a:stretch/>
        </p:blipFill>
        <p:spPr>
          <a:xfrm>
            <a:off x="4648320" y="2895480"/>
            <a:ext cx="4046400" cy="354348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5"/>
          <p:cNvSpPr/>
          <p:nvPr/>
        </p:nvSpPr>
        <p:spPr>
          <a:xfrm>
            <a:off x="380880" y="2917800"/>
            <a:ext cx="3962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ler was playing with the music blocks.  When Carly &amp; Josh asked to play, Tyler agreed and showed them h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423720" y="1633680"/>
            <a:ext cx="776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ler is a good boy and gets along well with the other child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3" descr="Swinging"/>
          <p:cNvPicPr/>
          <p:nvPr/>
        </p:nvPicPr>
        <p:blipFill>
          <a:blip r:embed="rId1"/>
          <a:stretch/>
        </p:blipFill>
        <p:spPr>
          <a:xfrm>
            <a:off x="474840" y="615960"/>
            <a:ext cx="4413240" cy="464184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4"/>
          <p:cNvSpPr/>
          <p:nvPr/>
        </p:nvSpPr>
        <p:spPr>
          <a:xfrm>
            <a:off x="5105520" y="1752480"/>
            <a:ext cx="3749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ddie wanted to swing but two others were already there.  She picked up a rock and threw it at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685800" y="548640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ddie got mad and threw a rock because she does not share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4" descr="Untitled-27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555480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7"/>
          <p:cNvSpPr/>
          <p:nvPr/>
        </p:nvSpPr>
        <p:spPr>
          <a:xfrm>
            <a:off x="822240" y="6208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1828800" y="630252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cey is sitting on the slide, just res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Use the instruction sheet for finishing your Layered Book.  The remaining tabs (#4--#7) of your layered book has a specific heading with information that should be included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Use your textbook, internet, or other resources to locate the information that is required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In addition to the required information, you can add any pictures or additional information that will help you remember this information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TYPES OF OBSERVATIONS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4" descr="Picture29"/>
          <p:cNvPicPr/>
          <p:nvPr/>
        </p:nvPicPr>
        <p:blipFill>
          <a:blip r:embed="rId1"/>
          <a:stretch/>
        </p:blipFill>
        <p:spPr>
          <a:xfrm>
            <a:off x="4114800" y="609480"/>
            <a:ext cx="4343400" cy="594360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5"/>
          <p:cNvSpPr/>
          <p:nvPr/>
        </p:nvSpPr>
        <p:spPr>
          <a:xfrm>
            <a:off x="365040" y="3465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379080" y="2133720"/>
            <a:ext cx="3585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ker usually likes to pl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himself, but chose to 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Zac today.  If he do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oose a friend it is usual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ac or Jacob.  He loves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 fun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4" descr="Picture31"/>
          <p:cNvPicPr/>
          <p:nvPr/>
        </p:nvPicPr>
        <p:blipFill>
          <a:blip r:embed="rId1"/>
          <a:stretch/>
        </p:blipFill>
        <p:spPr>
          <a:xfrm>
            <a:off x="3124080" y="533520"/>
            <a:ext cx="5508720" cy="598644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5"/>
          <p:cNvSpPr/>
          <p:nvPr/>
        </p:nvSpPr>
        <p:spPr>
          <a:xfrm>
            <a:off x="333360" y="2057400"/>
            <a:ext cx="2638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mryn is barely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has a hard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ying awake.  Mom  says she gets enough sleep so we wonder if it could be a physical problem or an emotional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4" descr="Picture5"/>
          <p:cNvPicPr/>
          <p:nvPr/>
        </p:nvPicPr>
        <p:blipFill>
          <a:blip r:embed="rId1"/>
          <a:stretch/>
        </p:blipFill>
        <p:spPr>
          <a:xfrm>
            <a:off x="228600" y="609480"/>
            <a:ext cx="8639280" cy="472464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5"/>
          <p:cNvSpPr/>
          <p:nvPr/>
        </p:nvSpPr>
        <p:spPr>
          <a:xfrm>
            <a:off x="318960" y="5562720"/>
            <a:ext cx="886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llin often plays with play dough.  He has chosen to roll and cu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kie cutters today.  Other favorite activities are dress up and puzz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1029" descr="volcanoeruption2"/>
          <p:cNvPicPr/>
          <p:nvPr/>
        </p:nvPicPr>
        <p:blipFill>
          <a:blip r:embed="rId1"/>
          <a:stretch/>
        </p:blipFill>
        <p:spPr>
          <a:xfrm>
            <a:off x="609480" y="533520"/>
            <a:ext cx="7934400" cy="525780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1030"/>
          <p:cNvSpPr/>
          <p:nvPr/>
        </p:nvSpPr>
        <p:spPr>
          <a:xfrm>
            <a:off x="252000" y="5943600"/>
            <a:ext cx="864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little girl behind the teacher is not able to get inside the group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e what is happening.  She just stands there and watches the ot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1030"/>
          <p:cNvSpPr/>
          <p:nvPr/>
        </p:nvSpPr>
        <p:spPr>
          <a:xfrm>
            <a:off x="717480" y="5378400"/>
            <a:ext cx="820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nny was fighting with John, Joe saw them fighting and deci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help Danny.  Joe said, “I’ll help you out, Danny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1032" descr="C:\Documents and Settings\Bruce\My Documents\My Pictures\fight.jpg"/>
          <p:cNvPicPr/>
          <p:nvPr/>
        </p:nvPicPr>
        <p:blipFill>
          <a:blip r:embed="rId1"/>
          <a:stretch/>
        </p:blipFill>
        <p:spPr>
          <a:xfrm>
            <a:off x="2209680" y="838080"/>
            <a:ext cx="4381560" cy="432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457200" y="2286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Students gather supplies (4 pieces of paper, color pencils, etc.) to create a “Layered Book”.  Follow teachers instructions in folding to create layered book for notes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Students are to read a handout called “Why Observe Children”.  After reading, students should list the 7 reasons why children should be observed on the bottom tab (#8) of their layered book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Students should follow the instructions for specific tab titles for the rest of the layers.  Information from the following slides will be used for Tabs #2 and #3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Other resources will be used for Tabs #4----#7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WHY OBSERVE CHILDREN?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HOW TO OBSERVE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Tab #2---Do’s and Don’ts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52280" y="2047680"/>
            <a:ext cx="457200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ndara"/>
              </a:rPr>
              <a:t>It is best to observe from a distance without the child knowing they are being observed.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ndara"/>
              </a:rPr>
              <a:t>Wear simple, appropriate clothing to blend in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ndara"/>
              </a:rPr>
              <a:t>Sit in a low chair when in a classroom (avoid standing over the children)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5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5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6" name="Picture 5" descr=""/>
          <p:cNvPicPr/>
          <p:nvPr/>
        </p:nvPicPr>
        <p:blipFill>
          <a:blip r:embed="rId1"/>
          <a:stretch/>
        </p:blipFill>
        <p:spPr>
          <a:xfrm>
            <a:off x="4724280" y="2057400"/>
            <a:ext cx="4114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7T16:20:25Z</dcterms:created>
  <dc:creator>Wendy Crapo</dc:creator>
  <dc:description/>
  <dc:language>en-US</dc:language>
  <cp:lastModifiedBy>lherring</cp:lastModifiedBy>
  <dcterms:modified xsi:type="dcterms:W3CDTF">2013-12-24T16:24:35Z</dcterms:modified>
  <cp:revision>29</cp:revision>
  <dc:subject/>
  <dc:title>OBSERVING YOUNG CHILDREN</dc:title>
</cp:coreProperties>
</file>