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6087-0D8C-4094-AC6D-F01B81B3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3443-5CBC-4420-B100-27E5941819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C6D-26E1-44DD-876B-2715E577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44F-2AA8-4FD3-A1E3-E63101E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7B5-A45C-4C84-AD3D-6967E217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30F-3050-4294-89FA-E159361C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873D-E8A0-4F4C-9456-F33D9A12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972-B77B-4A29-9BD6-A947F46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F78-3909-43E0-BA3E-BCE5639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960-8676-496C-A87B-B64D1174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4538-417F-4D53-A71F-C86E2773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914D-4842-45AA-9AAA-99B7833F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A2A-8349-4542-BF05-1EEEB6E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E02-FD51-4D5A-A6EE-601642E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40DB-7392-470B-A478-10732C4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497-FC36-4022-AF48-1E0BBFC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6EE-A40F-489A-A2B5-1126B3E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3BF0-6A27-4B54-A198-DAA5B67C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19C5-8FB2-4054-B1D8-F36CADD7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1D2-623F-467E-AEA9-C80C204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ADA-9A3A-40C6-A593-E69D378B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BDD-AAEB-47FC-96FA-5149A3CB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926-B63D-43A1-B673-A3E7913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F2A-99BE-4ABF-B6B7-5F12F4FB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80-8036-49E8-A5A7-B6801C9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3E6-5B61-4EF0-8247-54BC482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3_Designing the Environment, Curriculum and Learning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CDF7-CB4C-4F96-8AB8-E6B3FD5A9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3_Designing the Environment, Curriculum and Learning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6BEC-05A0-4432-8E6C-D491D746D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ormative%20Assessment%20_2%20_Design%20Your%20Classroom.doc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1337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igning the Environment, Curriculum and Activ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err, J. (2008).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Working with young childre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Tinley Park, IL: The Goodheart-Wilcox Company, In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457200" y="57913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it 2 – Creating Stimulating Environments for Childr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tructional Strategy 8 - Designing the Environ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Block Pl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7812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Usually includes days of the week, time periods, and scheduled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plans also contain a variety of activities that may be used in future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52480" y="2832120"/>
            <a:ext cx="4953240" cy="35701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E8BB-6386-479A-B4B5-BE2610E41F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Developmental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ell the “why” of the activit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What is the purpo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sk yourself, “What can the children learn from this experience?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ust align with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Maiandra GD"/>
                <a:hlinkClick r:id="rId1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D732-10B4-4F9F-8D87-59BA44B806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Lesson Pla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ore detailed than block plans - provides step-by-step dire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Developmental go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aterials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losure/tran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Curved Left Arrow 1"/>
          <p:cNvSpPr/>
          <p:nvPr/>
        </p:nvSpPr>
        <p:spPr>
          <a:xfrm>
            <a:off x="4114800" y="3352680"/>
            <a:ext cx="914400" cy="2514600"/>
          </a:xfrm>
          <a:custGeom>
            <a:avLst/>
            <a:gdLst>
              <a:gd name="textAreaLeft" fmla="*/ 122400 w 914400"/>
              <a:gd name="textAreaRight" fmla="*/ 792000 w 914400"/>
              <a:gd name="textAreaTop" fmla="*/ 542880 h 2514600"/>
              <a:gd name="textAreaBottom" fmla="*/ 18576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3547438"/>
                <a:lnTo>
                  <a:pt x="5400" y="21304"/>
                </a:lnTo>
                <a:lnTo>
                  <a:pt x="0" y="19637"/>
                </a:lnTo>
                <a:lnTo>
                  <a:pt x="5400" y="17377"/>
                </a:lnTo>
                <a:lnTo>
                  <a:pt x="5400" y="18359"/>
                </a:lnTo>
                <a:arcTo wR="21600" hR="9328" stAng="3547438" swAng="-3390464"/>
                <a:lnTo>
                  <a:pt x="21480" y="10309"/>
                </a:lnTo>
                <a:arcTo wR="21600" hR="9328" stAng="-156973" swAng="-5243027"/>
                <a:close/>
              </a:path>
              <a:path fill="darkenLess"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-156973"/>
                <a:lnTo>
                  <a:pt x="21480" y="10309"/>
                </a:lnTo>
                <a:arcTo wR="21600" hR="9328" stAng="-156973" swAng="-5243027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3932280" y="2176560"/>
            <a:ext cx="4919760" cy="31446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E52-8EDB-42FE-A68E-C2954141E4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 – It’s as easy at A-B-C-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s the expected outcome of an activity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dience – W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havior – What they will 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ditions - What you AS THE TEACHER will 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ree – to wha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PRACTICE writing Learning Objectiv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6878-A6BA-41A7-98D5-77C0FBE58E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you will gain the children’s attention?  How will you “HOOK” them or get the curious or exci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xample:  You are going to teach a lesson on the seasons.  How would you hook th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et’s brainstor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705F-F24C-4579-9339-7FF356E10F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sembles a cook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imple, step-by-step directions should be provi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hould be in order and numb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Very detai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clude “What you will say” in quo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349-F337-4D12-8C74-F37B8C636B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st everything that is needed for th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elps stay organ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nother teacher should be able to pick up the lesson plan and be able to complete it from the beginning to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st all websites, book titles, supp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227-82C8-4BC7-8863-6F7F3853BD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will you know the lesson was a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as EACH child achieved the learning object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o what degr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What further support or re-teaching is necessar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6D7-20B0-4F8A-81C8-6A2C093A8E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Closure/Tran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an activity will e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ay include clean up tasks or sampling a foo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ransition refers to moving from one activity to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ust state in your lesson plan the “exact language” you will 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713B-3D63-4991-8774-025B4A623D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ter each Les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ON is KE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ent well? Not so well? Ways to improv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evidence for student portfolios to see grow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38A-F67C-40A4-BB47-B6CC775E65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 or Layo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center-foc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nge areas around edges of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open, creative a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private 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 and snack near water sou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else should we consi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4239-7296-416D-A355-521802C143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write a lesson togeth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Themed web (Unit) and concepts  (ide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Three Learning objectives from EACH concept (ide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Each Lesson plan comes from one or two learn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practice – Theme: The Fa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235-A9DC-4CF6-870F-6F5D2C2C12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: The Fa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7696080" cy="4343400"/>
          </a:xfrm>
          <a:prstGeom prst="rect">
            <a:avLst/>
          </a:prstGeom>
          <a:ln w="0">
            <a:noFill/>
          </a:ln>
        </p:spPr>
      </p:pic>
      <p:sp>
        <p:nvSpPr>
          <p:cNvPr id="245" name="Oval 4"/>
          <p:cNvSpPr/>
          <p:nvPr/>
        </p:nvSpPr>
        <p:spPr>
          <a:xfrm>
            <a:off x="3429000" y="2895480"/>
            <a:ext cx="18288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a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5486400" y="1752480"/>
            <a:ext cx="1143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5562720" y="3809880"/>
            <a:ext cx="1066680" cy="8384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1676520" y="2666880"/>
            <a:ext cx="9903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9" name="Straight Arrow Connector 9"/>
          <p:cNvCxnSpPr/>
          <p:nvPr/>
        </p:nvCxnSpPr>
        <p:spPr>
          <a:xfrm>
            <a:off x="2171520" y="3581280"/>
            <a:ext cx="108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11"/>
          <p:cNvCxnSpPr>
            <a:stCxn id="248" idx="2"/>
          </p:cNvCxnSpPr>
          <p:nvPr/>
        </p:nvCxnSpPr>
        <p:spPr>
          <a:xfrm flipH="1">
            <a:off x="1218960" y="3123720"/>
            <a:ext cx="4579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13"/>
          <p:cNvCxnSpPr/>
          <p:nvPr/>
        </p:nvCxnSpPr>
        <p:spPr>
          <a:xfrm flipH="1" flipV="1">
            <a:off x="1828080" y="220932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6"/>
          <p:cNvCxnSpPr>
            <a:stCxn id="245" idx="2"/>
          </p:cNvCxnSpPr>
          <p:nvPr/>
        </p:nvCxnSpPr>
        <p:spPr>
          <a:xfrm flipH="1" flipV="1">
            <a:off x="2666160" y="3123360"/>
            <a:ext cx="762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8"/>
          <p:cNvCxnSpPr>
            <a:endCxn id="246" idx="3"/>
          </p:cNvCxnSpPr>
          <p:nvPr/>
        </p:nvCxnSpPr>
        <p:spPr>
          <a:xfrm flipV="1">
            <a:off x="5257800" y="2533320"/>
            <a:ext cx="3960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endCxn id="247" idx="1"/>
          </p:cNvCxnSpPr>
          <p:nvPr/>
        </p:nvCxnSpPr>
        <p:spPr>
          <a:xfrm>
            <a:off x="5257440" y="3580920"/>
            <a:ext cx="46116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4D5-13E5-4EF1-99CB-9A4375A77A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ing the Class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n-N-Pick – Choose one area for you to research and share with the clas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1920" y="18288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 Build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matic Pl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ory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odwork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eep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Manipulativ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5288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ic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ss Mo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6428-3C18-44D3-A671-4948F29B32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tator Toys or Activit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ator toy – one dimensional – battery operated tru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ies – multidimensional, multifaceted, exploratory, non-sexist, multicultural, non-viol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through cooperatives to get best 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lenish consumable supplies, accept donations, be creative and resourc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F57-0B9F-49B5-85C2-5F1EDB8984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Your Pre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28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design your own preschool using the guidelines in the text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esign Your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Content Placeholder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191120" cy="38527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22E3-C723-4395-83B5-AB77365B73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ing Backw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make the perfect apple pi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work backwards to determine the steps necessary to make a perfect apple p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backwards to make sure we offer various learning activities to reach our program goals while attending to the whole chi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AD5-A94D-4AB5-8B2A-021AFDFDEB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“Whole” child mea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positive self-concept, independence, problem solving skills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and understand cultural diversity, respect individu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ffective language skills, positive social skills, and the relationship between people, events and obj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FF1D-8740-4376-B39D-4FA68589CD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s in Curriculum Plan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as seen as a constant process of exploring and questioning th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learning sty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ergent curriculum – “emerges” from the child’s interest and experi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es – one main topic or idea around which the classroom activities are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bing – outline major concepts (ide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plan – overall view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 – individual learning experiences that make up the block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4413-A3B3-402E-838C-DAE6CD48B4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bbing or Concept Map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3505320" y="3200400"/>
            <a:ext cx="2209680" cy="1447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7" name="Straight Arrow Connector 5"/>
          <p:cNvCxnSpPr>
            <a:stCxn id="186" idx="7"/>
          </p:cNvCxnSpPr>
          <p:nvPr/>
        </p:nvCxnSpPr>
        <p:spPr>
          <a:xfrm flipV="1">
            <a:off x="5391000" y="2666160"/>
            <a:ext cx="70524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Straight Arrow Connector 7"/>
          <p:cNvCxnSpPr>
            <a:stCxn id="186" idx="1"/>
          </p:cNvCxnSpPr>
          <p:nvPr/>
        </p:nvCxnSpPr>
        <p:spPr>
          <a:xfrm flipH="1" flipV="1">
            <a:off x="3047400" y="2818800"/>
            <a:ext cx="7815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9"/>
          <p:cNvCxnSpPr>
            <a:stCxn id="186" idx="3"/>
          </p:cNvCxnSpPr>
          <p:nvPr/>
        </p:nvCxnSpPr>
        <p:spPr>
          <a:xfrm flipH="1">
            <a:off x="3200040" y="4435200"/>
            <a:ext cx="62928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11"/>
          <p:cNvCxnSpPr/>
          <p:nvPr/>
        </p:nvCxnSpPr>
        <p:spPr>
          <a:xfrm>
            <a:off x="5715000" y="4191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Oval 12"/>
          <p:cNvSpPr/>
          <p:nvPr/>
        </p:nvSpPr>
        <p:spPr>
          <a:xfrm>
            <a:off x="2057400" y="2133720"/>
            <a:ext cx="1447920" cy="9064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2057400" y="4770360"/>
            <a:ext cx="1143000" cy="6397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6134040" y="2286000"/>
            <a:ext cx="1104840" cy="830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553080" y="4313160"/>
            <a:ext cx="1238400" cy="9144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411480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6248520" y="25462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6534000" y="461628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2181240" y="493704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2271600" y="24321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0" name="Straight Arrow Connector 22"/>
          <p:cNvCxnSpPr/>
          <p:nvPr/>
        </p:nvCxnSpPr>
        <p:spPr>
          <a:xfrm flipH="1">
            <a:off x="1983960" y="2985840"/>
            <a:ext cx="419760" cy="5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Straight Arrow Connector 24"/>
          <p:cNvCxnSpPr/>
          <p:nvPr/>
        </p:nvCxnSpPr>
        <p:spPr>
          <a:xfrm flipH="1">
            <a:off x="1447200" y="2625480"/>
            <a:ext cx="6102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Straight Arrow Connector 26"/>
          <p:cNvCxnSpPr/>
          <p:nvPr/>
        </p:nvCxnSpPr>
        <p:spPr>
          <a:xfrm>
            <a:off x="2809440" y="3026880"/>
            <a:ext cx="3913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Oval 27"/>
          <p:cNvSpPr/>
          <p:nvPr/>
        </p:nvSpPr>
        <p:spPr>
          <a:xfrm>
            <a:off x="457200" y="2854440"/>
            <a:ext cx="129528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28"/>
          <p:cNvSpPr/>
          <p:nvPr/>
        </p:nvSpPr>
        <p:spPr>
          <a:xfrm>
            <a:off x="1324080" y="3505320"/>
            <a:ext cx="1295280" cy="8017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9"/>
          <p:cNvSpPr/>
          <p:nvPr/>
        </p:nvSpPr>
        <p:spPr>
          <a:xfrm>
            <a:off x="2457360" y="3624120"/>
            <a:ext cx="1295640" cy="803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760F-E658-450B-8DB6-605EB9D5A8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1:47:45Z</dcterms:created>
  <dc:creator>Parkway</dc:creator>
  <dc:description/>
  <dc:language>en-US</dc:language>
  <cp:lastModifiedBy>lherring</cp:lastModifiedBy>
  <cp:lastPrinted>2013-01-31T19:21:07Z</cp:lastPrinted>
  <dcterms:modified xsi:type="dcterms:W3CDTF">2013-12-24T16:20:59Z</dcterms:modified>
  <cp:revision>37</cp:revision>
  <dc:subject/>
  <dc:title>Designing the Environment, Curriculum and Activities</dc:title>
</cp:coreProperties>
</file>