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gif" ContentType="image/gif"/>
  <Override PartName="/ppt/media/image6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7.png" ContentType="image/png"/>
  <Override PartName="/ppt/media/image2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28.png" ContentType="image/png"/>
  <Override PartName="/ppt/media/image5.png" ContentType="image/pn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02DE-CCD6-4A04-86EB-FD25B8E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D574-96E5-423C-ADCD-238AC2B8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9CD8-288C-4E29-82A1-B400B8AB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FD24-FB1D-4CB3-9F12-18118C6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B342-40A4-4B9D-80CA-9EE688CD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D660-E36E-482B-9FDC-1366AD9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D77-5A80-475B-B58F-62694D6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6877-F995-41CA-B029-9CBE5437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CC9-DF77-4671-ABA7-1727D59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5C8-C3D6-4EF0-AD0B-95A77C6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0293-749E-4B91-8B1D-72D0F00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1543-9CB2-4187-A283-B46A5B5C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0A81-696F-456A-AB6E-2207AFD1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7FEE-80ED-4C5A-96DA-5ED80DFD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92DC-6FA0-4480-9A4C-103F4D9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532-ED17-4E4C-9755-1A1F55B8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DC04-C927-421F-A489-C23DBD69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123D-DD2B-4AF5-B0CD-4086C2A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BD54-EA46-41F9-8679-8EE451D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6C5B-EFFD-452D-A6B3-C62BCF2D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469A-EF05-4119-B9E2-1C74C433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93EF-0B19-4B9E-8CC2-7C583D3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C778-CEB7-47DA-AD76-8E9D1FE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2AE2-AE93-4D6F-B3BF-59AFF3D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FE8-586F-462F-902F-A15F58381A6D}" type="slidenum">
              <a:rPr b="0" lang="en-US" sz="1200" spc="-1" strike="noStrike">
                <a:solidFill>
                  <a:srgbClr val="a79d9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9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ffff"/>
                </a:solidFill>
                <a:latin typeface="Comic Sans MS"/>
              </a:endParaRPr>
            </a:p>
          </p:txBody>
        </p:sp>
      </p:grpSp>
      <p:pic>
        <p:nvPicPr>
          <p:cNvPr id="51" name="Group 10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B9E6-DAC6-4F93-8DFF-DCFA29BDDEF3}" type="slidenum">
              <a:rPr b="0" lang="en-US" sz="1400" spc="-1" strike="noStrike">
                <a:solidFill>
                  <a:srgbClr val="a79d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red.com/news/politics/0,1283,46655.html" TargetMode="External"/><Relationship Id="rId2" Type="http://schemas.openxmlformats.org/officeDocument/2006/relationships/hyperlink" Target="http://www.nolo.com/encyclopedia/articles/tc/legislation98.html" TargetMode="External"/><Relationship Id="rId3" Type="http://schemas.openxmlformats.org/officeDocument/2006/relationships/hyperlink" Target="http://news.cnet.com/news/0-1003-200-7004860.html?tag_rltdnws" TargetMode="External"/><Relationship Id="rId4" Type="http://schemas.openxmlformats.org/officeDocument/2006/relationships/hyperlink" Target="http://www.anti-dmca.org/" TargetMode="External"/><Relationship Id="rId5" Type="http://schemas.openxmlformats.org/officeDocument/2006/relationships/hyperlink" Target="http://www.anti-dmca.org/" TargetMode="External"/><Relationship Id="rId6" Type="http://schemas.openxmlformats.org/officeDocument/2006/relationships/hyperlink" Target="http://www.anti-dmca.org/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676520" y="609480"/>
            <a:ext cx="64008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66"/>
                </a:solidFill>
                <a:latin typeface="Bremen Bd BT"/>
              </a:rPr>
              <a:t>Why Copyright?</a:t>
            </a:r>
            <a:endParaRPr b="0" lang="en-US" sz="138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94" name="Picture 7" descr="AG00227_"/>
          <p:cNvPicPr/>
          <p:nvPr/>
        </p:nvPicPr>
        <p:blipFill>
          <a:blip r:embed="rId1"/>
          <a:stretch/>
        </p:blipFill>
        <p:spPr>
          <a:xfrm>
            <a:off x="457200" y="380880"/>
            <a:ext cx="1066680" cy="1011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G00227_"/>
          <p:cNvPicPr/>
          <p:nvPr/>
        </p:nvPicPr>
        <p:blipFill>
          <a:blip r:embed="rId2"/>
          <a:stretch/>
        </p:blipFill>
        <p:spPr>
          <a:xfrm>
            <a:off x="7391520" y="457200"/>
            <a:ext cx="1066680" cy="1011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25320" y="57182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Mrs. Ellis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97" name="Picture 1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291960" y="-291960"/>
            <a:ext cx="8242560" cy="199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ings from WWW can be used in project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Can’t be posted back onlin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Implied public access” permits you to include links to other sites without requesting permission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Netiquette” suggests the person remove the link if asked to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39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0300520"/>
          <p:cNvPicPr/>
          <p:nvPr/>
        </p:nvPicPr>
        <p:blipFill>
          <a:blip r:embed="rId4"/>
          <a:stretch/>
        </p:blipFill>
        <p:spPr>
          <a:xfrm>
            <a:off x="3048120" y="49528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901800" y="317520"/>
            <a:ext cx="8242200" cy="1998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14040" y="1752480"/>
            <a:ext cx="74674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Graphic images: charts, diagrams, graphs, drawings, cartoons, pictures for a periodical, newspaper, or book, or a Web page image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A single copy for class preparation is allowed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ese images cannot be altered or embellished except for temporary purposes.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44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81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7924680" y="304920"/>
            <a:ext cx="816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2041560" y="12600"/>
            <a:ext cx="870588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04560" y="1981080"/>
            <a:ext cx="858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Software must be copyright protected to have restrictions on its us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53880" indent="-247680">
              <a:lnSpc>
                <a:spcPct val="100000"/>
              </a:lnSpc>
              <a:spcBef>
                <a:spcPts val="799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4450"/>
                </a:solidFill>
                <a:latin typeface="Comic Sans MS"/>
              </a:rPr>
              <a:t>Shareware</a:t>
            </a:r>
            <a:r>
              <a:rPr b="1" lang="en-US" sz="24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a4450"/>
                </a:solidFill>
                <a:latin typeface="Comic Sans MS"/>
              </a:rPr>
              <a:t>is available for download 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1" marL="741960" indent="-24732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a small fee paid if the software is kept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53880" indent="-247680">
              <a:lnSpc>
                <a:spcPct val="100000"/>
              </a:lnSpc>
              <a:spcBef>
                <a:spcPts val="799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4450"/>
                </a:solidFill>
                <a:latin typeface="Comic Sans MS"/>
              </a:rPr>
              <a:t>Freeware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a4450"/>
                </a:solidFill>
                <a:latin typeface="Comic Sans MS"/>
              </a:rPr>
              <a:t>is also available for download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2" marL="113004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Free to the copier. 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lvl="2" marL="1130040" indent="-247680">
              <a:lnSpc>
                <a:spcPct val="100000"/>
              </a:lnSpc>
              <a:spcBef>
                <a:spcPts val="700"/>
              </a:spcBef>
              <a:buClr>
                <a:srgbClr val="3a445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4450"/>
                </a:solidFill>
                <a:latin typeface="Comic Sans MS"/>
              </a:rPr>
              <a:t>Should be public domain indicated somewhere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50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7543800" y="304920"/>
            <a:ext cx="1206360" cy="139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1206720" cy="13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974880" y="712800"/>
            <a:ext cx="7188120" cy="2000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Swis721 Hv BT"/>
              </a:rPr>
              <a:t>Software piracy is a crim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Keep proof when you buy software legally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Assume all software is copyrighted unless it specifies freeware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Keep packaging materials, may contain licensing info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Destroy backup copies when original software no longer used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Copying an entire software program cannot be justified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56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7562880" y="152280"/>
            <a:ext cx="1231920" cy="96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5"/>
          <a:stretch/>
        </p:blipFill>
        <p:spPr>
          <a:xfrm>
            <a:off x="304920" y="236520"/>
            <a:ext cx="114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378000" y="304920"/>
            <a:ext cx="7778520" cy="202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142640" y="20570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Facts and ideas can’t be copyrighted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5b6b"/>
                </a:solidFill>
                <a:latin typeface="Calibri"/>
              </a:rPr>
              <a:t>Their expression and structure can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Can’t use a trademark in a way that would hurt the value of the mark or confuse people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alibri"/>
              </a:rPr>
              <a:t>Doesn’t matter whether you charge or not, do not copy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Correct form: “Copyright “date” by author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77240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066680" y="22856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If you use setting or character from somebody else’s work, need author’s permission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Many copyright holder’s turn a blind eye to “fan fiction”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ommercial copyright violation = more than 10 copies = felony = $2500.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Public domain only if designated as such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If you are in doubt, just get permission!!!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565440" y="38088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remen Bd BT"/>
              </a:rPr>
              <a:t>Sources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447920" y="1523880"/>
            <a:ext cx="59436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1"/>
              </a:rPr>
              <a:t>http://www.wired.com/news/politics/0,1283,46655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2"/>
              </a:rPr>
              <a:t>http://www.nolo.com/encyclopedia/articles/tc/legislation98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hlinkClick r:id="rId3"/>
              </a:rPr>
              <a:t>http://news.cnet.com/news/0-1003-200-7004860.html?tag_rltdnws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4"/>
              </a:rPr>
              <a:t>http://www.anti-dmca.org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5"/>
              </a:rPr>
              <a:t>http://www.dictionary.co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9aad3"/>
                </a:solidFill>
                <a:uFillTx/>
                <a:latin typeface="Comic Sans MS"/>
                <a:ea typeface="Arial"/>
                <a:hlinkClick r:id="rId6"/>
              </a:rPr>
              <a:t>http://www.loc.gov/copyright/reports/studies/dmca/dmca_exe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home.earthlink.net/~cnew/research.ht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dpi.state.nc.us/copyright1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utsystem.edu/ogc/intellectualproperty/multimed.htm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Comic Sans MS"/>
              </a:rPr>
              <a:t>http://www.techlearning.com/content/speak/articles/copyright.html</a:t>
            </a: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66" name="Picture 4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447920" y="1295280"/>
            <a:ext cx="5943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78000" y="5634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d59"/>
                </a:solidFill>
                <a:latin typeface="Comic Sans MS"/>
              </a:rPr>
              <a:t>Copyright Definition</a:t>
            </a:r>
            <a:endParaRPr b="0" lang="en-US" sz="5400" spc="-1" strike="noStrike">
              <a:solidFill>
                <a:srgbClr val="66ffff"/>
              </a:solidFill>
              <a:latin typeface="Comic Sans M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57240" y="2057400"/>
            <a:ext cx="7569360" cy="3750840"/>
          </a:xfrm>
          <a:prstGeom prst="rect">
            <a:avLst/>
          </a:prstGeom>
          <a:solidFill>
            <a:srgbClr val="ff7605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42a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46342a"/>
                </a:solidFill>
                <a:uFillTx/>
                <a:latin typeface="Arial"/>
              </a:rPr>
              <a:t>exclusive rights</a:t>
            </a:r>
            <a:r>
              <a:rPr b="1" lang="en-US" sz="4000" spc="-1" strike="noStrike">
                <a:solidFill>
                  <a:srgbClr val="46342a"/>
                </a:solidFill>
                <a:latin typeface="Arial"/>
              </a:rPr>
              <a:t> of the author of a creative work to control the copying and distribution of that work and performance and display of the work in public</a:t>
            </a:r>
            <a:r>
              <a:rPr b="1" lang="en-US" sz="4000" spc="-1" strike="noStrike">
                <a:solidFill>
                  <a:srgbClr val="46342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01" name="Picture 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j0178308"/>
          <p:cNvPicPr/>
          <p:nvPr/>
        </p:nvPicPr>
        <p:blipFill>
          <a:blip r:embed="rId3"/>
          <a:stretch/>
        </p:blipFill>
        <p:spPr>
          <a:xfrm>
            <a:off x="380880" y="3445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835200" y="838080"/>
            <a:ext cx="761976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75d59"/>
                </a:solidFill>
                <a:latin typeface="Comic Sans MS"/>
              </a:rPr>
              <a:t>Copyright has two main purposes:</a:t>
            </a:r>
            <a:endParaRPr b="0" lang="en-US" sz="4400" spc="-1" strike="noStrike">
              <a:solidFill>
                <a:srgbClr val="66ffff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buClr>
                <a:srgbClr val="675d5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To protect the author’s right to obtain commercial benefit from valuable work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buClr>
                <a:srgbClr val="675d5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75d59"/>
                </a:solidFill>
                <a:latin typeface="Comic Sans MS"/>
              </a:rPr>
              <a:t>The protection of the author’s general right to control how a work is used</a:t>
            </a:r>
            <a:endParaRPr b="0" lang="en-US" sz="32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AG00227_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12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G00227_"/>
          <p:cNvPicPr/>
          <p:nvPr/>
        </p:nvPicPr>
        <p:blipFill>
          <a:blip r:embed="rId2"/>
          <a:stretch/>
        </p:blipFill>
        <p:spPr>
          <a:xfrm flipH="1">
            <a:off x="7157520" y="379440"/>
            <a:ext cx="1295640" cy="101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635040" y="2690640"/>
            <a:ext cx="800100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Digital Millennium Copyright Act passed 1989</a:t>
            </a:r>
            <a:endParaRPr b="0" lang="en-US" sz="4000" spc="-1" strike="noStrike">
              <a:solidFill>
                <a:srgbClr val="66ffff"/>
              </a:solidFill>
              <a:latin typeface="Comic Sans MS"/>
            </a:endParaRPr>
          </a:p>
          <a:p>
            <a:pPr>
              <a:spcBef>
                <a:spcPts val="22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511"/>
                </a:solidFill>
                <a:latin typeface="Comic Sans MS"/>
              </a:rPr>
              <a:t>Everything created after </a:t>
            </a:r>
            <a:br>
              <a:rPr sz="3600"/>
            </a:br>
            <a:r>
              <a:rPr b="1" lang="en-US" sz="3600" spc="-1" strike="noStrike">
                <a:solidFill>
                  <a:srgbClr val="1c1511"/>
                </a:solidFill>
                <a:latin typeface="Comic Sans MS"/>
              </a:rPr>
              <a:t>April 1, 1989 is copyrighted whether it has a copyright symbol or not._x0008_</a:t>
            </a:r>
            <a:endParaRPr b="0" lang="en-US" sz="36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08" name="Picture 1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1752480" y="358920"/>
            <a:ext cx="540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a4450"/>
                </a:solidFill>
                <a:uFillTx/>
                <a:latin typeface="Comic Sans MS"/>
              </a:rPr>
              <a:t>In the past if it didn’t have a copyright notice, it was not copyrighted</a:t>
            </a:r>
            <a:r>
              <a:rPr b="0" lang="en-US" sz="3600" spc="-1" strike="noStrike">
                <a:solidFill>
                  <a:srgbClr val="3a445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66ffff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447920" y="1295280"/>
            <a:ext cx="5943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ffff"/>
              </a:solidFill>
              <a:latin typeface="Comic Sans MS"/>
            </a:endParaRPr>
          </a:p>
        </p:txBody>
      </p:sp>
      <p:pic>
        <p:nvPicPr>
          <p:cNvPr id="111" name="Rectangle 7" descr=""/>
          <p:cNvPicPr/>
          <p:nvPr/>
        </p:nvPicPr>
        <p:blipFill>
          <a:blip r:embed="rId1"/>
          <a:stretch/>
        </p:blipFill>
        <p:spPr>
          <a:xfrm>
            <a:off x="476280" y="646200"/>
            <a:ext cx="8356680" cy="206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Web Pages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Digital Music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Computer Software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Video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E-Mail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d59"/>
                </a:solidFill>
                <a:latin typeface="Comic Sans MS"/>
              </a:rPr>
              <a:t>Academic Presentations and Research</a:t>
            </a:r>
            <a:endParaRPr b="0" lang="en-US" sz="3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1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MMj02867740000[1]"/>
          <p:cNvPicPr/>
          <p:nvPr/>
        </p:nvPicPr>
        <p:blipFill>
          <a:blip r:embed="rId4"/>
          <a:stretch/>
        </p:blipFill>
        <p:spPr>
          <a:xfrm>
            <a:off x="5334120" y="2438280"/>
            <a:ext cx="3124080" cy="21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151840" cy="167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920" y="1841040"/>
            <a:ext cx="833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Even for students, fair use is limited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This includes: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Comic Sans MS"/>
              </a:rPr>
              <a:t>Audio, Video, Multimedia, Internet, and software.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Comic Sans MS"/>
              </a:rPr>
              <a:t>Remember, </a:t>
            </a:r>
            <a:r>
              <a:rPr b="1" i="1" lang="en-US" sz="2800" spc="-1" strike="noStrike">
                <a:solidFill>
                  <a:srgbClr val="675d59"/>
                </a:solidFill>
                <a:latin typeface="Comic Sans MS"/>
              </a:rPr>
              <a:t>ignorance of the law is no excuse. 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5d59"/>
                </a:solidFill>
                <a:latin typeface="Comic Sans MS"/>
              </a:rPr>
              <a:t>Should not harm value of the work or need to buy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Comic Sans MS"/>
              </a:rPr>
              <a:t>Information is readily available on the WWW and other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lvl="1" marL="765000" indent="-255240">
              <a:lnSpc>
                <a:spcPct val="90000"/>
              </a:lnSpc>
              <a:spcBef>
                <a:spcPts val="700"/>
              </a:spcBef>
              <a:buClr>
                <a:srgbClr val="4d5b6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18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2249640" y="414360"/>
            <a:ext cx="3468600" cy="18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A single copy of up to 10% of a musical composition in print, sound, or multimedia form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Multiple copies are prohibited. Any alteration must be only for temporary purposes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100000"/>
              </a:lnSpc>
              <a:spcBef>
                <a:spcPts val="550"/>
              </a:spcBef>
              <a:buClr>
                <a:srgbClr val="675d5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The portion to be used is limited to 10% or not more than 30 seconds.</a:t>
            </a:r>
            <a:r>
              <a:rPr b="1" lang="en-US" sz="2200" spc="-1" strike="noStrike">
                <a:solidFill>
                  <a:srgbClr val="675d59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22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6705720" y="228600"/>
            <a:ext cx="1828800" cy="1407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82880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390600" y="-30240"/>
            <a:ext cx="8246880" cy="199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75d59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Videotapes and movies are to be used for instruction only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Can only be kept for a set time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262e35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Up to 10 days, kept additional 45 days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Paid for after that without special educator’s rights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Single copy up to 3 minutes or 10% of whole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109440">
              <a:lnSpc>
                <a:spcPct val="90000"/>
              </a:lnSpc>
              <a:spcBef>
                <a:spcPts val="601"/>
              </a:spcBef>
              <a:buClr>
                <a:srgbClr val="262e3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e35"/>
                </a:solidFill>
                <a:latin typeface="Comic Sans MS"/>
              </a:rPr>
              <a:t>Embellishing only allowed for temporary purposes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28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7302600" y="304920"/>
            <a:ext cx="133344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5"/>
          <a:stretch/>
        </p:blipFill>
        <p:spPr>
          <a:xfrm>
            <a:off x="965160" y="556272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248680" cy="1998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Material from CDs, the Internet, or other sources.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Projects can’t be distributed outside the classroom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75d59"/>
                </a:solidFill>
                <a:latin typeface="Comic Sans MS"/>
              </a:rPr>
              <a:t>They can be shared with family members</a:t>
            </a:r>
            <a:endParaRPr b="0" lang="en-US" sz="36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34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6388200" y="454644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7:26:12Z</dcterms:created>
  <dc:creator>CMSU</dc:creator>
  <dc:description/>
  <dc:language>en-US</dc:language>
  <cp:lastModifiedBy>Bryant Lazenby</cp:lastModifiedBy>
  <dcterms:modified xsi:type="dcterms:W3CDTF">2012-08-28T15:36:08Z</dcterms:modified>
  <cp:revision>44</cp:revision>
  <dc:subject/>
  <dc:title>PowerPoint Presentation</dc:title>
</cp:coreProperties>
</file>