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2AB3-6579-40E4-82A8-4F2E0A9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ED9EA-CBA1-43B7-973E-4B80DD0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B824-8572-4E75-AA82-5E9EB8C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E232-8ABC-41AE-8E06-BC6D3BE2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79ED3-CD37-4175-8EC8-A4065C8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1D004-4F62-4DE4-AAF4-26ACCBB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D8408-EA44-4224-A28B-AC45BDB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993A3-DB86-4B50-9B5A-595CDA23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26194-69B6-4274-9107-D58BE753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215AA-9D36-4A72-9FF1-C1946F78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F771F-99AE-45CD-9C4B-42433CF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54DCD-53A3-45BF-A3CD-0D985F4E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4DE6E-3064-4AE9-9A42-612D51F8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4194-FAE4-4A17-ABE6-F812248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AE246-5F78-4EF9-98B2-5E2EEE36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7C158-679B-42F0-9EB5-28DCCAA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F4AF6-3469-4C5D-BC83-AF0B85AA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0ABE1-1721-44DD-AB97-D12C575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65BED-BBCD-4F38-9A44-5181DD30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519F9-E6FB-415F-962C-84B259B5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E49BE-2D87-4FD6-B354-EAB3CFB1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0BBC9-DCEF-440D-BC23-300C6504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A41D1-B646-47B4-9818-6CBEDBB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C3F1B-0932-4542-A73F-D030833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C6BD-F006-4BF8-AFF9-EEF7B69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57F7F-C87F-4380-A359-6A99EB7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BDCD-DCA0-42B0-8A8E-B1909386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676F1-E083-4953-8FC9-A784E87D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B2CD-3555-4ADF-8F56-9D67390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2A91F-3D32-4999-9655-EC12937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709-5EEB-42C5-868D-937EF19A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1C67A-8183-464C-A395-95C4EA1A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E1587-B00D-4FA5-8B50-FF1A42A2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1DCAE-C3D3-4F8B-BA38-4E8CC139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FAC-3659-4ACE-89FE-53FB300A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229-CDCE-41DD-B825-F99401F9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133-7806-4424-93F3-BF13417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6AF-1703-4DA5-9BCB-B80A73B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EBE-CF79-4059-BD1E-B1D4AD3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CB3-4441-4692-BDFE-0FD3890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E07-AB84-4FA1-AF2D-6DAF5B0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084-AAF2-48A7-9403-0C1DC0E9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42D-C2A5-43A6-B745-B9D0460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3AA-F742-4ABF-B23E-115241F3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61F-2DD7-4211-8A89-308C1269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46AD-ACE7-4A96-A9FD-73232521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02BD-BF40-43EC-9DE9-DFE6ACD8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D65-6333-4A76-992C-4DAD0D1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FCC4-7C8D-4025-96A0-AF47776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6A6F-88DC-4D7B-9C39-0097061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7F4-ECF0-41ED-8B37-D29B9FB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9F0-6B86-4889-B543-FE9B272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E88E-02E1-42F5-8AF8-FF7E283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0D1F-9D2E-4A07-B7BE-C4C782A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AD8-3A36-4426-B5E8-A3A0A3B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CBF-3DD6-449D-B305-1E6340F9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AC81-D088-4511-B170-B433DF4E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71EBD-D4C3-4C6C-9B23-90C01CF5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89B4-293F-438F-AC50-967C3C9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BD971-4AAC-47D9-9420-B6A88200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6949-85F0-4A59-9C65-42678F04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789C-0625-446B-9CD1-A5743E2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2C41-012D-499D-A2EC-304FD562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1555-1BEA-4D81-BD8C-E14C3F48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DFC8-B9FA-48DB-A097-4FD17CB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717B-6C9D-4274-A750-C9E9E94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D8CA-E40F-488A-82F2-7CC5DFA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4319-F803-40FC-B171-43DDE2A6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0E65-1FEA-43A8-9215-2D3EB6FA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394A-79CA-47E2-AB85-843E5CE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ED031-D47B-4CD4-97B8-E6D8AFBF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F533-A73C-425A-95AF-9A152560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3EDB0-465E-432A-BC0A-E6B2E00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7289-9EB7-411B-9359-893AAC29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A61D-944C-4653-B1FE-AB40874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6A35-50A4-449F-A5CE-F91FED0D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726C-BA22-443B-A2A6-97CB1C4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FFFB-80EF-48CA-BEB1-E6BBE7F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40E5-19FE-4FFD-AE4F-775ACC0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E7914-53F7-4BA6-8AAF-55534DCA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6041-A71B-4B84-80C3-1F8E48C7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47750-5F72-4C91-8B38-18AB91E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2EA51-6DE8-4EF8-86CA-07558488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40D7-EAFF-4727-A43F-D986538F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E2E0-5A74-406D-8328-873A322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40AE-0085-496F-BADD-781E32B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0F1F-C31B-41E9-83B2-9919B28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2DCF-0290-476E-BA1A-FECB41A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0C05-DC03-45BD-991A-E70CE1DE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9532-A408-4B30-8B8D-653F789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B488F-B836-4B7C-A375-6030E74E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96EF-9EF1-4EFD-9750-284000ED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4036-AE12-4DD6-A86F-505C8703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DEE0C-49E2-4A7F-920D-B02FC1A0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71C6-1924-4DEB-9F97-BB156F1D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0AF2-CF96-413F-9770-3D78E9BE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77B0-94AA-44C6-ACCE-4F1CAA90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58F5-355F-4805-AB96-2E19BFC5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95F0-5367-40F7-B1B5-D9ADB97B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C8F0-55F9-43F4-8666-42E852F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E7A2-9E46-4C9A-A3A2-FAF8245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F182C-3675-4D8F-B394-7AE7937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1BAF-E14E-42D9-AD3F-2D02EFA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07EC-13B3-427A-B5AE-83F5F45B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D3930-7C1F-45B9-A0A0-2F0EA163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9D24-4564-4B78-AE08-E252359F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2000-A4DA-460D-ACB8-FB8FF83A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4CBF-50D3-48A7-AF59-67784E8B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980D-A0A6-4DAC-AE77-4B75B8C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CF45F-BEB1-4C8F-A871-F53E9324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2A7F-B0C7-4D75-AD22-C92A6ED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E86E-320E-4385-BB61-A5F4669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4B82-784B-429C-9286-DE1E3CE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8E143-C7B3-46F1-A32B-3ECC29A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5BA2-1462-4979-ADB8-A8B4DC0E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11D9-CE3C-4DDE-8946-4871EC5D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2F92-DAC6-440F-8CDE-A0101C2B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DC2BD-737F-490E-B31A-9DDB40EA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1CED3-9BB9-4AD4-84B6-EF0434E8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373EF-6210-4E7F-82D9-4029E634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552-1F46-4952-AE1E-9BAC453C45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A8F0-2A11-43EF-ABB1-03E4F5753B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84C9-8561-4C66-A360-23489D67E8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9A17-8117-4ADA-B7CA-A1DEB40D55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7312-0824-4CFC-9337-CCFA0CAF03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5AA0-A728-4E13-90B2-0FB0FFF084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5D5B-CD1F-48A3-A7B2-0101B54C7E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AAE-D2D7-441B-A6D9-D5E339EDC2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0300-93C8-4690-B903-434DDA73DC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D48B-98AA-4781-BED9-424E57CD9F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\\Iml-files-1\Data1\PROJECTS\Agricultural Education\Crop Science\Graphics\UINT 3\jpgs\TM3-1.jpg"/>
          <p:cNvPicPr/>
          <p:nvPr/>
        </p:nvPicPr>
        <p:blipFill>
          <a:blip r:embed="rId1"/>
          <a:stretch/>
        </p:blipFill>
        <p:spPr>
          <a:xfrm>
            <a:off x="2604960" y="730080"/>
            <a:ext cx="3934080" cy="56660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ean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4129200" y="1413000"/>
            <a:ext cx="57132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4165560" y="1784520"/>
            <a:ext cx="55584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3979800" y="2430360"/>
            <a:ext cx="9082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873680" y="3805200"/>
            <a:ext cx="10713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5541840" y="4368960"/>
            <a:ext cx="94140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5554800" y="4925880"/>
            <a:ext cx="66672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5533920" y="5229360"/>
            <a:ext cx="66672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ereal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\\Iml-files-1\Data1\PROJECTS\Agricultural Education\Crop Science\Graphics\UINT 3\jpgs\TM-3.2.jpg"/>
          <p:cNvPicPr/>
          <p:nvPr/>
        </p:nvPicPr>
        <p:blipFill>
          <a:blip r:embed="rId1"/>
          <a:stretch/>
        </p:blipFill>
        <p:spPr>
          <a:xfrm>
            <a:off x="0" y="61920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4"/>
          <p:cNvSpPr/>
          <p:nvPr/>
        </p:nvSpPr>
        <p:spPr>
          <a:xfrm>
            <a:off x="1933560" y="2276640"/>
            <a:ext cx="1419120" cy="37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2066760" y="4848120"/>
            <a:ext cx="103824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2076480" y="5734080"/>
            <a:ext cx="11145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5562720" y="781200"/>
            <a:ext cx="752400" cy="37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5972040" y="1542960"/>
            <a:ext cx="23623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6276960" y="2257560"/>
            <a:ext cx="127620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6238800" y="3057480"/>
            <a:ext cx="2743200" cy="92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6515280" y="4324320"/>
            <a:ext cx="100944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6562800" y="5305320"/>
            <a:ext cx="134280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f Characteristics of Some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\\Iml-files-1\Data1\PROJECTS\Agricultural Education\Crop Science\Graphics\UINT 3\jpgs\TM-3.3.jpg"/>
          <p:cNvPicPr/>
          <p:nvPr/>
        </p:nvPicPr>
        <p:blipFill>
          <a:blip r:embed="rId1"/>
          <a:stretch/>
        </p:blipFill>
        <p:spPr>
          <a:xfrm>
            <a:off x="2008080" y="647640"/>
            <a:ext cx="5127840" cy="5997600"/>
          </a:xfrm>
          <a:prstGeom prst="rect">
            <a:avLst/>
          </a:prstGeom>
          <a:ln w="0">
            <a:noFill/>
          </a:ln>
        </p:spPr>
      </p:pic>
      <p:sp>
        <p:nvSpPr>
          <p:cNvPr id="448" name="Freeform 23"/>
          <p:cNvSpPr/>
          <p:nvPr/>
        </p:nvSpPr>
        <p:spPr>
          <a:xfrm>
            <a:off x="1722600" y="2073240"/>
            <a:ext cx="4754520" cy="281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24"/>
          <p:cNvSpPr/>
          <p:nvPr/>
        </p:nvSpPr>
        <p:spPr>
          <a:xfrm>
            <a:off x="4471920" y="4334040"/>
            <a:ext cx="2738520" cy="2152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25"/>
          <p:cNvSpPr/>
          <p:nvPr/>
        </p:nvSpPr>
        <p:spPr>
          <a:xfrm>
            <a:off x="2122560" y="5162400"/>
            <a:ext cx="2489040" cy="155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a Grass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\\Iml-files-1\Data1\PROJECTS\Agricultural Education\Crop Science\Graphics\UINT 3\jpgs\TM-3.4.jpg"/>
          <p:cNvPicPr/>
          <p:nvPr/>
        </p:nvPicPr>
        <p:blipFill>
          <a:blip r:embed="rId1"/>
          <a:stretch/>
        </p:blipFill>
        <p:spPr>
          <a:xfrm>
            <a:off x="2190600" y="704880"/>
            <a:ext cx="4762800" cy="58672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27"/>
          <p:cNvSpPr/>
          <p:nvPr/>
        </p:nvSpPr>
        <p:spPr>
          <a:xfrm>
            <a:off x="5495760" y="1200240"/>
            <a:ext cx="9144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3162240" y="1790640"/>
            <a:ext cx="9144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5667480" y="1838160"/>
            <a:ext cx="9144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3247920" y="3086280"/>
            <a:ext cx="9144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6010200" y="3886200"/>
            <a:ext cx="9144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2076480" y="4572000"/>
            <a:ext cx="91440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2247840" y="5776920"/>
            <a:ext cx="7286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6"/>
          <p:cNvSpPr/>
          <p:nvPr/>
        </p:nvSpPr>
        <p:spPr>
          <a:xfrm>
            <a:off x="5657760" y="6076800"/>
            <a:ext cx="9144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2247840" y="6296040"/>
            <a:ext cx="4067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s of  Grass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\\Iml-files-1\Data1\PROJECTS\Agricultural Education\Crop Science\Graphics\UINT 3\jpgs\TM-3.5.jpg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8"/>
          <p:cNvSpPr/>
          <p:nvPr/>
        </p:nvSpPr>
        <p:spPr>
          <a:xfrm>
            <a:off x="4010040" y="1247760"/>
            <a:ext cx="170496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9"/>
          <p:cNvSpPr/>
          <p:nvPr/>
        </p:nvSpPr>
        <p:spPr>
          <a:xfrm>
            <a:off x="504720" y="2552760"/>
            <a:ext cx="170496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0"/>
          <p:cNvSpPr/>
          <p:nvPr/>
        </p:nvSpPr>
        <p:spPr>
          <a:xfrm>
            <a:off x="7943760" y="2533680"/>
            <a:ext cx="120024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1"/>
          <p:cNvSpPr/>
          <p:nvPr/>
        </p:nvSpPr>
        <p:spPr>
          <a:xfrm>
            <a:off x="3800520" y="4267080"/>
            <a:ext cx="120024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2"/>
          <p:cNvSpPr/>
          <p:nvPr/>
        </p:nvSpPr>
        <p:spPr>
          <a:xfrm>
            <a:off x="3971880" y="5219640"/>
            <a:ext cx="120024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4"/>
          <p:cNvSpPr/>
          <p:nvPr/>
        </p:nvSpPr>
        <p:spPr>
          <a:xfrm>
            <a:off x="0" y="20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af Characteristics of Three Grass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\\Iml-files-1\Data1\PROJECTS\Agricultural Education\Crop Science\Graphics\UINT 3\jpgs\TM-3.6.jpg"/>
          <p:cNvPicPr/>
          <p:nvPr/>
        </p:nvPicPr>
        <p:blipFill>
          <a:blip r:embed="rId1"/>
          <a:stretch/>
        </p:blipFill>
        <p:spPr>
          <a:xfrm>
            <a:off x="2013120" y="819000"/>
            <a:ext cx="5117760" cy="6039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44"/>
          <p:cNvSpPr/>
          <p:nvPr/>
        </p:nvSpPr>
        <p:spPr>
          <a:xfrm>
            <a:off x="2028960" y="2771640"/>
            <a:ext cx="517212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5"/>
          <p:cNvSpPr/>
          <p:nvPr/>
        </p:nvSpPr>
        <p:spPr>
          <a:xfrm>
            <a:off x="2028960" y="4848120"/>
            <a:ext cx="517212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29:05Z</dcterms:created>
  <dc:creator>loweryb</dc:creator>
  <dc:description/>
  <dc:language>en-US</dc:language>
  <cp:lastModifiedBy>streeterr</cp:lastModifiedBy>
  <dcterms:modified xsi:type="dcterms:W3CDTF">2008-01-31T16:11:24Z</dcterms:modified>
  <cp:revision>3</cp:revision>
  <dc:subject/>
  <dc:title>Slide 1</dc:title>
</cp:coreProperties>
</file>