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D30C3-F24D-4F5D-9B89-0979408F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4D354-FBF7-4E96-976A-7A4A3948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4BBE7-745E-4A78-B96F-626FCB13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2F941-6C05-4D82-9D4B-CCE46D11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712B2-29BC-4D17-81F9-163B4422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8D554-35C4-4BF4-90E5-B59990A4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62775-5455-4A1B-B372-2FC43C58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8643C-699B-43FA-82A7-AC14E4DE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5FF20-5C7D-4591-9859-06A9BE04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EBBA4-2D7F-428F-AC5D-E3C50ACD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81D1D-9580-4F24-8430-50F94855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BED4F-81CD-4932-B7E8-990ED356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1C1E3-C9BB-454D-B47D-B302CB60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156CA-0C1D-44C4-BF0A-E0832055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7B292-70F9-4C91-9A30-7C8AA55A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9FBDC-2140-46F0-AA91-8BE6FA37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0B383-A9B0-4ECC-95A8-3E129B64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17D72-D459-4F7B-8B11-7A85A2BB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F2803-20A1-47A1-B812-0E316151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EFC22-9552-4F8C-85C2-EA297652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FAD46-8B46-42E2-B692-AF594803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13B8B-DC39-4580-998B-E9627293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CA44A-45CD-4908-8549-36DC4837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2DA64-2F3E-432F-883E-F55C275F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BC033-CBDA-4FD6-9025-6EB780DB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EE17B-25D7-4931-85DC-64022911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62EE9-8B5A-450F-B65D-381303E5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19F71-A22A-4650-AD06-C7BEE11B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02802-5CE9-4987-B042-3529F39D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539CA-E6E0-4D0A-9F63-A841B23B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DC7-E84F-4109-B7FA-A9BF786F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70D65-D732-4E1A-A63A-CAC1BAB6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80B83-6EFC-4A51-8DDD-41A61824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F4FC5-EF92-4867-A6A4-89C7DF94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4A3-D54F-4576-AADE-A4A53B25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4F1-ED89-4045-A880-64E37B8D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46F-C86C-40A1-8ED8-B723DC2F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88DE-076B-44BE-9107-B37C891C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452-22E0-478B-ACF7-FE76280D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90B-E732-4639-9924-F9538C69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F11-8E62-4A57-BDAB-A4F031D0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EFF6-A9BD-4FEF-BD63-DB4F7E76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78A0-C4C9-47E7-9270-F40FBB63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1641-8F79-4E79-9175-87FA2BDF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055-C48B-4051-B107-17B0B055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FA81-32EF-48B8-BD8F-3CB0E6DE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DA71-125F-47C5-BC5C-92541A03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BBDA-CBE7-4B85-B742-10E7C659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7572-0AFF-4BC0-A132-388E3FBB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BB0B-C66F-417F-B1E8-0292C895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05A9-52AF-4B27-BC51-9952ED75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38A1-69B6-4158-8E0A-B2F788A0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4160-5F6A-471D-BF00-8DAFA50F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A61A-AA45-4C17-98E7-EC0F15A5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9A95-D23F-471D-8AF6-DF76F8D6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BCA0-9782-4AE6-817D-4AF47B3D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79AB-D0A3-4082-A706-9BF93698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39535-5BD0-4F2F-8862-5E1C2F8A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52C53-C2E5-42FD-A9DA-3B8EB598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1F24D-C9C1-4830-AEF8-2A88515D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9A3E5-5B95-4A2E-AF1F-C03A2031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97FD9-E0E0-45BD-9009-DA307F20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3BA45-12A6-4044-AFED-100B814C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33E12-A1B1-4D75-BB44-378BAA7D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C5C10-240B-4696-9B43-C8C2121B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E7C7F-5C79-4D7D-AE2E-507D8194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AC378-5817-4B5E-8023-5B8209B4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71670-CD3C-43F7-9758-96259AFA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E1958-7E20-4947-B5B0-E538F886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78793-771E-4C13-BA07-BD974D64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496C4-3C18-4790-A515-F68F62C8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E5094-13CE-4D52-AA3D-6A56F118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BB798-2BD0-45F5-AF55-7BDF3BDF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9DA10-5550-477E-A58B-9C1EC6C1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681F4-F69B-44E6-AC91-4CD52995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5B35C-655B-4EBE-8470-74BBB345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7DE39-2DF6-4EC3-A60C-5DDB6CA6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5BF35-1C0D-48BC-88A8-9677ABA5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B3BC2-1C3C-4A74-AAF8-384706C8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EF3F7-6668-469A-8FE3-66D332C3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502A8-3D73-4F30-90B1-91D646E4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378DA-6675-433D-A087-E834BBD4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D32D1-55D8-4740-8E85-1719FBF7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67B34-8B5F-4313-9200-2564FD85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305A0-D631-44AB-AAE6-8A52D734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87147-B8E9-4BE6-9BE7-D7E34AE2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28B79-4990-4019-B89E-96C31C4E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CF3EA-EA26-4E73-B120-0CBF96CA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7484B-E420-4009-8F00-76F082F5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D8783-5245-4FD0-A9BF-06B9CCAA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47635-2F3A-446B-A18B-F8C59E7F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3E8C6-00F2-4676-AD94-DFB12762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84DC8-DB2F-4725-A1C3-D9DD8812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6B4B1-0F7C-4306-868F-F9D7C788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EBD0F-8392-4485-93B7-7A896847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7411F-4E73-433A-9608-0B94C7E2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62275-08EF-4171-ABE0-74852543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BD4AD-6F57-40DF-9EB5-4151E669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16769-11B6-41A3-9724-90217520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2A912-5B35-4EC6-96A6-4621BC84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7982D-AD54-4A93-A98A-F46C70EE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6EF88-5DF4-4E7F-9B1A-D181ADE7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F3A46-38BF-42E4-BC18-86976E0B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C5BF4-69D9-482A-AD4A-FFF03B68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FED4C-D936-4093-A6C9-07732A69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5A169-B4F9-4FEB-BACE-73C0E771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8B52F-7E3E-45DB-8158-C83770B9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C5FF9-164D-496E-96DB-BA11763A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447E6-EC6E-42E3-9004-481F23A2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DFE97-3368-44DD-A357-CAFC8DC6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0B99A-86C4-47AC-BFBC-494EBA89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A3111-A4D1-4BF2-B0A2-F79952CF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E39F3-1BB1-46B4-A37F-93CD6D61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07971-0582-4540-9FDE-194D94D3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D8A58-84A9-4977-AC63-2DA225B1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51E80-1A4E-4125-829F-C4A7A0E3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80B10-4D96-4A56-A8DE-B263C404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A7AED-0624-4C20-B643-66A7E333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752AA-95AD-4A9D-AA38-BE79E004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CDB33-CF3D-40A7-857B-57C2DED9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6ADA-EE0B-469E-B69D-38BAA58450A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283D-1A54-455A-B938-82848BCA070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B9F9-E4F1-4534-A85C-FE2CF0218ED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E7E3-5E95-4736-BB28-927DC046E70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7000-62CE-41C5-BEAE-087DABFF036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E6B7-06B1-4090-A13F-DC6FA9E24BC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F888-6171-4596-AAAD-6EE3BF579A7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EA60-0040-4C0F-9805-F7DDAFD713C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9470-D480-4649-97F8-CCC4E5C8D52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5D35-EE3D-463F-9186-9409EEBADC7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4"/>
          <p:cNvSpPr/>
          <p:nvPr/>
        </p:nvSpPr>
        <p:spPr>
          <a:xfrm>
            <a:off x="0" y="203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ield and Quality in For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2" descr="\\Iml-files-1\Data1\PROJECTS\Agricultural Education\Crop Science\Graphics\UNIT 8\TM 8-1.JPG"/>
          <p:cNvPicPr/>
          <p:nvPr/>
        </p:nvPicPr>
        <p:blipFill>
          <a:blip r:embed="rId1"/>
          <a:stretch/>
        </p:blipFill>
        <p:spPr>
          <a:xfrm>
            <a:off x="534960" y="771480"/>
            <a:ext cx="8058240" cy="5483160"/>
          </a:xfrm>
          <a:prstGeom prst="rect">
            <a:avLst/>
          </a:prstGeom>
          <a:ln w="0">
            <a:noFill/>
          </a:ln>
        </p:spPr>
      </p:pic>
      <p:sp>
        <p:nvSpPr>
          <p:cNvPr id="428" name="TextBox 3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WTH STA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4:29:05Z</dcterms:created>
  <dc:creator>loweryb</dc:creator>
  <dc:description/>
  <dc:language>en-US</dc:language>
  <cp:lastModifiedBy>streeterr</cp:lastModifiedBy>
  <dcterms:modified xsi:type="dcterms:W3CDTF">2008-01-29T20:47:29Z</dcterms:modified>
  <cp:revision>3</cp:revision>
  <dc:subject/>
  <dc:title>Slide 1</dc:title>
</cp:coreProperties>
</file>