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6DA97-97A3-4C6E-A54A-A24C3EBB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E6B34-D832-4549-B2D8-ADBE4A7D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61C4F-1F2C-4E65-A1A4-1E793537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D2E71-78D2-4F53-B6CA-05687833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2344B-B75E-4C62-B88A-DF0C30A5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4558B-664C-407F-B086-94D3AA54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D94FB-3DBC-4382-A738-54BF9103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118B9-4691-419A-BC0E-374F2BCE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7EBDE-1428-434B-BAFE-C374A947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C111B-5BC2-40A4-A06E-F239C4C0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390DC-C19D-4CF1-BB58-CA39F77D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B3700-7D7A-4FF5-A3AE-A749BB60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CE792-6FC8-4B55-8A8A-BCFC841C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79268-A631-44E1-B893-5DD72D4B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D3166-0DCE-46F7-9BA5-756C2F90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8EE42-9C16-4CC3-8178-76BD8532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10B31-7185-4B46-8408-654961E4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F793F-AEEC-42BC-A0B9-041D6850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0CB75-655F-401D-92C2-086233DB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31FD9-A927-4173-9DCE-B421004A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70F8B-3FFD-421C-B246-8D09250F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F193C-A715-4967-829C-C89CC0DC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A319B-E2E4-4EAB-B4F1-EB2AD255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7E367-9906-47FF-87C9-A6EEE4A6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BF8F8-A9C7-4157-8887-CD113FBE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F8557-53CD-4A67-9D8A-8CED83AC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D99B1-1E99-46D8-ABA8-B86E9521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8A94A-BBE1-4F43-A191-6669A635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8EF9B-73CB-49A2-AB58-64A6368D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67C99-922A-4CA0-9C21-3AABF8C4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BF2-6951-44BD-AC62-4AB74CD6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F7414-E479-4C9C-8BB0-1EB48B33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A28FC-91FC-4F9C-80F7-4E6AA97B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C58CD-938F-45C6-B184-437F0528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D03-C362-49ED-8F7E-D1BE3773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692-4429-45F7-9152-972A0235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700-5AB6-4462-9ADF-6EBA7322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290-0E69-4024-A58C-C1166587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8EA-3F06-4C89-87BF-D8C1941D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78C-077A-4BD7-B305-6A331BF3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81D-2369-4EF9-9BA6-323E2988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F52-49E7-44D6-8F7C-E5652203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A27-069E-45AF-8B76-271C75CD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6658-BB4C-4AEC-85FD-0D1732BA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77AF-96E3-4F50-BFEB-06411DAA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0D40-10F8-418F-9AC0-45AA3C6E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7714-7C8C-47B4-9475-6948D356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FCA1-2828-4F6E-87A4-3DD5AF5C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39A0-648B-46AA-A773-0093D0FE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905E-5B54-42AF-AAC9-5CD21192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E3B7-46D1-4E03-AED2-278492C9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02A0-D467-4D1D-9251-A9F1F85C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2976-69B5-4880-A1A7-11334D22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05A2-55A3-4475-8567-E67AEC3D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7E94-7193-463F-9A94-7F5A774A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A42C-9016-484F-BB93-9EEF46DC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F79D-0F3D-4165-A07D-C0E30CCB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F9A6C-7A85-4C83-9FC9-358224DC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09AE-CF89-4172-87A4-CAAB45A0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F348-481C-47E9-B733-DED12863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C673C-1206-4D60-959D-A6FB08A6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E9F6C-80D6-428B-BAA4-F2D2BE91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B28E-CF30-4F6B-8019-3A3E7E39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E682A-9995-4B97-81DB-4A0C0C60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01142-59DF-4941-A34D-66749084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D78C6-3C3C-4F7C-85EE-AD64656C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48878-AA69-4E73-B08F-B3B0F29E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523E5-9C91-4A37-B3D1-1C941FBC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B8DA9-FAE9-469C-88AA-AFDF9808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6FCB3-22C7-43FE-900F-75AA6F59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62862-BD0E-4929-B213-B99B9054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A70BE-32C1-499B-9734-3A7CA10D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F8321-CC00-4ED3-BC45-8C2C5235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2CBD9-1724-4071-8C6D-D927658B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A09BC-2CD5-47E3-A872-7E55B551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92698-074D-4BD6-8D9D-1A7820AD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86075-8AC7-4D1F-9A55-D3649EE4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D2598-4B0A-4D04-BD92-D55CF0B4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6E648-ED73-4A9E-9814-8C23C3BC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40A89-FCDC-45CA-80EF-24469242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A850A-AB8C-4969-B945-4CF51024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8C0E1-9738-4716-AFD1-32531076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F5026-A2E4-4FF4-AF36-E4FCD7D2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4954B-613A-41C6-9360-29E5506E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390DE-BFCB-4888-A825-554123BF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96D9A-6EE0-463C-B238-1CFC67D3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FEE24-6354-4011-A883-578D3A81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B9C93-6D94-4613-921D-948F3C90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8E501-830D-465A-9D67-408EAE43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AAB3D-7BA5-43EC-9B1C-37C70967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BF280-CEBC-44CE-A8BB-0F07C1CB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6D884-64AA-4F2E-9D9E-E838B6F5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BAD1F-441C-4E83-A583-400DED4C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861CD-D8AB-4F71-A2CE-4233DC8E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99EA4-820F-49A3-A7BE-3474CA90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9FDEE-8345-433B-BC05-21E663C3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07D9C-413F-4E31-9BEC-1A6B2010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E8D11-950B-4FB0-ADE1-CED7C2A2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458E3-5524-4A57-B1A5-392FAC43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0D909-DEAC-4125-8223-936287F0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47334-B727-4F5A-9C6E-65AA5CE9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442C9-DC7B-46E6-9501-55E7C0C0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BA918-43B7-4CA8-A2C1-C9FF4F07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AA388-8DF8-4D5E-9FE8-1B80E875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97C27-82BC-425B-AD7F-B58B9C6D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92FEF-8813-4A2A-A3C3-D2579E06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6413F-038E-4D10-9151-C71DC6F8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89DF0-8FB1-4C62-9E4F-A536F9B1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B4AA4-02F9-4953-AFE9-1381DA81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17598-C53B-4AAE-8EBF-DF22E55E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86C31-42F9-4A94-B931-2D29665A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8F895-4FDB-45B8-99AE-45771880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1885E-BB0B-4348-B3A9-FB311E77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C067E-9656-48C5-90E8-0007FCA1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CDA27-2137-4284-8267-B838B1E2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631AF-9EEF-4A9C-9595-3A0D9C27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C24B3-6FC7-4E4A-AD02-96B64014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9F1CE-730D-4DD3-9818-55168A63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CCA97-23A2-4811-9F91-82F861C6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B135B-0C1F-44F9-93C8-8B24325D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D71F-FDC0-40F4-A2A3-AF6875B4C3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3E26-37EC-49B1-9455-AAFFCA1D73E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1822-E844-464B-A979-D750ABF05D4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24E9-1CB3-4CDA-AB15-72C92CD799F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5402-89A4-47A4-A1A8-8D2B0D52CE8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084D-E814-4203-84BF-199454F03B0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7DF3-CBEC-4D8B-B294-9F204B740D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208D-9FC6-4205-8BBE-CF6F2B96BB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5288-EACF-45B3-A30C-1AD05ACDAB0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7887-F9E9-4C0D-B7B7-ED5C738F415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3" descr="Nozzle Types.gif"/>
          <p:cNvPicPr/>
          <p:nvPr/>
        </p:nvPicPr>
        <p:blipFill>
          <a:blip r:embed="rId1"/>
          <a:stretch/>
        </p:blipFill>
        <p:spPr>
          <a:xfrm>
            <a:off x="2276640" y="555480"/>
            <a:ext cx="4587840" cy="6096240"/>
          </a:xfrm>
          <a:prstGeom prst="rect">
            <a:avLst/>
          </a:prstGeom>
          <a:ln w="0">
            <a:noFill/>
          </a:ln>
        </p:spPr>
      </p:pic>
      <p:sp>
        <p:nvSpPr>
          <p:cNvPr id="427" name="TextBox 4"/>
          <p:cNvSpPr/>
          <p:nvPr/>
        </p:nvSpPr>
        <p:spPr>
          <a:xfrm>
            <a:off x="0" y="198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zzl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4:29:05Z</dcterms:created>
  <dc:creator>loweryb</dc:creator>
  <dc:description/>
  <dc:language>en-US</dc:language>
  <cp:lastModifiedBy>streeterr</cp:lastModifiedBy>
  <dcterms:modified xsi:type="dcterms:W3CDTF">2008-06-20T18:44:38Z</dcterms:modified>
  <cp:revision>15</cp:revision>
  <dc:subject/>
  <dc:title>Slide 1</dc:title>
</cp:coreProperties>
</file>