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44D5A5-1D93-490A-84A4-1AD29C8E8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F583D2-F2A2-4047-A60A-5FF288A47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42C8CA-CC9C-4B26-9FD6-CB874658E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19E874-C522-4E1B-AF5C-A23267668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0BE321-12B4-45E0-8B44-405935FA1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73AB37-B797-469A-9BE1-D2A3260D1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8AA009-A3C1-4FF0-82C6-BB4F7501E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506AE7-4BC9-4A14-ACA2-E2D256294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FEB9AD-3463-4702-957C-31D10BB00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F50E48-EC4B-40C7-A8BC-4BD094CE2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6B26A2-0352-4891-8B2B-927A26EFF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2FE4F4-B7C0-4271-AB0B-E8C220CAD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7371B2-1B0B-465E-BAE7-45144995F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E5A2CD-1210-4DA1-974A-0857C930D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655F52-2ACB-41B0-9821-A6BDC538A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F4CB5D-2200-4702-A7C7-6B6042D1B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9BC51E-3820-40B8-A19B-331554994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945F93-AC52-4811-AAF2-BA2A7A42E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037F42-22A9-4E56-B69A-1F3195EB4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1A71E8-8466-425E-BFBD-3C042C1E7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A8AADF-21E3-4182-89C1-67B4DCF25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78F35C-1422-441A-BC30-E505577FF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04A71D-1C23-4831-AFB4-114CD56C9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DB5AFC-154C-4C16-B250-D751797A5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495DEF-0E19-40F3-930E-22D5AD4F5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0A9C4F-1CF6-4CA0-9CB8-DBFC0210C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AD2341-ACE0-4990-AED9-1B32EA561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35D5CB-E8E8-45EB-9F43-420DBCC96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870934-8159-478F-BC63-406513E56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827EE7-CB29-4BA6-A6C3-F7FD26D42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41E6-D2C0-4715-9369-22C3DE974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DA9661-FABB-4641-9A06-1B2F09548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194B78-6CBB-45D7-A54D-D09A5738D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244A9F-2C1E-445D-99D7-F174BE72E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ED18-0203-4A4B-B447-DD93B2D0D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E1D6-4DBC-4F57-AE5C-237F7DC03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A8DC-151E-4937-8061-8EA096600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99EC-DAF5-4887-891B-733B6C29F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58EF-2A50-4AFD-9DBA-67FCA4718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49FC-6AC7-49BD-A337-86478F299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73BB-197F-44D6-A9C6-2D79D7341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FE74-06D6-4500-BA3E-37BAD7270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0882-2CD6-472E-BE78-8D746C657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5EE8-DB8A-49B2-AA35-7ABF9BB6F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FCD0-E1C4-46D1-8A71-838849291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4BB6B-9F7E-486B-8518-BF7842154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F5568-B7F1-4449-98D0-8F4249274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45D3B-28D8-4B24-A2FC-0F30FAA10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5AFA0-5FD8-4875-9027-74982F842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710E8-A4A5-48F5-9889-3E0F769BA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9E55F-F5B2-4D0F-92D8-6EABB099C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FF575-C27E-4D31-B12D-6B401D92A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8A218-5D49-4B36-9003-FE72CE5B8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4ED80-EAE4-4EA1-9B94-97EBE3056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A8044-E63E-4518-9002-13466694C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E5B5D-0275-4C6C-B049-09B96A691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63A9A-244B-4C62-A691-15ECF944F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3BEB4-E0D9-4331-BEA4-CB1813804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5AE3B-9B08-450C-BFED-DDA5134F7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09036-B9F8-496B-B074-CFEF8767C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56F49-7701-4A57-8A64-18DB5E04F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2377A-EA00-42F6-B2E6-DC7FBD956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812EC-8F00-4884-B0B6-4A6E421DF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6916A-F277-4426-87C2-217770AAA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4A453-61A1-4CB6-8C9A-C0C61C1BE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62ADF-E65D-4ADA-96D8-A8E0BABBA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26C47-0F05-4D4A-B548-626B07582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B00A4-C1A3-4E43-B60F-B52CDEAEF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79A6B-8CCB-4E96-AF49-478913E54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B36C5-B202-42DB-B634-0FD796E6D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2CAF7-CE01-4176-91D9-E8DA3CED3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DC054-7F4E-4387-8EC5-475A4559F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36C14-4525-4834-9220-4476BBBAF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B7CB0-7F59-4D65-955A-EBF0FA865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0762C-2D65-464B-BCBE-E551B0270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0E7AE-51FF-4CC7-91D7-FB2889DF0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40727-FA8E-41D0-9BF4-729BDA8E6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64F4B-F5A3-4284-A456-30D6732B9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02636-A0B2-469B-86D8-923B27276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2389D-57DF-4FB9-A477-BC6084A32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CF66B-B660-4AF5-9160-D5D70E733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50CC71-9FFF-41A4-AA98-ED09B5412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1D0E1A-294B-4C74-870A-A05BBCE73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BD4899-EC7F-48F4-8EE3-698FB20EF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2E1ED3-D89F-4F99-A187-7F270A768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46BD42-1433-43A7-83A8-5FCE65A43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05850-517C-4368-BC11-28EDF4908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BF67CD-1E17-4F50-ADE9-3DF2D0954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32A747-C140-447C-B5CB-D30F9592C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D2430F-1884-4881-AED7-0BFEE80BC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68C68B-5518-4F7E-8226-BE8D579EE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20646B-FA15-4772-A649-22357CCF0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109481-6F4C-4228-9FE6-E27C2294E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3FAF6C-8E34-417A-BB6C-2CA6388D6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A918C7-A014-4A96-858C-96870DFFF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AFC549-7D93-455E-9233-33071ED2E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BB5058-661D-4047-B19F-714DD47D5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E4C787-82C5-4618-9874-BB3BD3AED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F79E44-CEF1-41CD-B4B3-A31F009B3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FCF410-92FA-46A1-B2BD-83E40E512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719BF3-39F3-464F-89B9-A7BFAF4A2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A5A4A5-51DE-4E38-8BBB-3665E4D4F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6A9C9E-06A9-4ABA-A0E1-430D7822F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3CFA0E-DB43-4F48-89E3-AEDF8F50F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341CFD-ADA2-4BE4-B422-9BB19E8E0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262DAD-575F-410A-9115-29FDF75AA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6C85C1-5639-49D0-98C0-8D6904BF4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62292D-FF84-449C-92C0-97F35FC4E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7DF368-307F-40CD-A113-4E3099E68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B70D8E-3B1B-40AE-9932-B74CE67A0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B017CE-BBB5-438E-AA61-D9158EF1C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446CD7-BD26-41F0-B9F8-FA92DB543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E85A10-493A-43E8-93E6-EDE160D7E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D61E6F-B9A0-4FAD-8D7C-01490A91B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5ECBEB-ACE7-45BA-BE5A-C3B7FF4B1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7D935D-2DBD-4D78-A1C5-C178162F8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CCA6B7-6024-4344-8952-D8C53C12A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143361-4E18-4D97-BFF2-C39FC471A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FF79B0-6388-4F0D-8D86-38C64EDC0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2E9629-9822-401A-A9E4-CC7EE8B48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71B4B-87BD-4E7D-A2E9-5380D36C4C6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0F1CC-8D7B-478E-BF66-8D3D37BD7B0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DE850-AE50-4BB7-9DA3-3E19A7EAAA9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CAB9B-161D-4549-A709-C9681DAFEB1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F2339-5CAE-4C92-A47C-416CC8DD81E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84865-0846-414B-8A03-678C42A8D23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F4FE2-4E7A-4B23-B4AD-4AAB072E87B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C09A4-9D3F-44F4-8E44-11ECA8AC25D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C597E-A1C2-4BB8-829B-96C3F47B369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39132-1A42-4CBA-92B1-96728A53A4E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Box 4"/>
          <p:cNvSpPr/>
          <p:nvPr/>
        </p:nvSpPr>
        <p:spPr>
          <a:xfrm>
            <a:off x="0" y="3189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ree Main Sections of an Ins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3" descr="Three Main Sections of an Insect.gif"/>
          <p:cNvPicPr/>
          <p:nvPr/>
        </p:nvPicPr>
        <p:blipFill>
          <a:blip r:embed="rId1"/>
          <a:stretch/>
        </p:blipFill>
        <p:spPr>
          <a:xfrm>
            <a:off x="762120" y="1477800"/>
            <a:ext cx="76197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4" descr="Types of Antennae.gif"/>
          <p:cNvPicPr/>
          <p:nvPr/>
        </p:nvPicPr>
        <p:blipFill>
          <a:blip r:embed="rId1"/>
          <a:stretch/>
        </p:blipFill>
        <p:spPr>
          <a:xfrm>
            <a:off x="2808360" y="690480"/>
            <a:ext cx="3521160" cy="5943600"/>
          </a:xfrm>
          <a:prstGeom prst="rect">
            <a:avLst/>
          </a:prstGeom>
          <a:ln w="0">
            <a:noFill/>
          </a:ln>
        </p:spPr>
      </p:pic>
      <p:sp>
        <p:nvSpPr>
          <p:cNvPr id="429" name="TextBox 4"/>
          <p:cNvSpPr/>
          <p:nvPr/>
        </p:nvSpPr>
        <p:spPr>
          <a:xfrm>
            <a:off x="0" y="3189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ypes of Antenn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extBox 4"/>
          <p:cNvSpPr/>
          <p:nvPr/>
        </p:nvSpPr>
        <p:spPr>
          <a:xfrm>
            <a:off x="0" y="3189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ypes of Mouth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3" descr="Types of Mouth Parts.gif"/>
          <p:cNvPicPr/>
          <p:nvPr/>
        </p:nvPicPr>
        <p:blipFill>
          <a:blip r:embed="rId1"/>
          <a:stretch/>
        </p:blipFill>
        <p:spPr>
          <a:xfrm>
            <a:off x="2589120" y="828720"/>
            <a:ext cx="39751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Box 4"/>
          <p:cNvSpPr/>
          <p:nvPr/>
        </p:nvSpPr>
        <p:spPr>
          <a:xfrm>
            <a:off x="0" y="3189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ypes of Le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4" descr="Types of Legs.gif"/>
          <p:cNvPicPr/>
          <p:nvPr/>
        </p:nvPicPr>
        <p:blipFill>
          <a:blip r:embed="rId1"/>
          <a:stretch/>
        </p:blipFill>
        <p:spPr>
          <a:xfrm>
            <a:off x="2036880" y="776160"/>
            <a:ext cx="50972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TextBox 4"/>
          <p:cNvSpPr/>
          <p:nvPr/>
        </p:nvSpPr>
        <p:spPr>
          <a:xfrm>
            <a:off x="0" y="3189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s of W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3" descr="Examples of Wings.gif"/>
          <p:cNvPicPr/>
          <p:nvPr/>
        </p:nvPicPr>
        <p:blipFill>
          <a:blip r:embed="rId1"/>
          <a:stretch/>
        </p:blipFill>
        <p:spPr>
          <a:xfrm>
            <a:off x="2541600" y="768240"/>
            <a:ext cx="40719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TextBox 4"/>
          <p:cNvSpPr/>
          <p:nvPr/>
        </p:nvSpPr>
        <p:spPr>
          <a:xfrm>
            <a:off x="0" y="3189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ges of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4" descr="Stages of Development.gif"/>
          <p:cNvPicPr/>
          <p:nvPr/>
        </p:nvPicPr>
        <p:blipFill>
          <a:blip r:embed="rId1"/>
          <a:stretch/>
        </p:blipFill>
        <p:spPr>
          <a:xfrm>
            <a:off x="1141560" y="922320"/>
            <a:ext cx="6858000" cy="58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TextBox 4"/>
          <p:cNvSpPr/>
          <p:nvPr/>
        </p:nvSpPr>
        <p:spPr>
          <a:xfrm>
            <a:off x="0" y="3189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complete Metamorph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Picture 3" descr="Incomplete Metamorphosis.gif"/>
          <p:cNvPicPr/>
          <p:nvPr/>
        </p:nvPicPr>
        <p:blipFill>
          <a:blip r:embed="rId1"/>
          <a:stretch/>
        </p:blipFill>
        <p:spPr>
          <a:xfrm>
            <a:off x="3262320" y="811080"/>
            <a:ext cx="262872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TextBox 4"/>
          <p:cNvSpPr/>
          <p:nvPr/>
        </p:nvSpPr>
        <p:spPr>
          <a:xfrm>
            <a:off x="0" y="3189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lete Metamorph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4" descr="Complete Metamorphosis.gif"/>
          <p:cNvPicPr/>
          <p:nvPr/>
        </p:nvPicPr>
        <p:blipFill>
          <a:blip r:embed="rId1"/>
          <a:stretch/>
        </p:blipFill>
        <p:spPr>
          <a:xfrm>
            <a:off x="2568600" y="811080"/>
            <a:ext cx="39816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TextBox 4"/>
          <p:cNvSpPr/>
          <p:nvPr/>
        </p:nvSpPr>
        <p:spPr>
          <a:xfrm>
            <a:off x="0" y="3189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sect Class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Box 3"/>
          <p:cNvSpPr/>
          <p:nvPr/>
        </p:nvSpPr>
        <p:spPr>
          <a:xfrm>
            <a:off x="2122560" y="1251000"/>
            <a:ext cx="4873680" cy="49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300"/>
              </a:spcAft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yl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rthrop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00"/>
              </a:spcAft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se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00"/>
              </a:spcAft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teryg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00"/>
              </a:spcAft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ra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eopt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00"/>
              </a:spcAft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xopteryg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00"/>
              </a:spcAft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erord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rthopterod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00"/>
              </a:spcAft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d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rthopt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00"/>
              </a:spcAft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ord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elif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00"/>
              </a:spcAft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mi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ridid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00"/>
              </a:spcAft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fami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omalein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00"/>
              </a:spcAft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omal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icropt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ientific nam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omalea micropt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on nam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astern lubber grassho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8T14:29:05Z</dcterms:created>
  <dc:creator>loweryb</dc:creator>
  <dc:description/>
  <dc:language>en-US</dc:language>
  <cp:lastModifiedBy>streeterr</cp:lastModifiedBy>
  <dcterms:modified xsi:type="dcterms:W3CDTF">2008-06-19T14:19:16Z</dcterms:modified>
  <cp:revision>15</cp:revision>
  <dc:subject/>
  <dc:title>Slide 1</dc:title>
</cp:coreProperties>
</file>