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A38CC-F978-40FC-80C0-728E9894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DE282-C3B9-4F95-B6B1-C2C0AAA2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60542-8E19-40C6-B002-3700FE40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DABFF-F3DA-4288-8DB2-EEB32C2F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DFBC7-DB7A-4426-A150-B8D10D7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23F26-67C3-4406-9527-EC8E50B2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78BFD-D901-4CF2-9FFD-87A68D93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F74BF-3BEE-4284-9E15-B0DAA551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3AB96-25D5-4AF6-8E03-00B5BB0B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6B1B3-2874-4E4C-B838-BAD69F13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1833C-4042-4B2F-B893-70E772A3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D93FE-72D2-48E6-BB18-B2EE5E85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C146D-F57B-45B6-B20F-8C7B41F9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C33B3-4A12-4453-A611-C1F3A37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90BE-C6BF-44CA-BEE6-C3F91A6F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3D1BB-BB57-4B9A-85C6-94BFC71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98D2E0-9142-4E9F-A546-D6243C1E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B4712-E1C5-4E38-B39D-3DA7A8F0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B0D2C-6C50-4937-9540-0AC6C158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D235F-976C-4433-8E03-DC6151E5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82FFE-14E9-47F6-801F-C0DF3174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ADCB4-7C5E-43AD-BB6F-C468BA35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D9AEA-D8D1-4587-87A2-5350E455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836BA-F118-4A5A-AA1B-6B2E96A2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CDC12-A9F9-4607-A904-AED41609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C9E4C-89AF-4EB8-B309-AA47CA2E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49F97-4720-4634-A2BE-66E486E8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89163-9EEB-4F8B-B28A-9CB1D0F6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117A1-777E-4F60-87A8-8BE6D04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39267-8F4C-4F16-858B-51EC199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F2F-F05B-4496-A42C-F6BD1EF1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60A51-29E4-4F0F-9842-6D5DE4B0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88B9A-CEB9-4E46-9692-85EAC24F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E7493-4214-4C8B-A754-8586B942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AD8-0A57-4C05-9569-C1E50CD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CC-78C9-405A-A011-36A70D6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32C1-3EC2-4EB2-ABA1-1502A55B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ADB-8060-44AB-B58F-C1548E07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34D4-C4F4-441F-ABAD-FD2BECFB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711-BC89-41D0-AC8F-344EA348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5CE-8662-4352-998E-51EAFB8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816-3C9D-4696-80AC-ED9D6BB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1B8-C23B-4466-96AE-2725FB2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1B6-2A04-4BE1-8E1D-DBE7784C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EE4-48C4-4863-9685-7C6C198D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0C2D-3BC4-43C3-8C58-4CC994DB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B164-1C8F-42EE-8511-A9BD4B86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C7C1-65D5-4988-9BCC-BC4E59C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F14B-C070-4D5E-B511-C9891D3A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90FD-EB1F-4AB0-851F-312F5C0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E8A2-589A-401B-A2F7-63233DD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A5FD-4BB9-4DF4-90AD-F2BD4E9F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570-9C44-40B6-A4C9-75382F1F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75B0-7CB5-4FC6-B3DA-9131D57D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5CEE-207F-45C4-9587-E5F67E5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6617-F115-4E48-99F7-4DC0C8CE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8149-2637-4E55-9FB4-C1955A1B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81A26-7E49-4798-926F-4E087F00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5640-7F1D-47F8-AC4E-D387DF7E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325E-7944-4AB1-8300-B9F37239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9530-9E2B-4CCF-9336-A0FA3C9D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B6FC-E661-436F-989A-6D142A42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C9CB-AA6B-4860-A4BC-1F7D300B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C5981-5A7E-4E8B-BCDD-9CAFD074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9BB5-F030-437C-9D9E-000EF629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09249-57A2-4ABA-94AF-83161A93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B5C2A-F939-455B-9F8E-5DDE021D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01BBB-BC71-4EB7-91AD-A0397693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53FFA-9160-42E2-BCE3-E4CCA909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0736-18CB-4F25-A192-E49192AB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E22D-2FF2-4B77-8203-116BA71D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F695-A8D6-4B06-8BFD-38563F6A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94E5-3C0C-4BD2-94D6-F90C9F17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8D8A-65B5-413B-BA6F-CC688912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7E335-7DEC-40B5-B0AD-3768C77F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820F-AABF-4A6F-948E-876B1160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62B2-520E-412A-9EA8-6AAA1A7F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1E75-2C70-4464-B98B-FD29A4A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C5EB0-D80A-47FA-9C0C-B1042498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F151-4A68-48AF-8E51-5BE91372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E685-19FF-4A59-A081-ABB3D5D63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369E3-7992-4E7D-842A-3B96E49E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C3D5-27A7-4376-85F5-AEC8EA1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FE7D1-4F50-43BD-9C55-89A558E9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EB36B-9F05-4543-9805-6928C51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8A0A-570F-4871-A801-BDA9A13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9FAB4-131C-4F2D-9D25-828AD36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CCE91-E67A-4A59-88A0-10EF753D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6F30E-63BE-4210-AC1D-7F935F3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34C63-C9CC-49F8-BB4E-3758660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F423-963E-4CBE-849E-2945A45A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CC67B-61C4-4F0F-834E-A860380B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DA722-381E-426A-934E-0F23A085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38F79-C7F2-47B9-B20C-B0501234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0DD1-48CD-4E1E-8377-9F15985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A8F5-CFB5-4FE1-B1AE-7CA13433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C6EA-2D2E-4633-8717-0C142395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C4DB-D700-4E1D-8EA1-32111C7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90F21-153E-4F47-AF34-EA6A79BB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919F4-98D7-423E-BF08-E962D4E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5785A-E0BA-41A2-B380-F1AADE31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8C665-B71F-4203-9AD3-00C279E5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E39E0-A91E-49B0-8BCC-82A9B9AC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D9609-E1AE-49CD-A196-D4B219B0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E675-1554-47B9-B3CE-51A91803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253BC-4D7D-4607-BFEC-82D12261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E2DE6-D4BB-40C8-863D-0084EDE9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F20C-D5B9-480B-AB0B-AE639A8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6C1F-E1B7-49E5-939D-62770A09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D8FE1-2076-4496-93E4-7FB2A7E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96856-60E3-489E-A6ED-D783F8DB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2991B-2272-4074-8C0F-2B14B395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00231-885D-4EDB-8C22-A6C03CD7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876A-A887-4198-9CED-C7FACAF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79C88-B6CB-4494-8327-CEF67F24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76CB1-D164-4690-9543-E16BA9ED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4DD3F-4333-49CF-8D9B-98C423B1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47FD9-3B4E-4F08-AA22-89B0B0FF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ABD8D-9912-4687-AE62-A6E3FA8E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92A5-B859-4DA2-91FA-6BEBD2C3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DD5C-195B-41BB-9514-AC67655BFCA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227-7867-4B43-87C6-E7787F56B0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C9FA-AE12-445C-9AFA-F8F7CEF747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9BF7-A098-4F36-822B-FF8D14ACF9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176D-2182-4516-B223-EC708E10CD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C970-40C8-4DCF-8208-065B6DD12D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D891-14F5-4EF8-93B2-5DCAB3366E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238C-08E8-4A92-84D1-2D5AA0C5F99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3AD-0CFD-4F9D-9CE7-3782D08DB8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B32F-2056-44B2-9909-7058389880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tion of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Location of Insects.gif"/>
          <p:cNvPicPr/>
          <p:nvPr/>
        </p:nvPicPr>
        <p:blipFill>
          <a:blip r:embed="rId1"/>
          <a:stretch/>
        </p:blipFill>
        <p:spPr>
          <a:xfrm>
            <a:off x="762120" y="852480"/>
            <a:ext cx="76197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lling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Killing Jar.gif"/>
          <p:cNvPicPr/>
          <p:nvPr/>
        </p:nvPicPr>
        <p:blipFill>
          <a:blip r:embed="rId1"/>
          <a:stretch/>
        </p:blipFill>
        <p:spPr>
          <a:xfrm>
            <a:off x="1927080" y="1106640"/>
            <a:ext cx="5319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unted Insect and Label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Mounted Insects and Labels.gif"/>
          <p:cNvPicPr/>
          <p:nvPr/>
        </p:nvPicPr>
        <p:blipFill>
          <a:blip r:embed="rId1"/>
          <a:stretch/>
        </p:blipFill>
        <p:spPr>
          <a:xfrm>
            <a:off x="2273400" y="922320"/>
            <a:ext cx="4592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n Placement for Different 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3" descr="Pin Placement for Different Insects.gif"/>
          <p:cNvPicPr/>
          <p:nvPr/>
        </p:nvPicPr>
        <p:blipFill>
          <a:blip r:embed="rId1"/>
          <a:stretch/>
        </p:blipFill>
        <p:spPr>
          <a:xfrm>
            <a:off x="2130480" y="630360"/>
            <a:ext cx="4892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nning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Pinning Blocks.gif"/>
          <p:cNvPicPr/>
          <p:nvPr/>
        </p:nvPicPr>
        <p:blipFill>
          <a:blip r:embed="rId1"/>
          <a:stretch/>
        </p:blipFill>
        <p:spPr>
          <a:xfrm>
            <a:off x="762120" y="1803240"/>
            <a:ext cx="761976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read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Spreading Board.gif"/>
          <p:cNvPicPr/>
          <p:nvPr/>
        </p:nvPicPr>
        <p:blipFill>
          <a:blip r:embed="rId1"/>
          <a:srcRect l="0" t="0" r="0" b="7880"/>
          <a:stretch/>
        </p:blipFill>
        <p:spPr>
          <a:xfrm>
            <a:off x="762120" y="1170000"/>
            <a:ext cx="76197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Spreading an Insect.gif"/>
          <p:cNvPicPr/>
          <p:nvPr/>
        </p:nvPicPr>
        <p:blipFill>
          <a:blip r:embed="rId1"/>
          <a:stretch/>
        </p:blipFill>
        <p:spPr>
          <a:xfrm>
            <a:off x="1908000" y="663480"/>
            <a:ext cx="5334120" cy="60962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4"/>
          <p:cNvSpPr/>
          <p:nvPr/>
        </p:nvSpPr>
        <p:spPr>
          <a:xfrm>
            <a:off x="0" y="181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reading an I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29:05Z</dcterms:created>
  <dc:creator>loweryb</dc:creator>
  <dc:description/>
  <dc:language>en-US</dc:language>
  <cp:lastModifiedBy>streeterr</cp:lastModifiedBy>
  <dcterms:modified xsi:type="dcterms:W3CDTF">2008-06-17T15:26:09Z</dcterms:modified>
  <cp:revision>8</cp:revision>
  <dc:subject/>
  <dc:title>Slide 1</dc:title>
</cp:coreProperties>
</file>