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AB8-43E7-44E5-AB6C-F65D1948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0E2-390A-413C-86C9-35C70D12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851-9C7D-4E24-B455-45F8441D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92E-D86D-4E13-BCE7-EC148A32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40CB-F8A2-402D-8AA1-4F8A5192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3A64-DB11-4FAB-8C3B-EF099CC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10F-EE84-44B5-B981-27AB1D06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D28C-726D-42A8-8CA5-C7A2AB35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45C7-73CE-45F1-B3BF-F787C8F9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4C13-C694-403F-A97B-6C4E478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604A-6638-4D9C-AF27-6BCF2F5F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9C6-BDBA-4DBB-9BF2-57A14871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F7D4-D330-4821-A443-D36135D4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C584-3463-4DA0-9213-564F6366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5481-B356-4CD4-BBDB-3425E6FA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AB47-1EF0-4632-9AB6-AEFBC98B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069C-C65D-4E9B-85CF-8DC510BA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579955-AABC-418E-9C21-5945FB7C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CEAE5-5379-4223-A836-37E834B9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BCEF9-DB94-4057-9567-2124CE8F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B28E40-5E9D-4992-BCFF-07C95ED8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8D617-C8C7-466D-86D0-AA3D00EE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6483-C5A4-4ADF-90EC-92AA671A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4BE334-856E-4235-BF82-2168F880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FF15E-12DB-44C4-9E56-276C5749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AA108-2F4F-48C3-BE03-E55FF8FC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6825A-3742-444B-8E8B-D71BB88C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62508D-CA91-4326-81A6-05A8C426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927F3-DA23-4013-B014-7AD48C71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B0C10-746F-42A1-9F27-E37B370D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307DA-D9ED-4D83-BEEF-07639562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25B70-C339-4BC3-9C22-137B8F37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5E519-A66A-4380-8A81-2CCC6778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9C49-4712-486E-90EE-A1936FCD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7F863-9D35-4653-95C0-83CBD50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6D5F-551C-4EF2-B59D-C74FFF6A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A24D3-8A91-41A2-A1E9-1E4841D2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A20DC-7E0D-45D2-8D32-8A6B5A11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2956E-BCAE-4E42-865C-A2509A24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BB606-0548-46CA-9496-F8EC34D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010A4-B6E5-4A54-9EA6-B71E3397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66F69-913F-489C-ADEE-E0B4374F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0B3F8-31CB-457B-8817-E4C7D9ECB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AFF-8147-47CC-B897-2294A1EF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FA1-571B-4BFF-AB24-005FB58D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B67-B258-4EAD-8B36-020AF9AB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20B-20AA-49FE-BC70-2826111A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C8D-CA71-4D7C-92DA-956878D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5BA-9B93-4ECD-B684-EF9DD87C6C1B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74EE-500C-4D71-9AAC-BB22FBC400BF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A685-288B-495D-8A15-D144EE35A67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BD5F-8013-45AE-AE8E-495EA0918D5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CARBOHYDRATES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Body’s main source of energ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nerg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vide 4 calories of energy per gra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re the preferred source of energy because your body can use them so efficientl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f you don’t consume enough your body will pull energy from protein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pare Protei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tein is less efficiently then carbohydrat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reak Dow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f your diet is low in, the body cannot completely break down fa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completely broken down fats form compounds called ketone bodi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se compounds then collect in the bloodstream, causing the blood to become more acidic than normal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acidity can damage cells and organ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condition is called ketosi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ulk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Helps promote normal digestion and elimination of body waste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uscles in your digestive tract need a healthy workout.  Fiber is the solid material that provides this workout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Fiber acts as a sponge. It absorbs water, which softens stools and helps prevent constipation. 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39480" indent="-270360">
              <a:lnSpc>
                <a:spcPct val="8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Which in turn helps eliminate the likelihood of hemorrhoid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ther Fiber Benefi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 fiber swells, it helps you feel full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ber also slows the rate at which the stomach empti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brous food sources are usually lower in calories than foods high in fa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wer risks of colon canc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wer the risks of heart diseas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ntrol diabet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suli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fter you eat, the amount of glucose in your body increas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 hormone called insulin is released from the pancrea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sulin helps the body lower blood glucose back to a normal level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t does this by triggering body cells to burn glucose for energy.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905120" y="685800"/>
            <a:ext cx="5638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onten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uga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tarch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ber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early all carbohydrates come from plant sources, except for the natural sugar in mil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yp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Monosaccharide=single sugar units.  These are the smallest carbohydrate molecul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lucose=blood sugar because it circulates in the bloodstream. It is a source of body energ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ructose=has the sweetest taste of all sugars.  It occurs naturally in fruits and hone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alactose= does not occur alone as a monosaccharide in foods.  Instead it is found bonded to glucos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ypes Cont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Disaccharides=made up of two sugar unit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The body splits disaccharides into monosaccharide during digestion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Sucrose=sugar you use in recipes or add to food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Lactose=is found in milk, serves as a source of energy for breast-fed infants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Century Gothic"/>
              </a:rPr>
              <a:t>Maltose=is made of two glucose molecules that are bonded together.  It is formed during digestion of starch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Fib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olysaccharide=made up of many sugar uni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torage form of energy in pla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rain products, such as breads and cereals, and starchy vegetables, such as corn, potatoes, and legumes are high in starch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de up of tough, fibrous cell walls of plant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Fiber cont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nd only in plant food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uman digestive enzymes cannot digest fibers, but bacteria in the digestive tract can break down some fiber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carbohydrates provides almost no energy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imple carbohydr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ecause of their simple molecular structures, monosaccharide and disaccharides are simple carbohydrat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mple carbohydrates are high in simple sugars.  Table sugar, candy, syrups and soft drinks.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omplex carbohydr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olysaccharides have a larger, more intricate molecular structur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ods that are high in starch and fiber.  Breads, cereals, rice, pasta, vegetable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Functions of Carbohydrat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vide energ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pare protei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ssist in breakdown of fat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vide bulk in the diet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13:25:13Z</dcterms:created>
  <dc:creator>public</dc:creator>
  <dc:description/>
  <dc:language>en-US</dc:language>
  <cp:lastModifiedBy>HollandS</cp:lastModifiedBy>
  <dcterms:modified xsi:type="dcterms:W3CDTF">2011-02-14T16:22:32Z</dcterms:modified>
  <cp:revision>6</cp:revision>
  <dc:subject/>
  <dc:title>CARBOHYRATES</dc:title>
</cp:coreProperties>
</file>