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213-39DF-41B8-87B8-359FA5B5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3EA-32F8-4EEF-8E9A-5F214ABF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C2B-A859-44CC-9BB7-DE7A1383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B2F-8645-4AED-A3FF-A7669A07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FF5-0D43-47C4-930C-90C623DC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5A4-B732-4EAA-9E87-5B82FBA6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686-F977-4D23-B499-95D22B7B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187-472D-447A-A8B8-F987B140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346-1EA1-4299-98E2-AD6F4DB9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563-E50C-4881-A0AF-74DA761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7E0-D203-499C-9845-4006CEB9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DCF-AD26-4DCB-99C1-48AC9026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CA1D-1456-4A33-ACAC-C7989EEAD9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dc.gov/std/HIV/std_hiv.pdf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280" y="736560"/>
            <a:ext cx="9372600" cy="50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amydia — Prevalence among 16- to 24-year-old men entering the National Job Training Program by state of residence: United States and outlying areas, 200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680" y="5864400"/>
            <a:ext cx="6939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711760"/>
            <a:ext cx="91440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*Fewer than 100 men residing in these states/areas and entering the National Job Training Program were screened for chlamydia in 200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Note: The median state-specific chlamydia prevalence among male stud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ntering the National Job Training Program in 2005 was 8.1% (range 0.0% to 14.8%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447920" y="797040"/>
            <a:ext cx="108968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norrhea — Prevalence among 16- to 24-year-old women entering the National Job Training Program by state of residence: United States and outlying areas, 200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788080"/>
            <a:ext cx="87631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40360"/>
            <a:ext cx="784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*Fewer  than 100 women residing in these states/areas and entering the National Job Training Program were screened for gonorrhea by the national contract laboratory in 200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143000" y="1001880"/>
            <a:ext cx="1111248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norrhea — Prevalence among 16- to 24-year-old men entering the National Job Training Program by state of residence: United States and outlying areas, 200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7680" y="5864400"/>
            <a:ext cx="6939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019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*Fewer  than 100 men residing in these states/areas and entering the National Job Training Program were screened for gonorrhea by the national contract laboratory in 200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128680" y="776160"/>
            <a:ext cx="121028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urest way to avoid transmission of sexually transmitted diseases is to abstain from sexual intercourse, or to be in a long-term mutually monogamous relationship with a partner who has been tested and you know is uninfect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persons whose sexual behaviors place them at risk for STDs, correct and consistent use of the male latex condom can reduce the risk of STD transmiss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an STD to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a broch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f you are a health care provider and want to give your patients information regarding this ST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1890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Front cover has an interesting image and a title that will get students to read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Front cover has a quote that is attributed (who said it?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All 6 panels contain information and pic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points Contains information about what it is (virus, or bacteria, what it looks like, where you get it…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points Contains information on how to prevent getting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Contains information about how to cure it (or no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Contains information on what do if you get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Contains facts about the prevalence in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oints Contains other interesting statis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oints Contains an anonymous story from real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thing else you can think of to make it effective. Think in co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cdc.gov/std/HIV/std_hiv.pd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dc.gov/std/default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ink between STDs and HIV infec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infected with STDs are 2-5 times more likely than unaffected individuals to acquire HIV if they are exposed through sexual cont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suscepti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ital ulcers-&gt;portal for H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ulcerative ST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infectious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TD is combined with HIV, genital secretion of HIV is 10 times hig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can STD treatment slow the spread of HIV infec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TD treatment reduces and individual’s ability to transmit HIV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TD treatment reduces the spread of HIV infection in communiti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ntinuous interventions to improve acces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ost affective in areas where STD infection is high and heterosexual HIV epidemic is young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reatment of symptomatic STDs may be particularly importan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ications for HIV prevention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of curable STDs should be a major, explicit component of comprehensive HIV prevention progra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reas where STDs that facilitate HIV transmission are prevalent, screening and treatment programs should be expand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V and STD prevention programs in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wo primary ways that STDs can be transmitted. Human immunodeficiency virus (HIV), as well as gonorrhea, chlamydia, and trichomoniasis – the discharge diseases – are transmitted when infected semen or vaginal fluids contact mucosal surfaces (e.g., the male urethra, the vagina or cervix). In contrast, genital ulcer diseases – genital herpes, syphilis, and chancroid – and human papillomavirus are primarily transmitted through contact with infected skin or mucosal surfa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amydia — Trends in positivity among 15- to 19-year-old women tested in family planning clinics by HHS regions, 2001–200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1720" y="5635800"/>
            <a:ext cx="6938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88080"/>
            <a:ext cx="91440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Note: Trends adjusted for changes in laboratory test method and associated increases in test sensitivit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SOURCE: Regional Infertility Prevention Projects; Office of Population Affairs; Local and State STD Control Programs; Centers f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Disease Control and Preven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6324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47840"/>
            <a:ext cx="95248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487080"/>
            <a:ext cx="8915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amydia — Prevalence among 16- to 24-year-old women entering the National Job Training Program by state of residence: United States and outlying areas, 200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7680" y="5864400"/>
            <a:ext cx="6939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5711760"/>
            <a:ext cx="899172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*Fewer than 100 women residing in these states/areas and entering the National Job Training Program were screened for chlamydia in 200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Note: The median state-specific chlamydia prevalence among female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ntering the National Job Training Program in 2005 was 9.2% (range 3.1% to 14.5%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219320" y="831960"/>
            <a:ext cx="108968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9:56:46Z</dcterms:created>
  <dc:creator>Princess Bellyn</dc:creator>
  <dc:description/>
  <dc:language>en-US</dc:language>
  <cp:lastModifiedBy>public</cp:lastModifiedBy>
  <dcterms:modified xsi:type="dcterms:W3CDTF">2007-08-07T14:18:39Z</dcterms:modified>
  <cp:revision>4</cp:revision>
  <dc:subject/>
  <dc:title>Slide 1</dc:title>
</cp:coreProperties>
</file>