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D8E-FF7E-4E9F-9563-1D8EB6C2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C9D-197C-4D5D-B541-B50FE89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58F-C88D-425C-80E7-5D37CE1D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BF7-4A0A-422F-87F4-5366170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8204-DE7A-44C8-9F07-9B47C581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2FCD-490B-4A20-9F1A-91DC93F2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D25B-5BDD-4E0F-854F-F0A3464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7DA3-3E31-4750-A80C-345DE554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13A-74C2-4018-913D-11CEDB4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4B0F-B126-42AB-B1A7-1A6699B6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84F1-FEF4-48FA-9273-1A59CE0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05D-F5A7-4E53-91D8-787D487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D30D-3EA2-4F57-975C-BD3146F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7DD-DF65-483B-82B8-C207321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2A3-E32D-4E4A-8A4F-24A5DFD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4122-8584-43A6-809C-22288288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D6B2-F88F-484D-8B1A-947B1ADD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271EE-833E-495C-B94E-DD275481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48E4C-2EE3-47AA-9AC7-0903353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26506-D70C-434D-B5DC-A130877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6019F-18BD-4B1E-83B5-438988B9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1F783-F904-4460-AE81-FAAC087D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5FD-78B6-4419-90A1-A9BA60D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F5781-2FB8-43CC-A5B9-011D93A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3D292-AD1A-4F53-89DC-A410EDE8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9F54E-78CD-4553-9FA1-F26BF59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34F92-7DCA-4E72-BA25-4C2B83B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64A29-9456-44DE-A159-957ED64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A2EBC-74F0-45B4-9E10-59E03953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08D0E-38CF-4E4E-9D05-3FE1024D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7C8B-FB9E-4FD6-9154-A80B07EF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CD27-4FCB-402F-A3F7-16DC319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AC95-342F-4B88-AAE5-AB3B151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E57-1240-4452-B123-D542EF3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05C7-93BC-48A8-866F-EB0781BD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667D-480A-4D91-8774-D10525C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D46F6-CC8D-431B-8BDA-795B5D83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0F48-0647-4998-803A-F976504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EF51-46CC-4EDA-AA7D-041EBB5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DA9E-C0EE-4FE1-8971-B41E87B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96EA-AE10-466E-B585-1D767DC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C915-D7E2-4DBD-B1E0-5F285567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486-A016-4F1B-92A8-8B7D5287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5B6-199C-4BE0-B64D-3D47076F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C86-C906-492C-9DB0-0294487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029-6457-44B4-873D-D5B5B83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160-3D2B-4214-B30F-A725CC8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D58-0924-4114-8D7F-9266FC4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707-9E71-4DFE-85C3-868F90A4E8C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2A5E-ED3D-4BFF-968E-16AE47661E82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6C03-06F1-4490-9FD4-B05C365744C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E5BD-077E-44CB-ABD9-22083FA770F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CARBOHYDRATES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Body’s main source of energ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nerg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4 calories of energy per gr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re the preferred source of energy because your body can use them so efficientl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you don’t consume enough your body will pull energy from prote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are Protei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tein is less efficiently then carbohydrat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reak Dow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your diet is low in, the body cannot completely break down fa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completely broken down fats form compounds called ketone bod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se compounds then collect in the bloodstream, causing the blood to become more acidic than norma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acidity can damage cells and organ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condition is called ketosi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ul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Helps promote normal digestion and elimination of body waste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uscles in your digestive tract need a healthy workout.  Fiber is the solid material that provides this workou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ber acts as a sponge. It absorbs water, which softens stools and helps prevent constipation. 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Which in turn helps eliminate the likelihood of hemorrhoid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ther Fiber Benefi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 fiber swells, it helps you feel ful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er also slows the rate at which the stomach empt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rous food sources are usually lower in calories than foods high in fa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wer risks of colon canc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wer the risks of heart diseas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rol diabe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suli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fter you eat, the amount of glucose in your body increas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hormone called insulin is released from the pancrea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sulin helps the body lower blood glucose back to a normal leve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does this by triggering body cells to burn glucose for energy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5638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nte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ga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tarch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arly all carbohydrates come from plant sources, except for the natural sugar in mil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yp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nosaccharide=single sugar units.  These are the smallest carbohydrate molecul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lucose=blood sugar because it circulates in the bloodstream. It is a source of body energ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ructose=has the sweetest taste of all sugars.  It occurs naturally in fruits and hone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alactose= does not occur alone as a monosaccharide in foods.  Instead it is found bonded to glucos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ypes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Disaccharides=made up of two sugar unit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e body splits disaccharides into monosaccharide during diges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ucrose=sugar you use in recipes or add to food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Lactose=is found in milk, serves as a source of energy for breast-fed infant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altose=is made of two glucose molecules that are bonded together.  It is formed during digestion of starch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lysaccharide=made up of many sugar uni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torage form of energy in pla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rain products, such as breads and cereals, and starchy vegetables, such as corn, potatoes, and legumes are high in starc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de up of tough, fibrous cell walls of pla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ber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nd only in plant foo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uman digestive enzymes cannot digest fibers, but bacteria in the digestive tract can break down some fiber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carbohydrates provides almost no energ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mple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cause of their simple molecular structures, monosaccharide and disaccharides are simple carbohydrat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mple carbohydrates are high in simple sugars.  Table sugar, candy, syrups and soft drinks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mplex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lysaccharides have a larger, more intricate molecular structur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ods that are high in starch and fiber.  Breads, cereals, rice, pasta, vegetabl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unctions of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energ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are protei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in breakdown of fa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bulk in the die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3:25:13Z</dcterms:created>
  <dc:creator>public</dc:creator>
  <dc:description/>
  <dc:language>en-US</dc:language>
  <cp:lastModifiedBy>HollandS</cp:lastModifiedBy>
  <dcterms:modified xsi:type="dcterms:W3CDTF">2011-02-14T16:22:32Z</dcterms:modified>
  <cp:revision>6</cp:revision>
  <dc:subject/>
  <dc:title>CARBOHYRATES</dc:title>
</cp:coreProperties>
</file>