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C27-99AC-41AC-ADF5-F08FD464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2271-586F-4CEB-A721-D99F6094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459D-D2F5-4638-9E4D-1C77008B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66A-DAAC-4095-951D-96E5FB08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93A-FDF9-4C6D-A3C8-9F35DEE6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9EFA-04F8-440B-8250-799E0B20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648-A46D-48A2-87C2-CBB571E6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7BB-1155-4147-820E-29EE93AE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9030-C774-406F-80B7-A999DAFF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A41-2F27-4FCD-8DAC-E96B763C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CD4-FADA-4D72-BD9F-B17DA650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FB5-4CEB-48D8-9735-D8762776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93E9-7FC2-4C7D-B5DC-D839E07F1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image" Target="../media/image2.png"/><Relationship Id="rId6" Type="http://schemas.openxmlformats.org/officeDocument/2006/relationships/slide" Target="slide7.xml"/><Relationship Id="rId7" Type="http://schemas.openxmlformats.org/officeDocument/2006/relationships/slide" Target="slide54.xml"/><Relationship Id="rId8" Type="http://schemas.openxmlformats.org/officeDocument/2006/relationships/image" Target="../media/image2.png"/><Relationship Id="rId9" Type="http://schemas.openxmlformats.org/officeDocument/2006/relationships/slide" Target="slide9.xml"/><Relationship Id="rId10" Type="http://schemas.openxmlformats.org/officeDocument/2006/relationships/slide" Target="slide16.xml"/><Relationship Id="rId11" Type="http://schemas.openxmlformats.org/officeDocument/2006/relationships/image" Target="../media/image2.png"/><Relationship Id="rId12" Type="http://schemas.openxmlformats.org/officeDocument/2006/relationships/slide" Target="slide11.xml"/><Relationship Id="rId13" Type="http://schemas.openxmlformats.org/officeDocument/2006/relationships/slide" Target="slide20.xml"/><Relationship Id="rId14" Type="http://schemas.openxmlformats.org/officeDocument/2006/relationships/image" Target="../media/image2.png"/><Relationship Id="rId15" Type="http://schemas.openxmlformats.org/officeDocument/2006/relationships/slide" Target="slide13.xml"/><Relationship Id="rId16" Type="http://schemas.openxmlformats.org/officeDocument/2006/relationships/slide" Target="slide19.xml"/><Relationship Id="rId17" Type="http://schemas.openxmlformats.org/officeDocument/2006/relationships/image" Target="../media/image2.png"/><Relationship Id="rId18" Type="http://schemas.openxmlformats.org/officeDocument/2006/relationships/slide" Target="slide15.xml"/><Relationship Id="rId19" Type="http://schemas.openxmlformats.org/officeDocument/2006/relationships/slide" Target="slide28.xml"/><Relationship Id="rId20" Type="http://schemas.openxmlformats.org/officeDocument/2006/relationships/image" Target="../media/image2.png"/><Relationship Id="rId21" Type="http://schemas.openxmlformats.org/officeDocument/2006/relationships/slide" Target="slide17.xml"/><Relationship Id="rId22" Type="http://schemas.openxmlformats.org/officeDocument/2006/relationships/slide" Target="slide32.xml"/><Relationship Id="rId23" Type="http://schemas.openxmlformats.org/officeDocument/2006/relationships/image" Target="../media/image2.png"/><Relationship Id="rId24" Type="http://schemas.openxmlformats.org/officeDocument/2006/relationships/slide" Target="slide19.xml"/><Relationship Id="rId25" Type="http://schemas.openxmlformats.org/officeDocument/2006/relationships/slide" Target="slide36.xml"/><Relationship Id="rId26" Type="http://schemas.openxmlformats.org/officeDocument/2006/relationships/image" Target="../media/image2.png"/><Relationship Id="rId27" Type="http://schemas.openxmlformats.org/officeDocument/2006/relationships/slide" Target="slide21.xml"/><Relationship Id="rId28" Type="http://schemas.openxmlformats.org/officeDocument/2006/relationships/slide" Target="slide41.xml"/><Relationship Id="rId29" Type="http://schemas.openxmlformats.org/officeDocument/2006/relationships/image" Target="../media/image2.png"/><Relationship Id="rId30" Type="http://schemas.openxmlformats.org/officeDocument/2006/relationships/slide" Target="slide23.xml"/><Relationship Id="rId31" Type="http://schemas.openxmlformats.org/officeDocument/2006/relationships/slide" Target="slide44.xml"/><Relationship Id="rId32" Type="http://schemas.openxmlformats.org/officeDocument/2006/relationships/image" Target="../media/image2.png"/><Relationship Id="rId33" Type="http://schemas.openxmlformats.org/officeDocument/2006/relationships/slide" Target="slide25.xml"/><Relationship Id="rId34" Type="http://schemas.openxmlformats.org/officeDocument/2006/relationships/slide" Target="slide48.xml"/><Relationship Id="rId35" Type="http://schemas.openxmlformats.org/officeDocument/2006/relationships/image" Target="../media/image2.png"/><Relationship Id="rId36" Type="http://schemas.openxmlformats.org/officeDocument/2006/relationships/slide" Target="slide27.xml"/><Relationship Id="rId37" Type="http://schemas.openxmlformats.org/officeDocument/2006/relationships/slide" Target="slide52.xml"/><Relationship Id="rId38" Type="http://schemas.openxmlformats.org/officeDocument/2006/relationships/image" Target="../media/image2.png"/><Relationship Id="rId39" Type="http://schemas.openxmlformats.org/officeDocument/2006/relationships/slide" Target="slide29.xml"/><Relationship Id="rId40" Type="http://schemas.openxmlformats.org/officeDocument/2006/relationships/image" Target="../media/image2.png"/><Relationship Id="rId41" Type="http://schemas.openxmlformats.org/officeDocument/2006/relationships/slide" Target="slide31.xml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Essential Question Topic Jeopardy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opardy Review 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V Show Theme Songs - Jeopardy Think Music..mp3" descr=""/>
          <p:cNvPicPr/>
          <p:nvPr/>
        </p:nvPicPr>
        <p:blipFill>
          <a:blip r:embed="rId1"/>
          <a:stretch/>
        </p:blipFill>
        <p:spPr>
          <a:xfrm>
            <a:off x="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alse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ajor injuri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creasing your muscle mass lowers your metabolism so your body burns the energy you consume slow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0960" y="233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the 5 Elements of Fitnes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ardiorespiratory endurance, muscular strength, muscular endurance, flexibility, and body composi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measure muscular strength and endurance you would use which tests (2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What is…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artial Curl-Ups and Right-Angle Push-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6204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ich of the following is a good test of your cardiorespiratory fitness?: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: how many curl ups you can do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: How heavy a weight you can lif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: The time it takes you to run or walk a mi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What is…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: The time it takes you to run or walk a mi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14320" y="256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bility of your heart and lungs, and blood vessels to send fuel and oxygen to your tissues during long periods of moderate to vigorous activity is known as wha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3">
            <a:hlinkClick r:id="rId4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6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4">
            <a:hlinkClick r:id="rId7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9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>
            <a:hlinkClick r:id="rId10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2" action="ppaction://hlinksldjump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6">
            <a:hlinkClick r:id="rId13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5" action="ppaction://hlinksldjump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rId16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8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rId19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1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>
            <a:hlinkClick r:id="rId22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4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">
            <a:hlinkClick r:id="rId25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7" action="ppaction://hlinksldjump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1">
            <a:hlinkClick r:id="rId28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0" action="ppaction://hlinksldjump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>
            <a:hlinkClick r:id="rId3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3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3">
            <a:hlinkClick r:id="rId34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6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4">
            <a:hlinkClick r:id="rId37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9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1" action="ppaction://hlinksldjump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ue o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ments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tn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i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0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fety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jur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1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CE &amp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T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33"/>
          <p:cNvSpPr/>
          <p:nvPr/>
        </p:nvSpPr>
        <p:spPr>
          <a:xfrm>
            <a:off x="0" y="0"/>
            <a:ext cx="380880" cy="304920"/>
          </a:xfrm>
          <a:custGeom>
            <a:avLst/>
            <a:gdLst>
              <a:gd name="textAreaLeft" fmla="*/ 117720 w 380880"/>
              <a:gd name="textAreaRight" fmla="*/ 263160 w 38088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6" y="304799"/>
                </a:lnTo>
                <a:lnTo>
                  <a:pt x="190500" y="232845"/>
                </a:lnTo>
                <a:lnTo>
                  <a:pt x="72764" y="304799"/>
                </a:lnTo>
                <a:lnTo>
                  <a:pt x="117737" y="18837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ardiorespiratory Enduran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8680" y="1676160"/>
            <a:ext cx="7885080" cy="31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ability to move your body parts through their full range of motion is known as what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lexibilit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volving little physical activity is known as wha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dentar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ercising at a level that’s beyond your regular daily activities is known as wha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verloa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nse short bursts of activity in which the muscles work so hard that they produce energy without using oxygen is known as wha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aerobic Exercis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vements of the joints without contraction of the muscles is known as wha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ens should aim for 30 minutes of physical activity everyday or most day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Isotonic Exercis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y form of movement that causes your body to use energy is known as wha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hysical Activit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a dangerous condition in which the body loses its ability to cool itself through perspiration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heatstrok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causes damage to the skin and tissues caused by extreme col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stb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juries to the ligaments around a joint are known as wha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r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owsiness, weakness, and slowed breathing and heart rate are symptoms of wha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alse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60 minut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herm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944720"/>
            <a:ext cx="7772400" cy="25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etching the affected muscle will usually relieve wha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uscle cram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01720" y="291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does the P PRICE stand fo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rote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does the C PRICE stand fo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ompress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does the F in FITT stand fo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requency of Workou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0960" y="2347560"/>
            <a:ext cx="7772400" cy="20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does the I FITT stand fo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mental or emotional benefit of being physically active is improved self estee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nsity of Workou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do the Ts in FITT stand fo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6052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Type and Tim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61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INAL JEOPARDY QUESTION:</a:t>
            </a: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What are the 3 types of condoms that help to prevent STDs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TV Show Theme Songs - Jeopardy Think Music..mp3" descr=""/>
          <p:cNvPicPr/>
          <p:nvPr/>
        </p:nvPicPr>
        <p:blipFill>
          <a:blip r:embed="rId1"/>
          <a:stretch/>
        </p:blipFill>
        <p:spPr>
          <a:xfrm>
            <a:off x="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0960" y="1603080"/>
            <a:ext cx="7772400" cy="28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What are…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lambskin, latex, polyurethan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Tru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posure to wind and sun can lead to windburn, sunburn, skin cancer, and eye damag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Tru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following are considered minor injuries:  Fractures, dislocations and concussion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3:47:24Z</dcterms:created>
  <dc:creator>Brandon Hall</dc:creator>
  <dc:description/>
  <dc:language>en-US</dc:language>
  <cp:lastModifiedBy>LHerring</cp:lastModifiedBy>
  <dcterms:modified xsi:type="dcterms:W3CDTF">2012-06-28T17:38:26Z</dcterms:modified>
  <cp:revision>65</cp:revision>
  <dc:subject/>
  <dc:title>Math Module II Review</dc:title>
</cp:coreProperties>
</file>