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98160" y="696960"/>
            <a:ext cx="26146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0562F4-A697-4359-BD30-D0B7F73A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6CA598-27C5-4EF6-BB1B-88A3CB11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198520" y="696960"/>
            <a:ext cx="261468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8FB5EC-6FDB-4168-BB9E-031397FAE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2198520" y="696960"/>
            <a:ext cx="26146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210-5ED1-4C46-9895-37CBF8DB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7BE-F5FD-4E8D-9274-190FEEE8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E99-A844-41F9-8188-1A13F240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B1C-89F3-48C3-A015-CE81F9FC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5C8-308E-43EB-85C0-62DC4A89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178-D6FF-405B-8287-BC0E831C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544-7C09-4940-9161-F133456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6C5-7E03-4E59-B848-E8A0A47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C6C-701F-43BC-B0D5-036E357F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F68-9542-4D71-BEAA-8F1A8AD2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803-58C7-40BF-8ECD-02F3EC41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3D0-24DD-40CB-9DF0-3FB97FE3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8F3C-F721-40FE-911A-0A1A875A8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3886200" y="228600"/>
            <a:ext cx="2666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r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533520" y="45720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ind Someone Who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Text Box 12"/>
          <p:cNvSpPr/>
          <p:nvPr/>
        </p:nvSpPr>
        <p:spPr>
          <a:xfrm rot="21004200">
            <a:off x="456840" y="1908000"/>
            <a:ext cx="2743200" cy="17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ens should aim for how many minutes of physical activity everyd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3581280" y="1981080"/>
            <a:ext cx="2971800" cy="2971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809880" y="2666880"/>
            <a:ext cx="2438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type of exercise includes all rhythmic activities that use large muscle groups for an extended period of ti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733920" y="6095880"/>
            <a:ext cx="274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uild cardiovascular fitness perform aerobic exercise at least how of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 rot="21412200">
            <a:off x="3184560" y="5182920"/>
            <a:ext cx="3809880" cy="3429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 rot="441000">
            <a:off x="429120" y="6414480"/>
            <a:ext cx="2743200" cy="234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3 stages of a workou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762120" y="4114800"/>
            <a:ext cx="236196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2 basic categories of physical exercise and activiti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2"/>
          <p:cNvSpPr/>
          <p:nvPr/>
        </p:nvSpPr>
        <p:spPr>
          <a:xfrm>
            <a:off x="304920" y="3886200"/>
            <a:ext cx="335268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685800" y="457200"/>
            <a:ext cx="2438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ype of exercise includes all rhythmic activities that use large muscle groups for an extended period of t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28600" y="304920"/>
            <a:ext cx="3505320" cy="2743200"/>
          </a:xfrm>
          <a:prstGeom prst="hexagon">
            <a:avLst>
              <a:gd name="adj" fmla="val 3194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 rot="21300000">
            <a:off x="3847680" y="983880"/>
            <a:ext cx="2743200" cy="13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ens should aim for how many minutes of physical activity everyd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 rot="862800">
            <a:off x="3848400" y="3058920"/>
            <a:ext cx="27432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diorespiratory endurance, muscular strength, muscular endurance, flexibility and body composition are all wh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 rot="1431000">
            <a:off x="3581280" y="2895480"/>
            <a:ext cx="327672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114800" y="5410080"/>
            <a:ext cx="220968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2 of the emotional/mental benefits of being physically f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3962520" y="5257800"/>
            <a:ext cx="24382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52400" y="4394160"/>
            <a:ext cx="274320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es FITT stand f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 rot="343800">
            <a:off x="-160200" y="2833560"/>
            <a:ext cx="4568760" cy="494208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 rot="1254000">
            <a:off x="880560" y="7569360"/>
            <a:ext cx="2743200" cy="116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test would you use to measure flexibil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4:19:35Z</dcterms:created>
  <dc:creator> Eric</dc:creator>
  <dc:description/>
  <dc:language>en-US</dc:language>
  <cp:lastModifiedBy>LHerring</cp:lastModifiedBy>
  <dcterms:modified xsi:type="dcterms:W3CDTF">2012-06-28T17:38:01Z</dcterms:modified>
  <cp:revision>15</cp:revision>
  <dc:subject/>
  <dc:title>Slide 1</dc:title>
</cp:coreProperties>
</file>