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32974-3AC4-4CE0-82C3-683521D3D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2D5B-E388-42F8-B25B-5B9742829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DBA76-C122-47C1-806E-AD5DCCDD9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D94F6-FE59-47B7-952D-90C36B6CD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988B9-CC77-498C-99CC-0D9619464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E8E40-BDAE-4E5A-81B1-CF4AACB2C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509DA-E2C3-40E3-A41D-2B0035703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5B26-23E2-42DA-B103-F62702FF8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EAC31-21C7-4413-9F21-B2748C7AB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DA3B2-59F6-4CC2-97DD-90F4BF0FE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895F5-421B-4689-B11F-2E6F71B1C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5C61-F217-40B7-9B69-94AE9B6C1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2BB98-71C4-4A38-9751-3A63FA24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AE0E2-280A-49C4-B9CF-E88994705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9ADC2-6E4B-44D5-B8E6-59D032D36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F947B-2533-4AA2-81AF-70B419D4C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362B8-8B34-4BEF-B47C-734BDE768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77CF3-8163-43B3-8096-B06175AA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1A7F-E463-4CD8-8C10-939A71B5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2AB7-058A-4F46-96DE-70C420CB8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C6740-DB8D-4168-AB95-E5BD1182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AD67-383D-41EF-B613-03EACC0B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9890-B0DC-4411-9779-6F163BBC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4A3F-EBEF-4619-A08D-1C540D81F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D186-E3B6-4C34-A1E9-CF27228BB972}"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CF53-9745-452D-9D2B-83C869EE9384}"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7ogPJat_jWo&amp;feature=rela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hempnewstv.files.wordpress.com/2009/07/marijuana-leaf4.jpg&amp;imgrefurl=http://hempnewstv.wordpress.com/2009/07/28/legalization-of-marijuana-could-add-billions-to-californias-empty-coffers-let-the-debate-begin/&amp;usg=__6KuZo4t-mTcx0zlQFgz1lHSF21w=&amp;h=401&amp;w=400&amp;sz=55&amp;hl=en&amp;start=3&amp;itbs=1&amp;tbnid=hQFWVqbBZO4QeM:&amp;tbnh=124&amp;tbnw=124&amp;prev=/images%3Fq%3Dmarijuana%26gbv%3D2%26hl%3Den%26safe%3Dvss%26sa%3D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hhs.gov/"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cnn.com/2010/HEALTH/11/17/alcohol.caffeine.drinks/t1larg.four.loko.jpg" TargetMode="External"/><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www.youtube.com/watch?v=YqWaf9DMFOc&amp;feature=fvw"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080"/>
            <a:ext cx="7010640" cy="24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 RISKS </a:t>
            </a:r>
            <a:br>
              <a:rPr sz="4200"/>
            </a:br>
            <a:r>
              <a:rPr b="0" lang="en-US" sz="4200" spc="-1" strike="noStrike">
                <a:solidFill>
                  <a:srgbClr val="000000"/>
                </a:solidFill>
                <a:latin typeface="Arial"/>
              </a:rPr>
              <a:t>OF </a:t>
            </a:r>
            <a:br>
              <a:rPr sz="4200"/>
            </a:br>
            <a:r>
              <a:rPr b="0" lang="en-US" sz="4200" spc="-1" strike="noStrike">
                <a:solidFill>
                  <a:srgbClr val="000000"/>
                </a:solidFill>
                <a:latin typeface="Arial"/>
              </a:rPr>
              <a:t>DRUG US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society</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 related crime and viole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ing and drug related accide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0 billion/year</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t work hours and productivity due to drug related     illness, jail time, accidents and death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care costs and legal fe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w enforcement costs (police to military), insurances c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orldwide effects on society…</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nited Nations Office on Drugs and Crime (UNODC) is leading the international campaign to raise awareness about the major challenge that illicit drugs represent to society as a whole, and especially to the young. </a:t>
            </a:r>
            <a:endParaRPr b="0" lang="en-US" sz="3000" spc="-1" strike="noStrike">
              <a:solidFill>
                <a:srgbClr val="000000"/>
              </a:solidFill>
              <a:latin typeface="Arial"/>
            </a:endParaRPr>
          </a:p>
        </p:txBody>
      </p:sp>
      <p:pic>
        <p:nvPicPr>
          <p:cNvPr id="111" name="" descr=""/>
          <p:cNvPicPr/>
          <p:nvPr/>
        </p:nvPicPr>
        <p:blipFill>
          <a:blip r:embed="rId1"/>
          <a:stretch/>
        </p:blipFill>
        <p:spPr>
          <a:xfrm>
            <a:off x="6705720" y="380880"/>
            <a:ext cx="1714320" cy="160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nited Nations Office on Drugs and Crime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es that the destructive effects of illicit drugs concern us all. Their use harms individuals, families and society at large.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ugs control the </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and mind of individual consumer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ug crop and drug cartels control     farmer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king and crime control communit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371240" y="1904760"/>
            <a:ext cx="7162920" cy="41907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drug cartel violence has become a daily occurrence in some parts of Mexico, the government says fewer than 5 percent of more than 22,700 people killed by drug violence since late 2006 involved innocent bystanders.</a:t>
            </a:r>
            <a:endParaRPr b="0" lang="en-US" sz="2400" spc="-1" strike="noStrike">
              <a:solidFill>
                <a:srgbClr val="000000"/>
              </a:solidFill>
              <a:latin typeface="Arial"/>
            </a:endParaRPr>
          </a:p>
          <a:p>
            <a:pPr marL="343080" indent="-34308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66"/>
                </a:solidFill>
                <a:uFillTx/>
                <a:latin typeface="Arial"/>
                <a:hlinkClick r:id="rId1"/>
              </a:rPr>
              <a:t>http://www.youtube.com/watch?v=7ogPJat_jWo&amp;feature=related</a:t>
            </a:r>
            <a:endParaRPr b="0" lang="en-US" sz="1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BC - Mexico's Drug War 2010 - (1 of 7)</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
          <p:cNvSpPr/>
          <p:nvPr/>
        </p:nvSpPr>
        <p:spPr>
          <a:xfrm>
            <a:off x="1447920" y="446400"/>
            <a:ext cx="6781680" cy="14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XICO--</a:t>
            </a: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xico Army: Gunmen, Not Soldiers, Killed 2 Boys</a:t>
            </a: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THE ASSOCIATED PRESS</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w York Times</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shed: April 30, 2010</a:t>
            </a: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pic>
        <p:nvPicPr>
          <p:cNvPr id="116" name="" descr=""/>
          <p:cNvPicPr/>
          <p:nvPr/>
        </p:nvPicPr>
        <p:blipFill>
          <a:blip r:embed="rId2"/>
          <a:stretch/>
        </p:blipFill>
        <p:spPr>
          <a:xfrm>
            <a:off x="4800600" y="1066680"/>
            <a:ext cx="3124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w of supply and deman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ough drug education, perhaps we can reduce the demand and consumption and therefore the flow and production of controlled drug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of illegal drug abuse</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onships </a:t>
            </a:r>
            <a:r>
              <a:rPr b="0" lang="en-US" sz="2600" spc="-1" strike="noStrike">
                <a:solidFill>
                  <a:srgbClr val="000000"/>
                </a:solidFill>
                <a:latin typeface="Arial"/>
              </a:rPr>
              <a:t>– such as arguments and break-ups.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k or study</a:t>
            </a:r>
            <a:r>
              <a:rPr b="0" lang="en-US" sz="2600" spc="-1" strike="noStrike">
                <a:solidFill>
                  <a:srgbClr val="000000"/>
                </a:solidFill>
                <a:latin typeface="Arial"/>
              </a:rPr>
              <a:t> – including trouble concentrating and reduced performance.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law</a:t>
            </a:r>
            <a:r>
              <a:rPr b="0" lang="en-US" sz="2600" spc="-1" strike="noStrike">
                <a:solidFill>
                  <a:srgbClr val="000000"/>
                </a:solidFill>
                <a:latin typeface="Arial"/>
              </a:rPr>
              <a:t> – being arrested for possession and use, violence or crimes committed to support use.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nances</a:t>
            </a:r>
            <a:r>
              <a:rPr b="0" lang="en-US" sz="2600" spc="-1" strike="noStrike">
                <a:solidFill>
                  <a:srgbClr val="000000"/>
                </a:solidFill>
                <a:latin typeface="Arial"/>
              </a:rPr>
              <a:t> – such as debt from an inability to hold down a job or from spending money on amphetamines. </a:t>
            </a:r>
            <a:endParaRPr b="0" lang="en-US" sz="2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E 100% PREVE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ijuana</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plant whose leaves, buds, and flowers are usually smoked for their intoxicating effect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active chemical in marijuana, also present in other forms of cannabis, is THC (delta-9-tetrahydrocannabinol). Of the roughly 400 chemicals found in the cannabis plant, THC affects the brain the most. However, when oxidized or burned, marijuana yields some 2,000 chemical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varies from person to person, and can be influenced by a person’s mood and surroundings.</a:t>
            </a:r>
            <a:endParaRPr b="0" lang="en-US" sz="2100" spc="-1" strike="noStrike">
              <a:solidFill>
                <a:srgbClr val="000000"/>
              </a:solidFill>
              <a:latin typeface="Arial"/>
            </a:endParaRPr>
          </a:p>
        </p:txBody>
      </p:sp>
      <p:pic>
        <p:nvPicPr>
          <p:cNvPr id="123" name="" descr="">
            <a:hlinkClick r:id="rId1"/>
          </p:cNvPr>
          <p:cNvPicPr/>
          <p:nvPr/>
        </p:nvPicPr>
        <p:blipFill>
          <a:blip r:embed="rId2"/>
          <a:stretch/>
        </p:blipFill>
        <p:spPr>
          <a:xfrm>
            <a:off x="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creational and Medical Uses</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ijuana is the most commonly abused illicit drug in the United State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recreational context, marijuana has been shown to affect health, brain function, and memor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medical context, marijuana is like any other pain reliever, prescription drug: it has potentially dangerous side effects. Marijuana contains a huge variety of compounds, some of which have not even been thoroughly identified," Hay tells WebMD. The studies, he says, are all short-term, with small group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HABITUAL MARIJUANA USE ON THE IMMUNE SYSTEM</a:t>
            </a:r>
            <a:endParaRPr b="0" lang="en-US" sz="3800" spc="-1" strike="noStrike">
              <a:solidFill>
                <a:srgbClr val="000000"/>
              </a:solidFill>
              <a:latin typeface="Arial"/>
            </a:endParaRPr>
          </a:p>
        </p:txBody>
      </p:sp>
      <p:sp>
        <p:nvSpPr>
          <p:cNvPr id="127" name="PlaceHolder 2"/>
          <p:cNvSpPr>
            <a:spLocks noGrp="1"/>
          </p:cNvSpPr>
          <p:nvPr>
            <p:ph/>
          </p:nvPr>
        </p:nvSpPr>
        <p:spPr>
          <a:xfrm>
            <a:off x="1523880" y="2458800"/>
            <a:ext cx="7010640" cy="35607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st potent argument against the use of marijuana to treat medical disorders is that marijuana may cause the acceleration or aggravation of the very disorders it is being used to tre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rvard Law, 2009</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Arial"/>
              </a:rPr>
              <a:t>RESPIRATORY ILLNESSE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in respiratory consequences of smoking marijuana regularly (one joint a day) are pulmonary infections and respiratory cancer. </a:t>
            </a:r>
            <a:endParaRPr b="0" lang="en-US" sz="2600" spc="-1" strike="noStrike">
              <a:solidFill>
                <a:srgbClr val="000000"/>
              </a:solidFill>
              <a:latin typeface="Arial"/>
            </a:endParaRPr>
          </a:p>
          <a:p>
            <a:pPr marL="315360" indent="-31536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rijuana smoke and cigarette smoke contain many of the same toxins, including one which has been identified as a key factor in the promotion of lung cancer. This toxin is found in the tar phase of both, and it should be noted that one joint has four times more tar than a cigarette, </a:t>
            </a:r>
            <a:endParaRPr b="0" lang="en-US" sz="2600" spc="-1" strike="noStrike">
              <a:solidFill>
                <a:srgbClr val="000000"/>
              </a:solidFill>
              <a:latin typeface="Arial"/>
            </a:endParaRPr>
          </a:p>
          <a:p>
            <a:pPr marL="315360" indent="-315360" algn="r">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vard, 2009</a:t>
            </a:r>
            <a:endParaRPr b="0" lang="en-US" sz="2600" spc="-1" strike="noStrike">
              <a:solidFill>
                <a:srgbClr val="000000"/>
              </a:solidFill>
              <a:latin typeface="Arial"/>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ubstance Abuse</a:t>
            </a:r>
            <a:endParaRPr b="0" lang="en-US" sz="5400" spc="-1" strike="noStrike">
              <a:solidFill>
                <a:srgbClr val="000000"/>
              </a:solidFill>
              <a:latin typeface="Arial"/>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se of illegal substances and the misuse of legal substances.</a:t>
            </a:r>
            <a:endParaRPr b="0" lang="en-US" sz="30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many teens smoke marijuana? </a:t>
            </a:r>
            <a:endParaRPr b="0" lang="en-US" sz="4200" spc="-1" strike="noStrike">
              <a:solidFill>
                <a:srgbClr val="000000"/>
              </a:solidFill>
              <a:latin typeface="Arial"/>
            </a:endParaRPr>
          </a:p>
        </p:txBody>
      </p:sp>
      <p:sp>
        <p:nvSpPr>
          <p:cNvPr id="1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rary to popular belief, most teenagers do not use marijuan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ly about one in seven 10th graders report they are current marijuana users </a:t>
            </a:r>
            <a:r>
              <a:rPr b="0" i="1" lang="en-US" sz="2100" spc="-1" strike="noStrike">
                <a:solidFill>
                  <a:srgbClr val="000000"/>
                </a:solidFill>
                <a:latin typeface="Arial"/>
              </a:rPr>
              <a:t>(that is, used marijuana within the past month)</a:t>
            </a:r>
            <a:r>
              <a:rPr b="0" lang="en-US" sz="2100" spc="-1" strike="noStrike">
                <a:solidFill>
                  <a:srgbClr val="000000"/>
                </a:solidFill>
                <a:latin typeface="Arial"/>
              </a:rPr>
              <a:t>. Fewer than one in five high school seniors is a current marijuana user.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You don’t have to use marijuana just because you think everybody else is doing it. Most teenagers do not use marijuana!</a:t>
            </a:r>
            <a:br>
              <a:rPr sz="2100"/>
            </a:b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gn="r">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ational Institute on Drug Abuse Feb., 2009</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are the short-term effects of marijuana use? </a:t>
            </a:r>
            <a:endParaRPr b="0" lang="en-US" sz="4200" spc="-1" strike="noStrike">
              <a:solidFill>
                <a:srgbClr val="000000"/>
              </a:solidFill>
              <a:latin typeface="Arial"/>
            </a:endParaRPr>
          </a:p>
        </p:txBody>
      </p:sp>
      <p:sp>
        <p:nvSpPr>
          <p:cNvPr id="1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with memory (up to 6 weeks) and learning</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orted perception </a:t>
            </a:r>
            <a:r>
              <a:rPr b="0" i="1" lang="en-US" sz="2600" spc="-1" strike="noStrike">
                <a:solidFill>
                  <a:srgbClr val="000000"/>
                </a:solidFill>
                <a:latin typeface="Arial"/>
              </a:rPr>
              <a:t>(sights, sounds, time, touch)</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uble with thinking, judgment, and problem solving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s of motor coordin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heart rat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ffects can be unpredictable, especially when other drugs are mixed with marijuana.</a:t>
            </a:r>
            <a:endParaRPr b="0" lang="en-US" sz="2600" spc="-1" strike="noStrike">
              <a:solidFill>
                <a:srgbClr val="000000"/>
              </a:solidFill>
              <a:latin typeface="Arial"/>
            </a:endParaRPr>
          </a:p>
          <a:p>
            <a:pPr marL="343080" indent="-343080" algn="r">
              <a:lnSpc>
                <a:spcPct val="80000"/>
              </a:lnSpc>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Institute on Drug Abuse, a component of the </a:t>
            </a:r>
            <a:endParaRPr b="0" lang="en-US" sz="1200" spc="-1" strike="noStrike">
              <a:solidFill>
                <a:srgbClr val="000000"/>
              </a:solidFill>
              <a:latin typeface="Arial"/>
            </a:endParaRPr>
          </a:p>
          <a:p>
            <a:pPr marL="343080" indent="-343080" algn="r">
              <a:lnSpc>
                <a:spcPct val="80000"/>
              </a:lnSpc>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U.S. Department of Health and Human Services</a:t>
            </a:r>
            <a:r>
              <a:rPr b="0" lang="en-US" sz="1200" spc="-1" strike="noStrike" u="sng">
                <a:solidFill>
                  <a:srgbClr val="000000"/>
                </a:solidFill>
                <a:uFillTx/>
                <a:latin typeface="Arial"/>
              </a:rPr>
              <a:t> .Feb.,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NTAL HEALTH</a:t>
            </a:r>
            <a:endParaRPr b="0" lang="en-US" sz="4200" spc="-1" strike="noStrike">
              <a:solidFill>
                <a:srgbClr val="000000"/>
              </a:solidFill>
              <a:latin typeface="Arial"/>
            </a:endParaRPr>
          </a:p>
        </p:txBody>
      </p:sp>
      <p:sp>
        <p:nvSpPr>
          <p:cNvPr id="1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r">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s been suggested that marijuana is at the root of many mental disorders, including acute toxic psychosis, panic attacks (one of the very conditions it is being used experimentally to treat), flashbacks, delusions, depersonalization, hallucinations, paranoia, depression, and uncontrollable aggressiveness. </a:t>
            </a:r>
            <a:r>
              <a:rPr b="1" i="1" lang="en-US" sz="2600" spc="-1" strike="noStrike">
                <a:solidFill>
                  <a:srgbClr val="000000"/>
                </a:solidFill>
                <a:latin typeface="Arial"/>
              </a:rPr>
              <a:t>Marijuana has long been known to trigger attacks of mental illness</a:t>
            </a:r>
            <a:r>
              <a:rPr b="0" lang="en-US" sz="2600" spc="-1" strike="noStrike">
                <a:solidFill>
                  <a:srgbClr val="000000"/>
                </a:solidFill>
                <a:latin typeface="Arial"/>
              </a:rPr>
              <a:t>, such as bipolar (manic-depressive) psychosis and schizophrenia. </a:t>
            </a:r>
            <a:endParaRPr b="0" lang="en-US" sz="2600" spc="-1" strike="noStrike">
              <a:solidFill>
                <a:srgbClr val="000000"/>
              </a:solidFill>
              <a:latin typeface="Arial"/>
            </a:endParaRPr>
          </a:p>
          <a:p>
            <a:pPr marL="318960" indent="-318960" algn="r">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ard,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galization??</a:t>
            </a:r>
            <a:br>
              <a:rPr sz="4200"/>
            </a:br>
            <a:r>
              <a:rPr b="0" lang="en-US" sz="2000" spc="-1" strike="noStrike">
                <a:solidFill>
                  <a:srgbClr val="000000"/>
                </a:solidFill>
                <a:latin typeface="Arial"/>
              </a:rPr>
              <a:t>The World Tribune, Wednesday, March 17, 2010</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t>
            </a:r>
            <a:r>
              <a:rPr b="0" lang="en-US" sz="2400" spc="-1" strike="noStrike">
                <a:solidFill>
                  <a:srgbClr val="000000"/>
                </a:solidFill>
                <a:latin typeface="Arial"/>
              </a:rPr>
              <a:t>Cliff Kincaid, Accuracy in Media) </a:t>
            </a:r>
            <a:r>
              <a:rPr b="0" lang="en-US" sz="2400" spc="-1" strike="noStrike">
                <a:solidFill>
                  <a:srgbClr val="336666"/>
                </a:solidFill>
                <a:latin typeface="Arial"/>
              </a:rPr>
              <a:t>“Legalization mean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the price comes dow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number of users goes up</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underground market adapt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d the revenue gained through a regulated market </a:t>
            </a: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ill never keep pace with the financial and social cost of making this drug more accessible</a:t>
            </a:r>
            <a:r>
              <a:rPr b="0" lang="en-US" sz="2600" spc="-1" strike="noStrike">
                <a:solidFill>
                  <a:srgbClr val="336666"/>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a:t>
            </a: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substances whose fumes are sniffed or inhaled to give effec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000" spc="-1" strike="noStrike">
                <a:solidFill>
                  <a:srgbClr val="000000"/>
                </a:solidFill>
                <a:latin typeface="Arial"/>
              </a:rPr>
              <a:t>there are more than 1,000 products that are very dangerous when inhaled -- things like typewriter correction fluid, air-conditioning refrigerant, felt tip markers, spray paint, air freshener, butane and even cooking spray, solvents, aerosols, glues, paints, varnishes and gasoline can cause dam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ption meds that are inhaled are used for allergies and asthm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a:t>
            </a:r>
            <a:endParaRPr b="0" lang="en-US" sz="4200" spc="-1" strike="noStrike">
              <a:solidFill>
                <a:srgbClr val="000000"/>
              </a:solidFill>
              <a:latin typeface="Arial"/>
            </a:endParaRPr>
          </a:p>
        </p:txBody>
      </p:sp>
      <p:pic>
        <p:nvPicPr>
          <p:cNvPr id="141" name="" descr=""/>
          <p:cNvPicPr/>
          <p:nvPr/>
        </p:nvPicPr>
        <p:blipFill>
          <a:blip r:embed="rId1"/>
          <a:stretch/>
        </p:blipFill>
        <p:spPr>
          <a:xfrm>
            <a:off x="4572000" y="1523880"/>
            <a:ext cx="3581280" cy="3322800"/>
          </a:xfrm>
          <a:prstGeom prst="rect">
            <a:avLst/>
          </a:prstGeom>
          <a:ln w="0">
            <a:noFill/>
          </a:ln>
        </p:spPr>
      </p:pic>
      <p:sp>
        <p:nvSpPr>
          <p:cNvPr id="142" name=""/>
          <p:cNvSpPr/>
          <p:nvPr/>
        </p:nvSpPr>
        <p:spPr>
          <a:xfrm>
            <a:off x="533520" y="2438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3" name=""/>
          <p:cNvSpPr/>
          <p:nvPr/>
        </p:nvSpPr>
        <p:spPr>
          <a:xfrm>
            <a:off x="838080" y="3048120"/>
            <a:ext cx="25909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nhalants </a:t>
            </a:r>
            <a:endParaRPr b="0" lang="en-US" sz="1800" spc="-1" strike="noStrike">
              <a:solidFill>
                <a:srgbClr val="336666"/>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 the </a:t>
            </a:r>
            <a:endParaRPr b="0" lang="en-US" sz="1800" spc="-1" strike="noStrike">
              <a:solidFill>
                <a:srgbClr val="336666"/>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nervous system.</a:t>
            </a:r>
            <a:endParaRPr b="0" lang="en-US" sz="1800" spc="-1" strike="noStrike">
              <a:solidFill>
                <a:srgbClr val="336666"/>
              </a:solidFill>
              <a:latin typeface="Arial"/>
            </a:endParaRPr>
          </a:p>
        </p:txBody>
      </p:sp>
      <p:sp>
        <p:nvSpPr>
          <p:cNvPr id="144" name=""/>
          <p:cNvSpPr/>
          <p:nvPr/>
        </p:nvSpPr>
        <p:spPr>
          <a:xfrm>
            <a:off x="6697800" y="1646280"/>
            <a:ext cx="984240" cy="549360"/>
          </a:xfrm>
          <a:custGeom>
            <a:avLst/>
            <a:gdLst/>
            <a:ahLst/>
            <a:rect l="l" t="t" r="r" b="b"/>
            <a:pathLst>
              <a:path w="2732" h="1525">
                <a:moveTo>
                  <a:pt x="18711" y="5397"/>
                </a:moveTo>
                <a:cubicBezTo>
                  <a:pt x="18690" y="5422"/>
                  <a:pt x="18625" y="5518"/>
                  <a:pt x="18669" y="5419"/>
                </a:cubicBezTo>
                <a:cubicBezTo>
                  <a:pt x="18685" y="5382"/>
                  <a:pt x="18726" y="5300"/>
                  <a:pt x="18754" y="5270"/>
                </a:cubicBezTo>
                <a:cubicBezTo>
                  <a:pt x="18779" y="5243"/>
                  <a:pt x="18850" y="5172"/>
                  <a:pt x="18838" y="5207"/>
                </a:cubicBezTo>
                <a:cubicBezTo>
                  <a:pt x="18823" y="5248"/>
                  <a:pt x="18752" y="5329"/>
                  <a:pt x="18732" y="5355"/>
                </a:cubicBezTo>
                <a:cubicBezTo>
                  <a:pt x="18661" y="5447"/>
                  <a:pt x="18763" y="5308"/>
                  <a:pt x="18775" y="5292"/>
                </a:cubicBezTo>
                <a:cubicBezTo>
                  <a:pt x="18842" y="5203"/>
                  <a:pt x="18898" y="5132"/>
                  <a:pt x="18986" y="5059"/>
                </a:cubicBezTo>
                <a:cubicBezTo>
                  <a:pt x="19022" y="5029"/>
                  <a:pt x="19056" y="4999"/>
                  <a:pt x="19050" y="5016"/>
                </a:cubicBezTo>
                <a:cubicBezTo>
                  <a:pt x="19018" y="5116"/>
                  <a:pt x="18888" y="5264"/>
                  <a:pt x="18817" y="5334"/>
                </a:cubicBezTo>
                <a:cubicBezTo>
                  <a:pt x="18757" y="5393"/>
                  <a:pt x="18608" y="5522"/>
                  <a:pt x="18690" y="5503"/>
                </a:cubicBezTo>
                <a:cubicBezTo>
                  <a:pt x="18823" y="5472"/>
                  <a:pt x="18957" y="5272"/>
                  <a:pt x="19050" y="5186"/>
                </a:cubicBezTo>
                <a:cubicBezTo>
                  <a:pt x="19198" y="5059"/>
                  <a:pt x="19247" y="5017"/>
                  <a:pt x="19325" y="4911"/>
                </a:cubicBezTo>
                <a:cubicBezTo>
                  <a:pt x="19422" y="4795"/>
                  <a:pt x="19446" y="4759"/>
                  <a:pt x="19537" y="4720"/>
                </a:cubicBezTo>
                <a:cubicBezTo>
                  <a:pt x="19469" y="4747"/>
                  <a:pt x="19459" y="4752"/>
                  <a:pt x="19410" y="4805"/>
                </a:cubicBezTo>
                <a:cubicBezTo>
                  <a:pt x="19234" y="4994"/>
                  <a:pt x="19028" y="5165"/>
                  <a:pt x="18859" y="5355"/>
                </a:cubicBezTo>
                <a:cubicBezTo>
                  <a:pt x="18852" y="5363"/>
                  <a:pt x="18707" y="5520"/>
                  <a:pt x="18732" y="5588"/>
                </a:cubicBezTo>
                <a:cubicBezTo>
                  <a:pt x="18749" y="5635"/>
                  <a:pt x="18895" y="5508"/>
                  <a:pt x="18902" y="5503"/>
                </a:cubicBezTo>
                <a:cubicBezTo>
                  <a:pt x="18961" y="5462"/>
                  <a:pt x="19078" y="5372"/>
                  <a:pt x="19113" y="5313"/>
                </a:cubicBezTo>
                <a:cubicBezTo>
                  <a:pt x="19143" y="5262"/>
                  <a:pt x="19091" y="5277"/>
                  <a:pt x="19071" y="5313"/>
                </a:cubicBezTo>
                <a:cubicBezTo>
                  <a:pt x="18995" y="5448"/>
                  <a:pt x="19153" y="5291"/>
                  <a:pt x="19177" y="5270"/>
                </a:cubicBezTo>
                <a:cubicBezTo>
                  <a:pt x="19277" y="5180"/>
                  <a:pt x="19375" y="5088"/>
                  <a:pt x="19473" y="4995"/>
                </a:cubicBezTo>
                <a:cubicBezTo>
                  <a:pt x="19487" y="4981"/>
                  <a:pt x="19502" y="4967"/>
                  <a:pt x="19516" y="4953"/>
                </a:cubicBezTo>
                <a:cubicBezTo>
                  <a:pt x="19516" y="4923"/>
                  <a:pt x="19559" y="4834"/>
                  <a:pt x="19494" y="4868"/>
                </a:cubicBezTo>
                <a:cubicBezTo>
                  <a:pt x="19359" y="4938"/>
                  <a:pt x="19241" y="5132"/>
                  <a:pt x="19156" y="5249"/>
                </a:cubicBezTo>
                <a:cubicBezTo>
                  <a:pt x="19081" y="5352"/>
                  <a:pt x="19046" y="5375"/>
                  <a:pt x="19135" y="5313"/>
                </a:cubicBezTo>
                <a:cubicBezTo>
                  <a:pt x="19329" y="5177"/>
                  <a:pt x="19490" y="5028"/>
                  <a:pt x="19643" y="4847"/>
                </a:cubicBezTo>
                <a:cubicBezTo>
                  <a:pt x="19643" y="4847"/>
                  <a:pt x="19822" y="4608"/>
                  <a:pt x="19791" y="4635"/>
                </a:cubicBezTo>
                <a:cubicBezTo>
                  <a:pt x="19652" y="4755"/>
                  <a:pt x="19558" y="4929"/>
                  <a:pt x="19431" y="5059"/>
                </a:cubicBezTo>
                <a:cubicBezTo>
                  <a:pt x="19382" y="5101"/>
                  <a:pt x="19332" y="5144"/>
                  <a:pt x="19283" y="5186"/>
                </a:cubicBezTo>
                <a:cubicBezTo>
                  <a:pt x="19240" y="5235"/>
                  <a:pt x="19171" y="5316"/>
                  <a:pt x="19135" y="5355"/>
                </a:cubicBezTo>
                <a:cubicBezTo>
                  <a:pt x="19203" y="5272"/>
                  <a:pt x="19253" y="5223"/>
                  <a:pt x="19325" y="5143"/>
                </a:cubicBezTo>
                <a:cubicBezTo>
                  <a:pt x="19453" y="5001"/>
                  <a:pt x="19591" y="4876"/>
                  <a:pt x="19727" y="4741"/>
                </a:cubicBezTo>
                <a:cubicBezTo>
                  <a:pt x="19807" y="4661"/>
                  <a:pt x="19794" y="4677"/>
                  <a:pt x="19727" y="4762"/>
                </a:cubicBezTo>
                <a:cubicBezTo>
                  <a:pt x="19585" y="4943"/>
                  <a:pt x="19428" y="5134"/>
                  <a:pt x="19262" y="5292"/>
                </a:cubicBezTo>
                <a:cubicBezTo>
                  <a:pt x="19254" y="5299"/>
                  <a:pt x="19095" y="5504"/>
                  <a:pt x="19240" y="5397"/>
                </a:cubicBezTo>
                <a:cubicBezTo>
                  <a:pt x="19386" y="5290"/>
                  <a:pt x="19585" y="5069"/>
                  <a:pt x="19706" y="4932"/>
                </a:cubicBezTo>
                <a:cubicBezTo>
                  <a:pt x="19777" y="4851"/>
                  <a:pt x="19791" y="4787"/>
                  <a:pt x="19833" y="4699"/>
                </a:cubicBezTo>
                <a:cubicBezTo>
                  <a:pt x="19733" y="4749"/>
                  <a:pt x="19641" y="4825"/>
                  <a:pt x="19558" y="4911"/>
                </a:cubicBezTo>
                <a:cubicBezTo>
                  <a:pt x="19429" y="5044"/>
                  <a:pt x="19287" y="5188"/>
                  <a:pt x="19177" y="5334"/>
                </a:cubicBezTo>
                <a:cubicBezTo>
                  <a:pt x="19090" y="5450"/>
                  <a:pt x="19407" y="5168"/>
                  <a:pt x="19410" y="5165"/>
                </a:cubicBezTo>
                <a:cubicBezTo>
                  <a:pt x="19505" y="5072"/>
                  <a:pt x="19590" y="4963"/>
                  <a:pt x="19685" y="4868"/>
                </a:cubicBezTo>
                <a:cubicBezTo>
                  <a:pt x="19743" y="4734"/>
                  <a:pt x="19657" y="4856"/>
                  <a:pt x="19600" y="4911"/>
                </a:cubicBezTo>
                <a:cubicBezTo>
                  <a:pt x="19449" y="5057"/>
                  <a:pt x="19319" y="5248"/>
                  <a:pt x="19156" y="5376"/>
                </a:cubicBezTo>
                <a:cubicBezTo>
                  <a:pt x="19008" y="5492"/>
                  <a:pt x="19090" y="5483"/>
                  <a:pt x="19177" y="5397"/>
                </a:cubicBezTo>
                <a:cubicBezTo>
                  <a:pt x="19322" y="5253"/>
                  <a:pt x="19471" y="5114"/>
                  <a:pt x="19621" y="4974"/>
                </a:cubicBezTo>
                <a:cubicBezTo>
                  <a:pt x="19692" y="4907"/>
                  <a:pt x="19684" y="4900"/>
                  <a:pt x="19748" y="4826"/>
                </a:cubicBezTo>
                <a:cubicBezTo>
                  <a:pt x="19584" y="5020"/>
                  <a:pt x="19400" y="5196"/>
                  <a:pt x="19219" y="5376"/>
                </a:cubicBezTo>
                <a:cubicBezTo>
                  <a:pt x="19177" y="5418"/>
                  <a:pt x="19134" y="5461"/>
                  <a:pt x="19092" y="5503"/>
                </a:cubicBezTo>
                <a:cubicBezTo>
                  <a:pt x="18849" y="5725"/>
                  <a:pt x="19117" y="5499"/>
                  <a:pt x="19156" y="5461"/>
                </a:cubicBezTo>
                <a:cubicBezTo>
                  <a:pt x="19286" y="5333"/>
                  <a:pt x="19459" y="5191"/>
                  <a:pt x="19558" y="5038"/>
                </a:cubicBezTo>
                <a:cubicBezTo>
                  <a:pt x="19568" y="5022"/>
                  <a:pt x="19586" y="4935"/>
                  <a:pt x="19537" y="4974"/>
                </a:cubicBezTo>
                <a:cubicBezTo>
                  <a:pt x="19423" y="5064"/>
                  <a:pt x="19323" y="5209"/>
                  <a:pt x="19219" y="5313"/>
                </a:cubicBezTo>
                <a:cubicBezTo>
                  <a:pt x="19101" y="5442"/>
                  <a:pt x="19045" y="5456"/>
                  <a:pt x="19198" y="5334"/>
                </a:cubicBezTo>
                <a:cubicBezTo>
                  <a:pt x="19317" y="5239"/>
                  <a:pt x="19451" y="5170"/>
                  <a:pt x="19558" y="5059"/>
                </a:cubicBezTo>
                <a:cubicBezTo>
                  <a:pt x="19659" y="4955"/>
                  <a:pt x="19558" y="5059"/>
                  <a:pt x="19516" y="5101"/>
                </a:cubicBezTo>
                <a:cubicBezTo>
                  <a:pt x="19419" y="5199"/>
                  <a:pt x="19304" y="5262"/>
                  <a:pt x="19304" y="5419"/>
                </a:cubicBezTo>
                <a:cubicBezTo>
                  <a:pt x="19304" y="5461"/>
                  <a:pt x="19361" y="5355"/>
                  <a:pt x="19389" y="5334"/>
                </a:cubicBezTo>
                <a:cubicBezTo>
                  <a:pt x="19458" y="5283"/>
                  <a:pt x="19573" y="5242"/>
                  <a:pt x="19600" y="5143"/>
                </a:cubicBezTo>
                <a:cubicBezTo>
                  <a:pt x="19625" y="5053"/>
                  <a:pt x="19474" y="5269"/>
                  <a:pt x="19473" y="5270"/>
                </a:cubicBezTo>
                <a:cubicBezTo>
                  <a:pt x="19381" y="5355"/>
                  <a:pt x="19287" y="5435"/>
                  <a:pt x="19198" y="5524"/>
                </a:cubicBezTo>
                <a:cubicBezTo>
                  <a:pt x="19290" y="5560"/>
                  <a:pt x="19226" y="5516"/>
                  <a:pt x="19367" y="5397"/>
                </a:cubicBezTo>
                <a:cubicBezTo>
                  <a:pt x="19476" y="5305"/>
                  <a:pt x="19516" y="5268"/>
                  <a:pt x="19579" y="5165"/>
                </a:cubicBezTo>
                <a:cubicBezTo>
                  <a:pt x="19541" y="5160"/>
                  <a:pt x="19562" y="5099"/>
                  <a:pt x="19473" y="5186"/>
                </a:cubicBezTo>
                <a:cubicBezTo>
                  <a:pt x="19438" y="5228"/>
                  <a:pt x="19402" y="5271"/>
                  <a:pt x="19367" y="5313"/>
                </a:cubicBezTo>
                <a:cubicBezTo>
                  <a:pt x="19311" y="5378"/>
                  <a:pt x="19158" y="5497"/>
                  <a:pt x="19240" y="5524"/>
                </a:cubicBezTo>
                <a:cubicBezTo>
                  <a:pt x="19266" y="5533"/>
                  <a:pt x="19362" y="5382"/>
                  <a:pt x="19367" y="5376"/>
                </a:cubicBezTo>
                <a:cubicBezTo>
                  <a:pt x="19391" y="5348"/>
                  <a:pt x="19455" y="5264"/>
                  <a:pt x="19431" y="5292"/>
                </a:cubicBezTo>
                <a:cubicBezTo>
                  <a:pt x="19416" y="5309"/>
                  <a:pt x="19325" y="5374"/>
                  <a:pt x="19346" y="5419"/>
                </a:cubicBezTo>
                <a:cubicBezTo>
                  <a:pt x="19374" y="5479"/>
                  <a:pt x="19454" y="5375"/>
                  <a:pt x="19494" y="5355"/>
                </a:cubicBezTo>
                <a:cubicBezTo>
                  <a:pt x="19542" y="5331"/>
                  <a:pt x="19657" y="5249"/>
                  <a:pt x="19664" y="5186"/>
                </a:cubicBezTo>
                <a:cubicBezTo>
                  <a:pt x="19676" y="5083"/>
                  <a:pt x="19566" y="5323"/>
                  <a:pt x="19494" y="5397"/>
                </a:cubicBezTo>
                <a:cubicBezTo>
                  <a:pt x="19464" y="5429"/>
                  <a:pt x="19072" y="5787"/>
                  <a:pt x="19113" y="5842"/>
                </a:cubicBezTo>
                <a:cubicBezTo>
                  <a:pt x="19160" y="5904"/>
                  <a:pt x="19534" y="5484"/>
                  <a:pt x="19558" y="5461"/>
                </a:cubicBezTo>
                <a:cubicBezTo>
                  <a:pt x="19711" y="5315"/>
                  <a:pt x="19866" y="5205"/>
                  <a:pt x="19960" y="5016"/>
                </a:cubicBezTo>
                <a:cubicBezTo>
                  <a:pt x="19960" y="4983"/>
                  <a:pt x="19982" y="4904"/>
                  <a:pt x="19918" y="4974"/>
                </a:cubicBezTo>
                <a:cubicBezTo>
                  <a:pt x="19798" y="5105"/>
                  <a:pt x="19724" y="5220"/>
                  <a:pt x="19579" y="5334"/>
                </a:cubicBezTo>
                <a:cubicBezTo>
                  <a:pt x="19536" y="5379"/>
                  <a:pt x="19483" y="5444"/>
                  <a:pt x="19452" y="5482"/>
                </a:cubicBezTo>
                <a:cubicBezTo>
                  <a:pt x="19465" y="5442"/>
                  <a:pt x="19446" y="5452"/>
                  <a:pt x="19473" y="5419"/>
                </a:cubicBezTo>
                <a:cubicBezTo>
                  <a:pt x="19524" y="5358"/>
                  <a:pt x="19578" y="5351"/>
                  <a:pt x="19643" y="5313"/>
                </a:cubicBezTo>
                <a:cubicBezTo>
                  <a:pt x="19686" y="5288"/>
                  <a:pt x="19780" y="5200"/>
                  <a:pt x="19770" y="5249"/>
                </a:cubicBezTo>
                <a:cubicBezTo>
                  <a:pt x="19768" y="5260"/>
                  <a:pt x="19659" y="5398"/>
                  <a:pt x="19643" y="5419"/>
                </a:cubicBezTo>
                <a:cubicBezTo>
                  <a:pt x="19619" y="5448"/>
                  <a:pt x="19491" y="5578"/>
                  <a:pt x="19537" y="5567"/>
                </a:cubicBezTo>
                <a:cubicBezTo>
                  <a:pt x="19663" y="5535"/>
                  <a:pt x="19795" y="5346"/>
                  <a:pt x="19897" y="5270"/>
                </a:cubicBezTo>
                <a:cubicBezTo>
                  <a:pt x="19978" y="5210"/>
                  <a:pt x="20190" y="5029"/>
                  <a:pt x="20151" y="5122"/>
                </a:cubicBezTo>
                <a:cubicBezTo>
                  <a:pt x="20121" y="5194"/>
                  <a:pt x="20031" y="5249"/>
                  <a:pt x="19981" y="5313"/>
                </a:cubicBezTo>
                <a:cubicBezTo>
                  <a:pt x="19956" y="5345"/>
                  <a:pt x="19920" y="5404"/>
                  <a:pt x="19960" y="5397"/>
                </a:cubicBezTo>
                <a:cubicBezTo>
                  <a:pt x="20036" y="5385"/>
                  <a:pt x="20197" y="5219"/>
                  <a:pt x="20256" y="5165"/>
                </a:cubicBezTo>
                <a:cubicBezTo>
                  <a:pt x="20295" y="5130"/>
                  <a:pt x="20505" y="4947"/>
                  <a:pt x="20489" y="4889"/>
                </a:cubicBezTo>
                <a:cubicBezTo>
                  <a:pt x="20423" y="4912"/>
                  <a:pt x="20400" y="4922"/>
                  <a:pt x="20383" y="4974"/>
                </a:cubicBezTo>
                <a:cubicBezTo>
                  <a:pt x="20241" y="5177"/>
                  <a:pt x="20074" y="5334"/>
                  <a:pt x="19918" y="5524"/>
                </a:cubicBezTo>
                <a:cubicBezTo>
                  <a:pt x="19883" y="5566"/>
                  <a:pt x="19847" y="5609"/>
                  <a:pt x="19812" y="5651"/>
                </a:cubicBezTo>
                <a:cubicBezTo>
                  <a:pt x="19739" y="5738"/>
                  <a:pt x="19729" y="5703"/>
                  <a:pt x="19770" y="5673"/>
                </a:cubicBezTo>
                <a:cubicBezTo>
                  <a:pt x="19876" y="5596"/>
                  <a:pt x="20008" y="5464"/>
                  <a:pt x="20087" y="5355"/>
                </a:cubicBezTo>
                <a:cubicBezTo>
                  <a:pt x="20118" y="5312"/>
                  <a:pt x="20064" y="5297"/>
                  <a:pt x="20087" y="5249"/>
                </a:cubicBezTo>
                <a:cubicBezTo>
                  <a:pt x="20119" y="5180"/>
                  <a:pt x="20154" y="5166"/>
                  <a:pt x="20193" y="5101"/>
                </a:cubicBezTo>
                <a:cubicBezTo>
                  <a:pt x="20222" y="5053"/>
                  <a:pt x="20291" y="4919"/>
                  <a:pt x="20278" y="4974"/>
                </a:cubicBezTo>
                <a:cubicBezTo>
                  <a:pt x="20269" y="5014"/>
                  <a:pt x="20248" y="5030"/>
                  <a:pt x="20235" y="5080"/>
                </a:cubicBezTo>
                <a:cubicBezTo>
                  <a:pt x="20215" y="5142"/>
                  <a:pt x="20182" y="5182"/>
                  <a:pt x="20278" y="5080"/>
                </a:cubicBezTo>
                <a:cubicBezTo>
                  <a:pt x="20303" y="5053"/>
                  <a:pt x="20347" y="4926"/>
                  <a:pt x="20278" y="5038"/>
                </a:cubicBezTo>
                <a:cubicBezTo>
                  <a:pt x="20208" y="5153"/>
                  <a:pt x="20114" y="5272"/>
                  <a:pt x="20066" y="5397"/>
                </a:cubicBezTo>
                <a:cubicBezTo>
                  <a:pt x="20046" y="5448"/>
                  <a:pt x="19967" y="5524"/>
                  <a:pt x="20002" y="5524"/>
                </a:cubicBezTo>
                <a:cubicBezTo>
                  <a:pt x="20066" y="5524"/>
                  <a:pt x="20228" y="5318"/>
                  <a:pt x="20278" y="5270"/>
                </a:cubicBezTo>
                <a:cubicBezTo>
                  <a:pt x="20299" y="5250"/>
                  <a:pt x="20417" y="5074"/>
                  <a:pt x="20383" y="5143"/>
                </a:cubicBezTo>
                <a:cubicBezTo>
                  <a:pt x="20376" y="5157"/>
                  <a:pt x="20316" y="5268"/>
                  <a:pt x="20320" y="5270"/>
                </a:cubicBezTo>
                <a:cubicBezTo>
                  <a:pt x="20360" y="5287"/>
                  <a:pt x="20433" y="5136"/>
                  <a:pt x="20447" y="5122"/>
                </a:cubicBezTo>
                <a:cubicBezTo>
                  <a:pt x="20479" y="5089"/>
                  <a:pt x="20534" y="5020"/>
                  <a:pt x="20489" y="5101"/>
                </a:cubicBezTo>
                <a:cubicBezTo>
                  <a:pt x="20429" y="5210"/>
                  <a:pt x="20361" y="5327"/>
                  <a:pt x="20299" y="5440"/>
                </a:cubicBezTo>
                <a:cubicBezTo>
                  <a:pt x="20277" y="5481"/>
                  <a:pt x="20184" y="5586"/>
                  <a:pt x="20235" y="5546"/>
                </a:cubicBezTo>
                <a:cubicBezTo>
                  <a:pt x="20342" y="5461"/>
                  <a:pt x="20408" y="5348"/>
                  <a:pt x="20510" y="5270"/>
                </a:cubicBezTo>
                <a:cubicBezTo>
                  <a:pt x="20537" y="5249"/>
                  <a:pt x="20523" y="5244"/>
                  <a:pt x="20553" y="5228"/>
                </a:cubicBezTo>
                <a:cubicBezTo>
                  <a:pt x="20546" y="5235"/>
                  <a:pt x="20539" y="5242"/>
                  <a:pt x="20532" y="5249"/>
                </a:cubicBezTo>
                <a:cubicBezTo>
                  <a:pt x="20473" y="5338"/>
                  <a:pt x="20372" y="5414"/>
                  <a:pt x="20320" y="5503"/>
                </a:cubicBezTo>
                <a:cubicBezTo>
                  <a:pt x="20274" y="5581"/>
                  <a:pt x="20396" y="5505"/>
                  <a:pt x="20383" y="5482"/>
                </a:cubicBezTo>
                <a:cubicBezTo>
                  <a:pt x="20359" y="5441"/>
                  <a:pt x="20284" y="5555"/>
                  <a:pt x="20256" y="5588"/>
                </a:cubicBezTo>
                <a:cubicBezTo>
                  <a:pt x="20214" y="5638"/>
                  <a:pt x="20109" y="5744"/>
                  <a:pt x="20151" y="5694"/>
                </a:cubicBezTo>
                <a:cubicBezTo>
                  <a:pt x="20202" y="5669"/>
                  <a:pt x="20221" y="5653"/>
                  <a:pt x="20235" y="5609"/>
                </a:cubicBezTo>
                <a:cubicBezTo>
                  <a:pt x="20266" y="5587"/>
                  <a:pt x="20316" y="5566"/>
                  <a:pt x="20341" y="5546"/>
                </a:cubicBezTo>
                <a:cubicBezTo>
                  <a:pt x="20398" y="5501"/>
                  <a:pt x="20403" y="5487"/>
                  <a:pt x="20468" y="5461"/>
                </a:cubicBezTo>
                <a:cubicBezTo>
                  <a:pt x="20512" y="5443"/>
                  <a:pt x="20534" y="5426"/>
                  <a:pt x="20574" y="5397"/>
                </a:cubicBezTo>
                <a:cubicBezTo>
                  <a:pt x="20590" y="5386"/>
                  <a:pt x="20613" y="5335"/>
                  <a:pt x="20637" y="5313"/>
                </a:cubicBezTo>
                <a:cubicBezTo>
                  <a:pt x="20675" y="5277"/>
                  <a:pt x="20755" y="5239"/>
                  <a:pt x="20786" y="5207"/>
                </a:cubicBezTo>
                <a:cubicBezTo>
                  <a:pt x="20805" y="5188"/>
                  <a:pt x="20817" y="5144"/>
                  <a:pt x="20849" y="5122"/>
                </a:cubicBezTo>
                <a:cubicBezTo>
                  <a:pt x="20886" y="5097"/>
                  <a:pt x="20972" y="5081"/>
                  <a:pt x="20997" y="5059"/>
                </a:cubicBezTo>
                <a:cubicBezTo>
                  <a:pt x="21024" y="5035"/>
                  <a:pt x="21046" y="5009"/>
                  <a:pt x="21061" y="4995"/>
                </a:cubicBezTo>
                <a:cubicBezTo>
                  <a:pt x="21082" y="4977"/>
                  <a:pt x="21070" y="4964"/>
                  <a:pt x="21103" y="4953"/>
                </a:cubicBezTo>
                <a:cubicBezTo>
                  <a:pt x="21139" y="4941"/>
                  <a:pt x="21193" y="4941"/>
                  <a:pt x="21230" y="4932"/>
                </a:cubicBezTo>
                <a:cubicBezTo>
                  <a:pt x="21246" y="4961"/>
                  <a:pt x="21269" y="4909"/>
                  <a:pt x="21272" y="4974"/>
                </a:cubicBezTo>
                <a:cubicBezTo>
                  <a:pt x="21275" y="5028"/>
                  <a:pt x="21251" y="5012"/>
                  <a:pt x="21230" y="5038"/>
                </a:cubicBezTo>
                <a:cubicBezTo>
                  <a:pt x="21227" y="5041"/>
                  <a:pt x="21191" y="5078"/>
                  <a:pt x="21188" y="5080"/>
                </a:cubicBezTo>
                <a:cubicBezTo>
                  <a:pt x="21168" y="5094"/>
                  <a:pt x="21147" y="5093"/>
                  <a:pt x="21124" y="5122"/>
                </a:cubicBezTo>
                <a:cubicBezTo>
                  <a:pt x="21110" y="5140"/>
                  <a:pt x="21076" y="5183"/>
                  <a:pt x="21061" y="5207"/>
                </a:cubicBezTo>
                <a:cubicBezTo>
                  <a:pt x="21044" y="5234"/>
                  <a:pt x="21053" y="5233"/>
                  <a:pt x="21040" y="5270"/>
                </a:cubicBezTo>
                <a:cubicBezTo>
                  <a:pt x="21028" y="5305"/>
                  <a:pt x="21009" y="5338"/>
                  <a:pt x="20997" y="5355"/>
                </a:cubicBezTo>
                <a:cubicBezTo>
                  <a:pt x="20973" y="5388"/>
                  <a:pt x="20967" y="5391"/>
                  <a:pt x="20955" y="5419"/>
                </a:cubicBezTo>
                <a:cubicBezTo>
                  <a:pt x="20943" y="5447"/>
                  <a:pt x="20947" y="5445"/>
                  <a:pt x="20934" y="5482"/>
                </a:cubicBezTo>
                <a:cubicBezTo>
                  <a:pt x="20922" y="5516"/>
                  <a:pt x="20904" y="5513"/>
                  <a:pt x="20891" y="5546"/>
                </a:cubicBezTo>
                <a:cubicBezTo>
                  <a:pt x="20883" y="5567"/>
                  <a:pt x="20851" y="5604"/>
                  <a:pt x="20849" y="5609"/>
                </a:cubicBezTo>
                <a:cubicBezTo>
                  <a:pt x="20840" y="5630"/>
                  <a:pt x="20839" y="5676"/>
                  <a:pt x="20828" y="5694"/>
                </a:cubicBezTo>
                <a:cubicBezTo>
                  <a:pt x="20814" y="5715"/>
                  <a:pt x="20786" y="5726"/>
                  <a:pt x="20764" y="5757"/>
                </a:cubicBezTo>
                <a:cubicBezTo>
                  <a:pt x="20745" y="5784"/>
                  <a:pt x="20716" y="5831"/>
                  <a:pt x="20701" y="5863"/>
                </a:cubicBezTo>
                <a:cubicBezTo>
                  <a:pt x="20686" y="5895"/>
                  <a:pt x="20675" y="5910"/>
                  <a:pt x="20659" y="5927"/>
                </a:cubicBezTo>
                <a:cubicBezTo>
                  <a:pt x="20634" y="5955"/>
                  <a:pt x="20611" y="5952"/>
                  <a:pt x="20595" y="5969"/>
                </a:cubicBezTo>
                <a:cubicBezTo>
                  <a:pt x="20589" y="5976"/>
                  <a:pt x="20531" y="6059"/>
                  <a:pt x="20553" y="6075"/>
                </a:cubicBezTo>
                <a:cubicBezTo>
                  <a:pt x="20589" y="6101"/>
                  <a:pt x="20750" y="6051"/>
                  <a:pt x="20722" y="6075"/>
                </a:cubicBezTo>
                <a:cubicBezTo>
                  <a:pt x="20688" y="6104"/>
                  <a:pt x="20693" y="6082"/>
                  <a:pt x="20659" y="6096"/>
                </a:cubicBezTo>
                <a:cubicBezTo>
                  <a:pt x="20607" y="6092"/>
                  <a:pt x="20555" y="6110"/>
                  <a:pt x="20532" y="6075"/>
                </a:cubicBezTo>
                <a:cubicBezTo>
                  <a:pt x="20518" y="6054"/>
                  <a:pt x="20544" y="5966"/>
                  <a:pt x="20553" y="5948"/>
                </a:cubicBezTo>
                <a:cubicBezTo>
                  <a:pt x="20569" y="5914"/>
                  <a:pt x="20627" y="5860"/>
                  <a:pt x="20637" y="5842"/>
                </a:cubicBezTo>
                <a:cubicBezTo>
                  <a:pt x="20660" y="5800"/>
                  <a:pt x="20662" y="5773"/>
                  <a:pt x="20680" y="5736"/>
                </a:cubicBezTo>
                <a:cubicBezTo>
                  <a:pt x="20699" y="5696"/>
                  <a:pt x="20699" y="5650"/>
                  <a:pt x="20722" y="5609"/>
                </a:cubicBezTo>
                <a:cubicBezTo>
                  <a:pt x="20747" y="5564"/>
                  <a:pt x="20771" y="5531"/>
                  <a:pt x="20786" y="5482"/>
                </a:cubicBezTo>
                <a:cubicBezTo>
                  <a:pt x="20799" y="5440"/>
                  <a:pt x="20801" y="5416"/>
                  <a:pt x="20828" y="5376"/>
                </a:cubicBezTo>
                <a:cubicBezTo>
                  <a:pt x="20881" y="5296"/>
                  <a:pt x="20940" y="5261"/>
                  <a:pt x="20997" y="5186"/>
                </a:cubicBezTo>
                <a:cubicBezTo>
                  <a:pt x="21064" y="5099"/>
                  <a:pt x="21128" y="5076"/>
                  <a:pt x="21209" y="5016"/>
                </a:cubicBezTo>
                <a:cubicBezTo>
                  <a:pt x="21248" y="4987"/>
                  <a:pt x="21290" y="4935"/>
                  <a:pt x="21315" y="4911"/>
                </a:cubicBezTo>
                <a:cubicBezTo>
                  <a:pt x="21336" y="4891"/>
                  <a:pt x="21394" y="4810"/>
                  <a:pt x="21294" y="4932"/>
                </a:cubicBezTo>
                <a:cubicBezTo>
                  <a:pt x="21054" y="5130"/>
                  <a:pt x="20840" y="5370"/>
                  <a:pt x="20616" y="5588"/>
                </a:cubicBezTo>
                <a:cubicBezTo>
                  <a:pt x="20562" y="5640"/>
                  <a:pt x="20509" y="5716"/>
                  <a:pt x="20532" y="5630"/>
                </a:cubicBezTo>
                <a:cubicBezTo>
                  <a:pt x="20544" y="5584"/>
                  <a:pt x="20641" y="5482"/>
                  <a:pt x="20659" y="5461"/>
                </a:cubicBezTo>
                <a:cubicBezTo>
                  <a:pt x="20680" y="5437"/>
                  <a:pt x="20738" y="5417"/>
                  <a:pt x="20680" y="5397"/>
                </a:cubicBezTo>
                <a:cubicBezTo>
                  <a:pt x="20602" y="5370"/>
                  <a:pt x="20549" y="5423"/>
                  <a:pt x="20489" y="5461"/>
                </a:cubicBezTo>
                <a:cubicBezTo>
                  <a:pt x="20342" y="5554"/>
                  <a:pt x="20193" y="5647"/>
                  <a:pt x="20045" y="5736"/>
                </a:cubicBezTo>
                <a:cubicBezTo>
                  <a:pt x="20031" y="5743"/>
                  <a:pt x="20016" y="5750"/>
                  <a:pt x="20002" y="5757"/>
                </a:cubicBezTo>
                <a:cubicBezTo>
                  <a:pt x="20040" y="5691"/>
                  <a:pt x="20071" y="5649"/>
                  <a:pt x="20108" y="5588"/>
                </a:cubicBezTo>
                <a:cubicBezTo>
                  <a:pt x="20137" y="5539"/>
                  <a:pt x="20177" y="5496"/>
                  <a:pt x="20087" y="5546"/>
                </a:cubicBezTo>
                <a:cubicBezTo>
                  <a:pt x="20023" y="5581"/>
                  <a:pt x="19963" y="5647"/>
                  <a:pt x="20002" y="5503"/>
                </a:cubicBezTo>
                <a:cubicBezTo>
                  <a:pt x="20023" y="5424"/>
                  <a:pt x="20105" y="5312"/>
                  <a:pt x="20151" y="5249"/>
                </a:cubicBezTo>
                <a:cubicBezTo>
                  <a:pt x="20182" y="5207"/>
                  <a:pt x="20205" y="5204"/>
                  <a:pt x="20172" y="5186"/>
                </a:cubicBezTo>
                <a:cubicBezTo>
                  <a:pt x="20094" y="5145"/>
                  <a:pt x="19928" y="5350"/>
                  <a:pt x="19875" y="5376"/>
                </a:cubicBezTo>
                <a:cubicBezTo>
                  <a:pt x="19698" y="5464"/>
                  <a:pt x="19810" y="5353"/>
                  <a:pt x="19812" y="5313"/>
                </a:cubicBezTo>
                <a:cubicBezTo>
                  <a:pt x="19814" y="5271"/>
                  <a:pt x="19822" y="5242"/>
                  <a:pt x="19791" y="5228"/>
                </a:cubicBezTo>
                <a:cubicBezTo>
                  <a:pt x="19731" y="5202"/>
                  <a:pt x="19711" y="5282"/>
                  <a:pt x="19685" y="5292"/>
                </a:cubicBezTo>
                <a:cubicBezTo>
                  <a:pt x="19664" y="5292"/>
                  <a:pt x="19657" y="5292"/>
                  <a:pt x="19643" y="5292"/>
                </a:cubicBezTo>
                <a:cubicBezTo>
                  <a:pt x="19696" y="5211"/>
                  <a:pt x="19755" y="5135"/>
                  <a:pt x="19812" y="5059"/>
                </a:cubicBezTo>
                <a:cubicBezTo>
                  <a:pt x="19852" y="5006"/>
                  <a:pt x="19961" y="4871"/>
                  <a:pt x="19897" y="4889"/>
                </a:cubicBezTo>
                <a:cubicBezTo>
                  <a:pt x="19862" y="4899"/>
                  <a:pt x="19714" y="5046"/>
                  <a:pt x="19727" y="5080"/>
                </a:cubicBezTo>
                <a:cubicBezTo>
                  <a:pt x="19740" y="5115"/>
                  <a:pt x="19808" y="5021"/>
                  <a:pt x="19854" y="4953"/>
                </a:cubicBezTo>
                <a:cubicBezTo>
                  <a:pt x="19897" y="4889"/>
                  <a:pt x="20036" y="4817"/>
                  <a:pt x="19981" y="4762"/>
                </a:cubicBezTo>
                <a:cubicBezTo>
                  <a:pt x="19947" y="4728"/>
                  <a:pt x="19922" y="4825"/>
                  <a:pt x="19897" y="4868"/>
                </a:cubicBezTo>
                <a:cubicBezTo>
                  <a:pt x="19850" y="4946"/>
                  <a:pt x="19801" y="5039"/>
                  <a:pt x="19770" y="5101"/>
                </a:cubicBezTo>
                <a:cubicBezTo>
                  <a:pt x="19840" y="5046"/>
                  <a:pt x="19882" y="5022"/>
                  <a:pt x="19939" y="4953"/>
                </a:cubicBezTo>
                <a:cubicBezTo>
                  <a:pt x="20011" y="4866"/>
                  <a:pt x="20062" y="4766"/>
                  <a:pt x="20129" y="4678"/>
                </a:cubicBezTo>
                <a:cubicBezTo>
                  <a:pt x="20221" y="4557"/>
                  <a:pt x="20165" y="4649"/>
                  <a:pt x="20129" y="4720"/>
                </a:cubicBezTo>
                <a:cubicBezTo>
                  <a:pt x="20126" y="4726"/>
                  <a:pt x="20078" y="4884"/>
                  <a:pt x="20087" y="4826"/>
                </a:cubicBezTo>
                <a:cubicBezTo>
                  <a:pt x="20100" y="4749"/>
                  <a:pt x="20164" y="4685"/>
                  <a:pt x="20193" y="4614"/>
                </a:cubicBezTo>
                <a:cubicBezTo>
                  <a:pt x="20193" y="4607"/>
                  <a:pt x="20193" y="4600"/>
                  <a:pt x="20193" y="4593"/>
                </a:cubicBezTo>
                <a:cubicBezTo>
                  <a:pt x="20169" y="4652"/>
                  <a:pt x="20161" y="4665"/>
                  <a:pt x="20129" y="4720"/>
                </a:cubicBezTo>
                <a:cubicBezTo>
                  <a:pt x="20075" y="4811"/>
                  <a:pt x="20027" y="4912"/>
                  <a:pt x="19960" y="4995"/>
                </a:cubicBezTo>
                <a:cubicBezTo>
                  <a:pt x="19900" y="5069"/>
                  <a:pt x="19925" y="5026"/>
                  <a:pt x="19939" y="4974"/>
                </a:cubicBezTo>
                <a:cubicBezTo>
                  <a:pt x="19945" y="4951"/>
                  <a:pt x="20001" y="4835"/>
                  <a:pt x="19918" y="4868"/>
                </a:cubicBezTo>
                <a:cubicBezTo>
                  <a:pt x="19813" y="4910"/>
                  <a:pt x="19713" y="5035"/>
                  <a:pt x="19621" y="5101"/>
                </a:cubicBezTo>
                <a:cubicBezTo>
                  <a:pt x="19567" y="5140"/>
                  <a:pt x="19457" y="5246"/>
                  <a:pt x="19431" y="5228"/>
                </a:cubicBezTo>
                <a:cubicBezTo>
                  <a:pt x="19378" y="5192"/>
                  <a:pt x="19501" y="4936"/>
                  <a:pt x="19389" y="4995"/>
                </a:cubicBezTo>
                <a:cubicBezTo>
                  <a:pt x="19279" y="5053"/>
                  <a:pt x="19206" y="5190"/>
                  <a:pt x="19092" y="5249"/>
                </a:cubicBezTo>
                <a:cubicBezTo>
                  <a:pt x="19021" y="5286"/>
                  <a:pt x="19051" y="5243"/>
                  <a:pt x="19092" y="5165"/>
                </a:cubicBezTo>
                <a:cubicBezTo>
                  <a:pt x="19140" y="5072"/>
                  <a:pt x="19204" y="5008"/>
                  <a:pt x="19219" y="4911"/>
                </a:cubicBezTo>
                <a:cubicBezTo>
                  <a:pt x="19233" y="4823"/>
                  <a:pt x="19184" y="4928"/>
                  <a:pt x="19156" y="4953"/>
                </a:cubicBezTo>
                <a:cubicBezTo>
                  <a:pt x="19143" y="4964"/>
                  <a:pt x="19056" y="5041"/>
                  <a:pt x="19156" y="4953"/>
                </a:cubicBezTo>
                <a:cubicBezTo>
                  <a:pt x="19212" y="4903"/>
                  <a:pt x="19400" y="4815"/>
                  <a:pt x="19325" y="4805"/>
                </a:cubicBezTo>
                <a:cubicBezTo>
                  <a:pt x="19300" y="4802"/>
                  <a:pt x="19326" y="4805"/>
                  <a:pt x="19240" y="4847"/>
                </a:cubicBezTo>
                <a:cubicBezTo>
                  <a:pt x="19100" y="4988"/>
                  <a:pt x="19012" y="5115"/>
                  <a:pt x="18838" y="5228"/>
                </a:cubicBezTo>
                <a:cubicBezTo>
                  <a:pt x="18759" y="5279"/>
                  <a:pt x="18664" y="5344"/>
                  <a:pt x="18605" y="5397"/>
                </a:cubicBezTo>
                <a:cubicBezTo>
                  <a:pt x="18630" y="5332"/>
                  <a:pt x="18651" y="5287"/>
                  <a:pt x="18690" y="5228"/>
                </a:cubicBezTo>
                <a:cubicBezTo>
                  <a:pt x="18692" y="5225"/>
                  <a:pt x="18789" y="5090"/>
                  <a:pt x="18775" y="5080"/>
                </a:cubicBezTo>
                <a:cubicBezTo>
                  <a:pt x="18758" y="5068"/>
                  <a:pt x="18657" y="5181"/>
                  <a:pt x="18754" y="5080"/>
                </a:cubicBezTo>
                <a:cubicBezTo>
                  <a:pt x="18808" y="5023"/>
                  <a:pt x="18806" y="4909"/>
                  <a:pt x="18881" y="4889"/>
                </a:cubicBezTo>
                <a:cubicBezTo>
                  <a:pt x="18958" y="4869"/>
                  <a:pt x="18875" y="4972"/>
                  <a:pt x="18881" y="5016"/>
                </a:cubicBezTo>
                <a:cubicBezTo>
                  <a:pt x="18883" y="5033"/>
                  <a:pt x="18969" y="4987"/>
                  <a:pt x="19029" y="4932"/>
                </a:cubicBezTo>
                <a:cubicBezTo>
                  <a:pt x="19073" y="4891"/>
                  <a:pt x="19138" y="4814"/>
                  <a:pt x="19113" y="4868"/>
                </a:cubicBezTo>
                <a:cubicBezTo>
                  <a:pt x="19100" y="4896"/>
                  <a:pt x="19009" y="4991"/>
                  <a:pt x="19008" y="4995"/>
                </a:cubicBezTo>
                <a:cubicBezTo>
                  <a:pt x="19008" y="5009"/>
                  <a:pt x="19008" y="5024"/>
                  <a:pt x="19008" y="5038"/>
                </a:cubicBezTo>
              </a:path>
              <a:path w="2732" h="1525">
                <a:moveTo>
                  <a:pt x="19283" y="5948"/>
                </a:moveTo>
                <a:cubicBezTo>
                  <a:pt x="19302" y="5929"/>
                  <a:pt x="19309" y="5924"/>
                  <a:pt x="19304" y="5905"/>
                </a:cubicBezTo>
                <a:cubicBezTo>
                  <a:pt x="19331" y="5896"/>
                  <a:pt x="19337" y="5876"/>
                  <a:pt x="19346" y="5842"/>
                </a:cubicBezTo>
                <a:cubicBezTo>
                  <a:pt x="19370" y="5834"/>
                  <a:pt x="19383" y="5825"/>
                  <a:pt x="19410" y="5800"/>
                </a:cubicBezTo>
                <a:cubicBezTo>
                  <a:pt x="19429" y="5780"/>
                  <a:pt x="19433" y="5773"/>
                  <a:pt x="19452" y="5778"/>
                </a:cubicBezTo>
                <a:cubicBezTo>
                  <a:pt x="19452" y="5742"/>
                  <a:pt x="19443" y="5746"/>
                  <a:pt x="19473" y="5736"/>
                </a:cubicBezTo>
                <a:cubicBezTo>
                  <a:pt x="19484" y="5702"/>
                  <a:pt x="19483" y="5728"/>
                  <a:pt x="19494" y="5694"/>
                </a:cubicBezTo>
                <a:cubicBezTo>
                  <a:pt x="19530" y="5694"/>
                  <a:pt x="19527" y="5703"/>
                  <a:pt x="19537" y="5673"/>
                </a:cubicBezTo>
                <a:cubicBezTo>
                  <a:pt x="19570" y="5662"/>
                  <a:pt x="19559" y="5639"/>
                  <a:pt x="19579" y="5609"/>
                </a:cubicBezTo>
                <a:cubicBezTo>
                  <a:pt x="19598" y="5590"/>
                  <a:pt x="19605" y="5586"/>
                  <a:pt x="19600" y="5567"/>
                </a:cubicBezTo>
                <a:cubicBezTo>
                  <a:pt x="19634" y="5558"/>
                  <a:pt x="19654" y="5535"/>
                  <a:pt x="19685" y="5524"/>
                </a:cubicBezTo>
                <a:cubicBezTo>
                  <a:pt x="19723" y="5511"/>
                  <a:pt x="19772" y="5492"/>
                  <a:pt x="19812" y="5482"/>
                </a:cubicBezTo>
                <a:cubicBezTo>
                  <a:pt x="19834" y="5477"/>
                  <a:pt x="19877" y="5482"/>
                  <a:pt x="19897" y="5482"/>
                </a:cubicBezTo>
                <a:cubicBezTo>
                  <a:pt x="19908" y="5450"/>
                  <a:pt x="19918" y="5464"/>
                  <a:pt x="19918" y="5419"/>
                </a:cubicBezTo>
              </a:path>
              <a:path w="2732" h="1525">
                <a:moveTo>
                  <a:pt x="18986" y="5969"/>
                </a:moveTo>
                <a:cubicBezTo>
                  <a:pt x="19022" y="5934"/>
                  <a:pt x="19025" y="5903"/>
                  <a:pt x="19071" y="5884"/>
                </a:cubicBezTo>
                <a:cubicBezTo>
                  <a:pt x="19153" y="5849"/>
                  <a:pt x="19212" y="5799"/>
                  <a:pt x="19283" y="5736"/>
                </a:cubicBezTo>
                <a:cubicBezTo>
                  <a:pt x="19349" y="5678"/>
                  <a:pt x="19426" y="5635"/>
                  <a:pt x="19494" y="5567"/>
                </a:cubicBezTo>
                <a:cubicBezTo>
                  <a:pt x="19535" y="5526"/>
                  <a:pt x="19603" y="5489"/>
                  <a:pt x="19621" y="5440"/>
                </a:cubicBezTo>
                <a:cubicBezTo>
                  <a:pt x="19621" y="5433"/>
                  <a:pt x="19621" y="5426"/>
                  <a:pt x="19621" y="5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effects</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indness</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ralysis</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rdiac arres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an inhalant causes the heart to begin working too hard, a rapid, irregular heartbeat may trigger lethal heart failure — even for first-time inhaler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ronic inhalant abuse can cause </a:t>
            </a:r>
            <a:r>
              <a:rPr b="1" lang="en-US" sz="1700" spc="-1" strike="noStrike">
                <a:solidFill>
                  <a:srgbClr val="000000"/>
                </a:solidFill>
                <a:latin typeface="Arial"/>
              </a:rPr>
              <a:t>weakness, fatigue</a:t>
            </a:r>
            <a:r>
              <a:rPr b="0" lang="en-US"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ver and kidney</a:t>
            </a:r>
            <a:r>
              <a:rPr b="0" lang="en-US" sz="1700" spc="-1" strike="noStrike">
                <a:solidFill>
                  <a:srgbClr val="000000"/>
                </a:solidFill>
                <a:latin typeface="Arial"/>
              </a:rPr>
              <a:t> damage.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manent brain damage and hearing loss</a:t>
            </a:r>
            <a:r>
              <a:rPr b="0" lang="en-US" sz="1700" spc="-1" strike="noStrike">
                <a:solidFill>
                  <a:srgbClr val="000000"/>
                </a:solidFill>
                <a:latin typeface="Arial"/>
              </a:rPr>
              <a:t> are possible as well.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ffocation</a:t>
            </a:r>
            <a:r>
              <a:rPr b="0" lang="en-US" sz="1700" spc="-1" strike="noStrike">
                <a:solidFill>
                  <a:srgbClr val="000000"/>
                </a:solidFill>
                <a:latin typeface="Arial"/>
              </a:rPr>
              <a:t>, when inhalants displace oxygen in the lung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izures</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of consciousnes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ath</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halant abuse remains a danger</a:t>
            </a:r>
            <a:br>
              <a:rPr sz="3800"/>
            </a:br>
            <a:r>
              <a:rPr b="1" lang="en-US" sz="1200" spc="-1" strike="noStrike">
                <a:solidFill>
                  <a:srgbClr val="000000"/>
                </a:solidFill>
                <a:latin typeface="Arial"/>
              </a:rPr>
              <a:t>The Washington Times,</a:t>
            </a:r>
            <a:r>
              <a:rPr b="1" lang="en-US" sz="3800" spc="-1" strike="noStrike">
                <a:solidFill>
                  <a:srgbClr val="000000"/>
                </a:solidFill>
                <a:latin typeface="Arial"/>
              </a:rPr>
              <a:t> </a:t>
            </a:r>
            <a:r>
              <a:rPr b="1" lang="en-US" sz="1200" spc="-1" strike="noStrike">
                <a:solidFill>
                  <a:srgbClr val="000000"/>
                </a:solidFill>
                <a:latin typeface="Arial"/>
              </a:rPr>
              <a:t>Wednesday, April 21, 2010</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can happen “even the first time." </a:t>
            </a:r>
            <a:endParaRPr b="0" lang="en-US" sz="3000" spc="-1" strike="noStrike">
              <a:solidFill>
                <a:srgbClr val="000000"/>
              </a:solidFill>
              <a:latin typeface="Arial"/>
            </a:endParaRPr>
          </a:p>
        </p:txBody>
      </p:sp>
      <p:pic>
        <p:nvPicPr>
          <p:cNvPr id="149" name="" descr=""/>
          <p:cNvPicPr/>
          <p:nvPr/>
        </p:nvPicPr>
        <p:blipFill>
          <a:blip r:embed="rId1"/>
          <a:stretch/>
        </p:blipFill>
        <p:spPr>
          <a:xfrm>
            <a:off x="6324480" y="3962520"/>
            <a:ext cx="1986120" cy="198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erformance-enhancing drug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used t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ost athletic perform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rd off fatigu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hance physical appear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muscle mass and streng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t they can cause serious harm.</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ngerous side effects:</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ndon and ligament injuri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olent behavio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eme mood swing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ressio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noia (extreme and unreasonable suspicion of other people and their motives)</a:t>
            </a:r>
            <a:endParaRPr b="0" lang="en-US" sz="26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drugfree.org/playhealth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Constantia"/>
              </a:rPr>
              <a:t>ILLEGAL DRUGS:</a:t>
            </a:r>
            <a:endParaRPr b="0" lang="en-US" sz="4200" spc="-1" strike="noStrike">
              <a:solidFill>
                <a:srgbClr val="000000"/>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mical substances that people of any age may not lawfully manufacture, possess, buy or sa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illegal drugs is call </a:t>
            </a:r>
            <a:r>
              <a:rPr b="0" i="1" lang="en-US" sz="3000" spc="-1" strike="noStrike">
                <a:solidFill>
                  <a:srgbClr val="000000"/>
                </a:solidFill>
                <a:latin typeface="Arial"/>
              </a:rPr>
              <a:t>illicit drug u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en-US" sz="2000" spc="-1" strike="noStrike">
                <a:solidFill>
                  <a:srgbClr val="000000"/>
                </a:solidFill>
                <a:latin typeface="Arial"/>
              </a:rPr>
              <a:t>Scott Siegel, shown during bodybuilding competition in 2005, started using steroids in high school to overcome his insecurities about his body.</a:t>
            </a:r>
            <a:r>
              <a:rPr b="0" lang="en-US" sz="3800" spc="-1" strike="noStrike">
                <a:solidFill>
                  <a:srgbClr val="000000"/>
                </a:solidFill>
                <a:latin typeface="Arial"/>
              </a:rPr>
              <a:t> </a:t>
            </a:r>
            <a:br>
              <a:rPr sz="3800"/>
            </a:br>
            <a:br>
              <a:rPr sz="3800"/>
            </a:br>
            <a:endParaRPr b="0" lang="en-US" sz="3800" spc="-1" strike="noStrike">
              <a:solidFill>
                <a:srgbClr val="000000"/>
              </a:solidFill>
              <a:latin typeface="Arial"/>
            </a:endParaRPr>
          </a:p>
        </p:txBody>
      </p:sp>
      <p:pic>
        <p:nvPicPr>
          <p:cNvPr id="155" name="" descr="Scott Siegel, shown during bodybuilding competition in 2005, started using steroids in high school to overcome his insecurities about his body."/>
          <p:cNvPicPr/>
          <p:nvPr/>
        </p:nvPicPr>
        <p:blipFill>
          <a:blip r:embed="rId1"/>
          <a:stretch/>
        </p:blipFill>
        <p:spPr>
          <a:xfrm>
            <a:off x="3429000" y="1914480"/>
            <a:ext cx="2286000" cy="302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er St. Louis Cardinals slugger Mark McGwire admits steroid use while playing baseball…</a:t>
            </a:r>
            <a:br>
              <a:rPr sz="2000"/>
            </a:br>
            <a:r>
              <a:rPr b="1" lang="en-US" sz="4200" spc="-1" strike="noStrike">
                <a:solidFill>
                  <a:srgbClr val="000000"/>
                </a:solidFill>
                <a:latin typeface="Arial"/>
              </a:rPr>
              <a:t>"Tainted Records"</a:t>
            </a:r>
            <a:r>
              <a:rPr b="0" lang="en-US" sz="4200" spc="-1" strike="noStrike">
                <a:solidFill>
                  <a:srgbClr val="000000"/>
                </a:solidFill>
                <a:latin typeface="Arial"/>
              </a:rPr>
              <a:t> </a:t>
            </a:r>
            <a:endParaRPr b="0" lang="en-US" sz="4200" spc="-1" strike="noStrike">
              <a:solidFill>
                <a:srgbClr val="000000"/>
              </a:solidFill>
              <a:latin typeface="Arial"/>
            </a:endParaRPr>
          </a:p>
        </p:txBody>
      </p:sp>
      <p:pic>
        <p:nvPicPr>
          <p:cNvPr id="157" name="" descr=""/>
          <p:cNvPicPr/>
          <p:nvPr/>
        </p:nvPicPr>
        <p:blipFill>
          <a:blip r:embed="rId1"/>
          <a:stretch/>
        </p:blipFill>
        <p:spPr>
          <a:xfrm>
            <a:off x="1523880" y="1905120"/>
            <a:ext cx="701064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nmedical use of steroids is illeg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SYCHOACTIVE DRUG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chemicals that affect the central nervous system and alter activity in the brain.</a:t>
            </a:r>
            <a:endParaRPr b="0" lang="en-US" sz="3000" spc="-1" strike="noStrike">
              <a:solidFill>
                <a:srgbClr val="000000"/>
              </a:solidFill>
              <a:latin typeface="Arial"/>
            </a:endParaRPr>
          </a:p>
        </p:txBody>
      </p:sp>
      <p:pic>
        <p:nvPicPr>
          <p:cNvPr id="161" name="" descr=""/>
          <p:cNvPicPr/>
          <p:nvPr/>
        </p:nvPicPr>
        <p:blipFill>
          <a:blip r:embed="rId1"/>
          <a:stretch/>
        </p:blipFill>
        <p:spPr>
          <a:xfrm>
            <a:off x="5334120" y="3886200"/>
            <a:ext cx="3047760" cy="213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4 main groups</a:t>
            </a:r>
            <a:endParaRPr b="0" lang="en-US" sz="4200" spc="-1" strike="noStrike">
              <a:solidFill>
                <a:srgbClr val="000000"/>
              </a:solidFill>
              <a:latin typeface="Arial"/>
            </a:endParaRPr>
          </a:p>
        </p:txBody>
      </p:sp>
      <p:sp>
        <p:nvSpPr>
          <p:cNvPr id="1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mula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a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lucinoge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imulants</a:t>
            </a:r>
            <a:endParaRPr b="0" lang="en-US" sz="4200" spc="-1" strike="noStrike">
              <a:solidFill>
                <a:srgbClr val="000000"/>
              </a:solidFill>
              <a:latin typeface="Arial"/>
            </a:endParaRPr>
          </a:p>
        </p:txBody>
      </p:sp>
      <p:sp>
        <p:nvSpPr>
          <p:cNvPr id="1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66" name=""/>
          <p:cNvSpPr/>
          <p:nvPr/>
        </p:nvSpPr>
        <p:spPr>
          <a:xfrm>
            <a:off x="1447920" y="3373200"/>
            <a:ext cx="670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re drugs which speed up the central nervous system and therefore the workings of the brain.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imulants</a:t>
            </a:r>
            <a:endParaRPr b="0" lang="en-US" sz="4200" spc="-1" strike="noStrike">
              <a:solidFill>
                <a:srgbClr val="000000"/>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phetami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ca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ack</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ffeine—energy or power drin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lass of drugs includes amphetamines, methamphetamine, cocaine</a:t>
            </a:r>
            <a:endParaRPr b="0" lang="en-US" sz="2800" spc="-1" strike="noStrike">
              <a:solidFill>
                <a:srgbClr val="000000"/>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gns of use and dependence can includ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uphoria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creased appetit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pid speech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rritability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tlessnes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ression as the drug wears off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asal congestion and damage to the mucous membrane of the nose in users who snort drug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somnia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eight los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creased heart rate, blood pressure and temperatur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ranoia </a:t>
            </a:r>
            <a:endParaRPr b="0" lang="en-US" sz="1900" spc="-1" strike="noStrike">
              <a:solidFill>
                <a:srgbClr val="000000"/>
              </a:solidFill>
              <a:latin typeface="Arial"/>
            </a:endParaRPr>
          </a:p>
          <a:p>
            <a:pPr marL="343080" indent="-343080" algn="r">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MD,201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t>
            </a:r>
            <a:br>
              <a:rPr sz="2400"/>
            </a:br>
            <a:r>
              <a:rPr b="0" lang="en-US" sz="2400" spc="-1" strike="noStrike">
                <a:solidFill>
                  <a:srgbClr val="000000"/>
                </a:solidFill>
                <a:latin typeface="Arial"/>
              </a:rPr>
              <a:t>What are its effects?</a:t>
            </a:r>
            <a:endParaRPr b="0" lang="en-US" sz="2400" spc="-1" strike="noStrike">
              <a:solidFill>
                <a:srgbClr val="000000"/>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 is addictive, and users can develop a tolerance quickly, needing larger amounts to get high. In some cases, users forego food and sleep and take more meth every few hours for days, 'binging' until they run out of the drug or become too disorganized to continu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rystal Meth is a powerful and extremely addictive man-made stimulant.</a:t>
            </a:r>
            <a:endParaRPr b="0" lang="en-US" sz="2600" spc="-1" strike="noStrike">
              <a:solidFill>
                <a:srgbClr val="000000"/>
              </a:solidFill>
              <a:latin typeface="Arial"/>
            </a:endParaRPr>
          </a:p>
        </p:txBody>
      </p:sp>
      <p:pic>
        <p:nvPicPr>
          <p:cNvPr id="173" name="" descr=""/>
          <p:cNvPicPr/>
          <p:nvPr/>
        </p:nvPicPr>
        <p:blipFill>
          <a:blip r:embed="rId1"/>
          <a:stretch/>
        </p:blipFill>
        <p:spPr>
          <a:xfrm>
            <a:off x="7315200" y="457200"/>
            <a:ext cx="1371600" cy="1371600"/>
          </a:xfrm>
          <a:prstGeom prst="rect">
            <a:avLst/>
          </a:prstGeom>
          <a:ln w="0">
            <a:noFill/>
          </a:ln>
        </p:spPr>
      </p:pic>
      <p:pic>
        <p:nvPicPr>
          <p:cNvPr id="174" name="" descr=""/>
          <p:cNvPicPr/>
          <p:nvPr/>
        </p:nvPicPr>
        <p:blipFill>
          <a:blip r:embed="rId2"/>
          <a:stretch/>
        </p:blipFill>
        <p:spPr>
          <a:xfrm>
            <a:off x="4495680" y="533520"/>
            <a:ext cx="2514600" cy="142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 </a:t>
            </a:r>
            <a:br>
              <a:rPr sz="4200"/>
            </a:br>
            <a:r>
              <a:rPr b="0" lang="en-US" sz="4200" spc="-1" strike="noStrike">
                <a:solidFill>
                  <a:srgbClr val="000000"/>
                </a:solidFill>
                <a:latin typeface="Arial"/>
              </a:rPr>
              <a:t>before and after</a:t>
            </a:r>
            <a:endParaRPr b="0" lang="en-US" sz="4200" spc="-1" strike="noStrike">
              <a:solidFill>
                <a:srgbClr val="000000"/>
              </a:solidFill>
              <a:latin typeface="Arial"/>
            </a:endParaRPr>
          </a:p>
        </p:txBody>
      </p:sp>
      <p:sp>
        <p:nvSpPr>
          <p:cNvPr id="1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After years of abuse, addicts can become almost unrecognizable. In some cases, the before and after photos are shock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actors that influence teen drug use…</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efore and after……</a:t>
            </a:r>
            <a:endParaRPr b="0" lang="en-US" sz="4200" spc="-1" strike="noStrike">
              <a:solidFill>
                <a:srgbClr val="000000"/>
              </a:solidFill>
              <a:latin typeface="Arial"/>
            </a:endParaRPr>
          </a:p>
        </p:txBody>
      </p:sp>
      <p:pic>
        <p:nvPicPr>
          <p:cNvPr id="178" name="" descr=""/>
          <p:cNvPicPr/>
          <p:nvPr/>
        </p:nvPicPr>
        <p:blipFill>
          <a:blip r:embed="rId1"/>
          <a:stretch/>
        </p:blipFill>
        <p:spPr>
          <a:xfrm>
            <a:off x="1600200" y="1828800"/>
            <a:ext cx="2857680" cy="3571920"/>
          </a:xfrm>
          <a:prstGeom prst="rect">
            <a:avLst/>
          </a:prstGeom>
          <a:ln w="0">
            <a:noFill/>
          </a:ln>
        </p:spPr>
      </p:pic>
      <p:pic>
        <p:nvPicPr>
          <p:cNvPr id="179" name="" descr=""/>
          <p:cNvPicPr/>
          <p:nvPr/>
        </p:nvPicPr>
        <p:blipFill>
          <a:blip r:embed="rId2"/>
          <a:stretch/>
        </p:blipFill>
        <p:spPr>
          <a:xfrm>
            <a:off x="5562720" y="1828800"/>
            <a:ext cx="2867040" cy="356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4 years later…..</a:t>
            </a:r>
            <a:endParaRPr b="0" lang="en-US" sz="4200" spc="-1" strike="noStrike">
              <a:solidFill>
                <a:srgbClr val="000000"/>
              </a:solidFill>
              <a:latin typeface="Arial"/>
            </a:endParaRPr>
          </a:p>
        </p:txBody>
      </p:sp>
      <p:pic>
        <p:nvPicPr>
          <p:cNvPr id="181" name="" descr=""/>
          <p:cNvPicPr/>
          <p:nvPr/>
        </p:nvPicPr>
        <p:blipFill>
          <a:blip r:embed="rId1"/>
          <a:stretch/>
        </p:blipFill>
        <p:spPr>
          <a:xfrm>
            <a:off x="1676520" y="1752480"/>
            <a:ext cx="2867040" cy="3571920"/>
          </a:xfrm>
          <a:prstGeom prst="rect">
            <a:avLst/>
          </a:prstGeom>
          <a:ln w="0">
            <a:noFill/>
          </a:ln>
        </p:spPr>
      </p:pic>
      <p:pic>
        <p:nvPicPr>
          <p:cNvPr id="182" name="" descr=""/>
          <p:cNvPicPr/>
          <p:nvPr/>
        </p:nvPicPr>
        <p:blipFill>
          <a:blip r:embed="rId2"/>
          <a:stretch/>
        </p:blipFill>
        <p:spPr>
          <a:xfrm>
            <a:off x="5562720" y="1752480"/>
            <a:ext cx="2857320" cy="356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5 years later….</a:t>
            </a:r>
            <a:endParaRPr b="0" lang="en-US" sz="4200" spc="-1" strike="noStrike">
              <a:solidFill>
                <a:srgbClr val="000000"/>
              </a:solidFill>
              <a:latin typeface="Arial"/>
            </a:endParaRPr>
          </a:p>
        </p:txBody>
      </p:sp>
      <p:pic>
        <p:nvPicPr>
          <p:cNvPr id="184" name="" descr=""/>
          <p:cNvPicPr/>
          <p:nvPr/>
        </p:nvPicPr>
        <p:blipFill>
          <a:blip r:embed="rId1"/>
          <a:stretch/>
        </p:blipFill>
        <p:spPr>
          <a:xfrm>
            <a:off x="5562720" y="1752480"/>
            <a:ext cx="2857320" cy="3581640"/>
          </a:xfrm>
          <a:prstGeom prst="rect">
            <a:avLst/>
          </a:prstGeom>
          <a:ln w="0">
            <a:noFill/>
          </a:ln>
        </p:spPr>
      </p:pic>
      <p:pic>
        <p:nvPicPr>
          <p:cNvPr id="185" name="" descr=""/>
          <p:cNvPicPr/>
          <p:nvPr/>
        </p:nvPicPr>
        <p:blipFill>
          <a:blip r:embed="rId2"/>
          <a:stretch/>
        </p:blipFill>
        <p:spPr>
          <a:xfrm>
            <a:off x="1600200" y="1752480"/>
            <a:ext cx="2847960" cy="3581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caine</a:t>
            </a: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Coca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caine is a drug extracted from the leaves of the coca plant. It is a potent brain stimulant and one of the most powerfully addictive drugs.</a:t>
            </a:r>
            <a:endParaRPr b="0" lang="en-US" sz="3000" spc="-1" strike="noStrike">
              <a:solidFill>
                <a:srgbClr val="000000"/>
              </a:solidFill>
              <a:latin typeface="Arial"/>
            </a:endParaRPr>
          </a:p>
        </p:txBody>
      </p:sp>
      <p:pic>
        <p:nvPicPr>
          <p:cNvPr id="188" name="" descr=""/>
          <p:cNvPicPr/>
          <p:nvPr/>
        </p:nvPicPr>
        <p:blipFill>
          <a:blip r:embed="rId1"/>
          <a:stretch/>
        </p:blipFill>
        <p:spPr>
          <a:xfrm>
            <a:off x="6629400" y="152280"/>
            <a:ext cx="1866960" cy="1608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caine/Crack—</a:t>
            </a:r>
            <a:br>
              <a:rPr sz="4200"/>
            </a:br>
            <a:r>
              <a:rPr b="0" lang="en-US" sz="2400" spc="-1" strike="noStrike">
                <a:solidFill>
                  <a:srgbClr val="000000"/>
                </a:solidFill>
                <a:latin typeface="Arial"/>
              </a:rPr>
              <a:t>(rock or freebase rock)</a:t>
            </a:r>
            <a:endParaRPr b="0" lang="en-US" sz="24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n even more dangerous form of cocain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or respiratory failure (DEATH) may occur if crack (or any other drug) is mixed with alcoh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ffeine</a:t>
            </a:r>
            <a:endParaRPr b="0" lang="en-US" sz="4200" spc="-1" strike="noStrike">
              <a:solidFill>
                <a:srgbClr val="000000"/>
              </a:solidFill>
              <a:latin typeface="Arial"/>
            </a:endParaRPr>
          </a:p>
        </p:txBody>
      </p:sp>
      <p:sp>
        <p:nvSpPr>
          <p:cNvPr id="192" name="PlaceHolder 2"/>
          <p:cNvSpPr>
            <a:spLocks noGrp="1"/>
          </p:cNvSpPr>
          <p:nvPr>
            <p:ph/>
          </p:nvPr>
        </p:nvSpPr>
        <p:spPr>
          <a:xfrm>
            <a:off x="1371240" y="2971800"/>
            <a:ext cx="701028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ergy drinks are now included on substance abuse lists. These beverages are consumed to counteract insufficient sleep, stay awake longer and to increase energy levels.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 descr=""/>
          <p:cNvPicPr/>
          <p:nvPr/>
        </p:nvPicPr>
        <p:blipFill>
          <a:blip r:embed="rId1"/>
          <a:stretch/>
        </p:blipFill>
        <p:spPr>
          <a:xfrm>
            <a:off x="5429160" y="0"/>
            <a:ext cx="3714840" cy="316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ffeine intoxication</a:t>
            </a: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marked by nervousness, anxiety, restlessness, insomnia, gastrointestinal upset, tremors, rapid heartbeats, psychomotor agitation (restlessness and pacing) and in rare cases, dea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much caffeine?</a:t>
            </a: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2-ounce cola drink has about 35 milligrams of caff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ounce cup of brewed coffee has 80 to 150 milligrams of caff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affeine content of energy drinks varies from 50 to more than 500 milligram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ffeine and alcohol</a:t>
            </a:r>
            <a:br>
              <a:rPr sz="3800"/>
            </a:br>
            <a:r>
              <a:rPr b="0" lang="en-US" sz="3800" spc="-1" strike="noStrike">
                <a:solidFill>
                  <a:srgbClr val="000000"/>
                </a:solidFill>
                <a:latin typeface="Arial"/>
              </a:rPr>
              <a:t>drinks</a:t>
            </a:r>
            <a:br>
              <a:rPr sz="3800"/>
            </a:br>
            <a:r>
              <a:rPr b="0" lang="en-US" sz="3800" spc="-1" strike="noStrike">
                <a:solidFill>
                  <a:srgbClr val="000000"/>
                </a:solidFill>
                <a:latin typeface="Arial"/>
              </a:rPr>
              <a:t>BANNED</a:t>
            </a:r>
            <a:endParaRPr b="0" lang="en-US" sz="3800" spc="-1" strike="noStrike">
              <a:solidFill>
                <a:srgbClr val="000000"/>
              </a:solidFill>
              <a:latin typeface="Arial"/>
            </a:endParaRPr>
          </a:p>
        </p:txBody>
      </p:sp>
      <p:sp>
        <p:nvSpPr>
          <p:cNvPr id="1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http://www.cnn.com/2010/HEALTH/11/17/alcohol.caffeine.drinks/t1larg.four.loko.jpg</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0" name="" descr=""/>
          <p:cNvPicPr/>
          <p:nvPr/>
        </p:nvPicPr>
        <p:blipFill>
          <a:blip r:embed="rId2"/>
          <a:stretch/>
        </p:blipFill>
        <p:spPr>
          <a:xfrm>
            <a:off x="1523880" y="1714680"/>
            <a:ext cx="4724640" cy="2657160"/>
          </a:xfrm>
          <a:prstGeom prst="rect">
            <a:avLst/>
          </a:prstGeom>
          <a:ln w="0">
            <a:noFill/>
          </a:ln>
        </p:spPr>
      </p:pic>
      <p:sp>
        <p:nvSpPr>
          <p:cNvPr id="201" name=""/>
          <p:cNvSpPr/>
          <p:nvPr/>
        </p:nvSpPr>
        <p:spPr>
          <a:xfrm>
            <a:off x="990720" y="53341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ttp://www.cnn.com/2010/HEALTH/11/17/alcohol.caffeine.drinks/index.html?eref=rss_topstories&amp;utm_source=feedburner&amp;utm_medium=feed&amp;utm_campaign=Feed%3A+rss%2Fcnn_topstories+%28RSS%3A+Top+Stories%29&amp;utm_content=Google+Feedfetch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PRSSANTS</a:t>
            </a:r>
            <a:endParaRPr b="0" lang="en-US" sz="4200" spc="-1" strike="noStrike">
              <a:solidFill>
                <a:srgbClr val="000000"/>
              </a:solidFill>
              <a:latin typeface="Arial"/>
            </a:endParaRPr>
          </a:p>
        </p:txBody>
      </p:sp>
      <p:sp>
        <p:nvSpPr>
          <p:cNvPr id="2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ants are substances which slow down the normal function of the central nervous syst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actors that influence teen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er pressur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memb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e mode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messag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ptions of drug behavior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PRSSANTS</a:t>
            </a: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bitura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quiliz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hypno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H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biturates</a:t>
            </a: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biturates are a class of drugs prescribed for anxiety and insomni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ercial names include Amytal, Nembutal, and Phenobarbi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nquilizers</a:t>
            </a: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rugs are among the most widely prescribed medications in the US. Commercial names include Valium and Xanax.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te-rape drugs</a:t>
            </a:r>
            <a:endParaRPr b="0" lang="en-US" sz="4200" spc="-1" strike="noStrike">
              <a:solidFill>
                <a:srgbClr val="000000"/>
              </a:solidFill>
              <a:latin typeface="Arial"/>
            </a:endParaRPr>
          </a:p>
        </p:txBody>
      </p:sp>
      <p:sp>
        <p:nvSpPr>
          <p:cNvPr id="2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ohypnol, is a sedative associated with sexual assaults. This drug is not sold in the US, but may be brought in from other countri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HB (Gamma Hydroxybutyrate) is illegal in the US due to its sedative properties and frequent abuse in sexual assaul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hort-term effects</a:t>
            </a:r>
            <a:endParaRPr b="0" lang="en-US" sz="4200" spc="-1" strike="noStrike">
              <a:solidFill>
                <a:srgbClr val="000000"/>
              </a:solidFill>
              <a:latin typeface="Arial"/>
            </a:endParaRPr>
          </a:p>
        </p:txBody>
      </p:sp>
      <p:sp>
        <p:nvSpPr>
          <p:cNvPr id="2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se of depressants can result in a slowed pulse and breathing, slurred speech, drowsiness, lowered blood pressure, poor concentration, fatigue and confusion, as well as impaired coordination, memory and judgmen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ong-term use</a:t>
            </a:r>
            <a:endParaRPr b="0" lang="en-US" sz="4200" spc="-1" strike="noStrike">
              <a:solidFill>
                <a:srgbClr val="000000"/>
              </a:solidFill>
              <a:latin typeface="Arial"/>
            </a:endParaRPr>
          </a:p>
        </p:txBody>
      </p:sp>
      <p:sp>
        <p:nvSpPr>
          <p:cNvPr id="2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longed or heavy abuse of depressants can result in addiction, impaired sexual function, chronic sleep problems, respiratory depression and respiratory arrest, and dea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AITES—highly addictive </a:t>
            </a:r>
            <a:br>
              <a:rPr sz="3800"/>
            </a:br>
            <a:br>
              <a:rPr sz="3800"/>
            </a:br>
            <a:r>
              <a:rPr b="0" lang="en-US" sz="2000" spc="-1" strike="noStrike">
                <a:solidFill>
                  <a:srgbClr val="000000"/>
                </a:solidFill>
                <a:latin typeface="Arial"/>
              </a:rPr>
              <a:t>are drugs derived from the opium plant that are obtained only by prescription and are used to relieve pain.</a:t>
            </a:r>
            <a:endParaRPr b="0" lang="en-US" sz="2000" spc="-1" strike="noStrike">
              <a:solidFill>
                <a:srgbClr val="000000"/>
              </a:solidFill>
              <a:latin typeface="Arial"/>
            </a:endParaRPr>
          </a:p>
        </p:txBody>
      </p:sp>
      <p:sp>
        <p:nvSpPr>
          <p:cNvPr id="2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ph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oi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Contin</a:t>
            </a:r>
            <a:r>
              <a:rPr b="0" lang="en-US" sz="3000" spc="-1" strike="noStrike">
                <a:solidFill>
                  <a:srgbClr val="000000"/>
                </a:solidFill>
                <a:latin typeface="Arial"/>
                <a:ea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deine</a:t>
            </a:r>
            <a:endParaRPr b="0" lang="en-US" sz="4200" spc="-1" strike="noStrike">
              <a:solidFill>
                <a:srgbClr val="000000"/>
              </a:solidFill>
              <a:latin typeface="Arial"/>
            </a:endParaRPr>
          </a:p>
        </p:txBody>
      </p:sp>
      <p:sp>
        <p:nvSpPr>
          <p:cNvPr id="2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highly addictive ingredient in some cough medici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people are highly allergic to codeine.  Infants and small children should not be given codei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rphine</a:t>
            </a: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derived from the poppy plant. It is classified as a narcotic and is commonly prescribed to manage severe p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rphine addiction</a:t>
            </a: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Morphine to strongly activate brain reward mechanisms and its ability to chemically alter the normal functioning of these systems can produce a Morphine addiction. Morphine also reduces a person's level of consciousness, harming the ability to think or be fully aware of present surroundings.</a:t>
            </a:r>
            <a:endParaRPr b="0" lang="en-US" sz="3000" spc="-1" strike="noStrike">
              <a:solidFill>
                <a:srgbClr val="000000"/>
              </a:solidFill>
              <a:latin typeface="Arial"/>
            </a:endParaRPr>
          </a:p>
        </p:txBody>
      </p:sp>
      <p:pic>
        <p:nvPicPr>
          <p:cNvPr id="224" name="" descr=""/>
          <p:cNvPicPr/>
          <p:nvPr/>
        </p:nvPicPr>
        <p:blipFill>
          <a:blip r:embed="rId1"/>
          <a:stretch/>
        </p:blipFill>
        <p:spPr>
          <a:xfrm>
            <a:off x="6248520" y="304920"/>
            <a:ext cx="259056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illegal drugs affect your health</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hysical Wellness</a:t>
            </a:r>
            <a:r>
              <a:rPr b="0" lang="en-US" sz="3000" spc="-1" strike="noStrike">
                <a:solidFill>
                  <a:srgbClr val="000000"/>
                </a:solidFill>
                <a:latin typeface="Arial"/>
              </a:rPr>
              <a:t>.  Risk of overdose or strong, sometimes fatal reaction  to taking a large amount of a drug.</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al Wellness.  </a:t>
            </a:r>
            <a:r>
              <a:rPr b="0" lang="en-US" sz="3000" spc="-1" strike="noStrike">
                <a:solidFill>
                  <a:srgbClr val="000000"/>
                </a:solidFill>
                <a:latin typeface="Arial"/>
              </a:rPr>
              <a:t>Impairs the ability to reason and think clearly.</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cial Health</a:t>
            </a:r>
            <a:r>
              <a:rPr b="0" lang="en-US" sz="3000" spc="-1" strike="noStrike">
                <a:solidFill>
                  <a:srgbClr val="000000"/>
                </a:solidFill>
                <a:latin typeface="Arial"/>
              </a:rPr>
              <a:t>.  Relationships with friends and family may change.  Legal and unintended consequences of crime, suicide or inju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roin</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Hero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eroin is a </a:t>
            </a:r>
            <a:r>
              <a:rPr b="1" lang="en-US" sz="3000" spc="-1" strike="noStrike">
                <a:solidFill>
                  <a:srgbClr val="000000"/>
                </a:solidFill>
                <a:latin typeface="Arial"/>
              </a:rPr>
              <a:t>highly addictive</a:t>
            </a:r>
            <a:r>
              <a:rPr b="0" lang="en-US" sz="3000" spc="-1" strike="noStrike">
                <a:solidFill>
                  <a:srgbClr val="000000"/>
                </a:solidFill>
                <a:latin typeface="Arial"/>
              </a:rPr>
              <a:t> drug derived from morphine, which is obtained from the opium poppy. It affects the brain's pleasure systems and interferes with the brain's ability to perceive pain. </a:t>
            </a:r>
            <a:endParaRPr b="0" lang="en-US" sz="3000" spc="-1" strike="noStrike">
              <a:solidFill>
                <a:srgbClr val="000000"/>
              </a:solidFill>
              <a:latin typeface="Arial"/>
            </a:endParaRPr>
          </a:p>
        </p:txBody>
      </p:sp>
      <p:pic>
        <p:nvPicPr>
          <p:cNvPr id="227" name="" descr=""/>
          <p:cNvPicPr/>
          <p:nvPr/>
        </p:nvPicPr>
        <p:blipFill>
          <a:blip r:embed="rId1"/>
          <a:stretch/>
        </p:blipFill>
        <p:spPr>
          <a:xfrm>
            <a:off x="6248520" y="228600"/>
            <a:ext cx="2552760" cy="165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ium</a:t>
            </a:r>
            <a:br>
              <a:rPr sz="4200"/>
            </a:br>
            <a:endParaRPr b="0" lang="en-US" sz="4200" spc="-1" strike="noStrike">
              <a:solidFill>
                <a:srgbClr val="000000"/>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Opiu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narcotic, made from the white liquid in the poppy pl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xyContin</a:t>
            </a:r>
            <a:r>
              <a:rPr b="0" lang="en-US" sz="4200" spc="-1" strike="noStrike">
                <a:solidFill>
                  <a:srgbClr val="000000"/>
                </a:solidFill>
                <a:latin typeface="Arial"/>
                <a:ea typeface="Arial"/>
              </a:rPr>
              <a: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xyContin? </a:t>
            </a:r>
            <a:br>
              <a:rPr sz="3000"/>
            </a:br>
            <a:r>
              <a:rPr b="0" lang="en-US" sz="3000" spc="-1" strike="noStrike">
                <a:solidFill>
                  <a:srgbClr val="000000"/>
                </a:solidFill>
                <a:latin typeface="Arial"/>
              </a:rPr>
              <a:t>-- a narcotic.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vailable by prescription only and is used to treat moderate to severe pa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youtube.com/watch?v=PuB4TL57K5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2" name="" descr=""/>
          <p:cNvPicPr/>
          <p:nvPr/>
        </p:nvPicPr>
        <p:blipFill>
          <a:blip r:embed="rId1"/>
          <a:stretch/>
        </p:blipFill>
        <p:spPr>
          <a:xfrm>
            <a:off x="6477120" y="228600"/>
            <a:ext cx="2438280" cy="167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cription drug abuse</a:t>
            </a:r>
            <a:endParaRPr b="0" lang="en-US" sz="36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BS prescription drugs</a:t>
            </a:r>
            <a:endParaRPr b="0" lang="en-US" sz="3000" spc="-1" strike="noStrike">
              <a:solidFill>
                <a:srgbClr val="000000"/>
              </a:solidFill>
              <a:latin typeface="Arial"/>
            </a:endParaRPr>
          </a:p>
          <a:p>
            <a:pPr marL="343080" indent="-343080">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http://www.youtube.com/watch?v=YqWaf9DMFOc&amp;feature=fvw</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ther effects of illegal drug use</a:t>
            </a:r>
            <a:r>
              <a:rPr b="0" lang="en-US" sz="4200" spc="-1" strike="noStrike">
                <a:solidFill>
                  <a:srgbClr val="000000"/>
                </a:solidFill>
                <a:latin typeface="Arial"/>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lerance</a:t>
            </a:r>
            <a:r>
              <a:rPr b="0" lang="en-US" sz="1900" spc="-1" strike="noStrike">
                <a:solidFill>
                  <a:srgbClr val="000000"/>
                </a:solidFill>
                <a:latin typeface="Arial"/>
              </a:rPr>
              <a:t>—user needs more of a drug to get the original effect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sychological dependence</a:t>
            </a:r>
            <a:r>
              <a:rPr b="0" lang="en-US" sz="1900" spc="-1" strike="noStrike">
                <a:solidFill>
                  <a:srgbClr val="000000"/>
                </a:solidFill>
                <a:latin typeface="Arial"/>
              </a:rPr>
              <a:t>— user believes that a drug is needed</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ological dependence</a:t>
            </a:r>
            <a:r>
              <a:rPr b="0" lang="en-US" sz="1900" spc="-1" strike="noStrike">
                <a:solidFill>
                  <a:srgbClr val="000000"/>
                </a:solidFill>
                <a:latin typeface="Arial"/>
              </a:rPr>
              <a:t>— a chemical need of the drug.  Withdrawal occurs when drug effects wear off</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ddiction</a:t>
            </a:r>
            <a:r>
              <a:rPr b="0" lang="en-US" sz="1900" spc="-1" strike="noStrike">
                <a:solidFill>
                  <a:srgbClr val="000000"/>
                </a:solidFill>
                <a:latin typeface="Arial"/>
              </a:rPr>
              <a:t>--a state of physiological or psychological dependence on a potentially harmful drug</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The Lows”</a:t>
            </a:r>
            <a:r>
              <a:rPr b="0" lang="en-US" sz="1900" spc="-1" strike="noStrike">
                <a:solidFill>
                  <a:srgbClr val="000000"/>
                </a:solidFill>
                <a:latin typeface="Arial"/>
              </a:rPr>
              <a:t>  young people, who often talk about the "highs" induced by illicit drugs but may not be aware of the many "low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the individ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stop pursuing interests and goa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er inhibition, increase risks behavi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ion and suicid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gal fees and jai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friends and famil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p spending time with friends who value a drug-free lif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and financial burden on the fami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7:24:43Z</dcterms:created>
  <dc:creator>HollandS</dc:creator>
  <dc:description/>
  <dc:language>en-US</dc:language>
  <cp:lastModifiedBy>HollandS</cp:lastModifiedBy>
  <dcterms:modified xsi:type="dcterms:W3CDTF">2010-12-16T17:24:44Z</dcterms:modified>
  <cp:revision>60</cp:revision>
  <dc:subject/>
  <dc:title>Substance Abuse</dc:title>
</cp:coreProperties>
</file>