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45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utura Condensed ExtraBold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Futura Condensed Extra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85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9CA016-7DCD-4D4F-93FD-166AC9E3263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8"/>
          <p:cNvSpPr/>
          <p:nvPr/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310DEB-9072-484A-91D6-6BD003EB90B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8"/>
          <p:cNvSpPr/>
          <p:nvPr/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51FC99-07E4-44CF-92EA-076F76E388F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8"/>
          <p:cNvSpPr/>
          <p:nvPr/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0879BB-E0A2-48FD-87BC-4302DE0F427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1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8"/>
          <p:cNvSpPr/>
          <p:nvPr/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01B054-6E01-4E0C-A8E2-41FB8E4FC6C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1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8"/>
          <p:cNvSpPr/>
          <p:nvPr/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CD2286-763A-4AEF-AB52-259CA063AEA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1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8"/>
          <p:cNvSpPr/>
          <p:nvPr/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201F2E-1338-4219-9EC9-4F120D2A614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D6AED6-FD0F-4E44-B066-C1ABF359F97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8"/>
          <p:cNvSpPr/>
          <p:nvPr/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F43D03-C0B9-4D7C-9978-24FEA023A13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8"/>
          <p:cNvSpPr/>
          <p:nvPr/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B61C2E-1522-4851-943D-80B75888D28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8"/>
          <p:cNvSpPr/>
          <p:nvPr/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D1B08A-41EC-49A4-A91D-6DBBD89E959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9C36-425F-44F5-A6FA-3EC7E9467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utura Condensed Extra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utura Condensed  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utura Condensed  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7D67-B4D5-40E4-B4BB-95F836C5F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utura Condensed Extra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utura Condensed  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utura Condensed  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utura Condensed  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utura Condensed  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56E9-8236-4810-816D-6465EAEA2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utura Condensed ExtraBol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utura Condensed  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utura Condensed  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351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utura Condensed  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utura Condensed  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utura Condensed  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351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utura Condensed  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83A5-7B0B-4136-B51C-237BE8045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utura Condensed Extra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10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utura Condensed  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8870-7BB6-44CD-BD89-D260565BF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utura Condensed ExtraBol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utura Condensed  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68ED-79C0-448F-BF91-340F9E71B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utura Condensed Extra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utura Condensed  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utura Condensed  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FC3C-D2C1-4A39-8CBF-1EE99FBB4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utura Condensed Extra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044E-F89B-48BC-9267-4359D4056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768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10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utura Condensed  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D9D4-AF71-4724-8531-9E5E02376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utura Condensed ExtraBol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utura Condensed  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utura Condensed  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utura Condensed  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0F66-D94B-4EB7-9A92-1432520D0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utura Condensed ExtraBol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utura Condensed  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utura Condensed  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utura Condensed  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A250-7B5F-4BB2-A0CB-A3E883C11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Futura Condensed ExtraBol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utura Condensed  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utura Condensed  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utura Condensed  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5335-410F-4E0D-BFE4-F5FF9B985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457200" y="1371600"/>
            <a:ext cx="9144000" cy="5257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0" y="0"/>
            <a:ext cx="10080720" cy="7543800"/>
          </a:xfrm>
          <a:prstGeom prst="rect">
            <a:avLst/>
          </a:prstGeom>
          <a:solidFill>
            <a:srgbClr val="00d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utura Condensed ExtraBol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Futura Condensed ExtraBold"/>
            </a:endParaRPr>
          </a:p>
        </p:txBody>
      </p:sp>
      <p:sp>
        <p:nvSpPr>
          <p:cNvPr id="3" name="Rectangle 4"/>
          <p:cNvSpPr/>
          <p:nvPr/>
        </p:nvSpPr>
        <p:spPr>
          <a:xfrm>
            <a:off x="457200" y="1371600"/>
            <a:ext cx="9144000" cy="5257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10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Condensed  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utura Condensed  "/>
            </a:endParaRPr>
          </a:p>
          <a:p>
            <a:pPr lvl="1" marL="860400" indent="-285840">
              <a:lnSpc>
                <a:spcPct val="10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Condensed  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utura Condensed  "/>
            </a:endParaRPr>
          </a:p>
          <a:p>
            <a:pPr lvl="2" marL="1292400" indent="-214560">
              <a:lnSpc>
                <a:spcPct val="10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Condensed  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utura Condensed  "/>
            </a:endParaRPr>
          </a:p>
          <a:p>
            <a:pPr lvl="3" marL="1724040" indent="-212760">
              <a:lnSpc>
                <a:spcPct val="10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Condensed  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utura Condensed  "/>
            </a:endParaRPr>
          </a:p>
          <a:p>
            <a:pPr lvl="4" marL="2155680" indent="-214200">
              <a:lnSpc>
                <a:spcPct val="10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Condensed  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utura Condensed  "/>
            </a:endParaRPr>
          </a:p>
          <a:p>
            <a:pPr lvl="5" marL="2155680" indent="-214200">
              <a:lnSpc>
                <a:spcPct val="10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Condensed  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utura Condensed  "/>
            </a:endParaRPr>
          </a:p>
          <a:p>
            <a:pPr lvl="6" marL="2155680" indent="-214200">
              <a:lnSpc>
                <a:spcPct val="10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Condensed  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utura Condensed  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90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846AE0-85DB-4F73-AF1F-662572D8882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1722240"/>
            <a:ext cx="907236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Futura Condensed ExtraBold"/>
              </a:rPr>
              <a:t>Poplar Bluff Technical Career Center</a:t>
            </a:r>
            <a:br>
              <a:rPr sz="2600"/>
            </a:br>
            <a:r>
              <a:rPr b="0" lang="en-GB" sz="4400" spc="-1" strike="noStrike">
                <a:solidFill>
                  <a:srgbClr val="b80047"/>
                </a:solidFill>
                <a:latin typeface="Futura Condensed ExtraBold"/>
              </a:rPr>
              <a:t>Graphic Communications</a:t>
            </a:r>
            <a:endParaRPr b="0" lang="en-US" sz="4400" spc="-1" strike="noStrike">
              <a:solidFill>
                <a:srgbClr val="000000"/>
              </a:solidFill>
              <a:latin typeface="Futura Condensed Extra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000000"/>
              </a:solidFill>
              <a:latin typeface="Futura Condensed  "/>
            </a:endParaRPr>
          </a:p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000000"/>
              </a:solidFill>
              <a:latin typeface="Futura Condensed  "/>
            </a:endParaRPr>
          </a:p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000000"/>
              </a:solidFill>
              <a:latin typeface="Futura Condensed  "/>
            </a:endParaRPr>
          </a:p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000000"/>
              </a:solidFill>
              <a:latin typeface="Futura Condensed  "/>
            </a:endParaRPr>
          </a:p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000000"/>
              </a:solidFill>
              <a:latin typeface="Futura Condensed  "/>
            </a:endParaRPr>
          </a:p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000000"/>
              </a:solidFill>
              <a:latin typeface="Futura Condensed  "/>
            </a:endParaRPr>
          </a:p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000000"/>
              </a:solidFill>
              <a:latin typeface="Futura Condensed  "/>
            </a:endParaRPr>
          </a:p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hop Safety</a:t>
            </a:r>
            <a:endParaRPr b="0" lang="en-US" sz="4400" spc="-1" strike="noStrike">
              <a:solidFill>
                <a:srgbClr val="000000"/>
              </a:solidFill>
              <a:latin typeface="Futura Condensed  "/>
            </a:endParaRPr>
          </a:p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000000"/>
              </a:solidFill>
              <a:latin typeface="Futura Condensed  "/>
            </a:endParaRPr>
          </a:p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000000"/>
              </a:solidFill>
              <a:latin typeface="Futura Condensed  "/>
            </a:endParaRPr>
          </a:p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000000"/>
              </a:solidFill>
              <a:latin typeface="Futura Condensed  "/>
            </a:endParaRPr>
          </a:p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000000"/>
              </a:solidFill>
              <a:latin typeface="Futura Condensed  "/>
            </a:endParaRPr>
          </a:p>
        </p:txBody>
      </p:sp>
      <p:pic>
        <p:nvPicPr>
          <p:cNvPr id="55" name="MacOS" descr=""/>
          <p:cNvPicPr/>
          <p:nvPr/>
        </p:nvPicPr>
        <p:blipFill>
          <a:blip r:embed="rId1"/>
          <a:stretch/>
        </p:blipFill>
        <p:spPr>
          <a:xfrm>
            <a:off x="4913280" y="3652920"/>
            <a:ext cx="252360" cy="25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66085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utura Condensed ExtraBold"/>
              </a:rPr>
              <a:t>Safe Lifting</a:t>
            </a:r>
            <a:endParaRPr b="0" lang="en-US" sz="4400" spc="-1" strike="noStrike">
              <a:solidFill>
                <a:srgbClr val="000000"/>
              </a:solidFill>
              <a:latin typeface="Futura Condensed ExtraBold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10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Condensed  "/>
              </a:rPr>
              <a:t>Make sure you have a clear path for carrying things</a:t>
            </a:r>
            <a:endParaRPr b="0" lang="en-US" sz="2400" spc="-1" strike="noStrike">
              <a:solidFill>
                <a:srgbClr val="000000"/>
              </a:solidFill>
              <a:latin typeface="Futura Condensed  "/>
            </a:endParaRPr>
          </a:p>
          <a:p>
            <a:pPr marL="428760" indent="-324000">
              <a:lnSpc>
                <a:spcPct val="10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Condensed  "/>
              </a:rPr>
              <a:t>Check object’s weight</a:t>
            </a:r>
            <a:endParaRPr b="0" lang="en-US" sz="2400" spc="-1" strike="noStrike">
              <a:solidFill>
                <a:srgbClr val="000000"/>
              </a:solidFill>
              <a:latin typeface="Futura Condensed  "/>
            </a:endParaRPr>
          </a:p>
          <a:p>
            <a:pPr marL="428760" indent="-324000">
              <a:lnSpc>
                <a:spcPct val="10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Condensed  "/>
              </a:rPr>
              <a:t>Request help</a:t>
            </a:r>
            <a:endParaRPr b="0" lang="en-US" sz="2400" spc="-1" strike="noStrike">
              <a:solidFill>
                <a:srgbClr val="000000"/>
              </a:solidFill>
              <a:latin typeface="Futura Condensed  "/>
            </a:endParaRPr>
          </a:p>
          <a:p>
            <a:pPr marL="428760" indent="-324000">
              <a:lnSpc>
                <a:spcPct val="10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Condensed  "/>
              </a:rPr>
              <a:t>Keep back straight</a:t>
            </a:r>
            <a:endParaRPr b="0" lang="en-US" sz="2400" spc="-1" strike="noStrike">
              <a:solidFill>
                <a:srgbClr val="000000"/>
              </a:solidFill>
              <a:latin typeface="Futura Condensed  "/>
            </a:endParaRPr>
          </a:p>
          <a:p>
            <a:pPr marL="428760" indent="-324000">
              <a:lnSpc>
                <a:spcPct val="10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Condensed  "/>
              </a:rPr>
              <a:t>Lift with your knees</a:t>
            </a:r>
            <a:endParaRPr b="0" lang="en-US" sz="2400" spc="-1" strike="noStrike">
              <a:solidFill>
                <a:srgbClr val="000000"/>
              </a:solidFill>
              <a:latin typeface="Futura Condensed  "/>
            </a:endParaRPr>
          </a:p>
          <a:p>
            <a:pPr marL="428760" indent="-324000">
              <a:lnSpc>
                <a:spcPct val="10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Condensed  "/>
              </a:rPr>
              <a:t>Keep objects close to body</a:t>
            </a:r>
            <a:endParaRPr b="0" lang="en-US" sz="2400" spc="-1" strike="noStrike">
              <a:solidFill>
                <a:srgbClr val="000000"/>
              </a:solidFill>
              <a:latin typeface="Futura Condensed  "/>
            </a:endParaRPr>
          </a:p>
          <a:p>
            <a:pPr marL="428760" indent="-324000">
              <a:lnSpc>
                <a:spcPct val="10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Condensed  "/>
              </a:rPr>
              <a:t>Tighten stomach</a:t>
            </a:r>
            <a:endParaRPr b="0" lang="en-US" sz="2400" spc="-1" strike="noStrike">
              <a:solidFill>
                <a:srgbClr val="000000"/>
              </a:solidFill>
              <a:latin typeface="Futura Condensed  "/>
            </a:endParaRPr>
          </a:p>
          <a:p>
            <a:pPr marL="428760" indent="-324000">
              <a:lnSpc>
                <a:spcPct val="10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Condensed  "/>
              </a:rPr>
              <a:t>Put things on floor carefully</a:t>
            </a:r>
            <a:endParaRPr b="0" lang="en-US" sz="2400" spc="-1" strike="noStrike">
              <a:solidFill>
                <a:srgbClr val="000000"/>
              </a:solidFill>
              <a:latin typeface="Futura Condensed  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utura Condensed ExtraBold"/>
              </a:rPr>
              <a:t>Fire Prevention</a:t>
            </a:r>
            <a:endParaRPr b="0" lang="en-US" sz="4400" spc="-1" strike="noStrike">
              <a:solidFill>
                <a:srgbClr val="000000"/>
              </a:solidFill>
              <a:latin typeface="Futura Condensed ExtraBold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10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Condensed  "/>
              </a:rPr>
              <a:t>Combustable = Flamable</a:t>
            </a:r>
            <a:endParaRPr b="0" lang="en-US" sz="3200" spc="-1" strike="noStrike">
              <a:solidFill>
                <a:srgbClr val="000000"/>
              </a:solidFill>
              <a:latin typeface="Futura Condensed  "/>
            </a:endParaRPr>
          </a:p>
          <a:p>
            <a:pPr marL="428760" indent="-324000">
              <a:lnSpc>
                <a:spcPct val="10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Condensed  "/>
              </a:rPr>
              <a:t>Solvent – chemical that disolves other substance</a:t>
            </a:r>
            <a:endParaRPr b="0" lang="en-US" sz="3200" spc="-1" strike="noStrike">
              <a:solidFill>
                <a:srgbClr val="000000"/>
              </a:solidFill>
              <a:latin typeface="Futura Condensed  "/>
            </a:endParaRPr>
          </a:p>
          <a:p>
            <a:pPr marL="428760" indent="-324000">
              <a:lnSpc>
                <a:spcPct val="10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Condensed  "/>
              </a:rPr>
              <a:t>To prevent fire –</a:t>
            </a:r>
            <a:endParaRPr b="0" lang="en-US" sz="3200" spc="-1" strike="noStrike">
              <a:solidFill>
                <a:srgbClr val="000000"/>
              </a:solidFill>
              <a:latin typeface="Futura Condensed  "/>
            </a:endParaRPr>
          </a:p>
          <a:p>
            <a:pPr lvl="1" marL="860400" indent="-285840">
              <a:lnSpc>
                <a:spcPct val="10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Condensed  "/>
              </a:rPr>
              <a:t>Never sit solvent soaked rags on heat sources</a:t>
            </a:r>
            <a:endParaRPr b="0" lang="en-US" sz="2800" spc="-1" strike="noStrike">
              <a:solidFill>
                <a:srgbClr val="000000"/>
              </a:solidFill>
              <a:latin typeface="Futura Condensed  "/>
            </a:endParaRPr>
          </a:p>
          <a:p>
            <a:pPr lvl="1" marL="860400" indent="-285840">
              <a:lnSpc>
                <a:spcPct val="10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Condensed  "/>
              </a:rPr>
              <a:t>Report leaking solvent containers</a:t>
            </a:r>
            <a:endParaRPr b="0" lang="en-US" sz="2800" spc="-1" strike="noStrike">
              <a:solidFill>
                <a:srgbClr val="000000"/>
              </a:solidFill>
              <a:latin typeface="Futura Condensed  "/>
            </a:endParaRPr>
          </a:p>
          <a:p>
            <a:pPr lvl="1" marL="860400" indent="-285840">
              <a:lnSpc>
                <a:spcPct val="10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Condensed  "/>
              </a:rPr>
              <a:t>Put rags in fire safe container</a:t>
            </a:r>
            <a:endParaRPr b="0" lang="en-US" sz="2800" spc="-1" strike="noStrike">
              <a:solidFill>
                <a:srgbClr val="000000"/>
              </a:solidFill>
              <a:latin typeface="Futura Condensed  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49680" y="166320"/>
            <a:ext cx="10309320" cy="11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Futura Condensed ExtraBold"/>
              </a:rPr>
              <a:t>Material Safety Data Sheet</a:t>
            </a:r>
            <a:endParaRPr b="0" lang="en-US" sz="4000" spc="-1" strike="noStrike">
              <a:solidFill>
                <a:srgbClr val="000000"/>
              </a:solidFill>
              <a:latin typeface="Futura Condensed ExtraBol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29920" y="1378080"/>
            <a:ext cx="9072360" cy="50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4388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482760"/>
                <a:tab algn="l" pos="939960"/>
                <a:tab algn="l" pos="1397160"/>
                <a:tab algn="l" pos="1854360"/>
                <a:tab algn="l" pos="2311560"/>
                <a:tab algn="l" pos="2768760"/>
                <a:tab algn="l" pos="3225960"/>
                <a:tab algn="l" pos="3683160"/>
                <a:tab algn="l" pos="4140360"/>
                <a:tab algn="l" pos="4597560"/>
                <a:tab algn="l" pos="5054760"/>
                <a:tab algn="l" pos="5511960"/>
                <a:tab algn="l" pos="5969160"/>
                <a:tab algn="l" pos="6426360"/>
                <a:tab algn="l" pos="6883560"/>
                <a:tab algn="l" pos="7340760"/>
                <a:tab algn="l" pos="7797960"/>
                <a:tab algn="l" pos="8255160"/>
                <a:tab algn="l" pos="8712360"/>
                <a:tab algn="l" pos="91695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Futura Condensed  "/>
              </a:rPr>
              <a:t>When working with chemicals you need to know certain things about chemicals when emergencies come up.</a:t>
            </a:r>
            <a:endParaRPr b="0" lang="en-US" sz="2600" spc="-1" strike="noStrike">
              <a:solidFill>
                <a:srgbClr val="000000"/>
              </a:solidFill>
              <a:latin typeface="Futura Condensed  "/>
            </a:endParaRPr>
          </a:p>
          <a:p>
            <a:pPr marL="438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482760"/>
                <a:tab algn="l" pos="939960"/>
                <a:tab algn="l" pos="1397160"/>
                <a:tab algn="l" pos="1854360"/>
                <a:tab algn="l" pos="2311560"/>
                <a:tab algn="l" pos="2768760"/>
                <a:tab algn="l" pos="3225960"/>
                <a:tab algn="l" pos="3683160"/>
                <a:tab algn="l" pos="4140360"/>
                <a:tab algn="l" pos="4597560"/>
                <a:tab algn="l" pos="5054760"/>
                <a:tab algn="l" pos="5511960"/>
                <a:tab algn="l" pos="5969160"/>
                <a:tab algn="l" pos="6426360"/>
                <a:tab algn="l" pos="6883560"/>
                <a:tab algn="l" pos="7340760"/>
                <a:tab algn="l" pos="7797960"/>
                <a:tab algn="l" pos="8255160"/>
                <a:tab algn="l" pos="8712360"/>
                <a:tab algn="l" pos="916956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Futura Condensed  "/>
            </a:endParaRPr>
          </a:p>
          <a:p>
            <a:pPr marL="4388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482760"/>
                <a:tab algn="l" pos="939960"/>
                <a:tab algn="l" pos="1397160"/>
                <a:tab algn="l" pos="1854360"/>
                <a:tab algn="l" pos="2311560"/>
                <a:tab algn="l" pos="2768760"/>
                <a:tab algn="l" pos="3225960"/>
                <a:tab algn="l" pos="3683160"/>
                <a:tab algn="l" pos="4140360"/>
                <a:tab algn="l" pos="4597560"/>
                <a:tab algn="l" pos="5054760"/>
                <a:tab algn="l" pos="5511960"/>
                <a:tab algn="l" pos="5969160"/>
                <a:tab algn="l" pos="6426360"/>
                <a:tab algn="l" pos="6883560"/>
                <a:tab algn="l" pos="7340760"/>
                <a:tab algn="l" pos="7797960"/>
                <a:tab algn="l" pos="8255160"/>
                <a:tab algn="l" pos="8712360"/>
                <a:tab algn="l" pos="91695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Futura Condensed  "/>
              </a:rPr>
              <a:t>Below you will find types of information found on a material safety data sheet. All chemical products have this information available upon request if it is not shipped with your order.</a:t>
            </a:r>
            <a:endParaRPr b="0" lang="en-US" sz="2600" spc="-1" strike="noStrike">
              <a:solidFill>
                <a:srgbClr val="000000"/>
              </a:solidFill>
              <a:latin typeface="Futura Condensed  "/>
            </a:endParaRPr>
          </a:p>
          <a:p>
            <a:pPr marL="4388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482760"/>
                <a:tab algn="l" pos="939960"/>
                <a:tab algn="l" pos="1397160"/>
                <a:tab algn="l" pos="1854360"/>
                <a:tab algn="l" pos="2311560"/>
                <a:tab algn="l" pos="2768760"/>
                <a:tab algn="l" pos="3225960"/>
                <a:tab algn="l" pos="3683160"/>
                <a:tab algn="l" pos="4140360"/>
                <a:tab algn="l" pos="4597560"/>
                <a:tab algn="l" pos="5054760"/>
                <a:tab algn="l" pos="5511960"/>
                <a:tab algn="l" pos="5969160"/>
                <a:tab algn="l" pos="6426360"/>
                <a:tab algn="l" pos="6883560"/>
                <a:tab algn="l" pos="7340760"/>
                <a:tab algn="l" pos="7797960"/>
                <a:tab algn="l" pos="8255160"/>
                <a:tab algn="l" pos="8712360"/>
                <a:tab algn="l" pos="916956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Futura Condensed  "/>
            </a:endParaRPr>
          </a:p>
          <a:p>
            <a:pPr marL="438840" indent="-438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482760"/>
                <a:tab algn="l" pos="939960"/>
                <a:tab algn="l" pos="1397160"/>
                <a:tab algn="l" pos="1854360"/>
                <a:tab algn="l" pos="2311560"/>
                <a:tab algn="l" pos="2768760"/>
                <a:tab algn="l" pos="3225960"/>
                <a:tab algn="l" pos="3683160"/>
                <a:tab algn="l" pos="4140360"/>
                <a:tab algn="l" pos="4597560"/>
                <a:tab algn="l" pos="5054760"/>
                <a:tab algn="l" pos="5511960"/>
                <a:tab algn="l" pos="5969160"/>
                <a:tab algn="l" pos="6426360"/>
                <a:tab algn="l" pos="6883560"/>
                <a:tab algn="l" pos="7340760"/>
                <a:tab algn="l" pos="7797960"/>
                <a:tab algn="l" pos="8255160"/>
                <a:tab algn="l" pos="8712360"/>
                <a:tab algn="l" pos="9169560"/>
                <a:tab algn="l" pos="9601200"/>
                <a:tab algn="l" pos="10058400"/>
                <a:tab algn="l" pos="10515600"/>
              </a:tabLst>
            </a:pPr>
            <a:r>
              <a:rPr b="0" lang="en-GB" sz="2100" spc="-1" strike="noStrike">
                <a:solidFill>
                  <a:srgbClr val="b80047"/>
                </a:solidFill>
                <a:latin typeface="Futura Condensed  "/>
              </a:rPr>
              <a:t>Chemical name</a:t>
            </a:r>
            <a:endParaRPr b="0" lang="en-US" sz="2100" spc="-1" strike="noStrike">
              <a:solidFill>
                <a:srgbClr val="000000"/>
              </a:solidFill>
              <a:latin typeface="Futura Condensed  "/>
            </a:endParaRPr>
          </a:p>
          <a:p>
            <a:pPr marL="438840" indent="-438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482760"/>
                <a:tab algn="l" pos="939960"/>
                <a:tab algn="l" pos="1397160"/>
                <a:tab algn="l" pos="1854360"/>
                <a:tab algn="l" pos="2311560"/>
                <a:tab algn="l" pos="2768760"/>
                <a:tab algn="l" pos="3225960"/>
                <a:tab algn="l" pos="3683160"/>
                <a:tab algn="l" pos="4140360"/>
                <a:tab algn="l" pos="4597560"/>
                <a:tab algn="l" pos="5054760"/>
                <a:tab algn="l" pos="5511960"/>
                <a:tab algn="l" pos="5969160"/>
                <a:tab algn="l" pos="6426360"/>
                <a:tab algn="l" pos="6883560"/>
                <a:tab algn="l" pos="7340760"/>
                <a:tab algn="l" pos="7797960"/>
                <a:tab algn="l" pos="8255160"/>
                <a:tab algn="l" pos="8712360"/>
                <a:tab algn="l" pos="9169560"/>
                <a:tab algn="l" pos="9601200"/>
                <a:tab algn="l" pos="10058400"/>
                <a:tab algn="l" pos="10515600"/>
              </a:tabLst>
            </a:pPr>
            <a:r>
              <a:rPr b="0" lang="en-GB" sz="2100" spc="-1" strike="noStrike">
                <a:solidFill>
                  <a:srgbClr val="b80047"/>
                </a:solidFill>
                <a:latin typeface="Futura Condensed  "/>
              </a:rPr>
              <a:t>Hazardous ingredients/chemical identity.</a:t>
            </a:r>
            <a:endParaRPr b="0" lang="en-US" sz="2100" spc="-1" strike="noStrike">
              <a:solidFill>
                <a:srgbClr val="000000"/>
              </a:solidFill>
              <a:latin typeface="Futura Condensed  "/>
            </a:endParaRPr>
          </a:p>
          <a:p>
            <a:pPr marL="438840" indent="-438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482760"/>
                <a:tab algn="l" pos="939960"/>
                <a:tab algn="l" pos="1397160"/>
                <a:tab algn="l" pos="1854360"/>
                <a:tab algn="l" pos="2311560"/>
                <a:tab algn="l" pos="2768760"/>
                <a:tab algn="l" pos="3225960"/>
                <a:tab algn="l" pos="3683160"/>
                <a:tab algn="l" pos="4140360"/>
                <a:tab algn="l" pos="4597560"/>
                <a:tab algn="l" pos="5054760"/>
                <a:tab algn="l" pos="5511960"/>
                <a:tab algn="l" pos="5969160"/>
                <a:tab algn="l" pos="6426360"/>
                <a:tab algn="l" pos="6883560"/>
                <a:tab algn="l" pos="7340760"/>
                <a:tab algn="l" pos="7797960"/>
                <a:tab algn="l" pos="8255160"/>
                <a:tab algn="l" pos="8712360"/>
                <a:tab algn="l" pos="9169560"/>
                <a:tab algn="l" pos="9601200"/>
                <a:tab algn="l" pos="10058400"/>
                <a:tab algn="l" pos="10515600"/>
              </a:tabLst>
            </a:pPr>
            <a:r>
              <a:rPr b="0" lang="en-GB" sz="2100" spc="-1" strike="noStrike">
                <a:solidFill>
                  <a:srgbClr val="b80047"/>
                </a:solidFill>
                <a:latin typeface="Futura Condensed  "/>
              </a:rPr>
              <a:t>Physical characteristics</a:t>
            </a:r>
            <a:endParaRPr b="0" lang="en-US" sz="2100" spc="-1" strike="noStrike">
              <a:solidFill>
                <a:srgbClr val="000000"/>
              </a:solidFill>
              <a:latin typeface="Futura Condensed  "/>
            </a:endParaRPr>
          </a:p>
          <a:p>
            <a:pPr marL="438840" indent="-438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482760"/>
                <a:tab algn="l" pos="939960"/>
                <a:tab algn="l" pos="1397160"/>
                <a:tab algn="l" pos="1854360"/>
                <a:tab algn="l" pos="2311560"/>
                <a:tab algn="l" pos="2768760"/>
                <a:tab algn="l" pos="3225960"/>
                <a:tab algn="l" pos="3683160"/>
                <a:tab algn="l" pos="4140360"/>
                <a:tab algn="l" pos="4597560"/>
                <a:tab algn="l" pos="5054760"/>
                <a:tab algn="l" pos="5511960"/>
                <a:tab algn="l" pos="5969160"/>
                <a:tab algn="l" pos="6426360"/>
                <a:tab algn="l" pos="6883560"/>
                <a:tab algn="l" pos="7340760"/>
                <a:tab algn="l" pos="7797960"/>
                <a:tab algn="l" pos="8255160"/>
                <a:tab algn="l" pos="8712360"/>
                <a:tab algn="l" pos="9169560"/>
                <a:tab algn="l" pos="9601200"/>
                <a:tab algn="l" pos="10058400"/>
                <a:tab algn="l" pos="10515600"/>
              </a:tabLst>
            </a:pPr>
            <a:r>
              <a:rPr b="0" lang="en-GB" sz="2100" spc="-1" strike="noStrike">
                <a:solidFill>
                  <a:srgbClr val="b80047"/>
                </a:solidFill>
                <a:latin typeface="Futura Condensed  "/>
              </a:rPr>
              <a:t>Fire and explosion data</a:t>
            </a:r>
            <a:endParaRPr b="0" lang="en-US" sz="2100" spc="-1" strike="noStrike">
              <a:solidFill>
                <a:srgbClr val="000000"/>
              </a:solidFill>
              <a:latin typeface="Futura Condensed  "/>
            </a:endParaRPr>
          </a:p>
          <a:p>
            <a:pPr marL="438840" indent="-438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482760"/>
                <a:tab algn="l" pos="939960"/>
                <a:tab algn="l" pos="1397160"/>
                <a:tab algn="l" pos="1854360"/>
                <a:tab algn="l" pos="2311560"/>
                <a:tab algn="l" pos="2768760"/>
                <a:tab algn="l" pos="3225960"/>
                <a:tab algn="l" pos="3683160"/>
                <a:tab algn="l" pos="4140360"/>
                <a:tab algn="l" pos="4597560"/>
                <a:tab algn="l" pos="5054760"/>
                <a:tab algn="l" pos="5511960"/>
                <a:tab algn="l" pos="5969160"/>
                <a:tab algn="l" pos="6426360"/>
                <a:tab algn="l" pos="6883560"/>
                <a:tab algn="l" pos="7340760"/>
                <a:tab algn="l" pos="7797960"/>
                <a:tab algn="l" pos="8255160"/>
                <a:tab algn="l" pos="8712360"/>
                <a:tab algn="l" pos="9169560"/>
                <a:tab algn="l" pos="9601200"/>
                <a:tab algn="l" pos="10058400"/>
                <a:tab algn="l" pos="10515600"/>
              </a:tabLst>
            </a:pPr>
            <a:r>
              <a:rPr b="0" lang="en-GB" sz="2100" spc="-1" strike="noStrike">
                <a:solidFill>
                  <a:srgbClr val="b80047"/>
                </a:solidFill>
                <a:latin typeface="Futura Condensed  "/>
              </a:rPr>
              <a:t>Reactivity</a:t>
            </a:r>
            <a:endParaRPr b="0" lang="en-US" sz="2100" spc="-1" strike="noStrike">
              <a:solidFill>
                <a:srgbClr val="000000"/>
              </a:solidFill>
              <a:latin typeface="Futura Condensed  "/>
            </a:endParaRPr>
          </a:p>
          <a:p>
            <a:pPr marL="438840" indent="-438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482760"/>
                <a:tab algn="l" pos="939960"/>
                <a:tab algn="l" pos="1397160"/>
                <a:tab algn="l" pos="1854360"/>
                <a:tab algn="l" pos="2311560"/>
                <a:tab algn="l" pos="2768760"/>
                <a:tab algn="l" pos="3225960"/>
                <a:tab algn="l" pos="3683160"/>
                <a:tab algn="l" pos="4140360"/>
                <a:tab algn="l" pos="4597560"/>
                <a:tab algn="l" pos="5054760"/>
                <a:tab algn="l" pos="5511960"/>
                <a:tab algn="l" pos="5969160"/>
                <a:tab algn="l" pos="6426360"/>
                <a:tab algn="l" pos="6883560"/>
                <a:tab algn="l" pos="7340760"/>
                <a:tab algn="l" pos="7797960"/>
                <a:tab algn="l" pos="8255160"/>
                <a:tab algn="l" pos="8712360"/>
                <a:tab algn="l" pos="9169560"/>
                <a:tab algn="l" pos="9601200"/>
                <a:tab algn="l" pos="10058400"/>
                <a:tab algn="l" pos="10515600"/>
              </a:tabLst>
            </a:pPr>
            <a:r>
              <a:rPr b="0" lang="en-GB" sz="2100" spc="-1" strike="noStrike">
                <a:solidFill>
                  <a:srgbClr val="b80047"/>
                </a:solidFill>
                <a:latin typeface="Futura Condensed  "/>
              </a:rPr>
              <a:t>Health hazards</a:t>
            </a:r>
            <a:endParaRPr b="0" lang="en-US" sz="2100" spc="-1" strike="noStrike">
              <a:solidFill>
                <a:srgbClr val="000000"/>
              </a:solidFill>
              <a:latin typeface="Futura Condensed  "/>
            </a:endParaRPr>
          </a:p>
          <a:p>
            <a:pPr marL="438840" indent="-438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482760"/>
                <a:tab algn="l" pos="939960"/>
                <a:tab algn="l" pos="1397160"/>
                <a:tab algn="l" pos="1854360"/>
                <a:tab algn="l" pos="2311560"/>
                <a:tab algn="l" pos="2768760"/>
                <a:tab algn="l" pos="3225960"/>
                <a:tab algn="l" pos="3683160"/>
                <a:tab algn="l" pos="4140360"/>
                <a:tab algn="l" pos="4597560"/>
                <a:tab algn="l" pos="5054760"/>
                <a:tab algn="l" pos="5511960"/>
                <a:tab algn="l" pos="5969160"/>
                <a:tab algn="l" pos="6426360"/>
                <a:tab algn="l" pos="6883560"/>
                <a:tab algn="l" pos="7340760"/>
                <a:tab algn="l" pos="7797960"/>
                <a:tab algn="l" pos="8255160"/>
                <a:tab algn="l" pos="8712360"/>
                <a:tab algn="l" pos="9169560"/>
                <a:tab algn="l" pos="9601200"/>
                <a:tab algn="l" pos="10058400"/>
                <a:tab algn="l" pos="10515600"/>
              </a:tabLst>
            </a:pPr>
            <a:r>
              <a:rPr b="0" lang="en-GB" sz="2100" spc="-1" strike="noStrike">
                <a:solidFill>
                  <a:srgbClr val="b80047"/>
                </a:solidFill>
                <a:latin typeface="Futura Condensed  "/>
              </a:rPr>
              <a:t>Usage, handling, and storage</a:t>
            </a:r>
            <a:endParaRPr b="0" lang="en-US" sz="2100" spc="-1" strike="noStrike">
              <a:solidFill>
                <a:srgbClr val="000000"/>
              </a:solidFill>
              <a:latin typeface="Futura Condensed  "/>
            </a:endParaRPr>
          </a:p>
          <a:p>
            <a:pPr marL="438840" indent="-438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482760"/>
                <a:tab algn="l" pos="939960"/>
                <a:tab algn="l" pos="1397160"/>
                <a:tab algn="l" pos="1854360"/>
                <a:tab algn="l" pos="2311560"/>
                <a:tab algn="l" pos="2768760"/>
                <a:tab algn="l" pos="3225960"/>
                <a:tab algn="l" pos="3683160"/>
                <a:tab algn="l" pos="4140360"/>
                <a:tab algn="l" pos="4597560"/>
                <a:tab algn="l" pos="5054760"/>
                <a:tab algn="l" pos="5511960"/>
                <a:tab algn="l" pos="5969160"/>
                <a:tab algn="l" pos="6426360"/>
                <a:tab algn="l" pos="6883560"/>
                <a:tab algn="l" pos="7340760"/>
                <a:tab algn="l" pos="7797960"/>
                <a:tab algn="l" pos="8255160"/>
                <a:tab algn="l" pos="8712360"/>
                <a:tab algn="l" pos="9169560"/>
                <a:tab algn="l" pos="9601200"/>
                <a:tab algn="l" pos="10058400"/>
                <a:tab algn="l" pos="10515600"/>
              </a:tabLst>
            </a:pPr>
            <a:r>
              <a:rPr b="0" lang="en-GB" sz="2100" spc="-1" strike="noStrike">
                <a:solidFill>
                  <a:srgbClr val="b80047"/>
                </a:solidFill>
                <a:latin typeface="Futura Condensed  "/>
              </a:rPr>
              <a:t>Special protection and precautions</a:t>
            </a:r>
            <a:endParaRPr b="0" lang="en-US" sz="2100" spc="-1" strike="noStrike">
              <a:solidFill>
                <a:srgbClr val="000000"/>
              </a:solidFill>
              <a:latin typeface="Futura Condensed  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b80047"/>
                </a:solidFill>
                <a:latin typeface="Futura Condensed ExtraBold"/>
              </a:rPr>
              <a:t>Ergonomics</a:t>
            </a:r>
            <a:endParaRPr b="0" lang="en-US" sz="4400" spc="-1" strike="noStrike">
              <a:solidFill>
                <a:srgbClr val="000000"/>
              </a:solidFill>
              <a:latin typeface="Futura Condensed ExtraBol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29920" y="134100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38556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utura Condensed  "/>
              </a:rPr>
              <a:t>In order to avoid back, neck, and knee injuries, and carpal tunnel syndrome, be sure to watch your posture at your desk:</a:t>
            </a:r>
            <a:endParaRPr b="0" lang="en-US" sz="3200" spc="-1" strike="noStrike">
              <a:solidFill>
                <a:srgbClr val="000000"/>
              </a:solidFill>
              <a:latin typeface="Futura Condensed  "/>
            </a:endParaRPr>
          </a:p>
          <a:p>
            <a:pPr marL="38556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utura Condensed  "/>
              </a:rPr>
              <a:t>Sit and work at computer with:</a:t>
            </a:r>
            <a:endParaRPr b="0" lang="en-US" sz="3200" spc="-1" strike="noStrike">
              <a:solidFill>
                <a:srgbClr val="000000"/>
              </a:solidFill>
              <a:latin typeface="Futura Condensed  "/>
            </a:endParaRPr>
          </a:p>
          <a:p>
            <a:pPr marL="385560" indent="-291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utura Condensed  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Futura Condensed  "/>
              </a:rPr>
              <a:t>thighs horizontal</a:t>
            </a:r>
            <a:endParaRPr b="0" lang="en-US" sz="2400" spc="-1" strike="noStrike">
              <a:solidFill>
                <a:srgbClr val="000000"/>
              </a:solidFill>
              <a:latin typeface="Futura Condensed  "/>
            </a:endParaRPr>
          </a:p>
          <a:p>
            <a:pPr marL="385560" indent="-291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Condensed  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Futura Condensed  "/>
              </a:rPr>
              <a:t>lower legs vertical</a:t>
            </a:r>
            <a:endParaRPr b="0" lang="en-US" sz="2400" spc="-1" strike="noStrike">
              <a:solidFill>
                <a:srgbClr val="000000"/>
              </a:solidFill>
              <a:latin typeface="Futura Condensed  "/>
            </a:endParaRPr>
          </a:p>
          <a:p>
            <a:pPr marL="385560" indent="-291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Condensed  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Futura Condensed  "/>
              </a:rPr>
              <a:t>feet flat on floor</a:t>
            </a:r>
            <a:endParaRPr b="0" lang="en-US" sz="2400" spc="-1" strike="noStrike">
              <a:solidFill>
                <a:srgbClr val="000000"/>
              </a:solidFill>
              <a:latin typeface="Futura Condensed  "/>
            </a:endParaRPr>
          </a:p>
          <a:p>
            <a:pPr marL="385560" indent="-291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Condensed  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Futura Condensed  "/>
              </a:rPr>
              <a:t>wrists flat</a:t>
            </a:r>
            <a:endParaRPr b="0" lang="en-US" sz="2400" spc="-1" strike="noStrike">
              <a:solidFill>
                <a:srgbClr val="000000"/>
              </a:solidFill>
              <a:latin typeface="Futura Condensed  "/>
            </a:endParaRPr>
          </a:p>
          <a:p>
            <a:pPr marL="385560" indent="-291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Condensed  "/>
              </a:rPr>
              <a:t>monitor not too close or far away from face – your neck should be straight. </a:t>
            </a:r>
            <a:endParaRPr b="0" lang="en-US" sz="2400" spc="-1" strike="noStrike">
              <a:solidFill>
                <a:srgbClr val="000000"/>
              </a:solidFill>
              <a:latin typeface="Futura Condensed  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b80047"/>
                </a:solidFill>
                <a:latin typeface="Futura Condensed ExtraBold"/>
              </a:rPr>
              <a:t>Emergency</a:t>
            </a:r>
            <a:endParaRPr b="0" lang="en-US" sz="4400" spc="-1" strike="noStrike">
              <a:solidFill>
                <a:srgbClr val="000000"/>
              </a:solidFill>
              <a:latin typeface="Futura Condensed ExtraBol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29920" y="1454040"/>
            <a:ext cx="9070920" cy="51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40284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utura Condensed  "/>
              </a:rPr>
              <a:t>Here are the proper steps to take in case of an emergency:</a:t>
            </a:r>
            <a:endParaRPr b="0" lang="en-US" sz="3200" spc="-1" strike="noStrike">
              <a:solidFill>
                <a:srgbClr val="000000"/>
              </a:solidFill>
              <a:latin typeface="Futura Condensed  "/>
            </a:endParaRPr>
          </a:p>
          <a:p>
            <a:pPr marL="40284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Futura Condensed  "/>
              </a:rPr>
              <a:t>1. </a:t>
            </a:r>
            <a:r>
              <a:rPr b="0" lang="en-GB" sz="2400" spc="-1" strike="noStrike">
                <a:solidFill>
                  <a:srgbClr val="000000"/>
                </a:solidFill>
                <a:latin typeface="Futura Condensed  "/>
              </a:rPr>
              <a:t>Turn off power if power is involved</a:t>
            </a:r>
            <a:endParaRPr b="0" lang="en-US" sz="2400" spc="-1" strike="noStrike">
              <a:solidFill>
                <a:srgbClr val="000000"/>
              </a:solidFill>
              <a:latin typeface="Futura Condensed  "/>
            </a:endParaRPr>
          </a:p>
          <a:p>
            <a:pPr marL="40284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Condensed  "/>
              </a:rPr>
              <a:t>2. Report to instructor</a:t>
            </a:r>
            <a:endParaRPr b="0" lang="en-US" sz="2400" spc="-1" strike="noStrike">
              <a:solidFill>
                <a:srgbClr val="000000"/>
              </a:solidFill>
              <a:latin typeface="Futura Condensed  "/>
            </a:endParaRPr>
          </a:p>
          <a:p>
            <a:pPr marL="40284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Condensed  "/>
              </a:rPr>
              <a:t>3. Administer first aid, if qualified and possible</a:t>
            </a:r>
            <a:endParaRPr b="0" lang="en-US" sz="2400" spc="-1" strike="noStrike">
              <a:solidFill>
                <a:srgbClr val="000000"/>
              </a:solidFill>
              <a:latin typeface="Futura Condensed  "/>
            </a:endParaRPr>
          </a:p>
          <a:p>
            <a:pPr marL="40284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Condensed  "/>
              </a:rPr>
              <a:t>4. If chemicals are involved fill out MSDS sheet</a:t>
            </a:r>
            <a:endParaRPr b="0" lang="en-US" sz="2400" spc="-1" strike="noStrike">
              <a:solidFill>
                <a:srgbClr val="000000"/>
              </a:solidFill>
              <a:latin typeface="Futura Condensed  "/>
            </a:endParaRPr>
          </a:p>
          <a:p>
            <a:pPr marL="40284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Condensed  "/>
              </a:rPr>
              <a:t>5. Report to administrator</a:t>
            </a:r>
            <a:endParaRPr b="0" lang="en-US" sz="2400" spc="-1" strike="noStrike">
              <a:solidFill>
                <a:srgbClr val="000000"/>
              </a:solidFill>
              <a:latin typeface="Futura Condensed  "/>
            </a:endParaRPr>
          </a:p>
          <a:p>
            <a:pPr marL="40284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Condensed  "/>
              </a:rPr>
              <a:t>6. Call nurse or take injured person to nurse</a:t>
            </a:r>
            <a:endParaRPr b="0" lang="en-US" sz="2400" spc="-1" strike="noStrike">
              <a:solidFill>
                <a:srgbClr val="000000"/>
              </a:solidFill>
              <a:latin typeface="Futura Condensed  "/>
            </a:endParaRPr>
          </a:p>
          <a:p>
            <a:pPr marL="40284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Condensed  "/>
              </a:rPr>
              <a:t>7. Notify parents</a:t>
            </a:r>
            <a:endParaRPr b="0" lang="en-US" sz="2400" spc="-1" strike="noStrike">
              <a:solidFill>
                <a:srgbClr val="000000"/>
              </a:solidFill>
              <a:latin typeface="Futura Condensed  "/>
            </a:endParaRPr>
          </a:p>
          <a:p>
            <a:pPr marL="40284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Condensed  "/>
              </a:rPr>
              <a:t>8. Instructor fill out necessary accident forms.</a:t>
            </a:r>
            <a:endParaRPr b="0" lang="en-US" sz="2400" spc="-1" strike="noStrike">
              <a:solidFill>
                <a:srgbClr val="000000"/>
              </a:solidFill>
              <a:latin typeface="Futura Condensed  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Futura Condensed ExtraBold"/>
              </a:rPr>
              <a:t>Credits:</a:t>
            </a:r>
            <a:endParaRPr b="0" lang="en-US" sz="4400" spc="-1" strike="noStrike">
              <a:solidFill>
                <a:srgbClr val="000000"/>
              </a:solidFill>
              <a:latin typeface="Futura Condensed ExtraBol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utura Condensed  "/>
              </a:rPr>
              <a:t>References: </a:t>
            </a:r>
            <a:endParaRPr b="0" lang="en-US" sz="3200" spc="-1" strike="noStrike">
              <a:solidFill>
                <a:srgbClr val="000000"/>
              </a:solidFill>
              <a:latin typeface="Futura Condensed  "/>
            </a:endParaRPr>
          </a:p>
          <a:p>
            <a:pPr marL="42876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utura Condensed  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Futura Condensed  "/>
              </a:rPr>
              <a:t>Texas Trade &amp; Industrial Education website</a:t>
            </a:r>
            <a:endParaRPr b="0" lang="en-US" sz="3200" spc="-1" strike="noStrike">
              <a:solidFill>
                <a:srgbClr val="000000"/>
              </a:solidFill>
              <a:latin typeface="Futura Condensed  "/>
            </a:endParaRPr>
          </a:p>
          <a:p>
            <a:pPr marL="42876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utura Condensed  "/>
              </a:rPr>
              <a:t>Book – Graphic Communications </a:t>
            </a:r>
            <a:endParaRPr b="0" lang="en-US" sz="3200" spc="-1" strike="noStrike">
              <a:solidFill>
                <a:srgbClr val="000000"/>
              </a:solidFill>
              <a:latin typeface="Futura Condensed  "/>
            </a:endParaRPr>
          </a:p>
          <a:p>
            <a:pPr marL="42876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utura Condensed  "/>
              </a:rPr>
              <a:t>Instructor – Regina Gossett, Poplar Bluff Technical Career Center</a:t>
            </a:r>
            <a:endParaRPr b="0" lang="en-US" sz="3200" spc="-1" strike="noStrike">
              <a:solidFill>
                <a:srgbClr val="000000"/>
              </a:solidFill>
              <a:latin typeface="Futura Condensed  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b80047"/>
                </a:solidFill>
                <a:latin typeface="Futura Condensed ExtraBold"/>
              </a:rPr>
              <a:t>Shop Safety</a:t>
            </a:r>
            <a:endParaRPr b="0" lang="en-US" sz="4400" spc="-1" strike="noStrike">
              <a:solidFill>
                <a:srgbClr val="000000"/>
              </a:solidFill>
              <a:latin typeface="Futura Condensed Extra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30140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40716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utura Condensed  "/>
              </a:rPr>
              <a:t>In this unit you will:</a:t>
            </a:r>
            <a:endParaRPr b="0" lang="en-US" sz="3200" spc="-1" strike="noStrike">
              <a:solidFill>
                <a:srgbClr val="000000"/>
              </a:solidFill>
              <a:latin typeface="Futura Condensed  "/>
            </a:endParaRPr>
          </a:p>
          <a:p>
            <a:pPr marL="407160" indent="-30780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utura Condensed  "/>
              </a:rPr>
              <a:t>Learn vocabulary terms</a:t>
            </a:r>
            <a:endParaRPr b="0" lang="en-US" sz="3200" spc="-1" strike="noStrike">
              <a:solidFill>
                <a:srgbClr val="000000"/>
              </a:solidFill>
              <a:latin typeface="Futura Condensed  "/>
            </a:endParaRPr>
          </a:p>
          <a:p>
            <a:pPr marL="407160" indent="-30780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utura Condensed  "/>
              </a:rPr>
              <a:t>Learn shop safety rules</a:t>
            </a:r>
            <a:endParaRPr b="0" lang="en-US" sz="3200" spc="-1" strike="noStrike">
              <a:solidFill>
                <a:srgbClr val="000000"/>
              </a:solidFill>
              <a:latin typeface="Futura Condensed  "/>
            </a:endParaRPr>
          </a:p>
          <a:p>
            <a:pPr marL="407160" indent="-30780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utura Condensed  "/>
              </a:rPr>
              <a:t>Learn steps in maintaining safety and order in the shop</a:t>
            </a:r>
            <a:endParaRPr b="0" lang="en-US" sz="3200" spc="-1" strike="noStrike">
              <a:solidFill>
                <a:srgbClr val="000000"/>
              </a:solidFill>
              <a:latin typeface="Futura Condensed  "/>
            </a:endParaRPr>
          </a:p>
          <a:p>
            <a:pPr marL="407160" indent="-30780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utura Condensed  "/>
              </a:rPr>
              <a:t>Learn listed information on a Material Safety Data Sheet</a:t>
            </a:r>
            <a:endParaRPr b="0" lang="en-US" sz="3200" spc="-1" strike="noStrike">
              <a:solidFill>
                <a:srgbClr val="000000"/>
              </a:solidFill>
              <a:latin typeface="Futura Condensed  "/>
            </a:endParaRPr>
          </a:p>
          <a:p>
            <a:pPr marL="407160" indent="-30780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utura Condensed  "/>
              </a:rPr>
              <a:t>Learn the steps to take in case of an emergency</a:t>
            </a:r>
            <a:endParaRPr b="0" lang="en-US" sz="3200" spc="-1" strike="noStrike">
              <a:solidFill>
                <a:srgbClr val="000000"/>
              </a:solidFill>
              <a:latin typeface="Futura Condensed  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b80047"/>
                </a:solidFill>
                <a:latin typeface="Futura Condensed ExtraBold"/>
              </a:rPr>
              <a:t>Vocabulary Terms</a:t>
            </a:r>
            <a:endParaRPr b="0" lang="en-US" sz="4400" spc="-1" strike="noStrike">
              <a:solidFill>
                <a:srgbClr val="000000"/>
              </a:solidFill>
              <a:latin typeface="Futura Condensed ExtraBol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1378080"/>
            <a:ext cx="9072360" cy="49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91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36360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utura Condensed  "/>
              </a:rPr>
              <a:t>Solvents</a:t>
            </a:r>
            <a:endParaRPr b="0" lang="en-US" sz="3200" spc="-1" strike="noStrike">
              <a:solidFill>
                <a:srgbClr val="000000"/>
              </a:solidFill>
              <a:latin typeface="Futura Condensed  "/>
            </a:endParaRPr>
          </a:p>
          <a:p>
            <a:pPr marL="338040" indent="-338040">
              <a:lnSpc>
                <a:spcPct val="91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36360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utura Condensed  "/>
              </a:rPr>
              <a:t>Combustibles</a:t>
            </a:r>
            <a:endParaRPr b="0" lang="en-US" sz="3200" spc="-1" strike="noStrike">
              <a:solidFill>
                <a:srgbClr val="000000"/>
              </a:solidFill>
              <a:latin typeface="Futura Condensed  "/>
            </a:endParaRPr>
          </a:p>
          <a:p>
            <a:pPr marL="338040" indent="-338040">
              <a:lnSpc>
                <a:spcPct val="91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36360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utura Condensed  "/>
              </a:rPr>
              <a:t>Personal Protective Equipment</a:t>
            </a:r>
            <a:endParaRPr b="0" lang="en-US" sz="3200" spc="-1" strike="noStrike">
              <a:solidFill>
                <a:srgbClr val="000000"/>
              </a:solidFill>
              <a:latin typeface="Futura Condensed  "/>
            </a:endParaRPr>
          </a:p>
          <a:p>
            <a:pPr marL="338040" indent="-338040">
              <a:lnSpc>
                <a:spcPct val="91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36360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utura Condensed  "/>
              </a:rPr>
              <a:t>Hazard</a:t>
            </a:r>
            <a:endParaRPr b="0" lang="en-US" sz="3200" spc="-1" strike="noStrike">
              <a:solidFill>
                <a:srgbClr val="000000"/>
              </a:solidFill>
              <a:latin typeface="Futura Condensed  "/>
            </a:endParaRPr>
          </a:p>
          <a:p>
            <a:pPr marL="338040" indent="-338040">
              <a:lnSpc>
                <a:spcPct val="91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36360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utura Condensed  "/>
              </a:rPr>
              <a:t>Material Data Safety Sheet (MSDS)</a:t>
            </a:r>
            <a:r>
              <a:rPr b="0" lang="en-GB" sz="3200" spc="-1" strike="noStrike">
                <a:solidFill>
                  <a:srgbClr val="000000"/>
                </a:solidFill>
                <a:latin typeface="Futura Condensed  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Futura Condensed  "/>
            </a:endParaRPr>
          </a:p>
          <a:p>
            <a:pPr marL="338040" indent="-338040">
              <a:lnSpc>
                <a:spcPct val="91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36360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utura Condensed  "/>
              </a:rPr>
              <a:t>Occupational Safety and Health Administration (OSHA)</a:t>
            </a:r>
            <a:r>
              <a:rPr b="0" lang="en-GB" sz="3200" spc="-1" strike="noStrike">
                <a:solidFill>
                  <a:srgbClr val="000000"/>
                </a:solidFill>
                <a:latin typeface="Futura Condensed  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Futura Condensed  "/>
            </a:endParaRPr>
          </a:p>
          <a:p>
            <a:pPr marL="338040" indent="-338040">
              <a:lnSpc>
                <a:spcPct val="91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36360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utura Condensed  "/>
              </a:rPr>
              <a:t>Ergonomics</a:t>
            </a:r>
            <a:endParaRPr b="0" lang="en-US" sz="3200" spc="-1" strike="noStrike">
              <a:solidFill>
                <a:srgbClr val="000000"/>
              </a:solidFill>
              <a:latin typeface="Futura Condensed  "/>
            </a:endParaRPr>
          </a:p>
          <a:p>
            <a:pPr marL="338040" indent="-338040">
              <a:lnSpc>
                <a:spcPct val="91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36360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utura Condensed  "/>
              </a:rPr>
              <a:t>Lockout Device</a:t>
            </a:r>
            <a:endParaRPr b="0" lang="en-US" sz="3200" spc="-1" strike="noStrike">
              <a:solidFill>
                <a:srgbClr val="000000"/>
              </a:solidFill>
              <a:latin typeface="Futura Condensed  "/>
            </a:endParaRPr>
          </a:p>
          <a:p>
            <a:pPr marL="338040" indent="-338040">
              <a:lnSpc>
                <a:spcPct val="91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36360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utura Condensed  "/>
              </a:rPr>
              <a:t>Machine Guards</a:t>
            </a:r>
            <a:endParaRPr b="0" lang="en-US" sz="3200" spc="-1" strike="noStrike">
              <a:solidFill>
                <a:srgbClr val="000000"/>
              </a:solidFill>
              <a:latin typeface="Futura Condensed  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685800" y="6629400"/>
            <a:ext cx="86868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685800" y="662940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687240" indent="-345960">
              <a:lnSpc>
                <a:spcPct val="91000"/>
              </a:lnSpc>
              <a:spcBef>
                <a:spcPts val="524"/>
              </a:spcBef>
              <a:tabLst>
                <a:tab algn="l" pos="0"/>
                <a:tab algn="l" pos="687240"/>
                <a:tab algn="l" pos="1144440"/>
                <a:tab algn="l" pos="1601640"/>
                <a:tab algn="l" pos="2058840"/>
                <a:tab algn="l" pos="2516040"/>
                <a:tab algn="l" pos="2973240"/>
                <a:tab algn="l" pos="3430440"/>
                <a:tab algn="l" pos="3887640"/>
                <a:tab algn="l" pos="4344840"/>
                <a:tab algn="l" pos="4802040"/>
                <a:tab algn="l" pos="5259240"/>
                <a:tab algn="l" pos="5716440"/>
                <a:tab algn="l" pos="6173640"/>
                <a:tab algn="l" pos="6630840"/>
                <a:tab algn="l" pos="7088040"/>
                <a:tab algn="l" pos="7545240"/>
                <a:tab algn="l" pos="8002440"/>
                <a:tab algn="l" pos="8459640"/>
                <a:tab algn="l" pos="8916840"/>
                <a:tab algn="l" pos="9374040"/>
                <a:tab algn="l" pos="9831240"/>
                <a:tab algn="l" pos="10058400"/>
                <a:tab algn="l" pos="105156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Futura Condensed  "/>
                <a:ea typeface="MS Gothic"/>
              </a:rPr>
              <a:t>The definitions to these terms are provided in your in your information sheet handout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b80047"/>
                </a:solidFill>
                <a:latin typeface="Futura Condensed ExtraBold"/>
              </a:rPr>
              <a:t>Shop Safety Rules</a:t>
            </a:r>
            <a:endParaRPr b="0" lang="en-US" sz="4400" spc="-1" strike="noStrike">
              <a:solidFill>
                <a:srgbClr val="000000"/>
              </a:solidFill>
              <a:latin typeface="Futura Condensed ExtraBol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2920" y="1600200"/>
            <a:ext cx="9072360" cy="50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568440" indent="0">
              <a:lnSpc>
                <a:spcPct val="81000"/>
              </a:lnSpc>
              <a:spcBef>
                <a:spcPts val="524"/>
              </a:spcBef>
              <a:buNone/>
              <a:tabLst>
                <a:tab algn="l" pos="0"/>
                <a:tab algn="l" pos="630360"/>
                <a:tab algn="l" pos="1087560"/>
                <a:tab algn="l" pos="1544760"/>
                <a:tab algn="l" pos="2001960"/>
                <a:tab algn="l" pos="2459160"/>
                <a:tab algn="l" pos="2916360"/>
                <a:tab algn="l" pos="3373560"/>
                <a:tab algn="l" pos="3830760"/>
                <a:tab algn="l" pos="4287960"/>
                <a:tab algn="l" pos="4745160"/>
                <a:tab algn="l" pos="5202360"/>
                <a:tab algn="l" pos="5659560"/>
                <a:tab algn="l" pos="6116760"/>
                <a:tab algn="l" pos="6573960"/>
                <a:tab algn="l" pos="7031160"/>
                <a:tab algn="l" pos="7488360"/>
                <a:tab algn="l" pos="7945560"/>
                <a:tab algn="l" pos="8402760"/>
                <a:tab algn="l" pos="8859960"/>
                <a:tab algn="l" pos="9317160"/>
                <a:tab algn="l" pos="9601200"/>
                <a:tab algn="l" pos="10058400"/>
                <a:tab algn="l" pos="105156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Futura Condensed  "/>
              </a:rPr>
              <a:t>I</a:t>
            </a:r>
            <a:r>
              <a:rPr b="0" lang="en-GB" sz="2600" spc="-1" strike="noStrike">
                <a:solidFill>
                  <a:srgbClr val="000000"/>
                </a:solidFill>
                <a:latin typeface="Futura Condensed  "/>
              </a:rPr>
              <a:t>n order to have a safe shop you must abide by the shop safety rules listed below:</a:t>
            </a:r>
            <a:endParaRPr b="0" lang="en-US" sz="2600" spc="-1" strike="noStrike">
              <a:solidFill>
                <a:srgbClr val="000000"/>
              </a:solidFill>
              <a:latin typeface="Futura Condensed  "/>
            </a:endParaRPr>
          </a:p>
          <a:p>
            <a:pPr marL="568440" indent="0">
              <a:lnSpc>
                <a:spcPct val="81000"/>
              </a:lnSpc>
              <a:spcBef>
                <a:spcPts val="524"/>
              </a:spcBef>
              <a:buNone/>
              <a:tabLst>
                <a:tab algn="l" pos="0"/>
                <a:tab algn="l" pos="630360"/>
                <a:tab algn="l" pos="1087560"/>
                <a:tab algn="l" pos="1544760"/>
                <a:tab algn="l" pos="2001960"/>
                <a:tab algn="l" pos="2459160"/>
                <a:tab algn="l" pos="2916360"/>
                <a:tab algn="l" pos="3373560"/>
                <a:tab algn="l" pos="3830760"/>
                <a:tab algn="l" pos="4287960"/>
                <a:tab algn="l" pos="4745160"/>
                <a:tab algn="l" pos="5202360"/>
                <a:tab algn="l" pos="5659560"/>
                <a:tab algn="l" pos="6116760"/>
                <a:tab algn="l" pos="6573960"/>
                <a:tab algn="l" pos="7031160"/>
                <a:tab algn="l" pos="7488360"/>
                <a:tab algn="l" pos="7945560"/>
                <a:tab algn="l" pos="8402760"/>
                <a:tab algn="l" pos="8859960"/>
                <a:tab algn="l" pos="931716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Futura Condensed  "/>
            </a:endParaRPr>
          </a:p>
          <a:p>
            <a:pPr marL="568440" indent="-568440">
              <a:lnSpc>
                <a:spcPct val="81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630360"/>
                <a:tab algn="l" pos="1087560"/>
                <a:tab algn="l" pos="1544760"/>
                <a:tab algn="l" pos="2001960"/>
                <a:tab algn="l" pos="2459160"/>
                <a:tab algn="l" pos="2916360"/>
                <a:tab algn="l" pos="3373560"/>
                <a:tab algn="l" pos="3830760"/>
                <a:tab algn="l" pos="4287960"/>
                <a:tab algn="l" pos="4745160"/>
                <a:tab algn="l" pos="5202360"/>
                <a:tab algn="l" pos="5659560"/>
                <a:tab algn="l" pos="6116760"/>
                <a:tab algn="l" pos="6573960"/>
                <a:tab algn="l" pos="7031160"/>
                <a:tab algn="l" pos="7488360"/>
                <a:tab algn="l" pos="7945560"/>
                <a:tab algn="l" pos="8402760"/>
                <a:tab algn="l" pos="8859960"/>
                <a:tab algn="l" pos="931716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Condensed  "/>
              </a:rPr>
              <a:t>Conduct yourself in a manner conducive to safe shop practices.</a:t>
            </a:r>
            <a:endParaRPr b="0" lang="en-US" sz="2400" spc="-1" strike="noStrike">
              <a:solidFill>
                <a:srgbClr val="000000"/>
              </a:solidFill>
              <a:latin typeface="Futura Condensed  "/>
            </a:endParaRPr>
          </a:p>
          <a:p>
            <a:pPr marL="568440" indent="-568440">
              <a:lnSpc>
                <a:spcPct val="81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630360"/>
                <a:tab algn="l" pos="1087560"/>
                <a:tab algn="l" pos="1544760"/>
                <a:tab algn="l" pos="2001960"/>
                <a:tab algn="l" pos="2459160"/>
                <a:tab algn="l" pos="2916360"/>
                <a:tab algn="l" pos="3373560"/>
                <a:tab algn="l" pos="3830760"/>
                <a:tab algn="l" pos="4287960"/>
                <a:tab algn="l" pos="4745160"/>
                <a:tab algn="l" pos="5202360"/>
                <a:tab algn="l" pos="5659560"/>
                <a:tab algn="l" pos="6116760"/>
                <a:tab algn="l" pos="6573960"/>
                <a:tab algn="l" pos="7031160"/>
                <a:tab algn="l" pos="7488360"/>
                <a:tab algn="l" pos="7945560"/>
                <a:tab algn="l" pos="8402760"/>
                <a:tab algn="l" pos="8859960"/>
                <a:tab algn="l" pos="931716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Condensed  "/>
              </a:rPr>
              <a:t>Do not use any equipment until you understand how to use it.</a:t>
            </a:r>
            <a:endParaRPr b="0" lang="en-US" sz="2400" spc="-1" strike="noStrike">
              <a:solidFill>
                <a:srgbClr val="000000"/>
              </a:solidFill>
              <a:latin typeface="Futura Condensed  "/>
            </a:endParaRPr>
          </a:p>
          <a:p>
            <a:pPr marL="568440" indent="-568440">
              <a:lnSpc>
                <a:spcPct val="81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630360"/>
                <a:tab algn="l" pos="1087560"/>
                <a:tab algn="l" pos="1544760"/>
                <a:tab algn="l" pos="2001960"/>
                <a:tab algn="l" pos="2459160"/>
                <a:tab algn="l" pos="2916360"/>
                <a:tab algn="l" pos="3373560"/>
                <a:tab algn="l" pos="3830760"/>
                <a:tab algn="l" pos="4287960"/>
                <a:tab algn="l" pos="4745160"/>
                <a:tab algn="l" pos="5202360"/>
                <a:tab algn="l" pos="5659560"/>
                <a:tab algn="l" pos="6116760"/>
                <a:tab algn="l" pos="6573960"/>
                <a:tab algn="l" pos="7031160"/>
                <a:tab algn="l" pos="7488360"/>
                <a:tab algn="l" pos="7945560"/>
                <a:tab algn="l" pos="8402760"/>
                <a:tab algn="l" pos="8859960"/>
                <a:tab algn="l" pos="931716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Condensed  "/>
              </a:rPr>
              <a:t>Operate any presses or electrically powered equipment only after obtaining the approval of your instructor.</a:t>
            </a:r>
            <a:endParaRPr b="0" lang="en-US" sz="2400" spc="-1" strike="noStrike">
              <a:solidFill>
                <a:srgbClr val="000000"/>
              </a:solidFill>
              <a:latin typeface="Futura Condensed  "/>
            </a:endParaRPr>
          </a:p>
          <a:p>
            <a:pPr marL="568440" indent="-568440">
              <a:lnSpc>
                <a:spcPct val="81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630360"/>
                <a:tab algn="l" pos="1087560"/>
                <a:tab algn="l" pos="1544760"/>
                <a:tab algn="l" pos="2001960"/>
                <a:tab algn="l" pos="2459160"/>
                <a:tab algn="l" pos="2916360"/>
                <a:tab algn="l" pos="3373560"/>
                <a:tab algn="l" pos="3830760"/>
                <a:tab algn="l" pos="4287960"/>
                <a:tab algn="l" pos="4745160"/>
                <a:tab algn="l" pos="5202360"/>
                <a:tab algn="l" pos="5659560"/>
                <a:tab algn="l" pos="6116760"/>
                <a:tab algn="l" pos="6573960"/>
                <a:tab algn="l" pos="7031160"/>
                <a:tab algn="l" pos="7488360"/>
                <a:tab algn="l" pos="7945560"/>
                <a:tab algn="l" pos="8402760"/>
                <a:tab algn="l" pos="8859960"/>
                <a:tab algn="l" pos="931716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Futura Condensed  "/>
              </a:rPr>
              <a:t>Never</a:t>
            </a:r>
            <a:r>
              <a:rPr b="0" lang="en-GB" sz="2400" spc="-1" strike="noStrike">
                <a:solidFill>
                  <a:srgbClr val="000000"/>
                </a:solidFill>
                <a:latin typeface="Futura Condensed  "/>
              </a:rPr>
              <a:t> walk away from equipment that is running.</a:t>
            </a:r>
            <a:endParaRPr b="0" lang="en-US" sz="2400" spc="-1" strike="noStrike">
              <a:solidFill>
                <a:srgbClr val="000000"/>
              </a:solidFill>
              <a:latin typeface="Futura Condensed  "/>
            </a:endParaRPr>
          </a:p>
          <a:p>
            <a:pPr marL="568440" indent="-568440">
              <a:lnSpc>
                <a:spcPct val="81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630360"/>
                <a:tab algn="l" pos="1087560"/>
                <a:tab algn="l" pos="1544760"/>
                <a:tab algn="l" pos="2001960"/>
                <a:tab algn="l" pos="2459160"/>
                <a:tab algn="l" pos="2916360"/>
                <a:tab algn="l" pos="3373560"/>
                <a:tab algn="l" pos="3830760"/>
                <a:tab algn="l" pos="4287960"/>
                <a:tab algn="l" pos="4745160"/>
                <a:tab algn="l" pos="5202360"/>
                <a:tab algn="l" pos="5659560"/>
                <a:tab algn="l" pos="6116760"/>
                <a:tab algn="l" pos="6573960"/>
                <a:tab algn="l" pos="7031160"/>
                <a:tab algn="l" pos="7488360"/>
                <a:tab algn="l" pos="7945560"/>
                <a:tab algn="l" pos="8402760"/>
                <a:tab algn="l" pos="8859960"/>
                <a:tab algn="l" pos="931716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Condensed  "/>
              </a:rPr>
              <a:t>Always keep your hands away from a machine’s moving parts.</a:t>
            </a:r>
            <a:endParaRPr b="0" lang="en-US" sz="2400" spc="-1" strike="noStrike">
              <a:solidFill>
                <a:srgbClr val="000000"/>
              </a:solidFill>
              <a:latin typeface="Futura Condensed  "/>
            </a:endParaRPr>
          </a:p>
          <a:p>
            <a:pPr marL="568440" indent="-568440">
              <a:lnSpc>
                <a:spcPct val="81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630360"/>
                <a:tab algn="l" pos="1087560"/>
                <a:tab algn="l" pos="1544760"/>
                <a:tab algn="l" pos="2001960"/>
                <a:tab algn="l" pos="2459160"/>
                <a:tab algn="l" pos="2916360"/>
                <a:tab algn="l" pos="3373560"/>
                <a:tab algn="l" pos="3830760"/>
                <a:tab algn="l" pos="4287960"/>
                <a:tab algn="l" pos="4745160"/>
                <a:tab algn="l" pos="5202360"/>
                <a:tab algn="l" pos="5659560"/>
                <a:tab algn="l" pos="6116760"/>
                <a:tab algn="l" pos="6573960"/>
                <a:tab algn="l" pos="7031160"/>
                <a:tab algn="l" pos="7488360"/>
                <a:tab algn="l" pos="7945560"/>
                <a:tab algn="l" pos="8402760"/>
                <a:tab algn="l" pos="8859960"/>
                <a:tab algn="l" pos="931716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Condensed  "/>
              </a:rPr>
              <a:t>Use the correct tools and equipment when doing a job.</a:t>
            </a:r>
            <a:endParaRPr b="0" lang="en-US" sz="2400" spc="-1" strike="noStrike">
              <a:solidFill>
                <a:srgbClr val="000000"/>
              </a:solidFill>
              <a:latin typeface="Futura Condensed  "/>
            </a:endParaRPr>
          </a:p>
          <a:p>
            <a:pPr marL="568440" indent="-568440">
              <a:lnSpc>
                <a:spcPct val="81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630360"/>
                <a:tab algn="l" pos="1087560"/>
                <a:tab algn="l" pos="1544760"/>
                <a:tab algn="l" pos="2001960"/>
                <a:tab algn="l" pos="2459160"/>
                <a:tab algn="l" pos="2916360"/>
                <a:tab algn="l" pos="3373560"/>
                <a:tab algn="l" pos="3830760"/>
                <a:tab algn="l" pos="4287960"/>
                <a:tab algn="l" pos="4745160"/>
                <a:tab algn="l" pos="5202360"/>
                <a:tab algn="l" pos="5659560"/>
                <a:tab algn="l" pos="6116760"/>
                <a:tab algn="l" pos="6573960"/>
                <a:tab algn="l" pos="7031160"/>
                <a:tab algn="l" pos="7488360"/>
                <a:tab algn="l" pos="7945560"/>
                <a:tab algn="l" pos="8402760"/>
                <a:tab algn="l" pos="8859960"/>
                <a:tab algn="l" pos="931716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Condensed  "/>
              </a:rPr>
              <a:t>Limit the operation of the paper cutter, paper drill, and stitcher to one person at a time.</a:t>
            </a:r>
            <a:endParaRPr b="0" lang="en-US" sz="2400" spc="-1" strike="noStrike">
              <a:solidFill>
                <a:srgbClr val="000000"/>
              </a:solidFill>
              <a:latin typeface="Futura Condensed  "/>
            </a:endParaRPr>
          </a:p>
          <a:p>
            <a:pPr marL="568440" indent="-568440">
              <a:lnSpc>
                <a:spcPct val="81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630360"/>
                <a:tab algn="l" pos="1087560"/>
                <a:tab algn="l" pos="1544760"/>
                <a:tab algn="l" pos="2001960"/>
                <a:tab algn="l" pos="2459160"/>
                <a:tab algn="l" pos="2916360"/>
                <a:tab algn="l" pos="3373560"/>
                <a:tab algn="l" pos="3830760"/>
                <a:tab algn="l" pos="4287960"/>
                <a:tab algn="l" pos="4745160"/>
                <a:tab algn="l" pos="5202360"/>
                <a:tab algn="l" pos="5659560"/>
                <a:tab algn="l" pos="6116760"/>
                <a:tab algn="l" pos="6573960"/>
                <a:tab algn="l" pos="7031160"/>
                <a:tab algn="l" pos="7488360"/>
                <a:tab algn="l" pos="7945560"/>
                <a:tab algn="l" pos="8402760"/>
                <a:tab algn="l" pos="8859960"/>
                <a:tab algn="l" pos="931716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Condensed  "/>
              </a:rPr>
              <a:t>Tie back all long hair prior to operating any press or power equipment.</a:t>
            </a:r>
            <a:endParaRPr b="0" lang="en-US" sz="2400" spc="-1" strike="noStrike">
              <a:solidFill>
                <a:srgbClr val="000000"/>
              </a:solidFill>
              <a:latin typeface="Futura Condensed  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b80047"/>
                </a:solidFill>
                <a:latin typeface="Futura Condensed ExtraBold"/>
              </a:rPr>
              <a:t>Shop Safety Rules Continued...</a:t>
            </a:r>
            <a:endParaRPr b="0" lang="en-US" sz="4400" spc="-1" strike="noStrike">
              <a:solidFill>
                <a:srgbClr val="000000"/>
              </a:solidFill>
              <a:latin typeface="Futura Condensed Extra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28480" y="1599840"/>
            <a:ext cx="90727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6640" indent="-566640">
              <a:lnSpc>
                <a:spcPct val="81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592200"/>
                <a:tab algn="l" pos="1049400"/>
                <a:tab algn="l" pos="1506600"/>
                <a:tab algn="l" pos="1963800"/>
                <a:tab algn="l" pos="2421000"/>
                <a:tab algn="l" pos="2878200"/>
                <a:tab algn="l" pos="3335400"/>
                <a:tab algn="l" pos="3792600"/>
                <a:tab algn="l" pos="4249800"/>
                <a:tab algn="l" pos="4707000"/>
                <a:tab algn="l" pos="5164200"/>
                <a:tab algn="l" pos="5621400"/>
                <a:tab algn="l" pos="6078600"/>
                <a:tab algn="l" pos="6535800"/>
                <a:tab algn="l" pos="6993000"/>
                <a:tab algn="l" pos="7450200"/>
                <a:tab algn="l" pos="7907400"/>
                <a:tab algn="l" pos="8364600"/>
                <a:tab algn="l" pos="8821800"/>
                <a:tab algn="l" pos="9279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Condensed  "/>
              </a:rPr>
              <a:t>Remove ties, scarves, loose clothing, rings, and other jewelry before operating any press or power equipment.</a:t>
            </a:r>
            <a:endParaRPr b="0" lang="en-US" sz="2400" spc="-1" strike="noStrike">
              <a:solidFill>
                <a:srgbClr val="000000"/>
              </a:solidFill>
              <a:latin typeface="Futura Condensed  "/>
            </a:endParaRPr>
          </a:p>
          <a:p>
            <a:pPr marL="566640" indent="-566640">
              <a:lnSpc>
                <a:spcPct val="81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592200"/>
                <a:tab algn="l" pos="1049400"/>
                <a:tab algn="l" pos="1506600"/>
                <a:tab algn="l" pos="1963800"/>
                <a:tab algn="l" pos="2421000"/>
                <a:tab algn="l" pos="2878200"/>
                <a:tab algn="l" pos="3335400"/>
                <a:tab algn="l" pos="3792600"/>
                <a:tab algn="l" pos="4249800"/>
                <a:tab algn="l" pos="4707000"/>
                <a:tab algn="l" pos="5164200"/>
                <a:tab algn="l" pos="5621400"/>
                <a:tab algn="l" pos="6078600"/>
                <a:tab algn="l" pos="6535800"/>
                <a:tab algn="l" pos="6993000"/>
                <a:tab algn="l" pos="7450200"/>
                <a:tab algn="l" pos="7907400"/>
                <a:tab algn="l" pos="8364600"/>
                <a:tab algn="l" pos="8821800"/>
                <a:tab algn="l" pos="9279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Futura Condensed  "/>
              </a:rPr>
              <a:t>Do not</a:t>
            </a:r>
            <a:r>
              <a:rPr b="0" lang="en-GB" sz="2400" spc="-1" strike="noStrike">
                <a:solidFill>
                  <a:srgbClr val="000000"/>
                </a:solidFill>
                <a:latin typeface="Futura Condensed  "/>
              </a:rPr>
              <a:t> sit or lean on light tables.</a:t>
            </a:r>
            <a:endParaRPr b="0" lang="en-US" sz="2400" spc="-1" strike="noStrike">
              <a:solidFill>
                <a:srgbClr val="000000"/>
              </a:solidFill>
              <a:latin typeface="Futura Condensed  "/>
            </a:endParaRPr>
          </a:p>
          <a:p>
            <a:pPr marL="566640" indent="-566640">
              <a:lnSpc>
                <a:spcPct val="81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592200"/>
                <a:tab algn="l" pos="1049400"/>
                <a:tab algn="l" pos="1506600"/>
                <a:tab algn="l" pos="1963800"/>
                <a:tab algn="l" pos="2421000"/>
                <a:tab algn="l" pos="2878200"/>
                <a:tab algn="l" pos="3335400"/>
                <a:tab algn="l" pos="3792600"/>
                <a:tab algn="l" pos="4249800"/>
                <a:tab algn="l" pos="4707000"/>
                <a:tab algn="l" pos="5164200"/>
                <a:tab algn="l" pos="5621400"/>
                <a:tab algn="l" pos="6078600"/>
                <a:tab algn="l" pos="6535800"/>
                <a:tab algn="l" pos="6993000"/>
                <a:tab algn="l" pos="7450200"/>
                <a:tab algn="l" pos="7907400"/>
                <a:tab algn="l" pos="8364600"/>
                <a:tab algn="l" pos="8821800"/>
                <a:tab algn="l" pos="9279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Condensed  "/>
              </a:rPr>
              <a:t>Avoid touching or looking directly at light sources.</a:t>
            </a:r>
            <a:endParaRPr b="0" lang="en-US" sz="2400" spc="-1" strike="noStrike">
              <a:solidFill>
                <a:srgbClr val="000000"/>
              </a:solidFill>
              <a:latin typeface="Futura Condensed  "/>
            </a:endParaRPr>
          </a:p>
          <a:p>
            <a:pPr marL="566640" indent="-566640">
              <a:lnSpc>
                <a:spcPct val="81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592200"/>
                <a:tab algn="l" pos="1049400"/>
                <a:tab algn="l" pos="1506600"/>
                <a:tab algn="l" pos="1963800"/>
                <a:tab algn="l" pos="2421000"/>
                <a:tab algn="l" pos="2878200"/>
                <a:tab algn="l" pos="3335400"/>
                <a:tab algn="l" pos="3792600"/>
                <a:tab algn="l" pos="4249800"/>
                <a:tab algn="l" pos="4707000"/>
                <a:tab algn="l" pos="5164200"/>
                <a:tab algn="l" pos="5621400"/>
                <a:tab algn="l" pos="6078600"/>
                <a:tab algn="l" pos="6535800"/>
                <a:tab algn="l" pos="6993000"/>
                <a:tab algn="l" pos="7450200"/>
                <a:tab algn="l" pos="7907400"/>
                <a:tab algn="l" pos="8364600"/>
                <a:tab algn="l" pos="8821800"/>
                <a:tab algn="l" pos="9279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Condensed  "/>
              </a:rPr>
              <a:t>Wear eye protection in areas where flying objects and splashing solutions are possible.</a:t>
            </a:r>
            <a:endParaRPr b="0" lang="en-US" sz="2400" spc="-1" strike="noStrike">
              <a:solidFill>
                <a:srgbClr val="000000"/>
              </a:solidFill>
              <a:latin typeface="Futura Condensed  "/>
            </a:endParaRPr>
          </a:p>
          <a:p>
            <a:pPr marL="566640" indent="-566640">
              <a:lnSpc>
                <a:spcPct val="81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592200"/>
                <a:tab algn="l" pos="1049400"/>
                <a:tab algn="l" pos="1506600"/>
                <a:tab algn="l" pos="1963800"/>
                <a:tab algn="l" pos="2421000"/>
                <a:tab algn="l" pos="2878200"/>
                <a:tab algn="l" pos="3335400"/>
                <a:tab algn="l" pos="3792600"/>
                <a:tab algn="l" pos="4249800"/>
                <a:tab algn="l" pos="4707000"/>
                <a:tab algn="l" pos="5164200"/>
                <a:tab algn="l" pos="5621400"/>
                <a:tab algn="l" pos="6078600"/>
                <a:tab algn="l" pos="6535800"/>
                <a:tab algn="l" pos="6993000"/>
                <a:tab algn="l" pos="7450200"/>
                <a:tab algn="l" pos="7907400"/>
                <a:tab algn="l" pos="8364600"/>
                <a:tab algn="l" pos="8821800"/>
                <a:tab algn="l" pos="9279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Futura Condensed  "/>
              </a:rPr>
              <a:t>Do not </a:t>
            </a:r>
            <a:r>
              <a:rPr b="0" lang="en-GB" sz="2400" spc="-1" strike="noStrike">
                <a:solidFill>
                  <a:srgbClr val="000000"/>
                </a:solidFill>
                <a:latin typeface="Futura Condensed  "/>
              </a:rPr>
              <a:t>touch heat sources with hands or other body parts.</a:t>
            </a:r>
            <a:endParaRPr b="0" lang="en-US" sz="2400" spc="-1" strike="noStrike">
              <a:solidFill>
                <a:srgbClr val="000000"/>
              </a:solidFill>
              <a:latin typeface="Futura Condensed  "/>
            </a:endParaRPr>
          </a:p>
          <a:p>
            <a:pPr marL="566640" indent="-566640">
              <a:lnSpc>
                <a:spcPct val="81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592200"/>
                <a:tab algn="l" pos="1049400"/>
                <a:tab algn="l" pos="1506600"/>
                <a:tab algn="l" pos="1963800"/>
                <a:tab algn="l" pos="2421000"/>
                <a:tab algn="l" pos="2878200"/>
                <a:tab algn="l" pos="3335400"/>
                <a:tab algn="l" pos="3792600"/>
                <a:tab algn="l" pos="4249800"/>
                <a:tab algn="l" pos="4707000"/>
                <a:tab algn="l" pos="5164200"/>
                <a:tab algn="l" pos="5621400"/>
                <a:tab algn="l" pos="6078600"/>
                <a:tab algn="l" pos="6535800"/>
                <a:tab algn="l" pos="6993000"/>
                <a:tab algn="l" pos="7450200"/>
                <a:tab algn="l" pos="7907400"/>
                <a:tab algn="l" pos="8364600"/>
                <a:tab algn="l" pos="8821800"/>
                <a:tab algn="l" pos="9279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Condensed  "/>
              </a:rPr>
              <a:t>Wear hearing protection when subjected to continuous loud noise.</a:t>
            </a:r>
            <a:endParaRPr b="0" lang="en-US" sz="2400" spc="-1" strike="noStrike">
              <a:solidFill>
                <a:srgbClr val="000000"/>
              </a:solidFill>
              <a:latin typeface="Futura Condensed  "/>
            </a:endParaRPr>
          </a:p>
          <a:p>
            <a:pPr marL="566640" indent="-566640">
              <a:lnSpc>
                <a:spcPct val="81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592200"/>
                <a:tab algn="l" pos="1049400"/>
                <a:tab algn="l" pos="1506600"/>
                <a:tab algn="l" pos="1963800"/>
                <a:tab algn="l" pos="2421000"/>
                <a:tab algn="l" pos="2878200"/>
                <a:tab algn="l" pos="3335400"/>
                <a:tab algn="l" pos="3792600"/>
                <a:tab algn="l" pos="4249800"/>
                <a:tab algn="l" pos="4707000"/>
                <a:tab algn="l" pos="5164200"/>
                <a:tab algn="l" pos="5621400"/>
                <a:tab algn="l" pos="6078600"/>
                <a:tab algn="l" pos="6535800"/>
                <a:tab algn="l" pos="6993000"/>
                <a:tab algn="l" pos="7450200"/>
                <a:tab algn="l" pos="7907400"/>
                <a:tab algn="l" pos="8364600"/>
                <a:tab algn="l" pos="8821800"/>
                <a:tab algn="l" pos="9279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Condensed  "/>
              </a:rPr>
              <a:t>Wash hands and arms with soap and water frequently to help prevent skin irritation from inks and solvents.</a:t>
            </a:r>
            <a:endParaRPr b="0" lang="en-US" sz="2400" spc="-1" strike="noStrike">
              <a:solidFill>
                <a:srgbClr val="000000"/>
              </a:solidFill>
              <a:latin typeface="Futura Condensed  "/>
            </a:endParaRPr>
          </a:p>
          <a:p>
            <a:pPr marL="566640" indent="-566640">
              <a:lnSpc>
                <a:spcPct val="81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592200"/>
                <a:tab algn="l" pos="1049400"/>
                <a:tab algn="l" pos="1506600"/>
                <a:tab algn="l" pos="1963800"/>
                <a:tab algn="l" pos="2421000"/>
                <a:tab algn="l" pos="2878200"/>
                <a:tab algn="l" pos="3335400"/>
                <a:tab algn="l" pos="3792600"/>
                <a:tab algn="l" pos="4249800"/>
                <a:tab algn="l" pos="4707000"/>
                <a:tab algn="l" pos="5164200"/>
                <a:tab algn="l" pos="5621400"/>
                <a:tab algn="l" pos="6078600"/>
                <a:tab algn="l" pos="6535800"/>
                <a:tab algn="l" pos="6993000"/>
                <a:tab algn="l" pos="7450200"/>
                <a:tab algn="l" pos="7907400"/>
                <a:tab algn="l" pos="8364600"/>
                <a:tab algn="l" pos="8821800"/>
                <a:tab algn="l" pos="9279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Futura Condensed  "/>
              </a:rPr>
              <a:t>Do not</a:t>
            </a:r>
            <a:r>
              <a:rPr b="0" lang="en-GB" sz="2400" spc="-1" strike="noStrike">
                <a:solidFill>
                  <a:srgbClr val="000000"/>
                </a:solidFill>
                <a:latin typeface="Futura Condensed  "/>
              </a:rPr>
              <a:t> engage in horseplay, scuffling, or practical joking in the classroom or shop.</a:t>
            </a:r>
            <a:endParaRPr b="0" lang="en-US" sz="2400" spc="-1" strike="noStrike">
              <a:solidFill>
                <a:srgbClr val="000000"/>
              </a:solidFill>
              <a:latin typeface="Futura Condensed  "/>
            </a:endParaRPr>
          </a:p>
          <a:p>
            <a:pPr marL="566640" indent="-566640">
              <a:lnSpc>
                <a:spcPct val="81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592200"/>
                <a:tab algn="l" pos="1049400"/>
                <a:tab algn="l" pos="1506600"/>
                <a:tab algn="l" pos="1963800"/>
                <a:tab algn="l" pos="2421000"/>
                <a:tab algn="l" pos="2878200"/>
                <a:tab algn="l" pos="3335400"/>
                <a:tab algn="l" pos="3792600"/>
                <a:tab algn="l" pos="4249800"/>
                <a:tab algn="l" pos="4707000"/>
                <a:tab algn="l" pos="5164200"/>
                <a:tab algn="l" pos="5621400"/>
                <a:tab algn="l" pos="6078600"/>
                <a:tab algn="l" pos="6535800"/>
                <a:tab algn="l" pos="6993000"/>
                <a:tab algn="l" pos="7450200"/>
                <a:tab algn="l" pos="7907400"/>
                <a:tab algn="l" pos="8364600"/>
                <a:tab algn="l" pos="8821800"/>
                <a:tab algn="l" pos="9279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Condensed  "/>
              </a:rPr>
              <a:t>Use the “buddy system” when working in the graphics laboratory.</a:t>
            </a:r>
            <a:endParaRPr b="0" lang="en-US" sz="2400" spc="-1" strike="noStrike">
              <a:solidFill>
                <a:srgbClr val="000000"/>
              </a:solidFill>
              <a:latin typeface="Futura Condensed  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49680" y="166320"/>
            <a:ext cx="10309320" cy="11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Futura Condensed ExtraBold"/>
              </a:rPr>
              <a:t>Maintaining Safety and order in the shop</a:t>
            </a:r>
            <a:endParaRPr b="0" lang="en-US" sz="4000" spc="-1" strike="noStrike">
              <a:solidFill>
                <a:srgbClr val="000000"/>
              </a:solidFill>
              <a:latin typeface="Futura Condensed Extra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29920" y="1453680"/>
            <a:ext cx="9072360" cy="506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568440" indent="0">
              <a:lnSpc>
                <a:spcPct val="81000"/>
              </a:lnSpc>
              <a:spcBef>
                <a:spcPts val="524"/>
              </a:spcBef>
              <a:buNone/>
              <a:tabLst>
                <a:tab algn="l" pos="0"/>
                <a:tab algn="l" pos="630360"/>
                <a:tab algn="l" pos="1087560"/>
                <a:tab algn="l" pos="1544760"/>
                <a:tab algn="l" pos="2001960"/>
                <a:tab algn="l" pos="2459160"/>
                <a:tab algn="l" pos="2916360"/>
                <a:tab algn="l" pos="3373560"/>
                <a:tab algn="l" pos="3830760"/>
                <a:tab algn="l" pos="4287960"/>
                <a:tab algn="l" pos="4745160"/>
                <a:tab algn="l" pos="5202360"/>
                <a:tab algn="l" pos="5659560"/>
                <a:tab algn="l" pos="6116760"/>
                <a:tab algn="l" pos="6573960"/>
                <a:tab algn="l" pos="7031160"/>
                <a:tab algn="l" pos="7488360"/>
                <a:tab algn="l" pos="7945560"/>
                <a:tab algn="l" pos="8402760"/>
                <a:tab algn="l" pos="8859960"/>
                <a:tab algn="l" pos="93171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Futura Condensed  "/>
              </a:rPr>
              <a:t>In order to maintain safety and order in the shop you must abide by the following guidelines listed below.</a:t>
            </a:r>
            <a:endParaRPr b="0" lang="en-US" sz="2600" spc="-1" strike="noStrike">
              <a:solidFill>
                <a:srgbClr val="000000"/>
              </a:solidFill>
              <a:latin typeface="Futura Condensed  "/>
            </a:endParaRPr>
          </a:p>
          <a:p>
            <a:pPr marL="568440" indent="0">
              <a:lnSpc>
                <a:spcPct val="81000"/>
              </a:lnSpc>
              <a:spcBef>
                <a:spcPts val="524"/>
              </a:spcBef>
              <a:buNone/>
              <a:tabLst>
                <a:tab algn="l" pos="0"/>
                <a:tab algn="l" pos="630360"/>
                <a:tab algn="l" pos="1087560"/>
                <a:tab algn="l" pos="1544760"/>
                <a:tab algn="l" pos="2001960"/>
                <a:tab algn="l" pos="2459160"/>
                <a:tab algn="l" pos="2916360"/>
                <a:tab algn="l" pos="3373560"/>
                <a:tab algn="l" pos="3830760"/>
                <a:tab algn="l" pos="4287960"/>
                <a:tab algn="l" pos="4745160"/>
                <a:tab algn="l" pos="5202360"/>
                <a:tab algn="l" pos="5659560"/>
                <a:tab algn="l" pos="6116760"/>
                <a:tab algn="l" pos="6573960"/>
                <a:tab algn="l" pos="7031160"/>
                <a:tab algn="l" pos="7488360"/>
                <a:tab algn="l" pos="7945560"/>
                <a:tab algn="l" pos="8402760"/>
                <a:tab algn="l" pos="8859960"/>
                <a:tab algn="l" pos="931716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Futura Condensed  "/>
            </a:endParaRPr>
          </a:p>
          <a:p>
            <a:pPr marL="568440" indent="-568440">
              <a:lnSpc>
                <a:spcPct val="81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630360"/>
                <a:tab algn="l" pos="1087560"/>
                <a:tab algn="l" pos="1544760"/>
                <a:tab algn="l" pos="2001960"/>
                <a:tab algn="l" pos="2459160"/>
                <a:tab algn="l" pos="2916360"/>
                <a:tab algn="l" pos="3373560"/>
                <a:tab algn="l" pos="3830760"/>
                <a:tab algn="l" pos="4287960"/>
                <a:tab algn="l" pos="4745160"/>
                <a:tab algn="l" pos="5202360"/>
                <a:tab algn="l" pos="5659560"/>
                <a:tab algn="l" pos="6116760"/>
                <a:tab algn="l" pos="6573960"/>
                <a:tab algn="l" pos="7031160"/>
                <a:tab algn="l" pos="7488360"/>
                <a:tab algn="l" pos="7945560"/>
                <a:tab algn="l" pos="8402760"/>
                <a:tab algn="l" pos="8859960"/>
                <a:tab algn="l" pos="931716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b80047"/>
                </a:solidFill>
                <a:latin typeface="Futura Condensed  "/>
              </a:rPr>
              <a:t>Report any unsafe condition in the shop immediately.</a:t>
            </a:r>
            <a:endParaRPr b="0" lang="en-US" sz="2400" spc="-1" strike="noStrike">
              <a:solidFill>
                <a:srgbClr val="000000"/>
              </a:solidFill>
              <a:latin typeface="Futura Condensed  "/>
            </a:endParaRPr>
          </a:p>
          <a:p>
            <a:pPr marL="568440" indent="-568440">
              <a:lnSpc>
                <a:spcPct val="81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630360"/>
                <a:tab algn="l" pos="1087560"/>
                <a:tab algn="l" pos="1544760"/>
                <a:tab algn="l" pos="2001960"/>
                <a:tab algn="l" pos="2459160"/>
                <a:tab algn="l" pos="2916360"/>
                <a:tab algn="l" pos="3373560"/>
                <a:tab algn="l" pos="3830760"/>
                <a:tab algn="l" pos="4287960"/>
                <a:tab algn="l" pos="4745160"/>
                <a:tab algn="l" pos="5202360"/>
                <a:tab algn="l" pos="5659560"/>
                <a:tab algn="l" pos="6116760"/>
                <a:tab algn="l" pos="6573960"/>
                <a:tab algn="l" pos="7031160"/>
                <a:tab algn="l" pos="7488360"/>
                <a:tab algn="l" pos="7945560"/>
                <a:tab algn="l" pos="8402760"/>
                <a:tab algn="l" pos="8859960"/>
                <a:tab algn="l" pos="931716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b80047"/>
                </a:solidFill>
                <a:latin typeface="Futura Condensed  "/>
              </a:rPr>
              <a:t>Arrange all machinery and equipment to permit safe and efficient operation.</a:t>
            </a:r>
            <a:endParaRPr b="0" lang="en-US" sz="2400" spc="-1" strike="noStrike">
              <a:solidFill>
                <a:srgbClr val="000000"/>
              </a:solidFill>
              <a:latin typeface="Futura Condensed  "/>
            </a:endParaRPr>
          </a:p>
          <a:p>
            <a:pPr marL="568440" indent="-568440">
              <a:lnSpc>
                <a:spcPct val="81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630360"/>
                <a:tab algn="l" pos="1087560"/>
                <a:tab algn="l" pos="1544760"/>
                <a:tab algn="l" pos="2001960"/>
                <a:tab algn="l" pos="2459160"/>
                <a:tab algn="l" pos="2916360"/>
                <a:tab algn="l" pos="3373560"/>
                <a:tab algn="l" pos="3830760"/>
                <a:tab algn="l" pos="4287960"/>
                <a:tab algn="l" pos="4745160"/>
                <a:tab algn="l" pos="5202360"/>
                <a:tab algn="l" pos="5659560"/>
                <a:tab algn="l" pos="6116760"/>
                <a:tab algn="l" pos="6573960"/>
                <a:tab algn="l" pos="7031160"/>
                <a:tab algn="l" pos="7488360"/>
                <a:tab algn="l" pos="7945560"/>
                <a:tab algn="l" pos="8402760"/>
                <a:tab algn="l" pos="8859960"/>
                <a:tab algn="l" pos="931716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b80047"/>
                </a:solidFill>
                <a:latin typeface="Futura Condensed  "/>
              </a:rPr>
              <a:t>Keep materials and supplies safely stacked and stored.</a:t>
            </a:r>
            <a:endParaRPr b="0" lang="en-US" sz="2400" spc="-1" strike="noStrike">
              <a:solidFill>
                <a:srgbClr val="000000"/>
              </a:solidFill>
              <a:latin typeface="Futura Condensed  "/>
            </a:endParaRPr>
          </a:p>
          <a:p>
            <a:pPr marL="568440" indent="-568440">
              <a:lnSpc>
                <a:spcPct val="81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630360"/>
                <a:tab algn="l" pos="1087560"/>
                <a:tab algn="l" pos="1544760"/>
                <a:tab algn="l" pos="2001960"/>
                <a:tab algn="l" pos="2459160"/>
                <a:tab algn="l" pos="2916360"/>
                <a:tab algn="l" pos="3373560"/>
                <a:tab algn="l" pos="3830760"/>
                <a:tab algn="l" pos="4287960"/>
                <a:tab algn="l" pos="4745160"/>
                <a:tab algn="l" pos="5202360"/>
                <a:tab algn="l" pos="5659560"/>
                <a:tab algn="l" pos="6116760"/>
                <a:tab algn="l" pos="6573960"/>
                <a:tab algn="l" pos="7031160"/>
                <a:tab algn="l" pos="7488360"/>
                <a:tab algn="l" pos="7945560"/>
                <a:tab algn="l" pos="8402760"/>
                <a:tab algn="l" pos="8859960"/>
                <a:tab algn="l" pos="931716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b80047"/>
                </a:solidFill>
                <a:latin typeface="Futura Condensed  "/>
              </a:rPr>
              <a:t>Keep all tools and accessories in cabinets, drawers or tool racks.</a:t>
            </a:r>
            <a:endParaRPr b="0" lang="en-US" sz="2400" spc="-1" strike="noStrike">
              <a:solidFill>
                <a:srgbClr val="000000"/>
              </a:solidFill>
              <a:latin typeface="Futura Condensed  "/>
            </a:endParaRPr>
          </a:p>
          <a:p>
            <a:pPr marL="568440" indent="-568440">
              <a:lnSpc>
                <a:spcPct val="81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630360"/>
                <a:tab algn="l" pos="1087560"/>
                <a:tab algn="l" pos="1544760"/>
                <a:tab algn="l" pos="2001960"/>
                <a:tab algn="l" pos="2459160"/>
                <a:tab algn="l" pos="2916360"/>
                <a:tab algn="l" pos="3373560"/>
                <a:tab algn="l" pos="3830760"/>
                <a:tab algn="l" pos="4287960"/>
                <a:tab algn="l" pos="4745160"/>
                <a:tab algn="l" pos="5202360"/>
                <a:tab algn="l" pos="5659560"/>
                <a:tab algn="l" pos="6116760"/>
                <a:tab algn="l" pos="6573960"/>
                <a:tab algn="l" pos="7031160"/>
                <a:tab algn="l" pos="7488360"/>
                <a:tab algn="l" pos="7945560"/>
                <a:tab algn="l" pos="8402760"/>
                <a:tab algn="l" pos="8859960"/>
                <a:tab algn="l" pos="931716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b80047"/>
                </a:solidFill>
                <a:latin typeface="Futura Condensed  "/>
              </a:rPr>
              <a:t>Dispose of or store all combustible material in safe containers.</a:t>
            </a:r>
            <a:endParaRPr b="0" lang="en-US" sz="2400" spc="-1" strike="noStrike">
              <a:solidFill>
                <a:srgbClr val="000000"/>
              </a:solidFill>
              <a:latin typeface="Futura Condensed  "/>
            </a:endParaRPr>
          </a:p>
          <a:p>
            <a:pPr marL="568440" indent="-568440">
              <a:lnSpc>
                <a:spcPct val="81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630360"/>
                <a:tab algn="l" pos="1087560"/>
                <a:tab algn="l" pos="1544760"/>
                <a:tab algn="l" pos="2001960"/>
                <a:tab algn="l" pos="2459160"/>
                <a:tab algn="l" pos="2916360"/>
                <a:tab algn="l" pos="3373560"/>
                <a:tab algn="l" pos="3830760"/>
                <a:tab algn="l" pos="4287960"/>
                <a:tab algn="l" pos="4745160"/>
                <a:tab algn="l" pos="5202360"/>
                <a:tab algn="l" pos="5659560"/>
                <a:tab algn="l" pos="6116760"/>
                <a:tab algn="l" pos="6573960"/>
                <a:tab algn="l" pos="7031160"/>
                <a:tab algn="l" pos="7488360"/>
                <a:tab algn="l" pos="7945560"/>
                <a:tab algn="l" pos="8402760"/>
                <a:tab algn="l" pos="8859960"/>
                <a:tab algn="l" pos="931716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b80047"/>
                </a:solidFill>
                <a:latin typeface="Futura Condensed  "/>
              </a:rPr>
              <a:t>Keep all floors clean and free of debris at all time.</a:t>
            </a:r>
            <a:endParaRPr b="0" lang="en-US" sz="2400" spc="-1" strike="noStrike">
              <a:solidFill>
                <a:srgbClr val="000000"/>
              </a:solidFill>
              <a:latin typeface="Futura Condensed  "/>
            </a:endParaRPr>
          </a:p>
          <a:p>
            <a:pPr marL="568440" indent="-568440">
              <a:lnSpc>
                <a:spcPct val="81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630360"/>
                <a:tab algn="l" pos="1087560"/>
                <a:tab algn="l" pos="1544760"/>
                <a:tab algn="l" pos="2001960"/>
                <a:tab algn="l" pos="2459160"/>
                <a:tab algn="l" pos="2916360"/>
                <a:tab algn="l" pos="3373560"/>
                <a:tab algn="l" pos="3830760"/>
                <a:tab algn="l" pos="4287960"/>
                <a:tab algn="l" pos="4745160"/>
                <a:tab algn="l" pos="5202360"/>
                <a:tab algn="l" pos="5659560"/>
                <a:tab algn="l" pos="6116760"/>
                <a:tab algn="l" pos="6573960"/>
                <a:tab algn="l" pos="7031160"/>
                <a:tab algn="l" pos="7488360"/>
                <a:tab algn="l" pos="7945560"/>
                <a:tab algn="l" pos="8402760"/>
                <a:tab algn="l" pos="8859960"/>
                <a:tab algn="l" pos="931716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b80047"/>
                </a:solidFill>
                <a:latin typeface="Futura Condensed  "/>
              </a:rPr>
              <a:t>Check that adequate housekeeping equipment and cleaning materials are on hand to ensure that maximum cleaning efficiency can be maintained.</a:t>
            </a:r>
            <a:endParaRPr b="0" lang="en-US" sz="2400" spc="-1" strike="noStrike">
              <a:solidFill>
                <a:srgbClr val="000000"/>
              </a:solidFill>
              <a:latin typeface="Futura Condensed  "/>
            </a:endParaRPr>
          </a:p>
          <a:p>
            <a:pPr marL="568440" indent="-568440">
              <a:lnSpc>
                <a:spcPct val="81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630360"/>
                <a:tab algn="l" pos="1087560"/>
                <a:tab algn="l" pos="1544760"/>
                <a:tab algn="l" pos="2001960"/>
                <a:tab algn="l" pos="2459160"/>
                <a:tab algn="l" pos="2916360"/>
                <a:tab algn="l" pos="3373560"/>
                <a:tab algn="l" pos="3830760"/>
                <a:tab algn="l" pos="4287960"/>
                <a:tab algn="l" pos="4745160"/>
                <a:tab algn="l" pos="5202360"/>
                <a:tab algn="l" pos="5659560"/>
                <a:tab algn="l" pos="6116760"/>
                <a:tab algn="l" pos="6573960"/>
                <a:tab algn="l" pos="7031160"/>
                <a:tab algn="l" pos="7488360"/>
                <a:tab algn="l" pos="7945560"/>
                <a:tab algn="l" pos="8402760"/>
                <a:tab algn="l" pos="8859960"/>
                <a:tab algn="l" pos="931716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b80047"/>
                </a:solidFill>
                <a:latin typeface="Futura Condensed  "/>
              </a:rPr>
              <a:t>Participate in daily cleanup periods.</a:t>
            </a:r>
            <a:endParaRPr b="0" lang="en-US" sz="2400" spc="-1" strike="noStrike">
              <a:solidFill>
                <a:srgbClr val="000000"/>
              </a:solidFill>
              <a:latin typeface="Futura Condensed  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utura Condensed ExtraBold"/>
              </a:rPr>
              <a:t>Machine Guards</a:t>
            </a:r>
            <a:endParaRPr b="0" lang="en-US" sz="4400" spc="-1" strike="noStrike">
              <a:solidFill>
                <a:srgbClr val="000000"/>
              </a:solidFill>
              <a:latin typeface="Futura Condensed ExtraBold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420120" indent="-317520">
              <a:lnSpc>
                <a:spcPct val="10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Condensed  "/>
              </a:rPr>
              <a:t>Machine Guards protect body parts from being electrocuted, cut, squashed, or hit by flying fragments, that happen with equipment hazards</a:t>
            </a:r>
            <a:endParaRPr b="0" lang="en-US" sz="3200" spc="-1" strike="noStrike">
              <a:solidFill>
                <a:srgbClr val="000000"/>
              </a:solidFill>
              <a:latin typeface="Futura Condensed  "/>
            </a:endParaRPr>
          </a:p>
          <a:p>
            <a:pPr marL="420120" indent="-317520">
              <a:lnSpc>
                <a:spcPct val="10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Condensed  "/>
              </a:rPr>
              <a:t>Equipment hazards:</a:t>
            </a:r>
            <a:endParaRPr b="0" lang="en-US" sz="3200" spc="-1" strike="noStrike">
              <a:solidFill>
                <a:srgbClr val="000000"/>
              </a:solidFill>
              <a:latin typeface="Futura Condensed  "/>
            </a:endParaRPr>
          </a:p>
          <a:p>
            <a:pPr lvl="1" marL="843120" indent="-280080">
              <a:lnSpc>
                <a:spcPct val="10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Condensed  "/>
              </a:rPr>
              <a:t>Spinning Rollers</a:t>
            </a:r>
            <a:endParaRPr b="0" lang="en-US" sz="2800" spc="-1" strike="noStrike">
              <a:solidFill>
                <a:srgbClr val="000000"/>
              </a:solidFill>
              <a:latin typeface="Futura Condensed  "/>
            </a:endParaRPr>
          </a:p>
          <a:p>
            <a:pPr lvl="1" marL="843120" indent="-280080">
              <a:lnSpc>
                <a:spcPct val="10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Condensed  "/>
              </a:rPr>
              <a:t>Rotating chains &amp; sprockets</a:t>
            </a:r>
            <a:endParaRPr b="0" lang="en-US" sz="2800" spc="-1" strike="noStrike">
              <a:solidFill>
                <a:srgbClr val="000000"/>
              </a:solidFill>
              <a:latin typeface="Futura Condensed  "/>
            </a:endParaRPr>
          </a:p>
          <a:p>
            <a:pPr lvl="1" marL="843120" indent="-280080">
              <a:lnSpc>
                <a:spcPct val="10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Condensed  "/>
              </a:rPr>
              <a:t>Turning Gears</a:t>
            </a:r>
            <a:endParaRPr b="0" lang="en-US" sz="2800" spc="-1" strike="noStrike">
              <a:solidFill>
                <a:srgbClr val="000000"/>
              </a:solidFill>
              <a:latin typeface="Futura Condensed  "/>
            </a:endParaRPr>
          </a:p>
          <a:p>
            <a:pPr lvl="1" marL="843120" indent="-280080">
              <a:lnSpc>
                <a:spcPct val="10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Condensed  "/>
              </a:rPr>
              <a:t>Rotating Belts</a:t>
            </a:r>
            <a:endParaRPr b="0" lang="en-US" sz="2800" spc="-1" strike="noStrike">
              <a:solidFill>
                <a:srgbClr val="000000"/>
              </a:solidFill>
              <a:latin typeface="Futura Condensed  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utura Condensed ExtraBold"/>
              </a:rPr>
              <a:t>Machine Hazards</a:t>
            </a:r>
            <a:endParaRPr b="0" lang="en-US" sz="4400" spc="-1" strike="noStrike">
              <a:solidFill>
                <a:srgbClr val="000000"/>
              </a:solidFill>
              <a:latin typeface="Futura Condensed ExtraBold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03280" y="1722240"/>
            <a:ext cx="90676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10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Condensed  "/>
              </a:rPr>
              <a:t>Machine Hazards</a:t>
            </a:r>
            <a:endParaRPr b="0" lang="en-US" sz="3200" spc="-1" strike="noStrike">
              <a:solidFill>
                <a:srgbClr val="000000"/>
              </a:solidFill>
              <a:latin typeface="Futura Condensed  "/>
            </a:endParaRPr>
          </a:p>
        </p:txBody>
      </p:sp>
      <p:pic>
        <p:nvPicPr>
          <p:cNvPr id="72" name="Picture 3" descr="02-03"/>
          <p:cNvPicPr/>
          <p:nvPr/>
        </p:nvPicPr>
        <p:blipFill>
          <a:blip r:embed="rId1"/>
          <a:stretch/>
        </p:blipFill>
        <p:spPr>
          <a:xfrm>
            <a:off x="849240" y="2712960"/>
            <a:ext cx="822636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utura Condensed ExtraBold"/>
              </a:rPr>
              <a:t>Tag out</a:t>
            </a:r>
            <a:endParaRPr b="0" lang="en-US" sz="4400" spc="-1" strike="noStrike">
              <a:solidFill>
                <a:srgbClr val="000000"/>
              </a:solidFill>
              <a:latin typeface="Futura Condensed ExtraBold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10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Condensed  "/>
              </a:rPr>
              <a:t>Tagout device – a prominent warning, such as a tag fastened to a machine. </a:t>
            </a:r>
            <a:endParaRPr b="0" lang="en-US" sz="3200" spc="-1" strike="noStrike">
              <a:solidFill>
                <a:srgbClr val="000000"/>
              </a:solidFill>
              <a:latin typeface="Futura Condensed  "/>
            </a:endParaRPr>
          </a:p>
          <a:p>
            <a:pPr marL="428760" indent="-324000">
              <a:lnSpc>
                <a:spcPct val="10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Futura Condensed  "/>
            </a:endParaRPr>
          </a:p>
          <a:p>
            <a:pPr marL="428760" indent="-324000">
              <a:lnSpc>
                <a:spcPct val="10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Condensed  "/>
              </a:rPr>
              <a:t>Use a “tagout” tag if a machine is broken. </a:t>
            </a:r>
            <a:endParaRPr b="0" lang="en-US" sz="3200" spc="-1" strike="noStrike">
              <a:solidFill>
                <a:srgbClr val="000000"/>
              </a:solidFill>
              <a:latin typeface="Futura Condensed  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0T13:05:30Z</dcterms:created>
  <dc:creator/>
  <dc:description/>
  <dc:language>en-US</dc:language>
  <cp:lastModifiedBy>Regina Gossett</cp:lastModifiedBy>
  <cp:lastPrinted>2012-11-30T16:07:42Z</cp:lastPrinted>
  <dcterms:modified xsi:type="dcterms:W3CDTF">2012-11-30T16:07:54Z</dcterms:modified>
  <cp:revision>5</cp:revision>
  <dc:subject/>
  <dc:title>Davis H. Hart Career Center Graphic Arts Occupations</dc:title>
</cp:coreProperties>
</file>