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2520"/>
            <a:ext cx="7767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4130280"/>
            <a:ext cx="7767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98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4130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30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982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560" y="1982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7120" y="1982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4130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560" y="4130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7120" y="4130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982520"/>
            <a:ext cx="7767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982520"/>
            <a:ext cx="7767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2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982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816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98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982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4130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2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98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30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982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130280"/>
            <a:ext cx="7767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8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2520"/>
            <a:ext cx="7767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77120"/>
            <a:ext cx="21319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© Goodheart-Willcox Co.,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29200" y="6400800"/>
            <a:ext cx="3657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mission granted to reproduce for educational use on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ypes of F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086600" y="617220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T 1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73200" y="1371600"/>
            <a:ext cx="41958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umb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617220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T 1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70120" y="1219320"/>
            <a:ext cx="380196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se Sheet for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617220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 1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18037" r="11136" b="14314"/>
          <a:stretch/>
        </p:blipFill>
        <p:spPr>
          <a:xfrm>
            <a:off x="1905120" y="1371600"/>
            <a:ext cx="518292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ded Sig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617220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 1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3640" t="23270" r="12882" b="16224"/>
          <a:stretch/>
        </p:blipFill>
        <p:spPr>
          <a:xfrm>
            <a:off x="1447920" y="1447920"/>
            <a:ext cx="624816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trol Lines for Stri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617220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 12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3694" t="28725" r="10061" b="16132"/>
          <a:stretch/>
        </p:blipFill>
        <p:spPr>
          <a:xfrm>
            <a:off x="533520" y="1447920"/>
            <a:ext cx="8076960" cy="461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nnie Secor</dc:creator>
  <dc:description/>
  <dc:language>en-US</dc:language>
  <cp:lastModifiedBy>Connie Secor</cp:lastModifiedBy>
  <cp:revision>0</cp:revision>
  <dc:subject/>
  <dc:title>Slide 1</dc:title>
</cp:coreProperties>
</file>