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B78-4671-48E3-89C5-E4C0D431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A7F-A9F3-4AF8-962D-22B2B548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653-2120-4A49-93B4-1D888DB1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4F7-C24A-4E32-BFB5-DA267FA9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895-101F-45DC-83F4-2874C19D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9BC-252A-445C-8EEE-F4FC9C96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652-EDA4-4722-B6DC-8D446D9D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6F4-2D3E-4E83-BB92-DF6A6986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F3F-A99C-4542-AF13-A8E86E89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042-8F31-4EE3-BD3F-1DEE019D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4D3-EEDB-4C47-A16C-D06408A8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875-8639-416F-BAC7-49A34C15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3E96-DA3C-47BE-B4A2-4CAA8915F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74680"/>
            <a:ext cx="769608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gital and offset printing technologies are basically 4-color processes, although top-end shops oft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e printers or presses capable of applying additional colors (toner or ink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raditional 4-color process is defined by its use of four colors of ink which are placed on paper in layer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ts to create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lu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many more colors. This technique is generally referred to as CMY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’ is cyan (light blue); ‘M’ is magenta (red); ‘Y’ is yellow; and ‘K’ is black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the illustration below demonstrates, the 4-color printing process comes close to simulating the full spectrum of color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MYK_Illus" descr=""/>
          <p:cNvPicPr/>
          <p:nvPr/>
        </p:nvPicPr>
        <p:blipFill>
          <a:blip r:embed="rId1"/>
          <a:stretch/>
        </p:blipFill>
        <p:spPr>
          <a:xfrm>
            <a:off x="609480" y="4100400"/>
            <a:ext cx="3429000" cy="2071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14800" y="4114800"/>
            <a:ext cx="48006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tique Olive"/>
              </a:rPr>
              <a:t>C - Cyan 'information' or 'separation'</a:t>
            </a:r>
            <a:r>
              <a:rPr b="0" lang="en-US" sz="1000" spc="-1" strike="noStrike">
                <a:solidFill>
                  <a:srgbClr val="000000"/>
                </a:solidFill>
                <a:latin typeface="Antique Oliv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tique Olive"/>
              </a:rPr>
              <a:t>M - Magenta 'information' or 'separation'</a:t>
            </a:r>
            <a:r>
              <a:rPr b="0" lang="en-US" sz="1000" spc="-1" strike="noStrike">
                <a:solidFill>
                  <a:srgbClr val="000000"/>
                </a:solidFill>
                <a:latin typeface="Antique Oliv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tique Olive"/>
              </a:rPr>
              <a:t>Y - Yellow 'information' or 'separation'</a:t>
            </a:r>
            <a:r>
              <a:rPr b="0" lang="en-US" sz="1000" spc="-1" strike="noStrike">
                <a:solidFill>
                  <a:srgbClr val="000000"/>
                </a:solidFill>
                <a:latin typeface="Antique Oliv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ntique Olive"/>
              </a:rPr>
              <a:t>K - Black 'information' or 'separation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tique Olive"/>
              </a:rPr>
              <a:t>Composite or full-color printed piece</a:t>
            </a:r>
            <a:r>
              <a:rPr b="0" lang="en-US" sz="12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20:39:49Z</dcterms:created>
  <dc:creator>Felicia Rickard</dc:creator>
  <dc:description/>
  <dc:language>en-US</dc:language>
  <cp:lastModifiedBy>Felicia Rickard</cp:lastModifiedBy>
  <dcterms:modified xsi:type="dcterms:W3CDTF">2006-11-03T21:23:36Z</dcterms:modified>
  <cp:revision>1</cp:revision>
  <dc:subject/>
  <dc:title>No Slide Title</dc:title>
</cp:coreProperties>
</file>