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5.gif" ContentType="image/gif"/>
  <Override PartName="/ppt/media/image7.jpeg" ContentType="image/jpeg"/>
  <Override PartName="/ppt/media/image35.gif" ContentType="image/gif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19.jpeg" ContentType="image/jpeg"/>
  <Override PartName="/ppt/media/image2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2.png" ContentType="image/png"/>
  <Override PartName="/ppt/media/image44.png" ContentType="image/png"/>
  <Override PartName="/ppt/media/image43.png" ContentType="image/png"/>
  <Override PartName="/ppt/media/image45.jpeg" ContentType="image/jpeg"/>
  <Override PartName="/ppt/media/image55.png" ContentType="image/png"/>
  <Override PartName="/ppt/media/image20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jpeg" ContentType="image/jpeg"/>
  <Override PartName="/ppt/media/image52.png" ContentType="image/png"/>
  <Override PartName="/ppt/media/image41.png" ContentType="image/png"/>
  <Override PartName="/ppt/media/image53.png" ContentType="image/png"/>
  <Override PartName="/ppt/media/image56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18.png" ContentType="image/png"/>
  <Override PartName="/ppt/media/image6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  <p:sldId id="303" r:id="rId73"/>
    <p:sldId id="304" r:id="rId74"/>
    <p:sldId id="305" r:id="rId75"/>
    <p:sldId id="30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slide" Target="slides/slide48.xml"/><Relationship Id="rId74" Type="http://schemas.openxmlformats.org/officeDocument/2006/relationships/slide" Target="slides/slide49.xml"/><Relationship Id="rId75" Type="http://schemas.openxmlformats.org/officeDocument/2006/relationships/slide" Target="slides/slide50.xml"/><Relationship Id="rId76" Type="http://schemas.openxmlformats.org/officeDocument/2006/relationships/slide" Target="slides/slide51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-360" y="-7088400"/>
            <a:ext cx="360" cy="155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62D-00CC-4E67-8C4D-091B72D6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9F4-C0D1-46C2-965F-B9D13647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4EBB1-5029-4347-831A-0C9A1511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DA68F-A070-4D4B-B597-A488A1FA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FF24D-692B-46B9-A652-8AB6EE7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863D5-C747-4C8F-951B-2C0257D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44594-2425-4E62-B4C0-7E35365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43A33-8CB1-43F8-8124-C8FB686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6FCEF-E748-4EAE-A62A-DC5C81E3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97DB3-ED4A-46B0-ACE3-79AC200A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AD0F7-EC35-4CA0-979D-597CFEFA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B144E-446D-4DBD-9DE7-85D8473F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B2A-6F45-49E5-B907-AAB3B424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C704F-FBA2-459F-9B26-60AB3AFF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637C4-A89F-48D9-A81A-9053765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F9F51-654A-49F1-9518-BDDDFCFE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5D31E-7ECC-4DE6-B9F1-DC0CF86D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306EF-9EE8-4097-9E31-299CF244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FBFA2-17CE-4104-BF80-5C05EDE4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7437B-EEE9-42A8-A156-AE8DABB5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AF303-4740-4170-8F2B-46E81D4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6947E-E121-4085-92B0-25128FD8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9633E-E095-4E92-8872-EE1376DF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6E8-13EB-4EAD-9727-C5A074FB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5C622-821E-4452-99B4-4F7976F8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95AAC5-B8BC-414C-9FAE-F0403F8D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561DEB-0CD4-4159-93CD-6CA69F35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E122E7-62B7-4559-BCC6-7DFA4D3C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FA5E54-88A8-4887-9414-30A6D57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7D3825-011E-470E-B696-2EFA2704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AACAC4-6CEB-4136-B679-132220DF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70347E-385A-454A-9C0B-6B94E5A1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0BCA17-7A20-48BE-AD89-38ECDBEA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DC5442-CCBA-40A0-AA8C-2EA55AD9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EAF804-7054-469D-852D-38F6046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FBCDBC-A10B-4E93-9E4F-E4D1D1A8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D32DAA-72BC-4D86-9A31-8FFB2BDE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79E9F-DD24-4C9E-9908-BB843EE0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6E856-56AD-42B8-9CDF-A925C9B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BF47F-6340-4B09-9B9B-B250554C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6631D-F95C-41CD-9603-7512123D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F881B-FDFF-4DE3-8456-877A90E0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00923-243C-49BC-AF91-CB86DAAD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C438C-92DE-4E49-87BC-C8A2BFE9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159B4-062C-4937-BB8B-EC99E906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44290-30E6-420F-A292-F0F0171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44927-F43B-41A2-9FFC-B6465853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2F06A-91F6-494E-8D29-E759CE92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3721D-D80E-4222-BB8B-74F5D86B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F494B1-C9F7-42FB-A898-57D91FAC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AD1175-1FF4-4BFA-A224-104C4D8B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AD7F19-309D-4428-8273-C0072D6F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D83E42-5291-473D-8474-5720D648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4F6DC0-FE8D-4E5D-AE20-A20E0459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103E05-8689-4476-9596-7C386175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F6EEF5-4E10-42AC-A663-74695637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5CA3E7-1B5A-494F-8F79-0DBCC5C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DAE6D6-4E27-4D5C-872E-9B78DD8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0EB4DA-B275-4339-9FFA-2EF9A9FC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A33637-D62A-4FF8-974A-BCF930F4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EF36E3-418A-4E0C-8519-D336B7B6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775E9-3026-4EE7-85F8-84AF0D0E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968F1-EEA0-4FAF-B105-634A22D6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AAFE7-7CCF-4DDD-9014-03CB2B04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6F346-A358-4194-A5FC-1F4C4977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3FFDD-41A2-43F4-A869-ACA9507E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4007D-0D9F-46A4-BBD3-2AEF00C4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C4CD3-6F00-445A-8773-4DF836A2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12A6E-6C1C-49A2-8377-449302A7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B6B3A-BE52-4C27-9874-9F5E192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F5886-529F-4958-BE40-25DDF235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7AF14-C6C4-4132-A497-91CB1F0D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F6CFF-DD65-45F6-B959-D6346BCC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D4E4C-D9C8-48A8-B9C9-21AE20D2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9C248-9240-48F7-B2DF-98F96BF1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1EFC9-4C61-4F03-BD5D-EA7F68C8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A0089-7D7B-492E-AA1D-8CEA9683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35BD9-2B70-4F47-8567-56CB6873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A1D62-B161-4D5C-A38F-389A261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762C0-1DD9-47FD-AB1E-E8A6560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E2461-68BC-4A40-8BE1-684F502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3EB99-09F2-43DC-9FF4-E2AB72F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A86C9-B850-4209-BF28-05A8C8C8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8C66A-4BAB-44A6-89DA-FE740E31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973AC-6BFE-4EBA-83F8-74024342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C9C07-FCBC-4FBD-849C-62D47F52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071FD-6AAA-4C44-9835-15DBE6C3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12ADA-0727-434C-B652-E290A6F2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03039-23EB-4FA4-A58B-25B35414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5CF99-4970-4C3C-A8FE-B4FF7C62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36E85-468B-4AE5-9189-C866BE4E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989FF-69E1-43B5-BCE7-A4494866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40D-6141-448F-B9A5-C09AC075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670DE-1368-4BDA-B684-051754D3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EA1BD7-A61D-46DE-AAA6-81E8CBC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769BB-B942-4F70-9A7C-02BC2F96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DE964-67CF-4096-A023-538F37C9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B9E40-DEEC-4508-9F38-6BA070DE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5AF97-2C59-4B2B-AE29-3E7EBCC5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C357C-0A41-4CA8-B8E9-CFF37F68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008802-45DE-4DC1-86AB-185DEBB0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25AA7-3226-440B-8778-751289A2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DB3CC-C554-449F-9349-C45EB79A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0725D-CF14-4B19-AC3E-1F5DAE8F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91015-4605-40A5-B2B2-1838A74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3FBC8-B11E-4100-8752-AB4A7BF3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B0B0D-0343-41B7-92E5-F8076113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CD476-F091-49A1-901B-83715A8D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2AA09-E0AC-4A90-9F94-AECAB045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6C2D1-FA53-4742-BC02-F1BB1807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AF4F9-0779-48DE-A4CC-37FC7750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CADDD4-C7EB-49FF-9986-3ADFDCD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A002A-3C7F-4569-8009-96DD9783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A8EDC-59BA-47A1-A87B-ED9F985D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01402-4750-4676-A220-3DA254D1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ADA57E-AB13-4A9C-A342-B82A1531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1E66F-E1EE-47CB-B618-CE0B9564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31A3AF-B7A1-4580-AD59-E6557D47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FBEE8-A41E-4ECF-833C-2B34E771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442FF-9A68-40B4-878D-F4515CBB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67D8E-7993-430C-B9F1-C59AD0E2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7E6A3-A2AD-48D2-879E-DB025C29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539E1-EEFA-4CA5-A1DC-E4DF10D0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2AAB7-AFC6-47BC-B422-2F2F6957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B9636-9E1B-4980-B79A-CF70E595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EB254-ECF6-4BF7-9053-FBBFE3A1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5B04C2-8DF0-49E3-BE2E-EC40C7CB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26AA6-B756-449F-A5E1-F5B3A1F6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9D6D5-53A4-40DE-B73E-C8463D5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595D60-0952-41D4-A7EF-CD6E24B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83813C-1961-4EDD-80C9-874A814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92573-283F-4C91-888E-24896231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08CC36-6C96-4498-8E70-1E6FC94B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6864F-14C6-4354-98F3-2A50A721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4EEDB-713D-46B6-AD60-92DA8ECF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C967F-B3BA-4E7F-9C9E-6D02EAEC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234BC-F4E0-40F5-B73D-52335D2B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9A891E-55E2-4B83-9723-C99CA1AD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290529-0123-4797-9279-18027737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D0AC5-826C-4F66-B36D-BCCDA51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10605-E1A2-48AD-91E8-CB131CA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C0D9C-2FAD-44B8-BFF0-C87A76A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B003C-C0AC-40AB-A5A6-F3DEFA0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3318E-8E71-44D2-9A40-756BE106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D52D61-4478-4D83-BD84-81A6759C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F013E-A1D7-46FE-8BEC-DF3F9462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EBA53F-AB0A-41A7-8468-95432203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21EE7-5B5A-4911-95E4-6D0C8283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66BF8-17C7-43A0-8C3A-C8F07F24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04042-9C3C-4AC8-A32E-9952858B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9F789-F488-4FF8-A134-980CF406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981-3924-4D3F-A2B5-0B09C19D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066C0-3523-4739-9B43-F206C8DD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8E838-D63F-4A6C-B9C2-CFC13741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6D51B-775E-42BB-90D4-BBDBCDD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E83A8-A7F3-4466-8E27-A3433AE2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58811-C9C5-488D-B984-4456CE2D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325A8-F499-40AE-A6CC-486B0B97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0465B-7791-46E9-BDB2-BB4C049B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9A58D-5B99-443E-B6B2-7F35B2DB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F0AFA-9770-477A-9972-4CBA8CB2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80EB4-7CD0-49A0-98C9-6FDD3AEB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4C8-7D29-4870-8A5C-513F29F5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9E15D-C34D-4C4B-9C75-7DC21857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E6A3F-27C5-46D2-BE6F-400C359F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86737-740E-4492-9E6B-CE0AB4F0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93D8B-11C3-4C85-B931-D61B7583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E4572-A99F-4B24-A467-08876DD8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18D3A-B786-462A-8E46-8775F6E2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182CA8-8F18-47E7-805A-B1FA4818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BF284-B1C7-4144-92DA-CCBA2897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279F6-619A-4BFA-AFDF-087AA5E5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20B-C591-4B98-A427-C3E40D2B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596-CA2B-46AB-8373-CC696F91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5EA6C9-BFB8-49CA-8317-E87C2993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FC4536-0C58-4833-AB4B-FEF57FE4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9DE000-C4DC-4A11-9EB4-14123BBE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4E3CD7-8E88-433B-9B4D-F0327CA4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92624B-C7F2-4DEC-8890-CB37AEC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D1BCE8-15CD-48C3-9D2F-AD7EA82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41ED93-710E-4359-B29D-563CD556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AFB606-B6E8-41B2-B153-B778A0AF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564D9-8214-440D-9A3F-164D4F9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89B-6D3F-4C53-8A9D-B32F68D5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ACBBE-302C-4576-A5E9-886CF2DB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B2C0E1-E92A-4F59-9A42-F031F815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686D4F-28A4-4929-9269-469CD3D1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A04F60-44C7-4711-B721-537A98CA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C9D660-96E3-4273-AE6B-E51AC84B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6194F1-8496-4634-AAF5-F01C2DE3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A63B41-178F-43A2-AA07-CA79977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350876-5BA4-4223-AF2A-3F8BB08A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D1F20C-DBD7-46C0-855A-5982421B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B19E15-EE79-4EBD-A9CD-FC795BEB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D7C-D3B7-491B-8F9A-7E22EBE8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4A7552-8A63-4450-B58F-8B80321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3DD7BF-7700-4F80-BEA6-B5C03CF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255BC8-0E58-4493-9213-90BD207F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96D087-8965-4102-A86F-0652A241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109898-6723-4F95-8C5E-F3CF5538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8BC891-25CC-4859-89F7-9C39BAF7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15E731-AF1C-4A28-A6E7-F4B160A8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05FE72-DF62-475C-90CB-AF00B026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603A82-E756-4758-A980-2C8602A4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BAD244-5AC7-4971-8727-0061FCE1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466-F779-40A2-816E-78776431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DBDE45-701B-4AAB-A300-BB1CC12D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3785F4-4DAD-4D32-94CD-ABA20F4E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A9B11B-F744-43DD-A517-00F65666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A3D9FD-77AB-4496-A812-350018FC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4C95D1-8648-42CC-B8EA-92781A7D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F240C-C6F5-4710-8702-D3789189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3079DA-425B-4C51-B642-BB73BD1C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2EA22-38EC-4C12-843F-25DC6F74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A1A74-B7A0-46D5-8C16-9ABBCF20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4062E-284B-4679-91F4-DF506E17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C27CA-7907-4D29-B81D-6B74647CF4DE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00658-1D61-46A8-847F-A74A85F45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E4C84-52C8-491F-AEEC-0F10159ADB5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D47A7-7CE1-435B-B2D4-4F05F09B8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A8254-B55B-4EB8-81AC-56475F17990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E5312-9873-4FAA-9178-19DBE9F80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AAE1C-2F5A-4D66-B2F7-B9C50A8CCF8E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6DB65-3FAB-46D5-AEBD-3F5094287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DC8B4-0295-4773-B474-14FDB130B08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7FB0A-2697-431C-9824-A8E5D469C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CED8F-3651-430C-AB19-A710B8E29AE1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A9454-19FA-487F-8081-946CC0456C3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5419D-A24A-4F57-8EDE-1765D511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D9605-9928-484A-A215-3FF90517A33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68327-BCF2-43C5-9DBB-4225D9C50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E8015-0276-47FE-901D-0C63163D4AE1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5ABEA-D5D2-4930-BC08-7319BE1F9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C4CD2-5418-4856-B537-F0093E365693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52BEC-25A0-4EFD-80E2-8DAEBBBFC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3C0E4-F9F2-4207-9B22-27F8DA3EF465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5D582-0AD4-4C0A-B5C7-711696B1A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1D053-1BB9-4F98-AA57-F21B3775060A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14DF4-40FF-4A76-8B8C-8AC945528D3B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0780B-DA4F-45C6-B964-6944FB923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58280" y="59616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61C8B-CE5C-408E-A61C-7C4A10378AD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F1599-B641-421E-98E5-AE2578E96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24DC1-7D55-46BA-B046-AE095CCB881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41D80-F6AA-429E-9810-D532E9D26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8A7B8-D1FD-4630-B521-8E7C56EC1993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CECBA-2D45-4039-A850-5CB624A3C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BDF6F-7CB1-44F4-9371-527D4A3AA736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C041A-BB00-4137-B0EC-B22456122677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71CB8-FEEC-475C-8DB0-88B3DA849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2ECC2-0A75-4819-B134-9BDE7C59966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C0F97-A577-4759-A31C-797A66FAE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E7A82-B17C-4ABC-BEDA-49E6EB0EFC7A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A51D0-84F8-46FD-A768-261BC209A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C81E5-0743-44F2-8389-E47388FFBDF3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725DA-7EE5-4B71-A64B-3E7A2638C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hyperlink" Target="http://en.wikipedia.org/wiki/Munsell_color_system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blic.iastate.edu/~design/ART/ARTVS208/colorwheel.swf" TargetMode="External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29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orqx.com/color/palette.htm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hyperlink" Target="http://webexhibits.org/colorart/bh.html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poynterextra.org/cp/colorproject/color.html" TargetMode="External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mariaclaudiacortes.com/colors/Colors.html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olormatters.com/seecolor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66"/>
                </a:solidFill>
                <a:latin typeface="Rockwell"/>
              </a:rPr>
              <a:t>Color Theory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98989"/>
              </a:solidFill>
              <a:latin typeface="Rockwell"/>
            </a:endParaRPr>
          </a:p>
        </p:txBody>
      </p:sp>
      <p:pic>
        <p:nvPicPr>
          <p:cNvPr id="992" name="Picture 3" descr=""/>
          <p:cNvPicPr/>
          <p:nvPr/>
        </p:nvPicPr>
        <p:blipFill>
          <a:blip r:embed="rId1"/>
          <a:stretch/>
        </p:blipFill>
        <p:spPr>
          <a:xfrm>
            <a:off x="4564080" y="3421080"/>
            <a:ext cx="15840" cy="158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996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SYSTEM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458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3200" spc="-1" strike="noStrike">
                <a:solidFill>
                  <a:srgbClr val="595959"/>
                </a:solidFill>
                <a:latin typeface="Rockwell"/>
              </a:rPr>
              <a:t>Ways people measure &amp; name color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The Color Wheel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0520" y="2017800"/>
            <a:ext cx="49532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"/>
              </a:rPr>
              <a:t>A color circle, based on red, yellow and blue, is traditional in the field of art and is a way of arranging colors to show a variety of relationships between color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"/>
              </a:rPr>
              <a:t>Sir Isaac Newton developed the first circular diagram of colors in 1666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"/>
              </a:rPr>
              <a:t>Since then scientists and artists have studied and designed numerous variations of this concep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28" name="Picture 3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66408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64920" y="311040"/>
            <a:ext cx="7792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Hue, Saturation &amp; Brightness (HSB)</a:t>
            </a: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‏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228240" y="1218960"/>
            <a:ext cx="3505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Rockwell"/>
              </a:rPr>
              <a:t>Hue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 is pure form of color – there are six basic hues: </a:t>
            </a: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red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0" lang="en-GB" sz="2000" spc="-1" strike="noStrike">
                <a:solidFill>
                  <a:srgbClr val="ffcf01"/>
                </a:solidFill>
                <a:latin typeface="Rockwell"/>
              </a:rPr>
              <a:t>yellow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0" lang="en-GB" sz="2000" spc="-1" strike="noStrike">
                <a:solidFill>
                  <a:srgbClr val="333399"/>
                </a:solidFill>
                <a:latin typeface="Rockwell"/>
              </a:rPr>
              <a:t>blue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0" lang="en-GB" sz="2000" spc="-1" strike="noStrike">
                <a:solidFill>
                  <a:srgbClr val="009900"/>
                </a:solidFill>
                <a:latin typeface="Rockwell"/>
              </a:rPr>
              <a:t>green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0" lang="en-GB" sz="2000" spc="-1" strike="noStrike">
                <a:solidFill>
                  <a:srgbClr val="ff9933"/>
                </a:solidFill>
                <a:latin typeface="Rockwell"/>
              </a:rPr>
              <a:t>orange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, and </a:t>
            </a:r>
            <a:r>
              <a:rPr b="0" lang="en-GB" sz="2000" spc="-1" strike="noStrike">
                <a:solidFill>
                  <a:srgbClr val="800080"/>
                </a:solidFill>
                <a:latin typeface="Rockwell"/>
              </a:rPr>
              <a:t>viole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Rockwell"/>
              </a:rPr>
              <a:t>Saturation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 is the brightness the color – From solid hue to whit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Rockwell"/>
              </a:rPr>
              <a:t>Brightness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 is the lightness or luminosity of a hue – a value of how light or dark a color is. (adding black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31" name="Picture 3" descr=""/>
          <p:cNvPicPr/>
          <p:nvPr/>
        </p:nvPicPr>
        <p:blipFill>
          <a:blip r:embed="rId1"/>
          <a:stretch/>
        </p:blipFill>
        <p:spPr>
          <a:xfrm>
            <a:off x="3759120" y="1143000"/>
            <a:ext cx="53085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30120" y="-11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Munsell color system (HVC)</a:t>
            </a: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‏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741840" y="2017800"/>
            <a:ext cx="51069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8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95959"/>
                </a:solidFill>
                <a:latin typeface="Rockwell"/>
              </a:rPr>
              <a:t>HVC is very commonly used. It separates brightness (Munsell's VALUE) from Hue and Saturation (Munsell's CHROMA)</a:t>
            </a:r>
            <a:r>
              <a:rPr b="0" lang="en-GB" sz="2500" spc="-1" strike="noStrike">
                <a:solidFill>
                  <a:srgbClr val="595959"/>
                </a:solidFill>
                <a:latin typeface="Rockwell"/>
              </a:rPr>
              <a:t>‏</a:t>
            </a:r>
            <a:endParaRPr b="0" lang="en-US" sz="2500" spc="-1" strike="noStrike">
              <a:solidFill>
                <a:srgbClr val="595959"/>
              </a:solidFill>
              <a:latin typeface="Rockwell"/>
            </a:endParaRPr>
          </a:p>
          <a:p>
            <a:pPr marL="219240" indent="-219240">
              <a:lnSpc>
                <a:spcPct val="8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95959"/>
                </a:solidFill>
                <a:latin typeface="Rockwell"/>
              </a:rPr>
              <a:t>Hue- letter H, followed by a fraction. Top is VALUE, BOTTOM is CHROMA </a:t>
            </a:r>
            <a:endParaRPr b="0" lang="en-US" sz="2500" spc="-1" strike="noStrike">
              <a:solidFill>
                <a:srgbClr val="595959"/>
              </a:solidFill>
              <a:latin typeface="Rockwell"/>
            </a:endParaRPr>
          </a:p>
          <a:p>
            <a:pPr marL="219240" indent="-219240">
              <a:lnSpc>
                <a:spcPct val="8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95959"/>
                </a:solidFill>
                <a:latin typeface="Rockwell"/>
              </a:rPr>
              <a:t>Value – light or dark, measured from 1-10. Black is 0, white is 10.</a:t>
            </a:r>
            <a:endParaRPr b="0" lang="en-US" sz="2500" spc="-1" strike="noStrike">
              <a:solidFill>
                <a:srgbClr val="595959"/>
              </a:solidFill>
              <a:latin typeface="Rockwell"/>
            </a:endParaRPr>
          </a:p>
          <a:p>
            <a:pPr marL="219240" indent="-219240">
              <a:lnSpc>
                <a:spcPct val="8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95959"/>
                </a:solidFill>
                <a:latin typeface="Rockwell"/>
              </a:rPr>
              <a:t>Chroma – numbers vary according to saturation strength.</a:t>
            </a:r>
            <a:endParaRPr b="0" lang="en-US" sz="25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34" name="Picture 3" descr=""/>
          <p:cNvPicPr/>
          <p:nvPr/>
        </p:nvPicPr>
        <p:blipFill>
          <a:blip r:embed="rId1"/>
          <a:stretch/>
        </p:blipFill>
        <p:spPr>
          <a:xfrm>
            <a:off x="528480" y="2019240"/>
            <a:ext cx="2857680" cy="2228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541440" y="4343400"/>
            <a:ext cx="2857320" cy="2228760"/>
          </a:xfrm>
          <a:prstGeom prst="rect">
            <a:avLst/>
          </a:prstGeom>
          <a:ln w="0">
            <a:noFill/>
          </a:ln>
        </p:spPr>
      </p:pic>
      <p:sp>
        <p:nvSpPr>
          <p:cNvPr id="1036" name="Text Box 5"/>
          <p:cNvSpPr/>
          <p:nvPr/>
        </p:nvSpPr>
        <p:spPr>
          <a:xfrm>
            <a:off x="1600200" y="1143000"/>
            <a:ext cx="708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ee website </a:t>
            </a:r>
            <a:r>
              <a:rPr b="0" lang="en-GB" sz="2400" spc="-1" strike="noStrike" u="sng">
                <a:solidFill>
                  <a:srgbClr val="bc5fbc"/>
                </a:solidFill>
                <a:uFillTx/>
                <a:latin typeface="Arial"/>
                <a:ea typeface="MS Gothic"/>
                <a:hlinkClick r:id="rId3"/>
              </a:rPr>
              <a:t>http://en.wikipedia.org/wiki/Munsell_color_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150560" y="356760"/>
            <a:ext cx="7791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Pantone system – spot colo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440" y="1295280"/>
            <a:ext cx="2895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Pantone System colors are based on ink colors common to the print industry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Swatchbooks can show ink mixing formulas and are simulated on Adobe Illustrator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Spot color means colors that are not mixed using CMYK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(like a bucket of paint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39" name="Picture 3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528300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Additive &amp; Subtractive Colo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304560" y="3505320"/>
            <a:ext cx="8458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en-GB" sz="2200" spc="-1" strike="noStrike">
                <a:solidFill>
                  <a:srgbClr val="595959"/>
                </a:solidFill>
                <a:latin typeface="Rockwell"/>
              </a:rPr>
              <a:t>see website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 u="sng">
                <a:solidFill>
                  <a:srgbClr val="bc5fbc"/>
                </a:solidFill>
                <a:uFillTx/>
                <a:latin typeface="Rockwell"/>
                <a:hlinkClick r:id="rId1"/>
              </a:rPr>
              <a:t>http://www.public.iastate.edu/~design/ART/ARTVS208/colorwheel.swf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90360" y="-22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Additive Color Theory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04920" y="1143000"/>
            <a:ext cx="86500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Arial"/>
              </a:rPr>
              <a:t>Additive Color Theory</a:t>
            </a: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 states that in the natural world white light is made up of three basic components: </a:t>
            </a: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red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0" lang="en-GB" sz="2000" spc="-1" strike="noStrike">
                <a:solidFill>
                  <a:srgbClr val="00e4a8"/>
                </a:solidFill>
                <a:latin typeface="Rockwell"/>
              </a:rPr>
              <a:t>green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, and </a:t>
            </a:r>
            <a:r>
              <a:rPr b="0" lang="en-GB" sz="2000" spc="-1" strike="noStrike">
                <a:solidFill>
                  <a:srgbClr val="333399"/>
                </a:solidFill>
                <a:latin typeface="Rockwell"/>
              </a:rPr>
              <a:t>blue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In theory adding these three primary colors of light, red, green, and blue, together achieve whit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This is where we get  </a:t>
            </a:r>
            <a:r>
              <a:rPr b="0" i="1" lang="en-GB" sz="2000" spc="-1" strike="noStrike">
                <a:solidFill>
                  <a:srgbClr val="595959"/>
                </a:solidFill>
                <a:latin typeface="Rockwell"/>
              </a:rPr>
              <a:t>RGB </a:t>
            </a: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which is used by computer monitor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44" name="Picture 3" descr=""/>
          <p:cNvPicPr/>
          <p:nvPr/>
        </p:nvPicPr>
        <p:blipFill>
          <a:blip r:embed="rId1"/>
          <a:stretch/>
        </p:blipFill>
        <p:spPr>
          <a:xfrm>
            <a:off x="690480" y="3352680"/>
            <a:ext cx="7767720" cy="31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122120" y="-305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Subtractive Color Theory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0" y="980640"/>
            <a:ext cx="87264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ubtractive Color Theory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 explains how </a:t>
            </a:r>
            <a:r>
              <a:rPr b="0" lang="en-GB" sz="2800" spc="-1" strike="noStrike">
                <a:solidFill>
                  <a:srgbClr val="0000ff"/>
                </a:solidFill>
                <a:latin typeface="Rockwell"/>
              </a:rPr>
              <a:t>cyan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0" lang="en-GB" sz="2800" spc="-1" strike="noStrike">
                <a:solidFill>
                  <a:srgbClr val="d60093"/>
                </a:solidFill>
                <a:latin typeface="Rockwell"/>
              </a:rPr>
              <a:t>magenta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, and </a:t>
            </a:r>
            <a:r>
              <a:rPr b="0" lang="en-GB" sz="2800" spc="-1" strike="noStrike">
                <a:solidFill>
                  <a:srgbClr val="ffcf01"/>
                </a:solidFill>
                <a:latin typeface="Rockwell"/>
              </a:rPr>
              <a:t>yellow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pigments or inks on paper subtracts white light component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Since white light is made up of red, green and blue light, the inks subtract out that color of ligh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Whatever light that is left is recognized by the eye                                          as a certain color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2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  <a:ea typeface="Arial"/>
              </a:rPr>
              <a:t>This is where we get CMYK which is used in the printing proces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ubtractive Color Theory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1048" name="Picture 3" descr=""/>
          <p:cNvPicPr/>
          <p:nvPr/>
        </p:nvPicPr>
        <p:blipFill>
          <a:blip r:embed="rId1"/>
          <a:stretch/>
        </p:blipFill>
        <p:spPr>
          <a:xfrm>
            <a:off x="223920" y="1954080"/>
            <a:ext cx="86914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150560" y="356760"/>
            <a:ext cx="7791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Separa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182600" y="1143000"/>
            <a:ext cx="32371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helvetica (Body)"/>
                <a:ea typeface="helvetica (Body)"/>
              </a:rPr>
              <a:t>Dividing the colors of a multicolored document in to the SUBTRACTIVE ink colors. (CMYK)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helvetica (Body)"/>
                <a:ea typeface="helvetica (Body)"/>
              </a:rPr>
              <a:t>Color Separation is done through the print menu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helvetica (Body)"/>
                <a:ea typeface="helvetica (Body)"/>
              </a:rPr>
              <a:t>Uses for color separation – film for screenprinting, plates for printing press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51" name="Picture 3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0384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04560" y="3384720"/>
            <a:ext cx="857412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4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Arial"/>
              </a:rPr>
              <a:t>Color plays a vitally important role in the world in which we live. 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76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Arial"/>
              </a:rPr>
              <a:t>Color can sway thinking, change actions, and cause reactions. </a:t>
            </a:r>
            <a:endParaRPr b="0" lang="en-US" sz="36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76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95959"/>
                </a:solidFill>
                <a:latin typeface="Arial"/>
              </a:rPr>
              <a:t>It can irritate or soothe your eyes, raise your blood pressure or suppress your appetite</a:t>
            </a:r>
            <a:br>
              <a:rPr sz="2400"/>
            </a:br>
            <a:r>
              <a:rPr b="0" lang="en-GB" sz="24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96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       </a:t>
            </a: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Primary Color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Red, yellow, and blu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In traditional color theory, these are the three pigment colors that can not be mixed or formed by any combination of other colors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All other colors are derived from these three hues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lnSpc>
                <a:spcPct val="92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54" name="Picture 3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587760" cy="35197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       </a:t>
            </a: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Secondary Color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4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These are the three colors formed by mixing two primary colors together -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orange</a:t>
            </a: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, and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Rockwell"/>
              </a:rPr>
              <a:t>Blue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 + </a:t>
            </a:r>
            <a:r>
              <a:rPr b="0" lang="en-GB" sz="2800" spc="-1" strike="noStrike">
                <a:solidFill>
                  <a:srgbClr val="ffcf01"/>
                </a:solidFill>
                <a:latin typeface="Rockwell"/>
              </a:rPr>
              <a:t>yellow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 = </a:t>
            </a:r>
            <a:r>
              <a:rPr b="0" lang="en-GB" sz="2800" spc="-1" strike="noStrike">
                <a:solidFill>
                  <a:srgbClr val="009900"/>
                </a:solidFill>
                <a:latin typeface="Rockwell"/>
              </a:rPr>
              <a:t>green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Rockwell"/>
              </a:rPr>
              <a:t>Red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 + </a:t>
            </a:r>
            <a:r>
              <a:rPr b="0" lang="en-GB" sz="2800" spc="-1" strike="noStrike">
                <a:solidFill>
                  <a:srgbClr val="ffcf01"/>
                </a:solidFill>
                <a:latin typeface="Rockwell"/>
              </a:rPr>
              <a:t>yellow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 = </a:t>
            </a:r>
            <a:r>
              <a:rPr b="0" lang="en-GB" sz="2800" spc="-1" strike="noStrike">
                <a:solidFill>
                  <a:srgbClr val="ff9933"/>
                </a:solidFill>
                <a:latin typeface="Rockwell"/>
              </a:rPr>
              <a:t>orang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Rockwell"/>
              </a:rPr>
              <a:t>Red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 + </a:t>
            </a:r>
            <a:r>
              <a:rPr b="0" lang="en-GB" sz="2800" spc="-1" strike="noStrike">
                <a:solidFill>
                  <a:srgbClr val="333399"/>
                </a:solidFill>
                <a:latin typeface="Rockwell"/>
              </a:rPr>
              <a:t>blue</a:t>
            </a: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 = </a:t>
            </a:r>
            <a:r>
              <a:rPr b="0" lang="en-GB" sz="2800" spc="-1" strike="noStrike">
                <a:solidFill>
                  <a:srgbClr val="800080"/>
                </a:solidFill>
                <a:latin typeface="Rockwell"/>
              </a:rPr>
              <a:t>violet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58" name="Picture 3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740040" cy="3668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      </a:t>
            </a: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Tertiary Color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Rockwell"/>
              </a:rPr>
              <a:t>These are the six colors formed by mixing a primary color with a  secondary color - </a:t>
            </a:r>
            <a:r>
              <a:rPr b="1" lang="en-GB" sz="2800" spc="-1" strike="noStrike">
                <a:solidFill>
                  <a:srgbClr val="ffcc00"/>
                </a:solidFill>
                <a:latin typeface="Rockwell"/>
              </a:rPr>
              <a:t>yellow-orange</a:t>
            </a:r>
            <a:r>
              <a:rPr b="1" lang="en-GB" sz="28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1" lang="en-GB" sz="2800" spc="-1" strike="noStrike">
                <a:solidFill>
                  <a:srgbClr val="ff0000"/>
                </a:solidFill>
                <a:latin typeface="Rockwell"/>
              </a:rPr>
              <a:t>red-orange</a:t>
            </a:r>
            <a:r>
              <a:rPr b="1" lang="en-GB" sz="28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1" lang="en-GB" sz="2800" spc="-1" strike="noStrike">
                <a:solidFill>
                  <a:srgbClr val="993366"/>
                </a:solidFill>
                <a:latin typeface="Rockwell"/>
              </a:rPr>
              <a:t>red-violet</a:t>
            </a:r>
            <a:r>
              <a:rPr b="1" lang="en-GB" sz="28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1" lang="en-GB" sz="2800" spc="-1" strike="noStrike">
                <a:solidFill>
                  <a:srgbClr val="6600cc"/>
                </a:solidFill>
                <a:latin typeface="Rockwell"/>
              </a:rPr>
              <a:t>blue-violet</a:t>
            </a:r>
            <a:r>
              <a:rPr b="1" lang="en-GB" sz="2800" spc="-1" strike="noStrike">
                <a:solidFill>
                  <a:srgbClr val="595959"/>
                </a:solidFill>
                <a:latin typeface="Rockwell"/>
              </a:rPr>
              <a:t>, </a:t>
            </a:r>
            <a:r>
              <a:rPr b="1" lang="en-GB" sz="2800" spc="-1" strike="noStrike">
                <a:solidFill>
                  <a:srgbClr val="009999"/>
                </a:solidFill>
                <a:latin typeface="Rockwell"/>
              </a:rPr>
              <a:t>blue-green</a:t>
            </a:r>
            <a:r>
              <a:rPr b="1" lang="en-GB" sz="2800" spc="-1" strike="noStrike">
                <a:solidFill>
                  <a:srgbClr val="595959"/>
                </a:solidFill>
                <a:latin typeface="Rockwell"/>
              </a:rPr>
              <a:t>, and </a:t>
            </a:r>
            <a:r>
              <a:rPr b="1" lang="en-GB" sz="2800" spc="-1" strike="noStrike">
                <a:solidFill>
                  <a:srgbClr val="669900"/>
                </a:solidFill>
                <a:latin typeface="Rockwell"/>
              </a:rPr>
              <a:t>yellow-green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816360" cy="3745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240" y="355320"/>
            <a:ext cx="8915400" cy="13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Where do all the other colors come from?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By adding white, black or gray, or another color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TINT – Color with WHITE added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SHADE – Color with BLACK added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TONE – Color with GRAY or a complimentary color added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1066" name="Rectangle 3"/>
          <p:cNvGrpSpPr/>
          <p:nvPr/>
        </p:nvGrpSpPr>
        <p:grpSpPr>
          <a:xfrm>
            <a:off x="2517840" y="2322360"/>
            <a:ext cx="981000" cy="981360"/>
            <a:chOff x="2517840" y="2322360"/>
            <a:chExt cx="981000" cy="981360"/>
          </a:xfrm>
        </p:grpSpPr>
        <p:pic>
          <p:nvPicPr>
            <p:cNvPr id="1067" name="Rectangle 3" descr=""/>
            <p:cNvPicPr/>
            <p:nvPr/>
          </p:nvPicPr>
          <p:blipFill>
            <a:blip r:embed="rId1"/>
            <a:stretch/>
          </p:blipFill>
          <p:spPr>
            <a:xfrm>
              <a:off x="2517840" y="2322360"/>
              <a:ext cx="98100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593800" y="2376360"/>
              <a:ext cx="8240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Rectangle 4"/>
          <p:cNvGrpSpPr/>
          <p:nvPr/>
        </p:nvGrpSpPr>
        <p:grpSpPr>
          <a:xfrm>
            <a:off x="4260960" y="2309760"/>
            <a:ext cx="1079280" cy="1073160"/>
            <a:chOff x="4260960" y="2309760"/>
            <a:chExt cx="1079280" cy="1073160"/>
          </a:xfrm>
        </p:grpSpPr>
        <p:pic>
          <p:nvPicPr>
            <p:cNvPr id="1070" name="Rectangle 4" descr=""/>
            <p:cNvPicPr/>
            <p:nvPr/>
          </p:nvPicPr>
          <p:blipFill>
            <a:blip r:embed="rId2"/>
            <a:stretch/>
          </p:blipFill>
          <p:spPr>
            <a:xfrm>
              <a:off x="4260960" y="2309760"/>
              <a:ext cx="10792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4343400" y="236232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Right Arrow 5"/>
          <p:cNvGrpSpPr/>
          <p:nvPr/>
        </p:nvGrpSpPr>
        <p:grpSpPr>
          <a:xfrm>
            <a:off x="3498840" y="2451240"/>
            <a:ext cx="731880" cy="742680"/>
            <a:chOff x="3498840" y="2451240"/>
            <a:chExt cx="731880" cy="742680"/>
          </a:xfrm>
        </p:grpSpPr>
        <p:pic>
          <p:nvPicPr>
            <p:cNvPr id="1073" name="Right Arrow 5" descr=""/>
            <p:cNvPicPr/>
            <p:nvPr/>
          </p:nvPicPr>
          <p:blipFill>
            <a:blip r:embed="rId3"/>
            <a:stretch/>
          </p:blipFill>
          <p:spPr>
            <a:xfrm>
              <a:off x="3498840" y="2451240"/>
              <a:ext cx="73188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3581280" y="2655720"/>
              <a:ext cx="4255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Rectangle 7"/>
          <p:cNvGrpSpPr/>
          <p:nvPr/>
        </p:nvGrpSpPr>
        <p:grpSpPr>
          <a:xfrm>
            <a:off x="2523960" y="4059360"/>
            <a:ext cx="987480" cy="982440"/>
            <a:chOff x="2523960" y="4059360"/>
            <a:chExt cx="987480" cy="982440"/>
          </a:xfrm>
        </p:grpSpPr>
        <p:pic>
          <p:nvPicPr>
            <p:cNvPr id="1076" name="Rectangle 7" descr=""/>
            <p:cNvPicPr/>
            <p:nvPr/>
          </p:nvPicPr>
          <p:blipFill>
            <a:blip r:embed="rId4"/>
            <a:stretch/>
          </p:blipFill>
          <p:spPr>
            <a:xfrm>
              <a:off x="2523960" y="4059360"/>
              <a:ext cx="98748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2606760" y="41148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8" name="Right Arrow 8"/>
          <p:cNvGrpSpPr/>
          <p:nvPr/>
        </p:nvGrpSpPr>
        <p:grpSpPr>
          <a:xfrm>
            <a:off x="3498840" y="4206960"/>
            <a:ext cx="731880" cy="743040"/>
            <a:chOff x="3498840" y="4206960"/>
            <a:chExt cx="731880" cy="743040"/>
          </a:xfrm>
        </p:grpSpPr>
        <p:pic>
          <p:nvPicPr>
            <p:cNvPr id="1079" name="Right Arrow 8" descr=""/>
            <p:cNvPicPr/>
            <p:nvPr/>
          </p:nvPicPr>
          <p:blipFill>
            <a:blip r:embed="rId5"/>
            <a:stretch/>
          </p:blipFill>
          <p:spPr>
            <a:xfrm>
              <a:off x="3498840" y="4206960"/>
              <a:ext cx="7318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581280" y="4408560"/>
              <a:ext cx="4255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1" name="Rectangle 9"/>
          <p:cNvGrpSpPr/>
          <p:nvPr/>
        </p:nvGrpSpPr>
        <p:grpSpPr>
          <a:xfrm>
            <a:off x="4260960" y="4059360"/>
            <a:ext cx="987480" cy="982440"/>
            <a:chOff x="4260960" y="4059360"/>
            <a:chExt cx="987480" cy="982440"/>
          </a:xfrm>
        </p:grpSpPr>
        <p:pic>
          <p:nvPicPr>
            <p:cNvPr id="1082" name="Rectangle 9" descr=""/>
            <p:cNvPicPr/>
            <p:nvPr/>
          </p:nvPicPr>
          <p:blipFill>
            <a:blip r:embed="rId6"/>
            <a:stretch/>
          </p:blipFill>
          <p:spPr>
            <a:xfrm>
              <a:off x="4260960" y="4059360"/>
              <a:ext cx="98748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>
              <a:off x="4343400" y="411480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Rectangle 10"/>
          <p:cNvGrpSpPr/>
          <p:nvPr/>
        </p:nvGrpSpPr>
        <p:grpSpPr>
          <a:xfrm>
            <a:off x="2511360" y="5735520"/>
            <a:ext cx="981000" cy="982800"/>
            <a:chOff x="2511360" y="5735520"/>
            <a:chExt cx="981000" cy="982800"/>
          </a:xfrm>
        </p:grpSpPr>
        <p:pic>
          <p:nvPicPr>
            <p:cNvPr id="1085" name="Rectangle 10" descr=""/>
            <p:cNvPicPr/>
            <p:nvPr/>
          </p:nvPicPr>
          <p:blipFill>
            <a:blip r:embed="rId7"/>
            <a:stretch/>
          </p:blipFill>
          <p:spPr>
            <a:xfrm>
              <a:off x="2511360" y="5735520"/>
              <a:ext cx="981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2590920" y="579132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Right Arrow 11"/>
          <p:cNvGrpSpPr/>
          <p:nvPr/>
        </p:nvGrpSpPr>
        <p:grpSpPr>
          <a:xfrm>
            <a:off x="3498840" y="5883120"/>
            <a:ext cx="731880" cy="743040"/>
            <a:chOff x="3498840" y="5883120"/>
            <a:chExt cx="731880" cy="743040"/>
          </a:xfrm>
        </p:grpSpPr>
        <p:pic>
          <p:nvPicPr>
            <p:cNvPr id="1088" name="Right Arrow 11" descr=""/>
            <p:cNvPicPr/>
            <p:nvPr/>
          </p:nvPicPr>
          <p:blipFill>
            <a:blip r:embed="rId8"/>
            <a:stretch/>
          </p:blipFill>
          <p:spPr>
            <a:xfrm>
              <a:off x="3498840" y="5883120"/>
              <a:ext cx="7318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3581280" y="6084720"/>
              <a:ext cx="4255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0" name="Rectangle 12"/>
          <p:cNvGrpSpPr/>
          <p:nvPr/>
        </p:nvGrpSpPr>
        <p:grpSpPr>
          <a:xfrm>
            <a:off x="4260960" y="5735520"/>
            <a:ext cx="987480" cy="982800"/>
            <a:chOff x="4260960" y="5735520"/>
            <a:chExt cx="987480" cy="982800"/>
          </a:xfrm>
        </p:grpSpPr>
        <p:pic>
          <p:nvPicPr>
            <p:cNvPr id="1091" name="Rectangle 12" descr=""/>
            <p:cNvPicPr/>
            <p:nvPr/>
          </p:nvPicPr>
          <p:blipFill>
            <a:blip r:embed="rId9"/>
            <a:stretch/>
          </p:blipFill>
          <p:spPr>
            <a:xfrm>
              <a:off x="4260960" y="5735520"/>
              <a:ext cx="98748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"/>
            <p:cNvSpPr/>
            <p:nvPr/>
          </p:nvSpPr>
          <p:spPr>
            <a:xfrm>
              <a:off x="4343400" y="579132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Basic Color Schem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Color schemes are ways to use groups of colors together so a desired affect is achieved by an artis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95" name="Picture 3" descr=""/>
          <p:cNvPicPr/>
          <p:nvPr/>
        </p:nvPicPr>
        <p:blipFill>
          <a:blip r:embed="rId1"/>
          <a:stretch/>
        </p:blipFill>
        <p:spPr>
          <a:xfrm>
            <a:off x="2895480" y="3014640"/>
            <a:ext cx="363240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mplementary Color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304920" y="1143000"/>
            <a:ext cx="865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Two colors OPPOSITE each other on the color wheel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102000"/>
              </a:lnSpc>
              <a:spcBef>
                <a:spcPts val="499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Rockwell"/>
              </a:rPr>
              <a:t>red and green, blue &amp; orange, violet &amp; yellow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Complimentary Colors create maximum contrast                                    and accent one another perfectl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0000"/>
                </a:solidFill>
                <a:latin typeface="Rockwell"/>
              </a:rPr>
              <a:t>Pros: Extremely eye-catching and vibran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0000"/>
                </a:solidFill>
                <a:latin typeface="Rockwell"/>
              </a:rPr>
              <a:t>Cons: The limited number of color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102000"/>
              </a:lnSpc>
              <a:spcBef>
                <a:spcPts val="499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0000"/>
                </a:solidFill>
                <a:latin typeface="Rockwell"/>
              </a:rPr>
              <a:t>Sometimes not paid attention to by viewers (too common)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98" name="Picture 3" descr=""/>
          <p:cNvPicPr/>
          <p:nvPr/>
        </p:nvPicPr>
        <p:blipFill>
          <a:blip r:embed="rId1"/>
          <a:stretch/>
        </p:blipFill>
        <p:spPr>
          <a:xfrm>
            <a:off x="1600200" y="4191120"/>
            <a:ext cx="675180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Monochromatic Schem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533520" y="2057040"/>
            <a:ext cx="40384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00"/>
                </a:solidFill>
                <a:latin typeface="Rockwell"/>
              </a:rPr>
              <a:t>This uses a single pure hue with a number of tints and shades to give variety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00"/>
                </a:solidFill>
                <a:latin typeface="Rockwell"/>
              </a:rPr>
              <a:t>Pros: HARMONY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Establishes overall mood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00"/>
                </a:solidFill>
                <a:latin typeface="Rockwell"/>
              </a:rPr>
              <a:t>Cons: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Can be dull 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lack of variation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 </a:t>
            </a: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can lose the interest of the viewer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101" name="Picture 3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-22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Analogous Color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228240" y="1066680"/>
            <a:ext cx="441972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Rockwell"/>
              </a:rPr>
              <a:t>Analogous colors - three colors  side by side on the color wheel.  (yellow-green, yellow, and yellow-orange)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Rockwell"/>
              </a:rPr>
              <a:t>Usually one of the three colors is most dominant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00"/>
                </a:solidFill>
                <a:latin typeface="Rockwell"/>
              </a:rPr>
              <a:t>Pro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 </a:t>
            </a: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Lots of possible combinations scheme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Versatile 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great results - used in nature and is usually                                           soothing and restful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00"/>
                </a:solidFill>
                <a:latin typeface="Rockwell"/>
              </a:rPr>
              <a:t>Cons: Can sometimes take away from theme of artwork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104" name="Picture 3" descr=""/>
          <p:cNvPicPr/>
          <p:nvPr/>
        </p:nvPicPr>
        <p:blipFill>
          <a:blip r:embed="rId1"/>
          <a:stretch/>
        </p:blipFill>
        <p:spPr>
          <a:xfrm rot="5400000">
            <a:off x="3737880" y="1985760"/>
            <a:ext cx="601992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761760" y="387000"/>
            <a:ext cx="77929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Triadic Color Schem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56840" y="1447560"/>
            <a:ext cx="48769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Rockwell"/>
              </a:rPr>
              <a:t>Draw a triangle on the color wheel and use those color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00"/>
                </a:solidFill>
                <a:latin typeface="Rockwell"/>
              </a:rPr>
              <a:t>Primary colors gives the most IMPACT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00"/>
                </a:solidFill>
                <a:latin typeface="Rockwell"/>
              </a:rPr>
              <a:t>Pros: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 </a:t>
            </a: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color perfectly balances with the other 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  </a:t>
            </a: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bold and vibrant color scheme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 </a:t>
            </a: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useful for presenting information in bold decisive patterns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00"/>
                </a:solidFill>
                <a:latin typeface="Rockwell"/>
              </a:rPr>
              <a:t>Cons: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2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0000"/>
                </a:solidFill>
                <a:latin typeface="Rockwell"/>
              </a:rPr>
              <a:t>The vibrancy may be too strong and detract from the message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86200" cy="23493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2984760" cy="43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Split Complementary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80880" y="914040"/>
            <a:ext cx="45720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4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Pick a color, then look across color wheel – pick color on either side of that! (Red, blue-green &amp; yellow-green)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0000"/>
                </a:solidFill>
                <a:latin typeface="Rockwell"/>
              </a:rPr>
              <a:t>Pros: This scheme has more variety than a simple complementary color schem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0000"/>
                </a:solidFill>
                <a:latin typeface="Rockwell"/>
              </a:rPr>
              <a:t>Cons: It is less vibrant and eye-catching - it is difficult to harmonize the color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2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1111" name="Group 3"/>
          <p:cNvGrpSpPr/>
          <p:nvPr/>
        </p:nvGrpSpPr>
        <p:grpSpPr>
          <a:xfrm>
            <a:off x="0" y="0"/>
            <a:ext cx="5240160" cy="4379760"/>
            <a:chOff x="0" y="0"/>
            <a:chExt cx="5240160" cy="4379760"/>
          </a:xfrm>
        </p:grpSpPr>
        <p:grpSp>
          <p:nvGrpSpPr>
            <p:cNvPr id="1112" name="Group 4"/>
            <p:cNvGrpSpPr/>
            <p:nvPr/>
          </p:nvGrpSpPr>
          <p:grpSpPr>
            <a:xfrm>
              <a:off x="3902040" y="3124080"/>
              <a:ext cx="1338120" cy="360"/>
              <a:chOff x="3902040" y="3124080"/>
              <a:chExt cx="1338120" cy="360"/>
            </a:xfrm>
          </p:grpSpPr>
          <p:sp>
            <p:nvSpPr>
              <p:cNvPr id="1113" name="AutoShape 5"/>
              <p:cNvSpPr/>
              <p:nvPr/>
            </p:nvSpPr>
            <p:spPr>
              <a:xfrm>
                <a:off x="3902040" y="3124080"/>
                <a:ext cx="1338120" cy="360"/>
              </a:xfrm>
              <a:prstGeom prst="roundRect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8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4" name="Group 6"/>
            <p:cNvGrpSpPr/>
            <p:nvPr/>
          </p:nvGrpSpPr>
          <p:grpSpPr>
            <a:xfrm>
              <a:off x="0" y="0"/>
              <a:ext cx="5113080" cy="4379760"/>
              <a:chOff x="0" y="0"/>
              <a:chExt cx="5113080" cy="4379760"/>
            </a:xfrm>
          </p:grpSpPr>
          <p:grpSp>
            <p:nvGrpSpPr>
              <p:cNvPr id="1115" name="Group 7"/>
              <p:cNvGrpSpPr/>
              <p:nvPr/>
            </p:nvGrpSpPr>
            <p:grpSpPr>
              <a:xfrm>
                <a:off x="3902040" y="3124080"/>
                <a:ext cx="712800" cy="360"/>
                <a:chOff x="3902040" y="3124080"/>
                <a:chExt cx="712800" cy="360"/>
              </a:xfrm>
            </p:grpSpPr>
            <p:sp>
              <p:nvSpPr>
                <p:cNvPr id="1116" name="AutoShape 8"/>
                <p:cNvSpPr/>
                <p:nvPr/>
              </p:nvSpPr>
              <p:spPr>
                <a:xfrm>
                  <a:off x="3902040" y="3124080"/>
                  <a:ext cx="712800" cy="360"/>
                </a:xfrm>
                <a:prstGeom prst="roundRect">
                  <a:avLst>
                    <a:gd name="adj" fmla="val 5000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Group 9"/>
              <p:cNvGrpSpPr/>
              <p:nvPr/>
            </p:nvGrpSpPr>
            <p:grpSpPr>
              <a:xfrm>
                <a:off x="0" y="0"/>
                <a:ext cx="5113080" cy="4379760"/>
                <a:chOff x="0" y="0"/>
                <a:chExt cx="5113080" cy="4379760"/>
              </a:xfrm>
            </p:grpSpPr>
            <p:sp>
              <p:nvSpPr>
                <p:cNvPr id="1118" name="AutoShape 10"/>
                <p:cNvSpPr/>
                <p:nvPr/>
              </p:nvSpPr>
              <p:spPr>
                <a:xfrm>
                  <a:off x="3900600" y="3122640"/>
                  <a:ext cx="1212480" cy="793440"/>
                </a:xfrm>
                <a:prstGeom prst="roundRect">
                  <a:avLst>
                    <a:gd name="adj" fmla="val 19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8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11"/>
                <p:cNvSpPr/>
                <p:nvPr/>
              </p:nvSpPr>
              <p:spPr>
                <a:xfrm>
                  <a:off x="0" y="0"/>
                  <a:ext cx="1080" cy="43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84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GB" sz="1200" spc="-1" strike="noStrike">
                      <a:solidFill>
                        <a:srgbClr val="330000"/>
                      </a:solidFill>
                      <a:latin typeface="ITC Officina Sans Book"/>
                      <a:ea typeface="MS Gothic"/>
                    </a:rPr>
                    <a:t>  </a:t>
                  </a:r>
                  <a:r>
                    <a:rPr b="0" lang="en-GB" sz="2200" spc="-1" strike="noStrike">
                      <a:solidFill>
                        <a:srgbClr val="330000"/>
                      </a:solidFill>
                      <a:latin typeface="ITC Officina Sans Book"/>
                      <a:ea typeface="MS Gothic"/>
                    </a:rPr>
                    <a:t> </a:t>
                  </a:r>
                  <a:r>
                    <a:rPr b="0" lang="en-GB" sz="1200" spc="-1" strike="noStrike">
                      <a:solidFill>
                        <a:srgbClr val="330000"/>
                      </a:solidFill>
                      <a:latin typeface="ITC Officina Sans Book"/>
                      <a:ea typeface="MS Gothic"/>
                    </a:rPr>
                    <a:t>                       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120" name="Picture 12" descr=""/>
          <p:cNvPicPr/>
          <p:nvPr/>
        </p:nvPicPr>
        <p:blipFill>
          <a:blip r:embed="rId1"/>
          <a:stretch/>
        </p:blipFill>
        <p:spPr>
          <a:xfrm>
            <a:off x="7010280" y="990720"/>
            <a:ext cx="1592280" cy="573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3" descr=""/>
          <p:cNvPicPr/>
          <p:nvPr/>
        </p:nvPicPr>
        <p:blipFill>
          <a:blip r:embed="rId2"/>
          <a:stretch/>
        </p:blipFill>
        <p:spPr>
          <a:xfrm>
            <a:off x="5029200" y="2336760"/>
            <a:ext cx="386064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SCIENC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04560" y="2438280"/>
            <a:ext cx="453708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4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95959"/>
                </a:solidFill>
                <a:latin typeface="Arial"/>
              </a:rPr>
              <a:t>You must understand the principles of light to understand color science.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99" name="Picture 3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848040" cy="6032520"/>
          </a:xfrm>
          <a:prstGeom prst="rect">
            <a:avLst/>
          </a:prstGeom>
          <a:ln w="0">
            <a:noFill/>
          </a:ln>
        </p:spPr>
      </p:pic>
      <p:sp>
        <p:nvSpPr>
          <p:cNvPr id="1000" name="TextBox 5"/>
          <p:cNvSpPr/>
          <p:nvPr/>
        </p:nvSpPr>
        <p:spPr>
          <a:xfrm>
            <a:off x="572760" y="1523880"/>
            <a:ext cx="3272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ligh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no co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Warm Color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Rockwell"/>
              </a:rPr>
              <a:t>Yellow to red-violet on the color wheel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Advance to front of pa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Excitement, passion, livelines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Cau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He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Ang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5181480" y="762120"/>
            <a:ext cx="989280" cy="760320"/>
            <a:chOff x="5181480" y="762120"/>
            <a:chExt cx="989280" cy="760320"/>
          </a:xfrm>
        </p:grpSpPr>
        <p:sp>
          <p:nvSpPr>
            <p:cNvPr id="1125" name="AutoShape 4"/>
            <p:cNvSpPr/>
            <p:nvPr/>
          </p:nvSpPr>
          <p:spPr>
            <a:xfrm>
              <a:off x="5181480" y="762120"/>
              <a:ext cx="989280" cy="760320"/>
            </a:xfrm>
            <a:prstGeom prst="roundRect">
              <a:avLst>
                <a:gd name="adj" fmla="val 208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6" name="Group 5"/>
          <p:cNvGrpSpPr/>
          <p:nvPr/>
        </p:nvGrpSpPr>
        <p:grpSpPr>
          <a:xfrm>
            <a:off x="6324480" y="762120"/>
            <a:ext cx="989280" cy="760320"/>
            <a:chOff x="6324480" y="762120"/>
            <a:chExt cx="989280" cy="760320"/>
          </a:xfrm>
        </p:grpSpPr>
        <p:sp>
          <p:nvSpPr>
            <p:cNvPr id="1127" name="AutoShape 6"/>
            <p:cNvSpPr/>
            <p:nvPr/>
          </p:nvSpPr>
          <p:spPr>
            <a:xfrm>
              <a:off x="6324480" y="762120"/>
              <a:ext cx="989280" cy="760320"/>
            </a:xfrm>
            <a:prstGeom prst="roundRect">
              <a:avLst>
                <a:gd name="adj" fmla="val 20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8" name="Picture 7" descr=""/>
          <p:cNvPicPr/>
          <p:nvPr/>
        </p:nvPicPr>
        <p:blipFill>
          <a:blip r:embed="rId1"/>
          <a:stretch/>
        </p:blipFill>
        <p:spPr>
          <a:xfrm>
            <a:off x="5668920" y="2971800"/>
            <a:ext cx="30481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ol color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595959"/>
                </a:solidFill>
                <a:latin typeface="Rockwell"/>
              </a:rPr>
              <a:t>Violet to yellow-green on the color wheel</a:t>
            </a:r>
            <a:endParaRPr b="0" lang="en-US" sz="26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Cool colors recede to back of pa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Serenity, calmnes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Sometimes cold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Winte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1131" name="Group 3"/>
          <p:cNvGrpSpPr/>
          <p:nvPr/>
        </p:nvGrpSpPr>
        <p:grpSpPr>
          <a:xfrm>
            <a:off x="5181480" y="762120"/>
            <a:ext cx="989280" cy="760320"/>
            <a:chOff x="5181480" y="762120"/>
            <a:chExt cx="989280" cy="760320"/>
          </a:xfrm>
        </p:grpSpPr>
        <p:sp>
          <p:nvSpPr>
            <p:cNvPr id="1132" name="AutoShape 4"/>
            <p:cNvSpPr/>
            <p:nvPr/>
          </p:nvSpPr>
          <p:spPr>
            <a:xfrm>
              <a:off x="5181480" y="762120"/>
              <a:ext cx="989280" cy="760320"/>
            </a:xfrm>
            <a:prstGeom prst="roundRect">
              <a:avLst>
                <a:gd name="adj" fmla="val 208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3" name="Group 5"/>
          <p:cNvGrpSpPr/>
          <p:nvPr/>
        </p:nvGrpSpPr>
        <p:grpSpPr>
          <a:xfrm>
            <a:off x="6477120" y="762120"/>
            <a:ext cx="988920" cy="760320"/>
            <a:chOff x="6477120" y="762120"/>
            <a:chExt cx="988920" cy="760320"/>
          </a:xfrm>
        </p:grpSpPr>
        <p:sp>
          <p:nvSpPr>
            <p:cNvPr id="1134" name="AutoShape 6"/>
            <p:cNvSpPr/>
            <p:nvPr/>
          </p:nvSpPr>
          <p:spPr>
            <a:xfrm>
              <a:off x="6477120" y="762120"/>
              <a:ext cx="988920" cy="760320"/>
            </a:xfrm>
            <a:prstGeom prst="roundRect">
              <a:avLst>
                <a:gd name="adj" fmla="val 20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35" name="Picture 7" descr=""/>
          <p:cNvPicPr/>
          <p:nvPr/>
        </p:nvPicPr>
        <p:blipFill>
          <a:blip r:embed="rId1"/>
          <a:stretch/>
        </p:blipFill>
        <p:spPr>
          <a:xfrm>
            <a:off x="5257800" y="3006720"/>
            <a:ext cx="298764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1400" y="533160"/>
            <a:ext cx="8340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lor Viewing Variabl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3085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– </a:t>
            </a:r>
            <a:r>
              <a:rPr b="0" lang="en-GB" sz="3200" spc="-1" strike="noStrike">
                <a:solidFill>
                  <a:srgbClr val="663366"/>
                </a:solidFill>
                <a:latin typeface="Rockwell"/>
              </a:rPr>
              <a:t>is a form of COMMUNICATION</a:t>
            </a:r>
            <a:endParaRPr b="0" lang="en-US" sz="3200" spc="-1" strike="noStrike">
              <a:solidFill>
                <a:srgbClr val="663366"/>
              </a:solidFill>
              <a:latin typeface="Rockwell"/>
            </a:endParaRPr>
          </a:p>
        </p:txBody>
      </p:sp>
      <p:grpSp>
        <p:nvGrpSpPr>
          <p:cNvPr id="1139" name="Group 3"/>
          <p:cNvGrpSpPr/>
          <p:nvPr/>
        </p:nvGrpSpPr>
        <p:grpSpPr>
          <a:xfrm>
            <a:off x="0" y="0"/>
            <a:ext cx="360" cy="13808160"/>
            <a:chOff x="0" y="0"/>
            <a:chExt cx="360" cy="13808160"/>
          </a:xfrm>
        </p:grpSpPr>
        <p:sp>
          <p:nvSpPr>
            <p:cNvPr id="1140" name="Text Box 4"/>
            <p:cNvSpPr/>
            <p:nvPr/>
          </p:nvSpPr>
          <p:spPr>
            <a:xfrm>
              <a:off x="0" y="0"/>
              <a:ext cx="360" cy="138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2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Color is a quality of how light is reflected from objec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1" name="Text Box 5"/>
          <p:cNvSpPr/>
          <p:nvPr/>
        </p:nvSpPr>
        <p:spPr>
          <a:xfrm>
            <a:off x="76320" y="1219320"/>
            <a:ext cx="5562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Red means "stop" and green means "go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Traffic lights send this universal mess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Colors used for a product, web site, business card, or logo can cause powerful re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853920"/>
                <a:tab algn="l" pos="1311120"/>
                <a:tab algn="l" pos="1768320"/>
                <a:tab algn="l" pos="2225520"/>
                <a:tab algn="l" pos="2682720"/>
                <a:tab algn="l" pos="3139920"/>
                <a:tab algn="l" pos="3597120"/>
                <a:tab algn="l" pos="4054320"/>
                <a:tab algn="l" pos="4511520"/>
                <a:tab algn="l" pos="4968720"/>
                <a:tab algn="l" pos="5425920"/>
                <a:tab algn="l" pos="5883120"/>
                <a:tab algn="l" pos="6340320"/>
                <a:tab algn="l" pos="6797520"/>
                <a:tab algn="l" pos="7254720"/>
                <a:tab algn="l" pos="7711920"/>
                <a:tab algn="l" pos="8169120"/>
                <a:tab algn="l" pos="8626320"/>
                <a:tab algn="l" pos="9083520"/>
                <a:tab algn="l" pos="954072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S Gothic"/>
              </a:rPr>
              <a:t>WHAT EXAMPLES CAN YOU THINK OF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2" name="Picture 6" descr=""/>
          <p:cNvPicPr/>
          <p:nvPr/>
        </p:nvPicPr>
        <p:blipFill>
          <a:blip r:embed="rId1"/>
          <a:stretch/>
        </p:blipFill>
        <p:spPr>
          <a:xfrm>
            <a:off x="5754600" y="2184480"/>
            <a:ext cx="3084480" cy="43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Viewing Variabl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80520" y="2017800"/>
            <a:ext cx="85741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4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Color Blindness - 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 Inability to tell colors apart.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4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Many color blind people confu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355e00"/>
                </a:solidFill>
                <a:latin typeface="Arial"/>
              </a:rPr>
              <a:t>green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, or </a:t>
            </a:r>
            <a:r>
              <a:rPr b="0" lang="en-GB" sz="2800" spc="-1" strike="noStrike">
                <a:solidFill>
                  <a:srgbClr val="5c8526"/>
                </a:solidFill>
                <a:latin typeface="Arial"/>
              </a:rPr>
              <a:t>green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4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1145" name="Group 2"/>
          <p:cNvGrpSpPr/>
          <p:nvPr/>
        </p:nvGrpSpPr>
        <p:grpSpPr>
          <a:xfrm>
            <a:off x="0" y="2538360"/>
            <a:ext cx="9142560" cy="360"/>
            <a:chOff x="0" y="2538360"/>
            <a:chExt cx="9142560" cy="360"/>
          </a:xfrm>
        </p:grpSpPr>
        <p:sp>
          <p:nvSpPr>
            <p:cNvPr id="1146" name="AutoShape 3"/>
            <p:cNvSpPr/>
            <p:nvPr/>
          </p:nvSpPr>
          <p:spPr>
            <a:xfrm>
              <a:off x="0" y="2538360"/>
              <a:ext cx="9142560" cy="36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7" name="Rectangle 5"/>
          <p:cNvSpPr/>
          <p:nvPr/>
        </p:nvSpPr>
        <p:spPr>
          <a:xfrm>
            <a:off x="5486400" y="3165480"/>
            <a:ext cx="3041640" cy="346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457200" y="3657600"/>
            <a:ext cx="502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In the chart on the right, if you see a “5”, you are not color blind. If you see a “2”, you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RED-GREEN COLOR BL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Viewing Variabl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80520" y="2017440"/>
            <a:ext cx="85741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4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Vision Fatique – Viewing full color saturation for a long time can make the eyes tired. This will make any other color you look at appear different.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4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0000"/>
                </a:solidFill>
                <a:latin typeface="Arial"/>
              </a:rPr>
              <a:t>CHECK OUT: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4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4000"/>
              </a:lnSpc>
              <a:spcBef>
                <a:spcPts val="700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0000"/>
                </a:solidFill>
                <a:uFillTx/>
                <a:latin typeface="Arial"/>
              </a:rPr>
              <a:t>http://www.colormatters.com/optics.html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1151" name="Group 2"/>
          <p:cNvGrpSpPr/>
          <p:nvPr/>
        </p:nvGrpSpPr>
        <p:grpSpPr>
          <a:xfrm>
            <a:off x="0" y="2538360"/>
            <a:ext cx="9142560" cy="360"/>
            <a:chOff x="0" y="2538360"/>
            <a:chExt cx="9142560" cy="360"/>
          </a:xfrm>
        </p:grpSpPr>
        <p:sp>
          <p:nvSpPr>
            <p:cNvPr id="1152" name="AutoShape 3"/>
            <p:cNvSpPr/>
            <p:nvPr/>
          </p:nvSpPr>
          <p:spPr>
            <a:xfrm>
              <a:off x="0" y="2538360"/>
              <a:ext cx="9142560" cy="36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Natur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533160" y="1981080"/>
            <a:ext cx="800100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4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Nature can help us choose color scheme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4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</a:rPr>
              <a:t>red yellow and green create a harmony in nature, and in desig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4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564080" cy="16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331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Contex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0520" y="1066320"/>
            <a:ext cx="754380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"/>
              </a:rPr>
              <a:t>Color Context is how colors behave next to each other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Arial"/>
              </a:rPr>
              <a:t>Compare the contrast effects of different color backgrounds for the same red square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Red appears brighter against black background, duller against the white backgroun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Red against orange – dull. Red against blue-green – too brigh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Arial"/>
              </a:rPr>
              <a:t>Notice that the red square appears larger on black than on other background color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158" name="Picture 3" descr=""/>
          <p:cNvPicPr/>
          <p:nvPr/>
        </p:nvPicPr>
        <p:blipFill>
          <a:blip r:embed="rId1"/>
          <a:stretch/>
        </p:blipFill>
        <p:spPr>
          <a:xfrm>
            <a:off x="608040" y="2666880"/>
            <a:ext cx="7545240" cy="18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The same color can look totally different with a different background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Which side has the lighter violet inner rectangle?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Rockwell"/>
              </a:rPr>
              <a:t>This can make THREE colors appear to be FOUR COLORS!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160" name="Picture 2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497400" cy="1749240"/>
          </a:xfrm>
          <a:prstGeom prst="rect">
            <a:avLst/>
          </a:prstGeom>
          <a:ln w="0">
            <a:noFill/>
          </a:ln>
        </p:spPr>
      </p:pic>
      <p:sp>
        <p:nvSpPr>
          <p:cNvPr id="1161" name="TextBox 3"/>
          <p:cNvSpPr/>
          <p:nvPr/>
        </p:nvSpPr>
        <p:spPr>
          <a:xfrm>
            <a:off x="2063880" y="1260360"/>
            <a:ext cx="183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64920" y="-76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Contex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 txBox="1"/>
          <p:nvPr/>
        </p:nvSpPr>
        <p:spPr>
          <a:xfrm>
            <a:off x="1182600" y="201744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64" name="Text Box 2"/>
          <p:cNvSpPr/>
          <p:nvPr/>
        </p:nvSpPr>
        <p:spPr>
          <a:xfrm>
            <a:off x="1371600" y="685800"/>
            <a:ext cx="731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ITTEN's CONTR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Text Box 3"/>
          <p:cNvSpPr/>
          <p:nvPr/>
        </p:nvSpPr>
        <p:spPr>
          <a:xfrm>
            <a:off x="914400" y="2019240"/>
            <a:ext cx="70866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Johannes Itten created the SEVEN COLOR CONTRA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H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Light and D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WARM and C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COMPL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ULTANEOUS CONTR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PROPOR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914400" y="5208480"/>
            <a:ext cx="7315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go to </a:t>
            </a:r>
            <a:r>
              <a:rPr b="0" lang="en-GB" sz="2000" spc="-1" strike="noStrike" u="sng">
                <a:solidFill>
                  <a:srgbClr val="bc5fbc"/>
                </a:solidFill>
                <a:uFillTx/>
                <a:latin typeface="Arial"/>
                <a:ea typeface="MS Gothic"/>
                <a:hlinkClick r:id="rId1"/>
              </a:rPr>
              <a:t>http://www.worqx.com/color/palette.htmhttp://www.worqx.com/color/palette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to practice color contra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Where did color</a:t>
            </a:r>
            <a:br>
              <a:rPr sz="3600"/>
            </a:b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me from?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800600" y="2341080"/>
            <a:ext cx="4154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  <a:ea typeface="Arial"/>
              </a:rPr>
              <a:t>Issac Newton first passed a beam of white light through a prism and saw it divide into colors, creating a spectrum of colors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 algn="ctr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03" name="Picture 3" descr=""/>
          <p:cNvPicPr/>
          <p:nvPr/>
        </p:nvPicPr>
        <p:blipFill>
          <a:blip r:embed="rId1"/>
          <a:stretch/>
        </p:blipFill>
        <p:spPr>
          <a:xfrm>
            <a:off x="4876920" y="438120"/>
            <a:ext cx="3962160" cy="12384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" descr=""/>
          <p:cNvPicPr/>
          <p:nvPr/>
        </p:nvPicPr>
        <p:blipFill>
          <a:blip r:embed="rId2"/>
          <a:stretch/>
        </p:blipFill>
        <p:spPr>
          <a:xfrm>
            <a:off x="546120" y="2590920"/>
            <a:ext cx="3949560" cy="213336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5"/>
          <p:cNvSpPr/>
          <p:nvPr/>
        </p:nvSpPr>
        <p:spPr>
          <a:xfrm>
            <a:off x="457200" y="5715000"/>
            <a:ext cx="5486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ee website </a:t>
            </a:r>
            <a:r>
              <a:rPr b="0" lang="en-GB" sz="2400" spc="-1" strike="noStrike" u="sng">
                <a:solidFill>
                  <a:srgbClr val="bc5fbc"/>
                </a:solidFill>
                <a:uFillTx/>
                <a:latin typeface="Arial"/>
                <a:ea typeface="MS Gothic"/>
                <a:hlinkClick r:id="rId3"/>
              </a:rPr>
              <a:t>http://webexhibits.org/colorart/bh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1182600" y="201744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68" name="Text Box 2"/>
          <p:cNvSpPr/>
          <p:nvPr/>
        </p:nvSpPr>
        <p:spPr>
          <a:xfrm>
            <a:off x="1371600" y="685800"/>
            <a:ext cx="731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ITTEN's CONTR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3"/>
          <p:cNvSpPr/>
          <p:nvPr/>
        </p:nvSpPr>
        <p:spPr>
          <a:xfrm>
            <a:off x="1143000" y="2286000"/>
            <a:ext cx="708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H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 Box 4"/>
          <p:cNvSpPr/>
          <p:nvPr/>
        </p:nvSpPr>
        <p:spPr>
          <a:xfrm>
            <a:off x="1143000" y="2743200"/>
            <a:ext cx="457200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utting 100% pure hues next to each other can create contr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The greater the distance between hues on the color wheel, the greater the contr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Hues must be the same percent. If you use 50% red, you must use 50% blue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1" name="Picture 5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6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1182600" y="201744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74" name="Text Box 2"/>
          <p:cNvSpPr/>
          <p:nvPr/>
        </p:nvSpPr>
        <p:spPr>
          <a:xfrm>
            <a:off x="1371600" y="685800"/>
            <a:ext cx="731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ITTEN's CONTR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 Box 3"/>
          <p:cNvSpPr/>
          <p:nvPr/>
        </p:nvSpPr>
        <p:spPr>
          <a:xfrm>
            <a:off x="1143000" y="2286000"/>
            <a:ext cx="708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Light and D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 Box 4"/>
          <p:cNvSpPr/>
          <p:nvPr/>
        </p:nvSpPr>
        <p:spPr>
          <a:xfrm>
            <a:off x="1143000" y="2743200"/>
            <a:ext cx="45720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Gothic"/>
              </a:rPr>
              <a:t>Dark colors come forward, light colors recede, or vice vers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Gothic"/>
              </a:rPr>
              <a:t>Works with both black and white and colo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Gothic"/>
              </a:rPr>
              <a:t>Most dramatic of all contras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7" name="Picture 5" descr=""/>
          <p:cNvPicPr/>
          <p:nvPr/>
        </p:nvPicPr>
        <p:blipFill>
          <a:blip r:embed="rId1"/>
          <a:stretch/>
        </p:blipFill>
        <p:spPr>
          <a:xfrm>
            <a:off x="5486400" y="2178000"/>
            <a:ext cx="297180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1182600" y="201744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79" name="Text Box 2"/>
          <p:cNvSpPr/>
          <p:nvPr/>
        </p:nvSpPr>
        <p:spPr>
          <a:xfrm>
            <a:off x="1371600" y="685800"/>
            <a:ext cx="731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ITTEN's CONTR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1143000" y="2286000"/>
            <a:ext cx="708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Warm and C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1143000" y="2743200"/>
            <a:ext cx="4572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MS Gothic"/>
              </a:rPr>
              <a:t>Contrasting Warm colors with Cool Col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2" name="Picture 5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1182600" y="201744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1371600" y="685800"/>
            <a:ext cx="731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ITTEN's CONTR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Text Box 3"/>
          <p:cNvSpPr/>
          <p:nvPr/>
        </p:nvSpPr>
        <p:spPr>
          <a:xfrm>
            <a:off x="1143000" y="2286000"/>
            <a:ext cx="708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COMPL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4"/>
          <p:cNvSpPr/>
          <p:nvPr/>
        </p:nvSpPr>
        <p:spPr>
          <a:xfrm>
            <a:off x="1143000" y="3103560"/>
            <a:ext cx="457200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ing colors that are opposite on the color whe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Once again, 100% hues contrast more than less percentage of hu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7" name="Picture 5" descr=""/>
          <p:cNvPicPr/>
          <p:nvPr/>
        </p:nvPicPr>
        <p:blipFill>
          <a:blip r:embed="rId1"/>
          <a:stretch/>
        </p:blipFill>
        <p:spPr>
          <a:xfrm>
            <a:off x="6400800" y="2057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6" descr=""/>
          <p:cNvPicPr/>
          <p:nvPr/>
        </p:nvPicPr>
        <p:blipFill>
          <a:blip r:embed="rId2"/>
          <a:stretch/>
        </p:blipFill>
        <p:spPr>
          <a:xfrm>
            <a:off x="6076800" y="4343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1182600" y="201744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90" name="Text Box 2"/>
          <p:cNvSpPr/>
          <p:nvPr/>
        </p:nvSpPr>
        <p:spPr>
          <a:xfrm>
            <a:off x="1371600" y="685800"/>
            <a:ext cx="731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ITTEN's CONTR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3"/>
          <p:cNvSpPr/>
          <p:nvPr/>
        </p:nvSpPr>
        <p:spPr>
          <a:xfrm>
            <a:off x="890640" y="2286000"/>
            <a:ext cx="708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ultaneous Contr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 Box 4"/>
          <p:cNvSpPr/>
          <p:nvPr/>
        </p:nvSpPr>
        <p:spPr>
          <a:xfrm>
            <a:off x="890640" y="3103560"/>
            <a:ext cx="4572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The simultaneous contrast is formed when the boundaries between colors perceptually vibrate. Some interesting illusions are accomplished with this contr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Using 100% of complimentary colors with gray will make this hap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Picture 5" descr=""/>
          <p:cNvPicPr/>
          <p:nvPr/>
        </p:nvPicPr>
        <p:blipFill>
          <a:blip r:embed="rId1"/>
          <a:stretch/>
        </p:blipFill>
        <p:spPr>
          <a:xfrm>
            <a:off x="5462640" y="31878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1182600" y="201744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95" name="Text Box 2"/>
          <p:cNvSpPr/>
          <p:nvPr/>
        </p:nvSpPr>
        <p:spPr>
          <a:xfrm>
            <a:off x="1371600" y="685800"/>
            <a:ext cx="731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ITTEN's CONTR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3"/>
          <p:cNvSpPr/>
          <p:nvPr/>
        </p:nvSpPr>
        <p:spPr>
          <a:xfrm>
            <a:off x="890640" y="2286000"/>
            <a:ext cx="708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890640" y="3103560"/>
            <a:ext cx="4572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MS Gothic"/>
              </a:rPr>
              <a:t>Contrast between colors that have more or less gray mixed with the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8" name="Picture 5" descr=""/>
          <p:cNvPicPr/>
          <p:nvPr/>
        </p:nvPicPr>
        <p:blipFill>
          <a:blip r:embed="rId1"/>
          <a:stretch/>
        </p:blipFill>
        <p:spPr>
          <a:xfrm>
            <a:off x="5462640" y="300816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1182600" y="201744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2000"/>
              </a:lnSpc>
              <a:spcBef>
                <a:spcPts val="2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00" name="Text Box 2"/>
          <p:cNvSpPr/>
          <p:nvPr/>
        </p:nvSpPr>
        <p:spPr>
          <a:xfrm>
            <a:off x="1371600" y="685800"/>
            <a:ext cx="7315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ITTEN's CONTR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890640" y="2286000"/>
            <a:ext cx="708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ntrast of PROPORTION or EX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 Box 4"/>
          <p:cNvSpPr/>
          <p:nvPr/>
        </p:nvSpPr>
        <p:spPr>
          <a:xfrm>
            <a:off x="312840" y="2867040"/>
            <a:ext cx="45720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ifferent amounts of one color than anoth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Example – a large area of light blue would contrast with a small area of bright 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Visual Weight of a color contributes to Contrast of Propor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3" name="Picture 5" descr=""/>
          <p:cNvPicPr/>
          <p:nvPr/>
        </p:nvPicPr>
        <p:blipFill>
          <a:blip r:embed="rId1"/>
          <a:stretch/>
        </p:blipFill>
        <p:spPr>
          <a:xfrm>
            <a:off x="4886280" y="2935440"/>
            <a:ext cx="3800520" cy="2571480"/>
          </a:xfrm>
          <a:prstGeom prst="rect">
            <a:avLst/>
          </a:prstGeom>
          <a:ln w="0">
            <a:noFill/>
          </a:ln>
        </p:spPr>
      </p:pic>
      <p:sp>
        <p:nvSpPr>
          <p:cNvPr id="1204" name="Text Box 6"/>
          <p:cNvSpPr/>
          <p:nvPr/>
        </p:nvSpPr>
        <p:spPr>
          <a:xfrm>
            <a:off x="4944960" y="5715000"/>
            <a:ext cx="3200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These are all equally distributed contra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5" name="AutoShape 7"/>
          <p:cNvCxnSpPr>
            <a:stCxn id="1204" idx="3"/>
          </p:cNvCxnSpPr>
          <p:nvPr/>
        </p:nvCxnSpPr>
        <p:spPr>
          <a:xfrm flipV="1">
            <a:off x="8145360" y="4220640"/>
            <a:ext cx="543600" cy="1867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356760"/>
            <a:ext cx="7791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Theory - Review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304560" y="1294920"/>
            <a:ext cx="77706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Color Plays an important roll in our design world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Light waves bouncing off or being absorbed by objects give them color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Traditional color wheel created by Isaac Newton, RED, YELLOW, BLUE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HSB – way of measuring color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Temperature of light is measured in KELVIN (K)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Munsell's – HVC – measures color using fractions.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HUE – 100% of a color. 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Primary Colors are RED, YELLOW &amp; BLUE -you can't mix anything to make them.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Secondary Colors are GREEN, ORANGE &amp; VIOLET. -mix primaries to make them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Tertiary Colors are made by mixing a primary with a secondary color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150560" y="356760"/>
            <a:ext cx="7791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Theory - Review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930240" y="1447920"/>
            <a:ext cx="777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Tint – Hue mixed with White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Shade – Hue mixed with Black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Tone – Hue mixed with Gray or a complimentary color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Additive Color – Red, Green, Blue mixed together makes white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Subtractive Color – Cyan, Magenta &amp; Yellow subtract white light.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Pantone System – Color swatches for ink that are not mixed – think paint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Color Separations – printing CMYK of a design so you can see the separate artwork.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Monochromatic – Any combination of tints, shades and tones of the same color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Analogous – three colors side by side on the color wheel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6080" indent="-22608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Complimentary – Colors opposite each other on the color wheel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150560" y="356760"/>
            <a:ext cx="7791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Theory - Review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895320" y="234108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Triadic – colors in triangle of each other on color wheel – Red, Yellow, Blue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Split Complimentary – one across color wheel, and 2 next to each other on the other side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Color Blindness – inability to see certain color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Vision Fatigue – viewing too bright of colors for too long causes other colors to look bad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Nature – look to nature for color harmony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warm colors – yellow to red-violet on color wheel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Rockwell"/>
              </a:rPr>
              <a:t>Cool colors – violet to yellow green on color wheel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What Color I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1007" name="Picture 2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3962160" cy="123804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3"/>
          <p:cNvSpPr/>
          <p:nvPr/>
        </p:nvSpPr>
        <p:spPr>
          <a:xfrm>
            <a:off x="423720" y="2297160"/>
            <a:ext cx="39196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339840" indent="-339840">
              <a:lnSpc>
                <a:spcPct val="94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Gothic"/>
              </a:rPr>
              <a:t>The colors of  the light wave spectrum ar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D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ORANGE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YELLOW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GREEN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LUE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VIO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9840" indent="-339840">
              <a:lnSpc>
                <a:spcPct val="94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MS Gothic"/>
              </a:rPr>
              <a:t>In physics, mixing the colors of the light wave together produces pure white ligh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9" name="Picture 4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69900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150560" y="356760"/>
            <a:ext cx="7791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Color Theory - Review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895320" y="2341080"/>
            <a:ext cx="777096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Itten's Color contrasts: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Contrast of HUE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Contrast of Light and Dark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Contrast of Warm and Cool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Contrast of Compliments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Simultaneous Contrast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Contrast of Saturation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Contrast of Proportion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Rockwell"/>
              </a:rPr>
              <a:t>see </a:t>
            </a:r>
            <a:r>
              <a:rPr b="0" lang="en-GB" sz="2200" spc="-1" strike="noStrike" u="sng">
                <a:solidFill>
                  <a:srgbClr val="bc5fbc"/>
                </a:solidFill>
                <a:uFillTx/>
                <a:latin typeface="Rockwell"/>
                <a:hlinkClick r:id="rId1"/>
              </a:rPr>
              <a:t>http://poynterextra.org/cp/colorproject/color.html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lor Meanings Video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atch this clever video about color, then go to the website to have some fun with colors!’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c5fbc"/>
                </a:solidFill>
                <a:uFillTx/>
                <a:latin typeface="Rockwell"/>
                <a:hlinkClick r:id="rId1"/>
              </a:rPr>
              <a:t>http://www.mariaclaudiacortes.com/colors/Colors.htm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8240" y="484200"/>
            <a:ext cx="674028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lor Temperatur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98600" y="1523880"/>
            <a:ext cx="3921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Light has a temperature.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Temp is measured in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KELVIN (K)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In LIGHT, reds &amp; yellows are cooler, blues and violets are hotter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(Think of a campfire)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1012" name="Picture 3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26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How the Eye Sees Colo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457200" y="2286000"/>
            <a:ext cx="4114800" cy="251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4764240" y="227340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1. All the" invisible" colors of sunlight shine on the app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2. The surface of a red apple absorbs all the colored light rays, except for those corresponding to red, and reflects this color to the human ey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3.The eye receives the reflected red light and sends a message to the bra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4"/>
          <p:cNvSpPr/>
          <p:nvPr/>
        </p:nvSpPr>
        <p:spPr>
          <a:xfrm>
            <a:off x="241200" y="5514840"/>
            <a:ext cx="48006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bc5fbc"/>
                </a:solidFill>
                <a:uFillTx/>
                <a:latin typeface="Arial"/>
                <a:ea typeface="MS Gothic"/>
                <a:hlinkClick r:id="rId2"/>
              </a:rPr>
              <a:t>http://www.colormatters.com/seecolor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How the Eye Sees Colo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1018" name="Picture 2" descr=""/>
          <p:cNvPicPr/>
          <p:nvPr/>
        </p:nvPicPr>
        <p:blipFill>
          <a:blip r:embed="rId1"/>
          <a:stretch/>
        </p:blipFill>
        <p:spPr>
          <a:xfrm>
            <a:off x="5402160" y="3462480"/>
            <a:ext cx="3257640" cy="159048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3"/>
          <p:cNvSpPr/>
          <p:nvPr/>
        </p:nvSpPr>
        <p:spPr>
          <a:xfrm>
            <a:off x="169920" y="2141640"/>
            <a:ext cx="631656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Color originates in l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nlight, as we perceive it, is colorl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In reality, a rainbow will show you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that all the colors of the spectr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are present in white l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Light goes from the source (the su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to the object (the apple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and finally to the detector (the eye and brai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3366"/>
                </a:solidFill>
                <a:latin typeface="Rockwell"/>
              </a:rPr>
              <a:t>What Color I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1021" name="Picture 2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3962160" cy="123804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3"/>
          <p:cNvSpPr/>
          <p:nvPr/>
        </p:nvSpPr>
        <p:spPr>
          <a:xfrm>
            <a:off x="460440" y="2333520"/>
            <a:ext cx="822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339840" indent="-339840">
              <a:lnSpc>
                <a:spcPct val="94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It is these light waves, bouncing off or being absorbed by objects around us, that give them color. Hence the theory, color is a property of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3" name="Picture 4" descr=""/>
          <p:cNvPicPr/>
          <p:nvPr/>
        </p:nvPicPr>
        <p:blipFill>
          <a:blip r:embed="rId2"/>
          <a:stretch/>
        </p:blipFill>
        <p:spPr>
          <a:xfrm>
            <a:off x="1685880" y="3843360"/>
            <a:ext cx="5592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09:50Z</dcterms:created>
  <dc:creator/>
  <dc:description/>
  <dc:language>en-US</dc:language>
  <cp:lastModifiedBy>Regina Gossett</cp:lastModifiedBy>
  <cp:lastPrinted>2012-12-03T14:52:25Z</cp:lastPrinted>
  <dcterms:modified xsi:type="dcterms:W3CDTF">2012-12-03T14:52:35Z</dcterms:modified>
  <cp:revision>4</cp:revision>
  <dc:subject/>
  <dc:title>Color Theory</dc:title>
</cp:coreProperties>
</file>