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9B1-BDB7-4F4F-82DB-64C3C596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DC1-37E8-4B92-AFF3-9E0A6F25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020-0D61-4108-9A3C-11933B94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D78-8968-4125-B0B0-BA864447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C2A6-F7B4-41BD-92E4-09DC1C44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F614-6FAE-4A4A-8844-E30EB933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28AA-E727-4784-B17F-8E082076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0FC9-F4B5-44B4-AA5A-63DB5B7E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CC1D-DBC0-4B1F-BC88-A99C856A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69CB-FBE6-48E5-A079-DF70EE70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C810-6480-45FE-9D17-34E35A48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983-14E3-4062-9B8D-056F6B5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0164-7712-473D-A1AC-3F3D3287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5C51-6CC5-4930-B7F1-6D27BAE2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CEB6-BD8D-4C37-9EE0-A2868391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075A-3666-482F-A5D8-879E33BE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954A-7B5D-42D1-9CD0-570E729F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024-207D-4BFD-B201-630DA9C1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DA1-4FB6-4284-9A74-CA3B6DB0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96D-BFED-4274-95B9-07D668B7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1A1-DA3D-4D8A-9C8A-D93AA6F2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C4B-DE27-4305-8C41-8F73F8AB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DB5-0B79-4A39-BFA4-A4387788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63F-5EA3-457A-9B7B-4FF61AAA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2520" y="25776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5480" y="42912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1800" y="149940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1800" y="400608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1800" y="275040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2520" y="525204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251E-BD93-4008-B9EF-38A81A285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prstGeom prst="pi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prstGeom prst="pi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prstGeom prst="pie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7B50-30C9-4AE6-9449-2E0C301D21E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even Phases of an Interview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how to succeed in all of them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Good outfit for more CASUAL work sett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4" descr="C:\Documents and Settings\frickard\My Documents\Lessons &amp; Assignments\Employment\thumbnail.jpeg"/>
          <p:cNvPicPr/>
          <p:nvPr/>
        </p:nvPicPr>
        <p:blipFill>
          <a:blip r:embed="rId1"/>
          <a:stretch/>
        </p:blipFill>
        <p:spPr>
          <a:xfrm>
            <a:off x="2057400" y="2666880"/>
            <a:ext cx="1384200" cy="2667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:\Documents and Settings\frickard\My Documents\Lessons &amp; Assignments\Employment\business_cas_wom.jpeg"/>
          <p:cNvPicPr/>
          <p:nvPr/>
        </p:nvPicPr>
        <p:blipFill>
          <a:blip r:embed="rId2"/>
          <a:stretch/>
        </p:blipFill>
        <p:spPr>
          <a:xfrm>
            <a:off x="5257800" y="2590920"/>
            <a:ext cx="18921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HASE 1 - Before you go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esearch your Employ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organiz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interview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posi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HASE 1- Before you go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things that impr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t there ear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polite and friendly to the RECEPTION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worry if interviewer is late - after 20 minutes ask to reschedu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 does the employer Expect?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st Impress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sonal Appearance and Groom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ner and Social Skil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per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u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rtfolio - DIGITAL is bes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 does the employer expect?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2437920"/>
            <a:ext cx="75769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pendability &amp; other Personality Trai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 you come in on tim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you be truste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 you get things done on deadlin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 you get along well with other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you hard work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 does the employer expect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kills, Experience and Trai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 you have enough experience to do the job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 you have needed education and train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ests and hobbies related to the job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ther life experiences related to the job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cord of Achievement in school, work, activi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ility to do the job if given the chance?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SEVEN PHAS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HASE 1 - Before you go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essing and Groom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JEA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CONSERVA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TENTION TO DETAI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ERVATIVE JEWELRY &amp; COLOG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ICK OUT CLOTHING AHEAD OF 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K FOR ADVICE FROM FAMILY &amp; FRIE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 NOT to wea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24160" y="1946160"/>
            <a:ext cx="535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Pierc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Tatto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tight fitting clothing or trendy cloth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ir should be conserva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7" descr="C:\Documents and Settings\frickard\My Documents\Lessons &amp; Assignments\Employment\pierce.bmp"/>
          <p:cNvPicPr/>
          <p:nvPr/>
        </p:nvPicPr>
        <p:blipFill>
          <a:blip r:embed="rId1"/>
          <a:stretch/>
        </p:blipFill>
        <p:spPr>
          <a:xfrm>
            <a:off x="3581280" y="1752480"/>
            <a:ext cx="1733760" cy="1733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C:\Documents and Settings\frickard\My Documents\Lessons &amp; Assignments\Employment\ioanna_hershberger.jpeg"/>
          <p:cNvPicPr/>
          <p:nvPr/>
        </p:nvPicPr>
        <p:blipFill>
          <a:blip r:embed="rId2"/>
          <a:stretch/>
        </p:blipFill>
        <p:spPr>
          <a:xfrm>
            <a:off x="6705720" y="2133720"/>
            <a:ext cx="171432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Documents and Settings\frickard\My Documents\Lessons &amp; Assignments\Employment\corporate-punk-back.jpeg"/>
          <p:cNvPicPr/>
          <p:nvPr/>
        </p:nvPicPr>
        <p:blipFill>
          <a:blip r:embed="rId3"/>
          <a:stretch/>
        </p:blipFill>
        <p:spPr>
          <a:xfrm>
            <a:off x="3657600" y="5029200"/>
            <a:ext cx="122076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62280" y="762120"/>
            <a:ext cx="2557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’s Wrong with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is outfit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1" name="Picture 4" descr="C:\Documents and Settings\frickard\My Documents\Lessons &amp; Assignments\Employment\Interview.jpg"/>
          <p:cNvPicPr/>
          <p:nvPr/>
        </p:nvPicPr>
        <p:blipFill>
          <a:blip r:embed="rId1"/>
          <a:stretch/>
        </p:blipFill>
        <p:spPr>
          <a:xfrm>
            <a:off x="4038480" y="685800"/>
            <a:ext cx="417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GOOD outfits for FORMAL interview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3" name="Picture 5" descr="C:\Documents and Settings\frickard\My Documents\Lessons &amp; Assignments\Employment\skirt.bmp"/>
          <p:cNvPicPr/>
          <p:nvPr/>
        </p:nvPicPr>
        <p:blipFill>
          <a:blip r:embed="rId1"/>
          <a:stretch/>
        </p:blipFill>
        <p:spPr>
          <a:xfrm>
            <a:off x="2209680" y="1371600"/>
            <a:ext cx="1497240" cy="5210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Documents and Settings\frickard\My Documents\Lessons &amp; Assignments\Employment\men1.bmp"/>
          <p:cNvPicPr/>
          <p:nvPr/>
        </p:nvPicPr>
        <p:blipFill>
          <a:blip r:embed="rId2"/>
          <a:stretch/>
        </p:blipFill>
        <p:spPr>
          <a:xfrm>
            <a:off x="6172200" y="2209680"/>
            <a:ext cx="176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3:01:10Z</dcterms:created>
  <dc:creator>Felicia Rickard</dc:creator>
  <dc:description/>
  <dc:language>en-US</dc:language>
  <cp:lastModifiedBy>Regina Gossett</cp:lastModifiedBy>
  <dcterms:modified xsi:type="dcterms:W3CDTF">2012-12-03T14:36:53Z</dcterms:modified>
  <cp:revision>2</cp:revision>
  <dc:subject/>
  <dc:title>Seven Phases of an Interview</dc:title>
</cp:coreProperties>
</file>