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wmf" ContentType="image/x-wmf"/>
  <Override PartName="/ppt/media/image2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media/image5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6360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1CBC73-8A97-41FB-8B07-F8FC5498D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195F4E-1C0C-4B31-B65F-70CA07710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8001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8001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" name="Rectangle 42"/>
          <p:cNvSpPr/>
          <p:nvPr/>
        </p:nvSpPr>
        <p:spPr>
          <a:xfrm>
            <a:off x="1232280" y="6171840"/>
            <a:ext cx="65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  <a:ea typeface="Times New Roman"/>
              </a:rPr>
              <a:t>© Family Economics &amp; Financial Education – January 2006 – Get Ready to Take Charge of Your Finances – Decision Making Ma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  <a:ea typeface="Times New Roman"/>
              </a:rPr>
              <a:t>Funded by a grant from Take Charge America, Inc. to the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3" descr="TCAlogo 2x1"/>
          <p:cNvPicPr/>
          <p:nvPr/>
        </p:nvPicPr>
        <p:blipFill>
          <a:blip r:embed="rId2">
            <a:grayscl/>
          </a:blip>
          <a:stretch/>
        </p:blipFill>
        <p:spPr>
          <a:xfrm>
            <a:off x="1066680" y="6324480"/>
            <a:ext cx="571680" cy="2415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4" descr="bw icon "/>
          <p:cNvPicPr/>
          <p:nvPr/>
        </p:nvPicPr>
        <p:blipFill>
          <a:blip r:embed="rId3"/>
          <a:stretch/>
        </p:blipFill>
        <p:spPr>
          <a:xfrm>
            <a:off x="7635960" y="6172200"/>
            <a:ext cx="288720" cy="45720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4"/>
          <p:cNvGrpSpPr/>
          <p:nvPr/>
        </p:nvGrpSpPr>
        <p:grpSpPr>
          <a:xfrm>
            <a:off x="0" y="0"/>
            <a:ext cx="2819520" cy="2971800"/>
            <a:chOff x="0" y="0"/>
            <a:chExt cx="2819520" cy="2971800"/>
          </a:xfrm>
        </p:grpSpPr>
        <p:sp>
          <p:nvSpPr>
            <p:cNvPr id="6" name="Text Box 45"/>
            <p:cNvSpPr/>
            <p:nvPr/>
          </p:nvSpPr>
          <p:spPr>
            <a:xfrm>
              <a:off x="0" y="0"/>
              <a:ext cx="2819520" cy="2971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Picture 41" descr="so00049_"/>
            <p:cNvPicPr/>
            <p:nvPr/>
          </p:nvPicPr>
          <p:blipFill>
            <a:blip r:embed="rId5"/>
            <a:stretch/>
          </p:blipFill>
          <p:spPr>
            <a:xfrm>
              <a:off x="457200" y="152280"/>
              <a:ext cx="12952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Freeform 47"/>
            <p:cNvSpPr/>
            <p:nvPr/>
          </p:nvSpPr>
          <p:spPr>
            <a:xfrm>
              <a:off x="380880" y="457200"/>
              <a:ext cx="263520" cy="258840"/>
            </a:xfrm>
            <a:prstGeom prst="pie">
              <a:avLst/>
            </a:prstGeom>
            <a:solidFill>
              <a:srgbClr val="d8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49"/>
            <p:cNvSpPr/>
            <p:nvPr/>
          </p:nvSpPr>
          <p:spPr>
            <a:xfrm>
              <a:off x="685800" y="0"/>
              <a:ext cx="168120" cy="166680"/>
            </a:xfrm>
            <a:prstGeom prst="pie">
              <a:avLst/>
            </a:prstGeom>
            <a:solidFill>
              <a:srgbClr val="d8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50"/>
            <p:cNvSpPr/>
            <p:nvPr/>
          </p:nvSpPr>
          <p:spPr>
            <a:xfrm>
              <a:off x="152280" y="914400"/>
              <a:ext cx="168480" cy="166680"/>
            </a:xfrm>
            <a:prstGeom prst="pie">
              <a:avLst/>
            </a:prstGeom>
            <a:solidFill>
              <a:srgbClr val="d8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51"/>
            <p:cNvSpPr/>
            <p:nvPr/>
          </p:nvSpPr>
          <p:spPr>
            <a:xfrm>
              <a:off x="152280" y="152280"/>
              <a:ext cx="168480" cy="166680"/>
            </a:xfrm>
            <a:prstGeom prst="pie">
              <a:avLst/>
            </a:prstGeom>
            <a:solidFill>
              <a:srgbClr val="d8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52"/>
          <p:cNvSpPr/>
          <p:nvPr/>
        </p:nvSpPr>
        <p:spPr>
          <a:xfrm>
            <a:off x="1752480" y="1523880"/>
            <a:ext cx="6553440" cy="0"/>
          </a:xfrm>
          <a:prstGeom prst="line">
            <a:avLst/>
          </a:prstGeom>
          <a:ln w="38160">
            <a:solidFill>
              <a:srgbClr val="4f3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53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38160">
            <a:solidFill>
              <a:srgbClr val="4f3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55"/>
          <p:cNvSpPr/>
          <p:nvPr/>
        </p:nvSpPr>
        <p:spPr>
          <a:xfrm>
            <a:off x="8001000" y="13644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2.5.1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56" descr="TCAI BW logo"/>
          <p:cNvPicPr/>
          <p:nvPr/>
        </p:nvPicPr>
        <p:blipFill>
          <a:blip r:embed="rId6"/>
          <a:stretch/>
        </p:blipFill>
        <p:spPr>
          <a:xfrm>
            <a:off x="1628640" y="6299280"/>
            <a:ext cx="293760" cy="3301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57" descr="UA logo"/>
          <p:cNvPicPr/>
          <p:nvPr/>
        </p:nvPicPr>
        <p:blipFill>
          <a:blip r:embed="rId7"/>
          <a:stretch/>
        </p:blipFill>
        <p:spPr>
          <a:xfrm>
            <a:off x="7115040" y="6343560"/>
            <a:ext cx="479520" cy="20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0" y="2362320"/>
            <a:ext cx="5257800" cy="4495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so00049_"/>
          <p:cNvPicPr/>
          <p:nvPr/>
        </p:nvPicPr>
        <p:blipFill>
          <a:blip r:embed="rId3"/>
          <a:stretch/>
        </p:blipFill>
        <p:spPr>
          <a:xfrm>
            <a:off x="609480" y="2590920"/>
            <a:ext cx="289260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Decision Making Magic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685800" y="1676520"/>
            <a:ext cx="7924680" cy="0"/>
          </a:xfrm>
          <a:prstGeom prst="line">
            <a:avLst/>
          </a:prstGeom>
          <a:ln w="38160">
            <a:solidFill>
              <a:srgbClr val="4f3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35"/>
          <p:cNvSpPr/>
          <p:nvPr/>
        </p:nvSpPr>
        <p:spPr>
          <a:xfrm>
            <a:off x="152280" y="5257800"/>
            <a:ext cx="168480" cy="166680"/>
          </a:xfrm>
          <a:prstGeom prst="pie">
            <a:avLst/>
          </a:prstGeom>
          <a:solidFill>
            <a:srgbClr val="d8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36"/>
          <p:cNvSpPr/>
          <p:nvPr/>
        </p:nvSpPr>
        <p:spPr>
          <a:xfrm>
            <a:off x="2133720" y="5867280"/>
            <a:ext cx="263520" cy="258840"/>
          </a:xfrm>
          <a:prstGeom prst="pie">
            <a:avLst/>
          </a:prstGeom>
          <a:solidFill>
            <a:srgbClr val="d8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37"/>
          <p:cNvSpPr/>
          <p:nvPr/>
        </p:nvSpPr>
        <p:spPr>
          <a:xfrm>
            <a:off x="152280" y="6019920"/>
            <a:ext cx="328680" cy="325440"/>
          </a:xfrm>
          <a:prstGeom prst="pie">
            <a:avLst/>
          </a:prstGeom>
          <a:solidFill>
            <a:srgbClr val="d8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38"/>
          <p:cNvSpPr/>
          <p:nvPr/>
        </p:nvSpPr>
        <p:spPr>
          <a:xfrm>
            <a:off x="762120" y="6477120"/>
            <a:ext cx="168120" cy="166680"/>
          </a:xfrm>
          <a:prstGeom prst="pie">
            <a:avLst/>
          </a:prstGeom>
          <a:solidFill>
            <a:srgbClr val="d8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39"/>
          <p:cNvSpPr/>
          <p:nvPr/>
        </p:nvSpPr>
        <p:spPr>
          <a:xfrm>
            <a:off x="609480" y="990720"/>
            <a:ext cx="487440" cy="461880"/>
          </a:xfrm>
          <a:prstGeom prst="pie">
            <a:avLst/>
          </a:prstGeom>
          <a:solidFill>
            <a:srgbClr val="4f3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40"/>
          <p:cNvSpPr/>
          <p:nvPr/>
        </p:nvSpPr>
        <p:spPr>
          <a:xfrm>
            <a:off x="8153280" y="990720"/>
            <a:ext cx="487440" cy="461880"/>
          </a:xfrm>
          <a:prstGeom prst="pie">
            <a:avLst/>
          </a:prstGeom>
          <a:solidFill>
            <a:srgbClr val="4f3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238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Benefits of Goo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     Decision Making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en decision making skills improve, quality of life is enhanced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Making better choices to your decisions results in better use of time, money and other resource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87" name="Picture 5" descr="MCj03910120000[1]"/>
          <p:cNvPicPr/>
          <p:nvPr/>
        </p:nvPicPr>
        <p:blipFill>
          <a:blip r:embed="rId1"/>
          <a:stretch/>
        </p:blipFill>
        <p:spPr>
          <a:xfrm>
            <a:off x="1676520" y="3962520"/>
            <a:ext cx="1239840" cy="1828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MCj03910020000[1]"/>
          <p:cNvPicPr/>
          <p:nvPr/>
        </p:nvPicPr>
        <p:blipFill>
          <a:blip r:embed="rId2"/>
          <a:stretch/>
        </p:blipFill>
        <p:spPr>
          <a:xfrm>
            <a:off x="5410080" y="4038480"/>
            <a:ext cx="13096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are fundamental beliefs or practices about what is desirable, worthwhile, and importan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eople have different values that influence the decisions they mak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decision-making process can be used to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dentify personal values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evelop the best solution to a problem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ecision- a choice that will affect a person’s lif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Routine- everyday, simple decisions that can become habi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ajor- big, complex decisions that should be thought out carefull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ecision Making Proces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What are the steps?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member… making good decisions enhances quality of lif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93" name="Picture 8" descr="MCj03388140000[1]"/>
          <p:cNvPicPr/>
          <p:nvPr/>
        </p:nvPicPr>
        <p:blipFill>
          <a:blip r:embed="rId1"/>
          <a:stretch/>
        </p:blipFill>
        <p:spPr>
          <a:xfrm>
            <a:off x="5638680" y="3657600"/>
            <a:ext cx="12574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 choice that is made about things that affect a person’s lif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re are two types of decision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Majo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What is a Decision?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11" name="Picture 10" descr="MCj03541540000[1]"/>
          <p:cNvPicPr/>
          <p:nvPr/>
        </p:nvPicPr>
        <p:blipFill>
          <a:blip r:embed="rId1"/>
          <a:stretch/>
        </p:blipFill>
        <p:spPr>
          <a:xfrm>
            <a:off x="6019920" y="3427560"/>
            <a:ext cx="2587680" cy="25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Routine Decision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re made on a day-to-day basi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on’t require a lot of time to think through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y can even become a habit in daily life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r example, deciding…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Centaur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What to wear in the morning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Centaur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What to pack for lunch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Centaur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Where to sit on the school bu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14" name="Picture 4" descr="MCj04042630000[1]"/>
          <p:cNvPicPr/>
          <p:nvPr/>
        </p:nvPicPr>
        <p:blipFill>
          <a:blip r:embed="rId1"/>
          <a:stretch/>
        </p:blipFill>
        <p:spPr>
          <a:xfrm>
            <a:off x="6095880" y="3886200"/>
            <a:ext cx="1828800" cy="168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Major Decision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ave long-term effects on a person’s lif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hould be made very carefully and with a lot of though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r example, deciding…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What type of car to bu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o attend colleg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grpSp>
        <p:nvGrpSpPr>
          <p:cNvPr id="117" name="Group 6"/>
          <p:cNvGrpSpPr/>
          <p:nvPr/>
        </p:nvGrpSpPr>
        <p:grpSpPr>
          <a:xfrm>
            <a:off x="5181480" y="3429000"/>
            <a:ext cx="2895480" cy="2090520"/>
            <a:chOff x="5181480" y="3429000"/>
            <a:chExt cx="2895480" cy="2090520"/>
          </a:xfrm>
        </p:grpSpPr>
        <p:sp>
          <p:nvSpPr>
            <p:cNvPr id="118" name="AutoShape 5"/>
            <p:cNvSpPr/>
            <p:nvPr/>
          </p:nvSpPr>
          <p:spPr>
            <a:xfrm>
              <a:off x="5181480" y="3429000"/>
              <a:ext cx="2895480" cy="20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376240" y="3462840"/>
              <a:ext cx="2611080" cy="202248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7137000" y="4802040"/>
              <a:ext cx="266760" cy="28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231600" y="4982760"/>
              <a:ext cx="268560" cy="27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766480" y="4008960"/>
              <a:ext cx="1922040" cy="113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807520" y="3940920"/>
              <a:ext cx="1836000" cy="113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5657400" y="4889520"/>
              <a:ext cx="234000" cy="22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6052680" y="4599360"/>
              <a:ext cx="1585440" cy="42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285240" y="4077000"/>
              <a:ext cx="300600" cy="38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6457320" y="4077000"/>
              <a:ext cx="12852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6564600" y="4055400"/>
              <a:ext cx="470520" cy="32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6564600" y="4069800"/>
              <a:ext cx="119880" cy="31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6541200" y="4472280"/>
              <a:ext cx="71280" cy="34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9"/>
            <p:cNvSpPr/>
            <p:nvPr/>
          </p:nvSpPr>
          <p:spPr>
            <a:xfrm>
              <a:off x="6618600" y="4440240"/>
              <a:ext cx="139320" cy="6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142320" y="4889520"/>
              <a:ext cx="306000" cy="33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1"/>
            <p:cNvSpPr/>
            <p:nvPr/>
          </p:nvSpPr>
          <p:spPr>
            <a:xfrm>
              <a:off x="6140520" y="4970160"/>
              <a:ext cx="60840" cy="15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6256800" y="5013000"/>
              <a:ext cx="87480" cy="9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3"/>
            <p:cNvSpPr/>
            <p:nvPr/>
          </p:nvSpPr>
          <p:spPr>
            <a:xfrm>
              <a:off x="7033680" y="4703400"/>
              <a:ext cx="307440" cy="33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7031520" y="4782240"/>
              <a:ext cx="62640" cy="15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5"/>
            <p:cNvSpPr/>
            <p:nvPr/>
          </p:nvSpPr>
          <p:spPr>
            <a:xfrm>
              <a:off x="7148160" y="4825080"/>
              <a:ext cx="87480" cy="9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7300440" y="4304520"/>
              <a:ext cx="309600" cy="27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7"/>
            <p:cNvSpPr/>
            <p:nvPr/>
          </p:nvSpPr>
          <p:spPr>
            <a:xfrm>
              <a:off x="5922000" y="4426200"/>
              <a:ext cx="135720" cy="13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6076080" y="4619520"/>
              <a:ext cx="15516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9"/>
            <p:cNvSpPr/>
            <p:nvPr/>
          </p:nvSpPr>
          <p:spPr>
            <a:xfrm>
              <a:off x="6296040" y="4672800"/>
              <a:ext cx="191520" cy="6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6668280" y="4620960"/>
              <a:ext cx="17712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1"/>
            <p:cNvSpPr/>
            <p:nvPr/>
          </p:nvSpPr>
          <p:spPr>
            <a:xfrm>
              <a:off x="6874200" y="4506480"/>
              <a:ext cx="151920" cy="14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7046280" y="4384800"/>
              <a:ext cx="144720" cy="14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3"/>
            <p:cNvSpPr/>
            <p:nvPr/>
          </p:nvSpPr>
          <p:spPr>
            <a:xfrm>
              <a:off x="7361280" y="3789000"/>
              <a:ext cx="187560" cy="16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7330680" y="3886920"/>
              <a:ext cx="135720" cy="13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5250960" y="4501080"/>
              <a:ext cx="192960" cy="1411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5181480" y="4674960"/>
              <a:ext cx="92880" cy="185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5181480" y="4930560"/>
              <a:ext cx="60840" cy="183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5514120" y="4411440"/>
              <a:ext cx="158760" cy="10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5741280" y="4401000"/>
              <a:ext cx="153720" cy="6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0"/>
            <p:cNvSpPr/>
            <p:nvPr/>
          </p:nvSpPr>
          <p:spPr>
            <a:xfrm>
              <a:off x="5655240" y="4907520"/>
              <a:ext cx="230760" cy="205560"/>
            </a:xfrm>
            <a:prstGeom prst="pie">
              <a:avLst/>
            </a:prstGeom>
            <a:solidFill>
              <a:srgbClr val="4f3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1"/>
            <p:cNvSpPr/>
            <p:nvPr/>
          </p:nvSpPr>
          <p:spPr>
            <a:xfrm>
              <a:off x="7164360" y="4037760"/>
              <a:ext cx="167760" cy="18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2"/>
            <p:cNvSpPr/>
            <p:nvPr/>
          </p:nvSpPr>
          <p:spPr>
            <a:xfrm>
              <a:off x="7708320" y="4161240"/>
              <a:ext cx="237960" cy="1519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3"/>
            <p:cNvSpPr/>
            <p:nvPr/>
          </p:nvSpPr>
          <p:spPr>
            <a:xfrm>
              <a:off x="7643520" y="3933720"/>
              <a:ext cx="227160" cy="2412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4"/>
            <p:cNvSpPr/>
            <p:nvPr/>
          </p:nvSpPr>
          <p:spPr>
            <a:xfrm>
              <a:off x="7769160" y="4440240"/>
              <a:ext cx="261360" cy="7848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5"/>
            <p:cNvSpPr/>
            <p:nvPr/>
          </p:nvSpPr>
          <p:spPr>
            <a:xfrm>
              <a:off x="7799400" y="4678200"/>
              <a:ext cx="243360" cy="15948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6"/>
            <p:cNvSpPr/>
            <p:nvPr/>
          </p:nvSpPr>
          <p:spPr>
            <a:xfrm>
              <a:off x="7704360" y="4835520"/>
              <a:ext cx="189720" cy="211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7"/>
            <p:cNvSpPr/>
            <p:nvPr/>
          </p:nvSpPr>
          <p:spPr>
            <a:xfrm>
              <a:off x="7497000" y="4923360"/>
              <a:ext cx="128520" cy="211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8"/>
            <p:cNvSpPr/>
            <p:nvPr/>
          </p:nvSpPr>
          <p:spPr>
            <a:xfrm>
              <a:off x="7642080" y="4026600"/>
              <a:ext cx="123120" cy="14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9"/>
            <p:cNvSpPr/>
            <p:nvPr/>
          </p:nvSpPr>
          <p:spPr>
            <a:xfrm>
              <a:off x="7708320" y="4223520"/>
              <a:ext cx="110880" cy="9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0"/>
            <p:cNvSpPr/>
            <p:nvPr/>
          </p:nvSpPr>
          <p:spPr>
            <a:xfrm>
              <a:off x="7761600" y="4449240"/>
              <a:ext cx="12528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1"/>
            <p:cNvSpPr/>
            <p:nvPr/>
          </p:nvSpPr>
          <p:spPr>
            <a:xfrm>
              <a:off x="7797960" y="4672800"/>
              <a:ext cx="16992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2"/>
            <p:cNvSpPr/>
            <p:nvPr/>
          </p:nvSpPr>
          <p:spPr>
            <a:xfrm>
              <a:off x="7702920" y="4834080"/>
              <a:ext cx="123120" cy="11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3"/>
            <p:cNvSpPr/>
            <p:nvPr/>
          </p:nvSpPr>
          <p:spPr>
            <a:xfrm>
              <a:off x="7497000" y="4920120"/>
              <a:ext cx="87480" cy="11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Financial Decision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 type of major decisio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mpacts an individual’s or family’s well-being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Well-being is the state of being happy, healthy, and prosperou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r example…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Saving for a family vacatio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Spending money wisel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urchasing new item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68" name="Picture 5" descr="j0199399"/>
          <p:cNvPicPr/>
          <p:nvPr/>
        </p:nvPicPr>
        <p:blipFill>
          <a:blip r:embed="rId1"/>
          <a:stretch/>
        </p:blipFill>
        <p:spPr>
          <a:xfrm>
            <a:off x="5867280" y="3809880"/>
            <a:ext cx="188604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Decision Mak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    Process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t guides individuals to think through all components of making a good decisio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1. Identify the problem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2. List alternativ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3. Decid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4. Evaluate the Result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5105520" y="3276720"/>
            <a:ext cx="2666520" cy="2293560"/>
            <a:chOff x="5105520" y="3276720"/>
            <a:chExt cx="2666520" cy="2293560"/>
          </a:xfrm>
        </p:grpSpPr>
        <p:sp>
          <p:nvSpPr>
            <p:cNvPr id="172" name="AutoShape 6"/>
            <p:cNvSpPr/>
            <p:nvPr/>
          </p:nvSpPr>
          <p:spPr>
            <a:xfrm>
              <a:off x="5105520" y="3276720"/>
              <a:ext cx="2666520" cy="22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6472800" y="4266360"/>
              <a:ext cx="1298880" cy="1303920"/>
            </a:xfrm>
            <a:prstGeom prst="pi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"/>
            <p:cNvSpPr/>
            <p:nvPr/>
          </p:nvSpPr>
          <p:spPr>
            <a:xfrm>
              <a:off x="5117760" y="3276720"/>
              <a:ext cx="2139480" cy="1335600"/>
            </a:xfrm>
            <a:prstGeom prst="pi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6073560" y="3377520"/>
              <a:ext cx="468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dentify the Problem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Know the problem or question before searching for an answe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au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List Alternative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Brainstorm pros and cons for all of the possible choic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657600" y="3352680"/>
            <a:ext cx="1219320" cy="990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333399"/>
              </a:gs>
              <a:gs pos="100000">
                <a:srgbClr val="4f30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Steps Continued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au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ecid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ake the best choice after thinking about all of the consequenc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aur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valuate the result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entaur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is will help in making better decisions in the futur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3657600" y="3352680"/>
            <a:ext cx="1219320" cy="990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333399"/>
              </a:gs>
              <a:gs pos="100000">
                <a:srgbClr val="4f30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So Many Choices!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re are many different options to chose when making a decision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very option has a different consequenc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84" name="Picture 5" descr="MCj02344670000[1]"/>
          <p:cNvPicPr/>
          <p:nvPr/>
        </p:nvPicPr>
        <p:blipFill>
          <a:blip r:embed="rId1"/>
          <a:stretch/>
        </p:blipFill>
        <p:spPr>
          <a:xfrm>
            <a:off x="3200400" y="2895480"/>
            <a:ext cx="22446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7:29:20Z</dcterms:created>
  <dc:creator>lindys</dc:creator>
  <dc:description/>
  <dc:language>en-US</dc:language>
  <cp:lastModifiedBy>profileuser</cp:lastModifiedBy>
  <dcterms:modified xsi:type="dcterms:W3CDTF">2011-01-19T19:49:18Z</dcterms:modified>
  <cp:revision>57</cp:revision>
  <dc:subject/>
  <dc:title>Slide 1</dc:title>
</cp:coreProperties>
</file>