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221A-D52E-4B83-9398-9643B49C1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73EE-BDE0-4D0F-AB0D-4002A34B7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0CA-5E4C-4934-89A8-D1668BF5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97E-00A3-42A9-B953-72839875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F0F3B1-B5AF-4A06-B810-A2AF1A2B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61AA9-950E-4718-815B-50AAB950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E6516-D28E-48BE-9F7D-A7002FD5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1B9E1-93D4-42FC-BDA6-FD12C010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C15D5-F6DA-46FD-82DB-EFA4F919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B3812-EA9E-4DC3-9B9C-7C1939C2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19BF6-D8FE-4F4E-989E-1EBDB244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C0CFE-C9AE-45C0-9199-48B25A63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EDA85-511F-4DD6-A479-5590E192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4905D-82EA-4BF7-AF65-C9A69960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910D-77FF-4792-9030-CF3D02A6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24DC2A-0C0D-40C3-85EF-24202692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EF76F-5625-4373-B2A6-75B9B071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FDE75-48F4-4864-BF5E-E82D9208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E1D0C5-2704-43C3-8098-5696B031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4C277-81B5-4796-8C4D-0EEA100C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BC9DFD-8D62-4999-83B0-4FBA8BEA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33835-B77B-4812-8384-9F531A77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37957-3C24-40FC-A57B-BD6CCC68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1A84F-C285-470A-A2FA-F2A1ABCA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73909-8A32-4849-9762-FEB5262D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81F6-9DB5-4FA4-83D2-E10101A3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233325-B96D-499B-80BA-394A0F3B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20622-0E6E-4BDF-890C-5F54F5CB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42D58-9D0B-4435-B02D-8177595E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4BC22-DEEA-410E-93D6-2984A7D2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2840E-AC57-4D85-8E6D-2936393C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54AD0-736B-4E48-9735-1713068D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87455-B7C9-417A-94A3-AE800A90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19F60-67CD-4C4B-ACD2-7C482301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3FCE1-5FCA-4E35-9340-E05C81A2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6FEDE-C9C7-4E73-8CF7-74D553BA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CBC8-BA4F-47EC-AC01-77E66B4D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FC8DA-9489-4FC1-8E10-CE5A1E55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12CC5-8299-4484-88F4-8A990D91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B2054-0687-4B14-8107-ED028879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24ABD-7B3F-4553-A264-540D50E6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85AF3-64CD-4B24-9B7C-F8513CC2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5187C-3B8C-4029-9F53-36880C74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DF9CE7-CEB5-453A-8293-725594DB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8D16A-8094-433D-A897-9F5A85E7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240F8-D7F3-42AA-84AA-F91A85D0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A41DE-0313-4B3A-AC93-A31553F2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EB58-55AC-45DA-A213-FE929C98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5164A4-750B-43EF-880E-8CF344FF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8B76D-D4CE-41CF-BB9B-0E399C43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5BA3D6-BACC-4965-A1FC-B934C451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6623D-49D3-4260-919B-B64B767E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E39223-50A6-4C94-A76A-61BAB01F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9450-9152-4C28-8CC6-18FB763F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63E1-436E-407D-BDC3-338EDCAC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C864-324B-4B81-8957-3328DBEA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C6E3-3088-4DE8-93E4-5F49A89C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7ADF-7EEF-4C42-A0B8-E4166018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915-3F14-4881-97FF-15E4D2FA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4602-4C79-4712-A604-F60D161F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2305-5B30-4CA8-9E23-28A45D4B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7F9D-0575-47FD-879A-483500E2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A3B7-CD7B-4326-AD0B-D300E8C6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429F-19A4-4046-8BC3-011084E6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16898-2380-4934-82AD-332A8005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66C3B-A1D4-4C83-B524-2BE77884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F6DFB-B471-4159-AF20-C380CCEF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2BAB9-F50D-4B7D-A6B4-B12302E3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5DC75-0BBD-407F-86CF-12635382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E1F-BA02-4F60-A2D8-E15036F9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00F23-7EE9-4A24-8733-A7E36796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718FC-5CD6-4519-B87A-D71FA8DC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033FA-8380-46E7-8B32-99DF4831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D0CDA-583C-4A56-8991-A8BB8143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F9546-7D53-4218-A683-CA42EC60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C9E2E-7A41-4978-82E9-6069C59C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E96CD-0FF0-4421-A394-B145CD69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489E6-240C-4D2F-B657-D83D997A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B7BD3-1D68-44B8-947F-77108E61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EB894-2E2E-49B6-BE05-11EC5055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C97-A724-4B92-A962-721778EA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715FE-05A7-481A-97B9-C814B1ED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FCC54-60BF-484B-B5BA-CF812A88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61CC0-018C-4F98-A553-5490A793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B2C67-8793-43CC-B258-7D758099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1A9DA-615F-48DE-9C67-26B833E3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E6F1B-6336-4507-B543-2CDE44C1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4FE33-F2DC-4859-8F0A-5FFF6E3B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016EE-FA3F-404A-BD7C-FD9EFA7C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8C9E7-D4A2-4315-8FA3-C196A7E3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151CF-7E2A-4D55-AE33-081EC84D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3C06-2A39-4878-8AEE-415F0155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43A73-1B5F-4350-94B0-CE4E30C6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7458B-F24A-447F-B2C4-D9B45767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32B77-14F2-4473-ACF0-6E010839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81E5C-2948-4F67-8299-BB7421F9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387B4-F97B-4178-B78C-D8D5DB54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9EA59-24FC-44FA-B1B3-33500239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89419-5F3F-497B-BDC5-8255A208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943BA-0684-4D3E-AA23-59ACDD34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335E0-851B-4BC7-8F4E-728255A2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AEFEA-A8C0-4EE4-B57C-161FC39D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AC85-77F0-4589-B337-22D1BB64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2F6A6-138E-4A13-B291-0E26E7CF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ED560-D668-460F-966E-1BFDBA29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192A0-86CB-4BFB-B4FB-12A63C25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78A06-F2CF-4AA3-B7A9-4CBF85EE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908B4-5E76-4B96-87FF-4FFE6CAE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7A8CC-D9A3-4557-A7A3-F1B51728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FA044-D79D-4234-B309-4D67A0B2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911F8-BE1D-407E-BAC3-FF3BB8BE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58256-5A89-4B5C-B844-E4E4DB89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520B7-24BB-4A84-9BF2-9ABD62F2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163-C78C-4988-96A4-AC958665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F2504-A630-4D1B-B3C9-9A797FEF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5590B-E78A-4DF2-80D6-08FFF0F9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2B531-6D3A-4F37-9348-A412D79F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E848D-CBD1-45ED-8759-6158D17C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86903-B2DA-4A2F-870C-E2C67F70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59E62-6F59-4E60-9A55-5866C08F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F9DD7-6F5C-41EF-8850-B09ABAD8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1A2A0-36C5-470C-9CC8-878BD1AB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1B08A-9B6A-4D19-B8C4-BCA4F156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6ECB3-F7D0-4E7D-B606-CEA74E03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348-3F50-48FC-979F-F7B89626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84724-42D7-4179-9D69-4669D9D6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5D901-A98D-4B18-A229-825F2901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EDEF3-E3F8-4C65-B3F3-27017AD3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BCF91-9535-4C78-B551-55E57812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CECE9-42F6-4770-A6AA-BA1E1D6D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F81B8-AC19-4CD0-96BC-DA9CAA12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9C5AB-6715-4048-82A6-C993856F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787FE-19EC-41AC-89BA-D014D781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3FAE7-0ADF-4A3F-B4CA-AFCD562A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EF402-711D-41FB-A51C-7781D2D5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4E7-7CCC-4D4A-AC31-0C63D8F4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1796F-F4A5-4CD9-9D8E-845F3796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505D9-068A-4B72-9176-89EDF47B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67CA4-721C-41D3-8E6E-F3861271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A40E7-5C4E-4176-867A-3BED4CD2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3A888-6175-44A9-A22E-D07D40C2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BBB97-1C30-41A2-8CA2-802272B0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E6DF4-879C-4A53-925E-B43F9C11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39DB3-F7B2-4EBC-ABF5-2E20A830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9D2AC8-921C-42DF-878B-13E0BAC3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8D8B3-32EC-4F8C-82D5-59A08D1E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925B-5EE7-44A7-BA96-5EED75A7B1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37F4-48A1-4CEF-8010-049A437B10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F995-D287-471E-B1CB-761BAEF3BD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7AED-6594-4DA0-8D4C-5A1AD4AE2B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60E4-C0BA-455A-A44A-E80F67DE10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1742-BBFC-4BF7-994C-B3E5579D74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C8E6-675E-479C-9AEB-F4CE85CC9D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8FAF-225B-4EEC-AE6A-501AF9B74E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91F1-9ADF-41D4-80C4-9B7E910DED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F775-738F-4E31-9883-07E27A94D8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00F1-BBCE-407D-9A51-139656FC52B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A816-A098-4E5E-B10A-85542E695F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TEP 10 – WHAT TO DO BEFORE LEAVING A JOB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TEP 11 – THE BEST WAY TO LEAVE A JOB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TEP 12 – REFERENCE LETTE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9:20Z</dcterms:modified>
  <cp:revision>45</cp:revision>
  <dc:subject/>
  <dc:title>Chapter 1</dc:title>
</cp:coreProperties>
</file>