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3E01-4FFE-46D7-AB5D-07F086104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0F4F-041C-4F01-946B-35E1623C0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044-0F48-46AA-8B39-A0857CBE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4C4-48F8-42EF-B489-5DA8CB17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224A8-DED3-4DED-88DA-909D797B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43D5A-A787-435A-9E7F-8CE31894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9C070-187F-45DA-A527-79E24514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FBAD5-B420-4628-ACBA-B7D99222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62D40-7836-4A2B-8A5D-87ACC093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95620-A558-4C70-ADE2-0AAFEEBE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E8A94-D8A9-461B-A6BE-C211D96E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7F5B6-4B8B-4FA2-B878-FAF10052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2F4D1-AA28-423E-B8E9-AE5E0ABA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7A073-EA77-470D-BD42-95BEA300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834-AFF1-4049-A832-D89AF567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4D029-AEB1-48EB-A9D7-ACCAE308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87F97-0987-4881-B3E1-A37A75CC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D00015-1A6E-4CBD-9CC3-D965A767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34C70-A738-45E4-894D-76FBF8F7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BB066-A540-4870-AD9F-19C0E7F7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CEDC0-A689-41DA-8D02-A7CA1865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1A49A-0020-4607-9350-B07784AF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E15DC-9968-47B7-BECD-C407E8BD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002F1-FBC3-491A-83C4-A85C59E4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FA4F8-C892-474E-A1C1-9D8388C9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53C-220B-44F2-BFCD-2C31F5EC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C779B-4569-498C-951E-8B1E759F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A6433-E5AB-46E7-A59A-D9CB6EAB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25F40-50F3-41DA-BAA2-5164F457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1D356-3C7F-42D1-9188-FAAD7883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D0497-14E9-40EA-8617-347DF38E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6E478-5ED6-4691-9D2B-388CE2D4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9D92B-2F0B-4DA4-874C-28A7BFBA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DF97F-B699-411E-803C-03AB8551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71547-66CF-4678-B5D9-EEF38728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6ECC2-5463-4977-B396-B2A5F5E3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1B28-B1CB-40B6-ADFB-C0D01C15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C6908-E89B-4017-9F7E-47D8CD92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5C249-99E5-4826-9869-DBEF1513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78201-7F6C-49ED-B115-AAC88587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0C093-C590-4348-9CDE-6881F09A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DA403-8378-411B-B645-163D9469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680F2-31E3-4284-B5A5-04030A9A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8121F-48DC-46A6-AA2D-28138BE0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E5C88-DBA7-471D-A033-EFAFE83E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AA5179-FF3A-481A-9DAA-2981AB02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28349-3C11-467D-B129-3D8594C5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90A6-7C6F-4CC8-B832-4B9182E5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43E893-615C-4614-9297-C16C1992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57B12-F01C-46BB-987C-E6794571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45FED0-C9BB-4C9B-B9A9-5F172C9F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CA9E8-4E16-4C34-88EE-A903C13C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1B202-7761-4FFB-8141-F0C87BE9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3F9B-3E5D-461B-8693-A0CEDC5E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92FD-D39C-41A1-9FA5-D5E5969C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43E0-24B9-4915-8B4A-F2C7A0DB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7FC7-6D2E-44BB-B079-B7E45C5D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A9EE-70D9-4C22-9638-884FE371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0EBE-8B44-4CFB-A4E7-3A404C31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6FC0-8976-4FD2-94FB-89B93FCE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C85D-12FA-4EF2-B6E4-9A28AF00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22BF-F7B2-4F82-9E05-0E02D591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4B71-4954-4849-A7F0-E05367EA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716E-AF67-4559-8170-EB2286A2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318A-86C9-40B8-BB39-B88EC215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6F3BF-730D-4B95-BF98-4EE61E9D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429B-2A3A-47BE-8FB2-1CE0A322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738B-39A8-4B88-80BF-834BA743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F132B-FDC5-49CC-8722-F6F1C776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05E-2D03-47D8-8D47-6413B409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D017D-1979-43D9-88B7-1B795D08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445C8-519D-4984-8A08-48DAF8C8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341D-5D79-4A9B-AEC6-749821B9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19B45-B88B-4F43-9CF2-F8B7F35F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484DD-BBB1-4D69-ACD8-6918C47E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595F-5E69-4203-882E-AA94F4DA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2B1D-0537-4253-B5BB-6D5D535E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3C4FE-5B4C-4547-93F0-868FD04A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F289D-7C16-4F7E-8667-F85A8862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C6D08-D28F-425D-A82D-255025A6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E1E-B5C5-476C-97CA-8A3496D7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F3943-8171-40DD-A16D-BE22D85C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C8AD5-AC3F-4C9B-8151-5A45BD8D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66BB6-0657-4FF5-B56C-A96169A4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865CD-61D8-400A-BA7E-38A006A8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61EA3-E5AF-4EE5-950C-E34CC055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2EE3C-0253-4BE9-87E4-81F8D58D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A2451-F70C-4AB6-8187-D8E10A5D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14E8D-EB67-484E-826A-F6AB0D6F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CD9DB-9EE4-4AED-9A10-DCAE3E4C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AE0C8-FF44-4DE2-AC07-A1A48101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A479-92D8-4992-B9BC-DEC70BE5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4E1FF-7366-43E9-806B-154EEA05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11760-07FC-4B58-A5B8-FAD35528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C92C7-E65D-4D0F-BFF2-B422EE32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C7B15-CD9D-4351-B9CE-C5864D94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06F69-7A40-4621-A5DE-E4AB2294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A5646-AAE9-4821-97F1-8EBCE040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2147B-5BDA-4E1A-AD09-77DE6716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4D5FC-432E-4197-8B08-583220EB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75CF0-ACBF-43AC-AD14-29C9E111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84AA9-EFF1-46D5-81C6-F8060D93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C65-2738-4350-9137-2EF4CA5F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85E97-043B-45F0-B26F-F3E562E8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83158-3D2B-48B3-A7F8-89ED643F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D1490-F5A7-489A-97A0-CD2730F2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5DE18-E5B0-4426-A5B5-453AE939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ABEBA-1400-4F61-958B-602EA297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B4B8B-4F10-4F3C-92BC-5DF510A4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31D62-666B-4F5B-B6BC-C2C7970D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A2715-EA51-4710-9E98-AFBD7D6F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F5666-ADB9-48BA-B415-84C82AE9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97D8D-6656-435D-A134-22BD6770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C1D-D60C-43FB-A140-9A9B78AF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BEB7A-FC32-4254-BEFD-0C2D4743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9628E-104C-444E-88D3-6BCCD8D0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09223-F5BB-4006-90CF-DE6B3EF8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EDC8E-EB94-4A83-BD87-08749237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50BF3-E7EB-4FB5-BF69-8C3B0BC3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19004-E314-40C7-B15B-912D7BCA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9C1AD-0165-4B44-9C8D-CCD2AEB3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5E33B-0B30-4F40-869C-001EBFF6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C288F-992C-42F0-9BBB-2844B03D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C6AE9-C630-4D59-80A1-FAE12E07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1EC-3E2F-45FB-A795-7F277569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94A5F-FFC9-41C1-A6A9-148AF8DB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DBB33-8B7E-4925-9C15-76CB72B2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6C1D0-1DDE-4ED4-8DEC-2FB5634D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F414A-57FD-4C9F-A576-1DC56114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C22CB-2ED3-4B6A-ACDA-6160A689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07E47-7ACC-4BD7-AAB5-98B2F15E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49BEC-8671-440C-B29B-105DBC73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759EB-7F29-4B1A-B675-E6BBFB44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1A7F2-15DE-4EF5-8585-25952218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69F2D-6165-4AC2-9BA9-409F8CFF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887-67A0-421D-914A-BE1B2055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779BC-E411-4DE3-BB85-C41669D9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261B0-089B-4B2B-BDC8-56D20F6A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F5753-B12B-4724-B82B-483963BD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C3E2E-E053-43BD-ABEC-A69D1411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7C867-A1A0-46FE-994E-C37AF755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7042B-4856-4488-B854-71D31917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0ACEB-5F15-44F1-A338-2BD5717A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134F10-1BF5-4AAF-AC5B-26B64742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4B026-1688-4136-921A-6740B919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494DE-E28E-4471-B320-7366E848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5E31-284B-4F8A-9766-85B735FD7A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F4CD-571D-4DD2-8EE6-C30151AE16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655E-A6F7-4CC2-A32F-4C11952B2B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AD0F-8A6F-4522-856F-E1299C015D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BD66-5BA1-47D9-9F62-16BCF8E225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F2DA-7CC8-4799-BA8F-27062F125B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23A5-5558-48F6-A4A0-74412558AA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2929-60B5-4DA0-93C2-579BAC1370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2F69-D501-4281-AE19-68146D6B66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373B-854A-48B4-8599-E5049AB6CB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3801-2C43-4CF9-9507-99A40A6E1F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B929-0A50-4B80-80F5-F3BCBD6693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JOB APPLICA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ob/Employment Appli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st employers make the application a requirem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clude basic information on your education, skills, work history &amp; referen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en if you have a resume &amp; an interview, you will usually need to complete an application for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 honest!  If information is discovered to be untrue you could be fired later for falsification of company documen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b9899"/>
                </a:solidFill>
                <a:latin typeface="Georgia"/>
              </a:rPr>
              <a:t>What do employers look for in an application?</a:t>
            </a:r>
            <a:endParaRPr b="0" lang="en-US" sz="3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ility to follow instruc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Keep it neat, fill out the application neatly and completely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ility to hold a job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Questions concerning your employment history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our achieve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ention past accomplishmen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oroughn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nswer all questions, no blank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raw a line or place N/A (not applicable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ob Applic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ways include a resume with your employment applica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eting an application does not mean you will have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pleting the appli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LLOW DIRECTIONS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ather information and materials needed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k pen(s)  - blue or black ink or type!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urrent &amp; previous address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ocial security numb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ducation information – names &amp; addresses of schools &amp; dat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ork records – names, addresses, phone numbers of past employ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usiness or machine skil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ame of organizations you have participated i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ist of referen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pies of your resume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7:33Z</dcterms:modified>
  <cp:revision>26</cp:revision>
  <dc:subject/>
  <dc:title>Chapter 1</dc:title>
</cp:coreProperties>
</file>