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F4F860-EBC6-450C-93D5-EC0A6D0E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BE441F-3890-4D6C-A448-38D29C5A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657-74BB-4438-8D36-9C87B2C2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117-1357-4241-BDC1-62A3C83F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11861-2273-4DE6-85E8-24F7D86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3C982-63C4-46F5-A4FF-1C6E7D33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FF162-5DDA-409F-BBD5-AC08DDAE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D982A-D719-42C5-BBA9-CC221DCF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22C31-E792-4E1E-BE5E-B105773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0BFE3-A0BC-432B-9635-58BCAC0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121AD-14B8-4215-AA0C-1E0D2C12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95B20-E1A8-4B23-862C-9FBFCB12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9FE7F-A87E-4242-85D0-BA9B99F9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6720A-D752-4428-9CB2-03163AA3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332-6DF9-4121-9DA6-2399579C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3ED98-0B04-4F87-944B-2D6244F0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6FE73-890A-4B3D-BAD4-1CD65F93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DAD0F-1D25-40B1-A058-BB0CE79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8FF9B-00CF-4CF3-93D0-6020151E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B2F4B-514D-4F61-9AF9-E4657527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500AF-92A8-4C8B-A99C-0F29E847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12B7C-05D4-42DC-AF7B-3A07668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C0BE4-C007-445B-8B49-B476DD97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943E8-1EE3-46E0-ABA7-F04D6660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42BD3-C3B3-4B03-B05E-2224BE90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FDA-0D47-4FD9-B345-C568BFFE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A5231-C9C1-4309-B05D-C440DAD1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AA7F7-A2B2-42D0-9859-96433997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78B00-044D-493C-83D5-AE96DBB8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5457D-5CF3-44D4-B761-DEF1EC3B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CB505-BC11-4EE2-A9FF-619E241F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82887-AE08-45E6-9165-7A697541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36C20-5D59-45F9-BB04-427AD9BC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F6463-0076-40FA-8C3A-9CAF61B6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47AC2-4B99-4F9F-9728-10DC696A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3ABBB-AE4E-4DD1-B66A-34EDDEC8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CF17-0EBF-455A-A91B-978EE363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E3BC-5E70-4896-98D6-659C91A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ADE96-1F65-4DC1-80C6-4833960D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7C224-4789-4682-9B0A-27CAE10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5E54F-87B8-486D-9B68-AB971E25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75579-2251-41D9-925E-2ECEAE64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87BD1-C0C0-474B-B62E-D034CF92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7227A-9F7F-4AD4-8953-4AD6B58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0D6FCA-F6C8-4F28-B79C-CFEA9667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943CB-8B96-4704-9951-95B4148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E07F5-A0A8-4668-A6ED-DDCD9D49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2065-C3A9-4982-8BCA-DFA50A3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D37C1-2B28-4A4C-A6F3-5D40F30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4DA22-5805-4E26-92F6-55FEB66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76D743-CDCF-45DE-84A2-D6B9EC40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3E758-6097-4A20-9A11-58C3BE6A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16DC2-4C4B-4C33-AF4E-221CEEDF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F32-8782-4FC9-BD1E-2126FDD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2851-00FD-4B1C-97A5-33ADBDE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0591-4C3C-4EC2-92E9-45E9E41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7381-A1CB-4773-BD4C-F5105C62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534D-A902-4580-B135-412A3296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695-FC39-496C-8744-CBC9334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1754-E625-44D7-83D0-550E53B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F703-0843-4264-B1BD-A6F9506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76C-85DD-4A16-B125-2540503C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D10A-00CF-4713-BBA5-CC466886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7957-47F6-48F8-921A-635015D4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49A0-A58E-4B89-AF08-3309FC2D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209F-FCB2-4DE5-BF1B-EC7CE5C8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6CC4-15EF-4CD2-9FBD-C84A30BF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82D1-FE52-4E60-B812-09180A12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9382-D7E7-46A7-AE3C-2D1A7BC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536-8584-49F0-A0AF-4A027187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35F5-ABCA-4E6A-BB8B-8ADCA3D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3978-2DFE-4D42-BE5E-63CA1ABC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2702-5ED8-438F-BF92-BF93DD5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C5EA-20CA-429D-BCB2-13EA8B6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A01B-C0A4-4868-9001-20FF72AC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EA51-F533-4113-B11A-3ECAF22E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6282-C2AC-4947-98EB-23A08882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01DC-8118-455E-8C21-A0A2026E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785A-665D-462E-820D-EB9037CA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10D2-2724-46C4-9557-3DAFD054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638-7FAD-4BE5-9E8E-38538E1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7CA6-0AF5-48CF-980B-7C512675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358F-36FF-4E06-A2D6-5650EE6F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AE98-9975-4747-8A67-B1C34E03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417B-20A4-45AF-A161-1C188FA4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92774-68C3-4167-9112-0074A75E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9753-8D00-4FEA-8DDC-FC4B338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43AB-F2E9-4932-89F0-F67E018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47BD-831D-4803-97DB-5C3D632F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FB3A-95BE-4AD7-BDA2-E5424AF5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C824-9F5C-43A2-872A-41990395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F60-18DD-4389-92AD-1EDCBF3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731F-F4E6-4406-AB93-92803BB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3184-BE54-4A33-8FD7-19804A30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4F205-433B-4A84-AA6A-8DD5FC83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EE2E8-3599-4F8D-BC67-211EDCC3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7074E-363C-479B-9645-BF4960A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33AD-6D1A-4AB8-A959-BAE04C8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7D5B5-658F-4EC2-8E1B-DC7C4C3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BE93E-87A8-417A-882A-546BB44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3A69E-3B16-4C5F-BA31-160705D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3FC7-C28A-40A1-B532-FFF34F8D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296-2110-4BA2-9058-3D3F67BF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00D21-BD50-4E71-B541-5CDB5992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11D12-BBE5-4598-85D7-53E7A51E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1D1D-A7CB-4BE2-8E60-9EA49BBC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E0C0-2070-4BA0-ACEF-1DB110CC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13160-1350-44D8-BA86-19EDA206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35B8A-6C37-44D3-AF6A-8F828EA3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1A2AF-1463-45BE-B5B2-0894A03F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F13EB-AFCF-4595-8833-FD0B2B7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BBB1-F4BE-4CF4-8FB6-C322ED9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39DE-BD55-4CF0-A631-E651AD2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488-0645-4491-9FBE-E42A0906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AB54-2336-4804-9922-DC83312E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19DE4-E8D6-4350-B1E6-22CC06D4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4EEB-F275-41C6-8989-363F0EDF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D376-167F-4ADF-84AB-447718EB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F91F-0D91-4DF3-88F8-231508F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B63B0-BB14-4E5B-A1C5-B5279993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3BE2-1111-4A3C-B13B-BD96AA85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3614C-76AF-47D8-AF29-6BA2B88E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224E2-2AAE-4315-AFBC-1D674094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CF008-1077-455F-8F0A-F2CEB280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59C-2C41-4114-8849-F9987B5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5340-4BB4-4BFC-8D7C-2B2E41B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FB14-F2DF-4EBD-B7C1-172B56AB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1AE44-1660-45C7-93EC-86896BF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411D-AA6C-4A87-800E-9612E130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7A2B-1DFB-426A-B9F1-BCFD75F2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FA94C-3194-46F3-B7EC-A28CA3D3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E5CD0-A0A1-4C2E-B722-A4DD665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16006-6CF7-4819-BE8D-5F7B66E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5CD5-1D22-48EE-A011-6D525A95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71841-F7D5-4B3C-9A06-5F612066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56F-9C88-49D7-98DD-5D3FA7B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F5E8-CE3B-441F-8820-2A3D1A40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34D53-7F80-4567-80EA-1C685E0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EE1E9-2518-4DE6-80E3-BDF818E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F084-CB52-475E-AC54-E2CCE8A2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7BD8B-DD75-4B45-8630-8208E46A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4D08B-34D4-4B20-83EC-9CC446D4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6B43-DE68-4BCD-95DD-7BAB9C4A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FE1F2-2D52-4343-B23F-A43A314D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82AF2-3D33-42DB-9D47-1E70B04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729CF-D4EC-4E53-AFF9-C482327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591F-64DF-4D6F-9192-69E4F4CEF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6979-B965-4B0F-8D88-48350DFE2A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DDD-BD4B-4D36-AF07-830DDFF50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BD3E-F425-46D4-A075-3C71BEED6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DAFE-13EF-4D06-BF32-13C4A006EB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E1C-98E1-43AF-84D0-2EEFE5E9D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C73C-B839-4421-A18A-8FFFC04B0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041-CD5B-4D34-A631-39AA5050A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58AF-9C09-460B-9941-44D02E11A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F146-AD50-426F-BE06-A350F67B9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2EB1-B48F-4E60-BFA3-3ABAC5B965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1030-9748-4858-9D94-098B6974D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.  COVER LETTER &amp; REFERENCE LI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b9899"/>
                </a:solidFill>
                <a:latin typeface="Arial"/>
              </a:rPr>
              <a:t>Letter of Application/Cover Letter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always accompany a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ten directly to the employ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s your interest in the position &amp; organ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be typed with no err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 paper matching your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Business letter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w simple paragraphs that state the job for which you are applying, your qualifications, &amp; your request for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ear &amp; concis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to write a 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ress the letter to a specific per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l the company to get a name of the human resource manager or manager in the department you are applying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the purpose of your letter &amp; position you are applying f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qualifications that make you well suited for the jo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quest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 brief, clear &amp; careful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ofread your letter for cont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someone else edit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 cont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ing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writ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sition you are applying f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you learned of the open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ddle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interested in working for the employ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you desire this type of 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 out qualifications, achievements, training, etc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ing paragraph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fer to resume &amp; encourage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k for an interview or end with a question that requires a rep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ference Li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references that will speak well of you when they are asked about you by a prospective employ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lect those that can talk about skills that relate to the specific job for which you are apply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ferences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er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ach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rie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ighb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general, family members or relatives should not be used as refer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6:53Z</dcterms:modified>
  <cp:revision>24</cp:revision>
  <dc:subject/>
  <dc:title>Chapter 1</dc:title>
</cp:coreProperties>
</file>