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19D808-A4F9-4AD8-97D3-86643CD9E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AB1870-BA81-4415-88DD-E78A01246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E58-3DAF-45D5-B7A4-5F4A7DCC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F15-A3FA-4257-AD2A-E8A894C7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0B170-985F-420B-B027-3F3171FD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B07DB-1CA6-4A0C-82DA-11AC06A0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FF9C3-226E-46ED-B790-45C05FF0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2B64C-A894-47D4-856A-733947D1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A9069-9563-4F40-A37E-12BBAC67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5FD42-9458-458E-B925-85F0B88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24F9B-F22A-428A-9BF4-912863FC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9C16B-CFD0-42D4-9F6D-DB940261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381A8-69A7-4A5C-BD0E-436D715B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9F1CC-AD8C-4885-81F6-03602C44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BF7-F498-44E8-BD39-AF0B58D7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47F7B-ACF0-4B0B-B04E-4AF540D9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71297-6E88-440D-8F95-CFB81346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C3F38-866F-41F5-AE15-E4C21BE7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606DE1-BF00-4612-9DF1-645336FA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66FEB-0A76-492E-9B42-44EF12C0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6E49F-9174-4836-B92B-5BC89B56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EE601-2CE1-4945-84E9-EAF27B1F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5A104-08B8-46AB-98FB-D72E4157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8BE38-D0F2-4E0C-97CC-A6AA3990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37BE5-44B2-4ECB-8FA2-3F95ABB4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0C0-0C44-4208-BD2B-02525A5C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CD08C-291D-4969-92EE-E00505EF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8EC7D-A415-450F-98A2-FCC5B78A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3EA0F-6D48-43EC-80F1-D7B9BEF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57E59-761E-4115-BB08-07385DF5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3AF65-2E19-4D8A-A664-DEF8D1BA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C1CD5-0690-4CF6-B5FA-5ADCE917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E7326-8B7C-4518-AA64-BA700457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4CE0E-4C1F-4533-8A76-AD5ECFD6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DC43B-7BD7-46EB-BE42-2AF34062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E07C9-29B9-4C51-942A-C1F5E2BE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9111-876E-4007-9158-20D3CFC0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86288-83B4-4DCD-A3D9-E62A66E0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7EA9E-795E-4DE2-A805-E6F8822A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37EAA-47F5-41FE-9E91-229707B8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992FC-224D-48E4-A936-1ECC73F2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26C36-B28D-4234-9E7D-CAA51537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8B3D1-2B81-478E-88D5-4023DC10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0B48F-638F-454E-AD22-AFB91483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680BB-7383-47D4-BA19-FB17C7CF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0132E-8097-4FD8-9497-D820966D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5054A-0847-42C8-AEF3-D1EE083F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765C-E43F-47EA-B256-31DEF962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CFBA9-8811-4933-9DAF-177D3FF7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8F107-3C98-4AC2-85D6-A5AB1411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9A8A9-B190-4F3D-9136-70614A10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42CE6-8C4B-428F-B9DC-09769F1E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B682D-1D49-4F2D-8ECB-AF43DF4E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68FD-7F1C-4A4E-A5DD-4F934156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8627-5965-481E-91E8-7D2A0B26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4CD6-AD35-4F69-9DD1-D428E995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39B3-B73F-44F3-B939-E4824FA9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8C8E-713D-4E38-873A-24EA8924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6B6-802F-4BF7-BC93-BFF8C713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7A76-E9F3-4EAA-85AC-5F4CBD7C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C7FC-15AA-403A-B40F-C39342E7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88C0-B4F7-42CB-90FB-B56E0631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5ABF-848A-448E-9A80-C992128B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F0A0-330B-4554-AA4F-890651ED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413B-1A7E-4391-93EF-4786A53F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247D3-DB95-42C0-917E-2E715162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FABD9-54C9-423E-A987-9EFF1660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1A2A-E81C-4955-A163-74B16770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A6229-3D2F-473D-B33D-616EFBED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598-277D-4B2E-BEF7-DC4EBBBD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5ECFA-526B-4FC8-946A-693DD5E8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7118-4588-4324-8CD8-D7A8044A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8DDF-D894-4BA1-B63D-7F748A7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9600-B465-44AD-B8ED-7C772606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258DC-5F61-40EB-B64B-F0B918D0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2E3C9-2038-49E9-965F-0FB45C4F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01DA4-588E-4228-B75B-37922A89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F02D4-EC01-4257-8759-E3A0D425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DD0D3-0F45-4DA4-94BE-7C1DE6BA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F0F05-07C8-4C4E-AAB3-83685981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4B7-78BD-45CC-8D25-4339695E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9B9C3-0995-4308-A8B6-E0A6A790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9BCB-A547-4328-AB91-1E2B6A89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D8F2-EC20-4620-A7ED-B33115C2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A8BEC-416E-471B-BED3-C2BB2279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2A491-990B-4AB8-8A2D-B3D1461F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72A6-52BB-4B7C-B475-63BC6271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39864-F65D-4C60-84A3-D9D9B685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CAB42-BAB8-4F84-933E-CD165F27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DEC82-E175-44CF-B77D-74087044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5C6D2-779E-4498-835A-479EEE30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A0A-3470-47BC-A941-10D38450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2F634-CF64-450A-9BF8-781CE312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A1979-D24D-4654-8BAA-F88A8B23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43E6E-F0E9-4AE7-B3D3-C84F3D87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07444-1FDE-404E-9D15-6249FAA5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981B2-02F7-4C3E-912F-579DD88B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B7324-003A-488F-9011-AB761A89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70425-DFBA-47CD-BDC3-8600FD95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D2E73-C44D-42A1-87B6-44A8765A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E86E-03D9-435D-B449-507A8DF0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F3974-4F55-4236-A43C-5B31AA89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9D8-A819-4156-BA82-90A99BC5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BE647-85F5-4BB9-BD1F-6146E9BF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62F11-D6A9-454D-8968-A62C94EF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4BFE5-0D2E-4356-8F27-66C63E9D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9DD05-F6C6-46A9-8172-82AA08E1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740B3-11BC-455E-BE79-5617FD53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62A26-95BF-4A6E-8664-A79D3308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D88D-3094-4312-B53F-A2C0B7AB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9CC7A-042A-40DA-BAC2-16D4B09D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83D77-ACFF-4C5E-80A8-AE0E7603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30A65-FFA6-4D93-B997-CB3E2F6B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0F0-E169-4EB6-987F-A42BBF40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A7E3E-9E96-4331-8CC5-E95720EC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5FBE8-C0EA-41FE-83AF-318541A4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5C38B-20D6-42B4-A982-ED5A8187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51F63-A6C6-45EC-8C93-ECE33D82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D6EA0-9F5F-41C2-97FD-FE21D650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B51A1-243B-4C1B-94C9-15229334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55AA8-BCFF-44E1-855B-071345FC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47394-B650-4327-AFF8-2AE50FF3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072C7-C8A4-4A86-BE3E-2DF55C41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A1266-7241-4E8D-B8DE-9363DE35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041-EB98-4F41-9AB1-BFF97430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89F36-FC27-4E93-9B20-7039BF68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D79EF-10CF-4FFF-9C96-91452083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E9694-8745-4F33-BB76-215EBF0B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96329-BF3D-4FA9-BB40-46D84A00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0F9C5-67EF-4064-B1ED-6AA0967B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22209-25FF-4835-9785-5AF2E122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82694-996B-4DEF-95E0-0981314A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FA0C9-4983-4858-8AB0-B81FEE84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B2F53-41E0-4017-9E92-83041878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12487-DA27-4BD1-BB00-1BB6DE5F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1B4-61D4-4AC9-B5AB-E0D9B864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F9A85-02E9-4B61-BB04-CA7A63E6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283C5-F9A4-48A0-A6A7-19121838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16315-BDED-455D-945D-1057FF94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AACE0-9748-4FA1-8628-D65494B7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844C2-2F10-4C10-B2C4-10821314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89EC6-EAA2-484B-A099-D4D7FDE2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51301-4DA7-4181-9CF5-C2D91495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FC5A0-4E1F-4F05-B670-B44AD845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8D0DB-CF73-4DE7-BAFF-187B4AD7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69641-3F22-43F6-93E6-AEF12CC3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4588-968F-4F37-B007-A74590B0D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2BC0-22DA-4F70-89DE-460857C7C9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C940-17CC-4428-80F1-4D4EB66F7A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E22E-71F6-4D29-9186-DB844BEE6F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AE15-3D1F-40EA-BF97-AA023114D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0C47-9057-4D22-BBC3-0E8A66049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D08C-519E-4E7B-93B6-2DA17F3B13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7E14-064C-4B03-BF86-A5E09859D7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78A3-62B6-40A1-AF84-9F1E8D3AFE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0E83-F8BA-4610-BDE7-509A132CDE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A49F-A7F6-46DF-9E2B-B0DD455847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93A9-977F-485D-A7FE-450B277295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1.  COVER LETTER &amp; REFERENCE LIS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b9899"/>
                </a:solidFill>
                <a:latin typeface="Arial"/>
              </a:rPr>
              <a:t>Letter of Application/Cover Letter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always accompany a resu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ten directly to the employ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flects your interest in the position &amp; organ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be typed with no erro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 paper matching your resu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Business letter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ver Let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w simple paragraphs that state the job for which you are applying, your qualifications, &amp; your request for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ear &amp; concise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eps to write a cover let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dress the letter to a specific pers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52560" indent="-49536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ll the company to get a name of the human resource manager or manager in the department you are applying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 the purpose of your letter &amp; position you are applying fo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 qualifications that make you well suited for the jo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quest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gn your le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e brief, clear &amp; careful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ofread your letter for cont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someone else edit your le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ver letter cont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ning paragraph 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are you writ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sition you are applying f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you learned of the open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ddle paragraph 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are you interested in working for the employ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you desire this type of wor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int out qualifications, achievements, training, etc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osing paragraph –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fer to resume &amp; encourage ac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sk for an interview or end with a question that requires a rep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ference Li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references that will speak well of you when they are asked about you by a prospective employ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lect those that can talk about skills that relate to the specific job for which you are apply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od references inclu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rmer employ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each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rien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ighbo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general, family members or relatives should not be used as referenc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6:53Z</dcterms:modified>
  <cp:revision>24</cp:revision>
  <dc:subject/>
  <dc:title>Chapter 1</dc:title>
</cp:coreProperties>
</file>