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1557-5FA9-4D49-AC2D-491B80585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5C06-2659-4099-AD50-D56B6E6A8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1E5-5415-4D24-A483-C9CA2469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F5B-B840-4296-ACE4-D305DC37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4742E-5D67-42CB-BC45-6BC18881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97475-C957-45A3-9D3F-D1077A80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8AADD-2829-4349-9102-802587CC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E7D3C-3B88-42CB-A42E-407953CC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25976-B7B5-4F23-91C4-57166912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3DA4D-5122-4725-AD89-436F41E7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28CD2-A3F0-4395-B9D9-8DAFFD53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C5DA1-C058-45A2-AB3A-D25082BC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F25A8-3BFF-4450-ACCD-F420554A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8BB51-EB8C-425C-B477-9126CDBE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540-3E1F-45F7-9F5C-D78C976B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52356-E86E-4E67-9E32-DD0A9125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70D3F-1C0B-46EF-8C28-32E2DE8F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E45AB-ABD6-47D7-AED1-AE28E790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6E64B-CBDB-472E-A8CA-5255AE88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3C280-634C-4FBB-8EF7-FC01569C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35835-15D1-4468-BA18-DF4C6E77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BD054-1C66-4FB0-BB7D-706113F9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DD447-CB39-4CB1-A058-3E9BDD3C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F8877-8911-4714-B3FE-7503CA9B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1ACAA-F3A6-428B-9C71-2AC32A69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9DB-934E-4530-AE01-4859905D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91EFA-EC59-4B71-A961-D541C333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2FA4D-1631-4440-B468-FFFE7C60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E656B-606C-4575-8C9D-20D897BD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D4084-1448-4832-BD13-9EC9BFE2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906A1-A5CD-4270-A613-DADB198B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60D92-871F-4BC2-9ADD-BFB283BB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02F80-74FB-446D-922F-9BDE9030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51EB5-E9D0-4E53-A00E-1DEC0DBD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EA0DE-D8C9-40FB-9E44-C30198E4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89167-C0B5-4338-B1F3-C2E4BF7C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C309-05B7-4A01-A1FC-82259C34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C89E3-4FEA-4CC5-90D3-892C52D0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45363-4D2A-40F8-83EC-2FDDBBC9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C2165-6374-467A-94AB-1D3A5F34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51E2D-2F26-45C8-AE92-CA79F211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AEE01-226B-4652-ADAE-88BF86FD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CBF2C-3E2D-4843-A4A6-2E231ABC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980F0-E5A2-415F-B266-934E07A9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65210-8C4C-4CD9-9356-D6847ECA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6D716-4136-46E8-9A27-44792734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8AECC-4A50-4DA0-9582-67EBBC8E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B0D6-DBD5-4F03-8C38-7257553D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E6B1BF-F7AB-4819-9828-7C1D4CDA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EC593-7244-48DC-B7D0-7159F3FF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A4569-465D-43F1-8A07-6215B1F0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09CDD-6248-4109-93DA-0F4B898B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3C0ED8-B699-4218-9477-EB66824C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1795-F616-4645-B2AA-A8CA4E01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28C6-9209-4C7E-9101-0856B701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AAC3-923D-4E9A-9654-4C20B2BF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FC01-499B-444D-B9B1-D78FBBAB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1133-1CF6-4106-AA11-697D4CD2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066-A59B-47EE-8B56-FC4EC17D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6D1D-BDDF-4F91-BB7E-2CA6B63F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EAD7-E626-4FCD-8D66-7AE4670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7227-7247-48D0-AFE0-ED25AD56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A300-84D8-44A4-849C-2C1DBBD7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7178-9441-40A0-B702-DB2B1EE4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5D71-B421-4EED-B8A4-5D8D86F1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4B9E3-047E-4C7D-8398-E59A8D6B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BBBC8-46DD-47E4-8C65-C80116F2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3B0BD-23BE-468C-BF5C-20913816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09960-FD81-489D-B04D-934F94D8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6C4-5BD0-4CBD-A915-C257C666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78754-1087-4E2B-A049-2E06433A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80276-CE7B-4920-8059-6DF82544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73F82-0762-4E8A-B5AE-557F3755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391F9-8B50-417C-B433-0D0E576D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6B698-6F11-4BA9-9E72-CFC4DA9C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A9C1-CFEF-4206-B36E-CFE28116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7E8C-1413-45E3-A0E8-DDC3AB65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C017A-4F2B-43BC-8DC9-33CDA37A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34432-24E2-44AF-A15C-4A583478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58523-2E4F-47F9-AC33-8EEF9C45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CDD-DFD6-4BE5-89DA-7166636D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AFF40-FB56-42C3-A921-450CE696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9B802-6FFB-4B1B-A992-651ACDD8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2154C-6B79-4399-855A-A322FA5E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71A71-44FA-4725-8F46-9AA3C0ED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9C310-D723-4C90-814C-583125E0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FC7AA-6411-4E56-8357-1B854160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8F68C-98D6-4183-8620-AA87BC5A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7338F-902D-44A8-83EA-449DE893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E05BC-8070-43DD-B405-6D7ADE12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CE7BF-129F-4EA5-9EE2-7D8B794F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6FF-CD15-4A66-8A0A-BFCF1C07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35A00-A79D-425A-8499-008E4130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F1963-5DCF-440A-9F00-9EA5EC2B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5ABBA-9AF0-4F7A-B33E-DFACE98A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EE039-2AB8-49B0-A11D-937716B5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9D2DD-A37F-4A3F-9D90-1AD3D2C5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10D1C-B8DD-42AE-A4C0-55BE8EA1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E647F-4026-4BC4-BAD4-82DF65ED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D5967-EB9A-4E06-80EC-74631F27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9A2AF-AE48-4E90-A695-6857D8DC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5D232-C662-40B4-94AF-B3879018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EB1-61E9-42E2-9425-7C3A0366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9FF13-1E60-4E97-815A-879FD57F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C1B07-1824-4752-99E6-9C4E1752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82AA8-4A01-4DF0-8FC5-F1353376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E3C89-D056-4F22-8DBD-7D3CE339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3B521-5E95-4E15-ABF8-00C81E11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9FDC2-F7B6-412E-AE8B-8F2B3456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F4B7A-A65C-4C2D-B7E8-7F9AEA8D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BD659-7C3D-43C7-B256-025C9320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F48D3-3DDA-41AD-BD34-E430C443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DFDB9-3E37-48C6-B1E3-E59D6EBB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FD83-930D-4EBF-930B-DFC9A6BE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1101C-06B7-4500-B586-EA102BD2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E3F56-5075-4192-8BED-3D9BC719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2F6A5-12AE-4131-A557-9EE2CF90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0D58D-9E26-4BA1-B408-0011DAA0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A4311-780E-47E4-AC6F-8CA00B59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46443-95EF-4A26-ABED-DFA81041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795E3-984E-4F13-A110-A65DA8C2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1430F-001E-4AF0-AFF6-F71E2C2B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09BFA-DEBF-494B-A70B-58827CBD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5D0B4-E60F-45AA-A261-72FA24AD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B86-84E2-45AC-8F44-DE9DE448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D8DEE-69E8-4CEB-A7CA-49A34EAE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C8D6C-612B-476C-853A-31F140F9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3D0E2-8F81-4493-BEDA-83620D35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C6524-DDCE-4D39-840E-E7C4299D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5F020-55FE-41C4-B74C-28E301F4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A141E-308F-4432-B2B9-2F340B4E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4E61B-1DB3-4B2E-9763-AD7F31A4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E1A8B-1586-41FA-A759-C7385AC6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5011B-13C4-4E37-BAF6-CA7345F7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129E8-6DCA-4AAE-94ED-115C866B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A6F-5528-4999-BDA5-C1C399FC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7A704-DD27-4CF5-8DFB-AFE39B1D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2D532-28C8-458D-A773-65DA20AE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8B44F-9AB4-49D1-A561-DA1807AF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4E3AB-6C57-4F23-A22B-C4880D56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9FFF8-E857-4073-96EB-3D8BC74F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DB9CD-0508-4373-9E42-66E3609D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1DD05-BA9E-479D-A30D-B31591FE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479B1-7F07-47B2-A975-D7C32569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A1EF6-081F-4A8C-B7AB-270960A5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D1B66-0869-441E-BC39-2EB02949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F8BC-EF28-4C25-A43D-8C66845E39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B645-BCCD-42A2-B241-90A45C3891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3D04-E467-450F-BD28-24A874F389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D767-D29E-4C52-BF7E-19E0386063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6488-6174-46EB-B2E6-469B01D509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4F84-1753-4379-876B-89D48917FB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3067-1296-44A9-B462-EFC2136C18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BB4D-0F81-41AF-8F03-0150E91E01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27FF-A40E-4AA5-837C-DE19FD6E4A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102A-ED16-4316-A483-0C21D4B936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E7FD-8536-472C-883A-ADBADB428A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7969-B338-413F-83C3-9FB70C901E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FIND JOB LEADS &amp; RESEARCHING A COMPAN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8:12Z</dcterms:modified>
  <cp:revision>27</cp:revision>
  <dc:subject/>
  <dc:title>Chapter 1</dc:title>
</cp:coreProperties>
</file>