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8EF3-6515-4434-BEDE-3780F31C7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BE8E-5CE8-4D41-A7A7-8BC263AC3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CB15-959E-4A86-9797-9B969F8D4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2FEB-6272-45BF-98A0-18E15BAA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2CB9E4-7512-4165-8956-E2CC8771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AAAB83-38E9-47E1-A617-C83EC0F9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F313E8-55F3-4B0F-AA2C-47A6E115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0E096D-168A-4B18-B3BD-9D5BE093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E55D82-2B56-4124-90CE-D108C1A0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37B832-9DB9-4FBC-A389-63C83A00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4550F4-8BFC-469B-9443-BFE9A577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166B9E-FB02-48AE-8B9E-82C3318A7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6525EB-D69F-49EC-891D-D2213BF5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746003-922E-415F-A83D-1C9F1FB31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9E33-96D8-40AD-9E9F-3C36595F1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671C51-063C-4345-A4E1-8D9EB237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F2F720-21F4-42DE-92B0-716CFA52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04AE35-1E5F-404D-856C-04DBB44D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1AA11D-0BB7-4277-93AA-A88A0D1C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F36A1A-AA2B-4C72-A636-5A7D1954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8AA3EF-DDB6-4234-A148-0483E3CE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53FB96-6429-4968-9690-232AB4E8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486275-5BA9-4C98-8B98-06D4CA27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A46F77-A806-4D4D-BF48-E4156690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180A06-6BCE-445B-B342-C5F7C0934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5900-2F7A-44AE-8E27-8D570B4CD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49E364-BE33-48A1-BE3D-E6E904332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186B0-F694-4962-9602-A9264FBD7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0E23C-248D-4605-A21E-C987179C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03C8E-4E7C-41F8-B6E0-5566BF47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DE7ED-450C-491D-88F7-DEF25E4D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0B834A-2CF1-467A-B9DE-C92ADA88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05DD1-D68D-469E-9804-03DB8DBB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3CEB4-C7DB-4CCE-BDD2-A2EC406E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C5D3C-8E3A-4137-B896-EAF06CAB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7603D-7344-4167-9DB0-92A8714B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647F-7782-46E6-8B1B-A0E645DF1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B4196-DB76-488D-843D-BF9335D6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0D2F2-FB21-4A8B-8D36-970E348F2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AC925-0D47-4F22-B3BF-C00711E4C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72C2F6-3388-4165-81FB-F02101051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80184A-7580-42F1-AA4A-C65D7B67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50AE45-A8E9-495F-A841-4BAB6CBA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7FBDB3-FBCB-407D-82E6-79558E31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48414A-1EDD-4757-B116-0C45A1E5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8B2A0A-4D07-4FE1-A380-401CE197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5F1CC7-5B60-4E32-9533-FE7CCD79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1ED9-CE15-4847-96EB-41F8FC10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5C489E-13CF-4943-8758-12721CA1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53E1BC-A409-4778-AB34-A9362768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C7BF7C-8A5E-44A7-AF06-0731DAC7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A21B8C-82C4-4CAD-9359-4944AC8AB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A558D2-2A39-4F40-8BE2-F1658D868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4CCF-7C77-40EB-B54E-40EC1344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00DE-5CAB-4E3B-A673-A4140111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15F2-05C7-4817-9D04-14B16746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B1D5-0DF2-4F0B-94BC-F619750D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D8F3-8BC3-4F83-9A49-4DCC8E03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48EC-0343-4A1B-B3EC-56E0F6AA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BB6C-5CE4-43E1-A987-5C6D3082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F2B7-54BC-43ED-92A1-5D81FC9F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C324-650B-4FBA-9826-E68B0E6B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D247-5098-47FB-A060-AF76AD10B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7DB0-3FFF-4569-8F93-E89666B20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6AF89-BC8B-4308-9235-7D1E2DAA9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8C7CF-994C-4E9B-92CE-3AA759E1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4BD5E-6F1F-4017-A891-435A5FA6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7ACC7-C7CF-4F6C-8026-415600F0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FEF8E-4BDF-4E87-A372-299F7F71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0C1A-C467-4017-BE82-CDFA218F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6D5B5-A9FB-4E49-8AF8-93EEF9C1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868EC-1FDE-4750-9992-222CF6C9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FCF96-95FE-4604-9918-C6CD9785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D5057-FADB-47F3-B634-2B9268B9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8BC84-4F8C-4198-B02D-75322665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FA5FD-A551-4BC9-B833-2C0850BF4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38C2E-AEC9-45DA-9A89-B86DB28AF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0CE92-F65D-4D79-B663-B4F59AB9F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AB464-151C-4995-8393-F8F11813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22276-31B7-41B9-B4B3-1A8C7E47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0937-8AED-4825-8ED4-AF25847F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75250-B8B8-4231-9473-807ACD33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9F9A1-FAB8-4AA8-948B-544FBFFB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6A751-F889-467F-B613-831C5721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9B258-D36B-44B5-AFD4-759573F7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2616F-C660-4D28-8DBD-B34C45A3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6214D-6F01-46E7-8774-CE0C4EEE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365C6-91C5-4B77-B3FB-6B6D4689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5C27B-2483-4941-A71C-C489C8CD1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45A4B-9954-4946-BC42-7B05E69A5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346FF-F908-438A-9688-DE82999FE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AB3C-BC4E-43E0-8B08-0CE97F29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B3688-146A-4707-A783-649785F9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72DB2-04BA-452E-B0A9-42D471B6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A61EA-8DDF-463D-ABF3-42CB7505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E11ED-7329-4CC2-9CA0-8FBC623D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53645-DAC2-4CCF-89BF-F252BC2C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38849-8C1B-4EAD-92AC-2C84A8D8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01F22-27AB-4BDB-B8D5-C55058FC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A626F-A733-4402-A19E-00D1F388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0409F-CA78-40AD-A6B6-F0910F6C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B003A-498C-4468-82EC-2B0D76CCA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52CA-CD96-4774-81B7-7EDC90C9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BB5F0-FBBE-42C2-A414-15ED85D47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7C757-F9FB-4674-8DC0-0FBABA32C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E08D8-989C-4D4A-871B-0B6C438A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5BCCB-EE33-4C2D-873D-692760F2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2740A-C253-4966-8190-F23725F3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25200-CDF2-4085-A2DC-F9F7943D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D50E1-2579-4E7C-BD64-ACC02E11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ABE9B-7128-4EFC-9726-C5874E30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1E17B-76C6-49D2-83BC-0F001C04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0EC3E-893F-4E5A-A4F3-517F4F05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050F-9870-484F-A3E7-6A676CE4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40C3E-FE10-4132-A29E-63DAABA8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F5D6B-8C56-4A6B-85BE-2ABB57830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30EC2-63B4-48AE-A61B-4B370D9D6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FDCFA-4CF7-41A6-AFD8-CAD094EFC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4FAD2-5066-443E-A315-DCEFF554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9DD8B-56F9-4FF4-B9E1-87F9251E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30CC0-2675-440F-9B2E-ABAA3B31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EF5FB-ED9C-441A-B174-E9224D42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134E5-25D0-413E-A92A-1D1848A0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3D390-3BF8-4890-8A07-5DB7C922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2D56-B7B6-438D-B631-7B018332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996AC-839E-4281-BBEF-F372382F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0C931-9629-4675-A27B-612DF0EC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3D2A5-9DFC-4E13-A394-F7A3DBB5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0EFBA-9007-4801-8A6E-8E16B596D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8AF64-0E01-4B8E-BA34-234B49723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A174B-AE01-4F62-92A3-DF42DDEEC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6F499-0486-495D-9DBB-7C97B786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4655D-7E1E-43CC-B705-0BAFC94A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83C36-31F6-4598-8605-AC56E54C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77670-FD85-4365-A490-39413633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842D-DB95-458B-AD84-9A4FA732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41FFF-9DB9-4B95-AAA0-E2D6F4E0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7F567-D02B-42A9-9F57-87601F41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796D4-3D45-40E2-866E-2EBB57BB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039AC-A577-4A70-B8F7-A380E9AC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64D2E-1BAE-4015-BE3A-1C421DA8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28EAA-90C9-4996-9455-C1CCA49B3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5A041-6926-43F1-B404-AB2757567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034777-49F5-4B61-8892-CDB0E8CA3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9ED1A4-E4F6-48D8-AC44-51040184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BAC7E9-7C2E-4D3A-8805-86360D61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0B48-9ABB-4CED-BB9A-976988E2C5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1FA9-F036-4481-BC98-ACB21A2509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C77E-E6EE-4094-B0C8-A983EB0705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FE47-9D2C-48CD-B8E5-133EB533FD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78F5-0892-4554-B532-153A28679A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8814-6263-4022-A39F-4CE112EFE8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195C-A404-4D96-9FFD-52AB9DDD5F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7DC3-FBC7-49C8-95DF-316396ED2A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40AD-E77A-4524-BBD4-4C0CAFD3FC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BE62-02D6-4254-BAA4-59B25050B3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4E0D-636A-4B01-9A3C-51C6946012A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C25C-ADFE-4076-BC64-84E144D121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STEP 10 – WHAT TO DO BEFORE LEAVING A JOB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STEP 11 – THE BEST WAY TO LEAVE A JOB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STEP 12 – REFERENCE LETTER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Arial Unicode MS"/>
              </a:rPr>
              <a:t>Preparing for Employment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21:06:15Z</dcterms:created>
  <dc:creator>Crystal Oetting</dc:creator>
  <dc:description/>
  <dc:language>en-US</dc:language>
  <cp:lastModifiedBy>Windows User</cp:lastModifiedBy>
  <dcterms:modified xsi:type="dcterms:W3CDTF">2012-12-03T15:19:20Z</dcterms:modified>
  <cp:revision>45</cp:revision>
  <dc:subject/>
  <dc:title>Chapter 1</dc:title>
</cp:coreProperties>
</file>