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C414-568C-4157-AF90-D81F9000B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3E0E-390C-4518-8BC2-774F348C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FA2-1733-496C-9F12-158537CE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387-A460-41CA-BFCB-FD604FCA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631E9-8471-4091-963C-24D9D75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D41A1-7DE6-4E5C-B7DB-07A6BF6E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171CB-14A5-4F5D-84BB-40430AC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6FAAB-9705-40E2-BD73-2405A4C2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3F1DA-28FD-4373-9B18-2277544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83689-E067-46CF-8714-289A860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55101-72D8-47B7-827E-8671C3F5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8F336-1C77-46F9-806B-6E637E43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794E1-A093-42DE-B4FA-3A91ABF4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0DECB-992C-446E-BCF6-E63459B4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CF0-32A7-4D56-9890-20ABE3DC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500C9-6788-42B3-9A4A-60915850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BAD28-F35E-4314-B41B-66ADB9AF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3F0CE-315A-4422-B403-2B4857A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35D0E-9628-4B15-A912-A66EC8D4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66212-8102-4671-9363-DCAB219D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3A503-274B-4EC6-8E8C-FB07EAF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D9787-E7F7-47FA-B07A-AA7DEE41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43DBA-7DF2-476F-BE45-84EFA0D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BE24F-5232-4DF3-AA92-B35868C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3A852-B232-4E87-BFBF-274C407F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C15-EBB8-4C69-BF19-3FC8967A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5B459-7AA9-4BC7-B2A5-70CFDDE6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75D09-87ED-4FA5-ABC6-1776B044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164E2-72EB-4051-B716-B9CB6A9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DEF8F-2DB0-493E-9F6F-E439700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F30C0-D48F-4560-948C-F814F4D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11F10-1438-40BE-B4D2-CA3E75F1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C4952-A7ED-4751-909D-E6D0FEBB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EE91-1F7A-4512-9DB3-D02BCD5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FA12C-D0A0-42DF-89FA-1490C48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D15E5-859B-4BB0-BAD2-C14F177B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62EB-575B-4286-AC08-FACD9193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A2CC6-0097-49C1-83DF-EC96314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CDBB4-6862-40B6-A144-FB08D4EC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F2339-CA4F-4DB8-87A3-F9E29981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FA02E-0F9F-4C22-A0C5-A04E10DB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77E8D-7535-4DC9-BC57-57ED00C9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18D88-FA8E-49FB-9A16-DEF9B766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4A6F2-D91D-485A-B8D5-4BF7B33B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FAEEC-DF60-4AD4-A519-0A43920E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160C7-BAE7-4199-8EA1-5D61C34B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24E13-61F2-44B0-951E-F2488765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C1B-738B-4BA4-846C-9AF90CF0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5484D-EC4B-4020-A898-A84A6CF5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9F574-77E2-4B0D-AEB4-B5E782F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654CF-9D34-483D-8132-68C2BD9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3AED4-717E-4048-A20E-2AC7996C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25F2E-A40F-464E-896B-CAAC3D5B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A57C-E41A-4811-9E99-C264C879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2E52-B721-4089-B587-4D33CA5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E02-82A3-4163-A59B-EC72E9A3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6CBD-3371-42F2-83C9-654C03F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7D72-522D-4BD8-BAFD-E38662BE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4A3-CFEE-46F0-B5D8-1BB74543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E70A-2BFB-400A-B50B-C20E69D1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25C8-8063-4214-8FBD-42A37CF9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010-B3C2-4DE8-AFAC-641BA8B9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CBF8-C392-4FF1-9C1B-8CED4EF6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EFE-2BC4-4063-8706-3454573E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0FC6-504E-4AB3-88EB-760E7DF3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B047-43B4-4957-8816-7F2A03A4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AE09-4AAE-4327-AF11-262D064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E643-EF8D-4AED-9668-12819F1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3C7E-B54A-44F9-843E-8433D0C6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FD4-C385-4FFB-A48B-3AC82602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A63B-EE4C-4262-85C7-B96EA2A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7CA8-9D44-49C5-9D14-E553BA7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0324-CEF0-4DFF-A947-E5BAB22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5BAA-767D-4494-84E7-2E50F39E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4547-0F88-4136-A111-E24C76A5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E56C-175A-4608-8A0E-C27C6B98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A7F7-2260-4425-BE0B-B299A0BA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DD6A-9A31-48B0-B1EC-CAF4712A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D989-EF35-4029-AEBA-2910BDA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E2A9-3C08-4DFE-B8EE-024DD40D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83A-AFC6-49C3-8607-3CBEC62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80AF1-7AD3-4411-B50B-25C0208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06763-C8DA-4A70-A8E4-BFA2E09B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2571-3378-4513-9BB3-612DC81E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9CA5-C82D-4ED5-832A-4D5DAA6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0890-238B-46BF-8CE2-4CDE1F19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6BDE-7B67-4AC5-8106-98E734E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84D9-F173-479F-8516-46299D44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8361-4E9D-4995-BC7B-4ACD3466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75A0-F6A2-4399-ACE3-BA97992A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C4A5-3CB9-4A1A-97D3-905F7AD2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C29-24EB-4B84-A4EA-AD35C025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8F61-B193-479C-ACCD-5252782B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2445-D569-4234-AD1A-351A46E8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D0323-F0FB-4A51-B9F1-D8A82007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A44F-BF05-42DA-9053-CD514A6E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51D1-9014-4805-AB7D-9A1E3E8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58C27-A99E-4141-A2EB-C0DFE4D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E425-7C9C-4AD8-9B94-A9629D0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43449-547D-44BB-9C6A-DCF8D02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83AD-7458-4BEB-8876-8C4F105B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7ACB-8009-4ECC-AD7C-4F9A3E9F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3C5-77AC-4B1E-81B8-A1450E8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7878-F46A-454B-97CE-AF308543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59553-D6EB-4F95-9644-7B6749FA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C197-2434-4EB6-826E-D2BE1211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1D85-5ACD-4409-9632-98B22A19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7CF24-3E03-4785-B8AA-E28A2AC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EBCD9-0565-48A0-A0F9-1450C8E8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2E344-CC03-4730-B70B-2159590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AD218-A1D7-4F93-A8A3-0501259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C2E58-3498-4AAF-A787-C6872E4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B2A3-F7CD-44BE-A21D-0C8FC74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ACE-CE10-4F96-9A58-0ACDA29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07BF0-D01A-4BFD-82AD-A5CEE97B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1FDDF-5C7B-4707-8DC7-47212E05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08BD-A029-40B6-95A8-D173D274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DA7F-A024-4FBD-A3D5-A81626CE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328F-AC36-4738-B434-DAD60604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D3948-511D-4A5B-9C7D-EB7797AC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E07C-1EF7-4396-A612-0CAC109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5AFE-CFD7-4624-8A5B-00F23F8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7BC16-89E7-47EF-A8BD-644C1CB7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F6CBB-70DB-470E-A7B9-CD952BC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CA4-A004-44DA-AD0F-62D6BB2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05E4F-C34D-42B3-91F1-E4E2C87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CF3E-ACF0-4F3A-89DB-740E7D6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C57BC-4C00-4AF8-8671-19C63052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E960-D734-4D2A-A27E-2FDF5E48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508CA-C2F1-49AC-9853-64BF436C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CF9B0-0F3E-4D21-869D-1F5D4691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5D9F2-4540-4A18-B405-2AA2CBC7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4097-D6A8-4B85-9E05-7BBBCF81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92DF7-BB5C-4195-B1AD-8A3477A5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F86A-4813-4A09-8232-F5B69929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908-BF9B-4194-A601-537BC18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DA43-4EDC-4EB1-B7B8-E6E9C8D3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EC2A3-E0DD-43AE-BD14-504237D4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B440-70E9-412A-9A66-4D66A2C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D00A2-B187-47AE-B799-9AA2E15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040E6-8A71-43AA-B75E-24505BF9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01B1D-854E-4FCA-B9F9-E2158F5D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65E9A-98EB-4A4E-8E6D-34570F7D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43792-14D0-4361-B158-9BCE6C79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942DB-8AD9-4707-837C-C9DF1CDB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6B8A3-E33F-450C-89D7-6E81168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583D-C5D2-4030-95FD-025873B82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6958-C365-4718-92E3-91CAFD7AE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2AF-11CA-4CE1-974F-8D9728574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107E-8ADB-43C6-9D12-F9D474754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7C27-829C-48C9-934B-2BB4E73D36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1C3-AB27-418C-BEE4-9BD60A6F2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A096-7535-47ED-9F54-F744E2816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B44A-5E95-49A4-A3AF-3275470C7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728E-1CCB-4DA2-B3D9-7D24033EB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84CA-BC2C-455D-806B-B799D37BD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7860-A69F-44AC-8B9B-AC89CDC1D4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E42C-DDD5-4E50-B48D-519BB20CC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0 – WHAT TO DO BEFORE LEAVING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1 – THE BEST WAY TO LEAVE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2 – REFERENCE LET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9:20Z</dcterms:modified>
  <cp:revision>45</cp:revision>
  <dc:subject/>
  <dc:title>Chapter 1</dc:title>
</cp:coreProperties>
</file>