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CE5C-C9CE-42E3-AFF0-0DE1EAA1B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178A-5D08-4830-A862-4469A586F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1BF9-0028-4474-9175-2065E4DA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FDAD-3448-4C13-BB59-9E0EDE6A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A1F17E-32E0-483A-B1F3-1E0A931E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F785EC-1545-4EAC-960E-6970E272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8369A7-D669-4878-B225-03C8A1FF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711E93-D9D8-42E8-8CDC-4E8DC880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C1D5D4-9546-4AF4-B141-031B501D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9274AC-B677-42EB-ACF5-2B2C8786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E9B03E-19DB-4841-9483-CF9D582B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BC3942-C7D2-441A-988E-808C7025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443F2D-910A-4283-B33E-37336DA7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B9E43B-EC8C-4650-B10F-94F7AD7A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0083-1E24-4D12-9367-907CE836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816389-49DB-45B6-8B70-ED4B579A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126D67-2465-49AE-8D38-B6949F4F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0F5134-A7B3-4F8A-A778-8F5A5620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B63867-B602-47EE-9D32-93F0752D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4C0133-CFED-4E8A-B80F-9E138876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F76A3D-1A82-4260-BAF2-B196CE21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76308F-A316-41C8-B1FB-0F86B700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7DB983-AAC2-4D2A-9544-EF9C15DA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40BC35-BC72-4DDA-BA1A-161480ED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19EDD4-6D26-4943-95A0-AC3D4538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394A-4CB2-4F4E-8D0D-E3B2752D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3299A4-E7D8-4EE9-AC4D-6C4185CF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3814E-0D41-43EA-B3CA-342FB5A4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9AD14-178E-45B5-8EF6-EAA2AB09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FEDDE-29E6-40F3-A6A6-D853A7C2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CC4D1-D7F7-437F-B08A-1BA71DA9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9E315-B547-45B3-A4B6-FFA125F8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39CE8-76F7-48A5-9AFE-AF8579A9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F1F3F-E162-4910-BFCB-D0C484CD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46C19-2001-43E2-8954-8FF15324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4C2B3-33BE-4948-A269-68A56CF1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47A5-1564-4F62-9184-068AE7AE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9D37B-DED9-4D8E-ADDC-6463887E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30E09-FB18-4558-A93C-A4C6DDDE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2AAA6-494A-48E1-924B-542A27B24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20C733-A90D-4A74-894B-47D8C771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606A8C-CA3B-4C53-B61D-47C83734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116F69-FEB1-4976-80DF-07DAD86C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5D6E22-B150-4306-B312-72FCF304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27D46C-72EE-4CF3-9A31-56C90915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86B783-B798-4BFE-8F35-A430186A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70663A-E11D-44B7-8D0F-388C9C72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22F1-551A-4B11-A23E-9AE2F5C1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6119AF-E115-40A5-8146-D56A87D7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0840C8-D493-474C-A2CA-99DB8F28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62BD46-2A4A-44D2-A9D0-04CBD9B1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CBDAD4-9B64-4075-A5E1-945A90824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9F242B-439D-4B35-AA91-0C8715CA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BC62-D5AB-445B-9832-90905EEA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CBBA-A01C-464D-B5AA-2DFB1DD6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0E72-E633-4083-9209-D8C775A3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DC2B-AAF3-4B1E-99E0-8D204814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E770-C0DF-4192-B5EE-0F3342EC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59DC-EFAC-4A4A-A9A7-97FDF119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1671-3E45-4FF1-9335-EE8B01C1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756D-FBC5-49AB-B1BD-4BCBBE08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132A-37A9-430E-B4BD-A31F74FC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F762-FE88-4560-962C-8A75BA0C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E5D7-0DD2-4D82-942E-BFD4655AC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F8ED3-BE1E-4FB0-823D-66488EC9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A257A-85E8-4A0E-B34C-82450DD0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F8BA6-FBBF-4C2E-AC02-97EA41DF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68893-0E7E-4D05-B0C6-E1CD8905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21813-276A-4785-B1F7-4C788AB5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C10B-3155-4901-BF45-6ACCC393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F4B0C-1863-4381-839C-9E6B17CE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1DA15-476C-44B9-A7EB-43B80294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0D031-0D60-41E6-B80F-A9984852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01111-D72C-414F-84E4-F1333277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FEECB-EA43-427E-BB3F-ED7F090E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B8E36-5033-4895-8C61-52CA5C64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3B633-2EBE-4387-B422-D02D4DB83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B8E6B-7943-4643-A7DA-A2976977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B15C5-A387-44E6-92D5-30ECD549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228B3-9752-4337-9D11-B11F3D82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1C1A-E8AB-44BF-BF5B-E8004058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23025-E367-4F7D-8223-E38C67E8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98E3F-5355-4E8A-BB44-6873E736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E66EF-23CB-400B-BC8F-6097F851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ADDB7-1B1B-4A60-AE09-60B80281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7F07F-3252-4485-BD61-7ED4F648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D495C-EED7-4E55-A3DF-AB3AB1B9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58DAC-646E-4C13-925D-2274ED63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DF4A0-37B8-40D2-974D-5AF0EDC6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8581C-EA1A-4D24-BF03-63F53F3B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34678-AC24-4343-ABFA-46D9075F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4278-0DDE-4BEE-AE09-442EE2F5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08F08-8EB1-4882-AA2E-48BFC888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8D93E-47F0-43D3-A69F-EE235271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25ABF-A082-4B71-83B3-1D2EBFF8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AE86F-DADB-49FC-92DF-5252E140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B6A44-B5F8-46FD-A82C-72B24D33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E344C-6A68-4C66-BB64-C061F749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B6607-EEA6-48E3-B648-59D789DC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FD044-1B9D-4698-9B99-A8EE6B6B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A8216-5419-4A4A-8903-FBECDA1D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5B229-C510-4E70-9188-906B95A6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1DEB-01CB-488C-BBB7-1F136BCC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795EA-A120-49E9-BCDF-BE336022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7A615-CE01-4889-8B69-2F0BC7469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D3CE3-0C45-4AEA-8EFB-31131592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F21C7-EDA7-444A-BE6A-82C95753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7BBE3-3527-44BC-98D3-EC7728A3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25291-5780-40B0-9F97-992D78FC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76A23-3484-4812-A8FA-BCBDA572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E7394-2337-49EC-8E8A-CBCBD6AA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CD641-3BE8-428C-AE5A-D0575DF4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9AB2F-F891-4023-B4E1-5A539010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D1A5-9952-41D2-925C-2FA28FE7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D5322-6D0B-4B95-80B5-E3AB93D0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782A7-197B-4DB3-86C7-B6DA5022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96EA9-2AB7-4073-AF52-D9A5103F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CE84E-1393-44FC-A075-F52D4A85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D5957-C322-4FDC-9FC6-4A7E3B94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2C2B2-DB75-4591-B1D9-461725F2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A5D8E-394C-40F1-952C-1E226D8A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CECEF-64FF-4641-97E2-08BB6C17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6AC1C-7EC8-4689-8A11-2B2157DA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6FB22-53CB-4F29-9CC8-A3E86A58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0B10-A1F9-4E41-982C-C197D680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42CDD-E0F5-4EB4-8AC4-CAB01B0F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5668E-1C6D-4C3A-A319-50F577EE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0500C-2CA9-4132-B356-16D1A375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EDD3D-30DF-472C-B81E-B9B4F936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791F7-4193-439C-9E36-0F9AB5D8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3F927-A2CF-4A7D-8685-E228D446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14066-0198-4F8F-8CD4-4DD99401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A9624-6F08-41F6-B60B-592FC3DC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58FEF-D015-438A-8055-3D8B7558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97654-36A2-4216-8FC2-25064CA4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6255-C27E-428F-AE9E-FBBBE964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10A20-AACA-4814-A52D-AFC07BE7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1EAAB-5AF7-49D4-BF45-53088D15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BD152-666E-4564-B516-5AC11802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08F88-F327-49A6-94C1-926C5CA6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23E72-5C50-49AD-B60D-E38368D4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7788D-C6D2-462B-9E29-1798BAA1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C8FED-6AF3-4AC9-88E5-0448B1D0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66FB65-0C3D-4FD5-8ADD-5AD991B2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635655-2B96-4123-AED8-C739E2A7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D74C38-8912-43B2-A2E5-A76CCC22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0A5A-6FA2-4164-8F24-1CE683C594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1749-D897-428F-AED6-7E0A69A1CE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8631-9212-4B03-BB15-2BE113B603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4BCE-5ECD-4740-9337-201B311125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9A0A-43B0-4150-8029-9965268FD3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FEBC-E88C-4CF5-AE96-C5110F34DC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E875-41CB-421E-BE0C-4AED298D94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F5E8-379B-4CB5-A6B8-1272D6B642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1C87-4B52-4581-9B55-D49AA59C59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FA30-9989-49DA-8BED-2BBC329E30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D36F-4DF5-4855-9107-CF7F7DE4FB6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05F4-B228-4675-9841-383F038F13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FIND JOB LEADS &amp; RESEARCHING A COMPAN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Arial Unicode MS"/>
              </a:rPr>
              <a:t>Preparing for Employmen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21:06:15Z</dcterms:created>
  <dc:creator>Crystal Oetting</dc:creator>
  <dc:description/>
  <dc:language>en-US</dc:language>
  <cp:lastModifiedBy>Windows User</cp:lastModifiedBy>
  <dcterms:modified xsi:type="dcterms:W3CDTF">2012-12-03T15:18:12Z</dcterms:modified>
  <cp:revision>27</cp:revision>
  <dc:subject/>
  <dc:title>Chapter 1</dc:title>
</cp:coreProperties>
</file>