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FC0A-6BC6-40B6-95D1-984DF4D29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E526-546E-465A-AB45-2D45B7FDC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B71-E16F-4189-860B-F4BB9059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033-B8EA-46FA-B7B4-53FDF71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D092B-F0CA-4203-9F7E-C588F440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ED3B1-5F5B-4E1B-808E-921FCF42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85F34-F3D0-4494-BD2D-CAD9BCC2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9462F-B6AB-49D7-A7A8-875998D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31D75-5212-48E6-A241-02A40972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6F000-EDDC-4DF8-B1CC-08065AE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B3FD8-0477-461D-8DDA-FA32FD7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ABD6C-C7CD-42F7-BB64-D8F1D401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4770B-EDA9-45C7-ACAF-5265E1A4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BF518-30A1-4381-BEE4-803AAD1D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59D-A742-407A-9596-BE4C792B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C6D45-1014-4CA5-8ADF-AE47E2E5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671EE-8FFC-475B-A134-C2DC6BC4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8AE85-5F1A-464C-8714-F94906D4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A61DE-B836-4B69-994D-33FCD40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51777-27EC-4CD5-9532-8FF27742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BA3EC-D10F-4E69-82FE-7340689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8F437-63AC-4729-A9A0-A61575A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66BC6-3FB0-4B06-BD99-E5806092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78B82-7DE7-4160-9B9C-09BA2E82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F243B-C96B-444F-8DCE-701E2057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420-FA44-4AAF-B814-9D905CE8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C86A7-3427-40FA-B100-22929C98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6068D-AE12-4BD3-963D-E281300C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BEF73-D964-42BF-B44B-29195AE9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1D65E-298B-4B58-8304-CD982750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E180E-4C96-463D-9DBD-264E4197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14B93-D9E5-4BB7-8CCB-B48AFF8D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B018-6448-40E9-8348-D608769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D0363-9614-450D-B4FF-BCCB99AC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7CD5E-8FFC-440C-A00F-753EC13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BE98F-2B9D-4B2C-A3F5-936B34E7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61F5-3451-4FB4-8CB5-3308D943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8675C-D29C-4A8C-837B-7BB79559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4D95-09CC-452F-A250-58D6E010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DD49A-FD05-4310-A575-CF58D9C6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E042F-3BFE-43D7-8938-A3BCAAD8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7B89F-DBFA-4B4F-B8F5-B8DB63CD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F335B-E7A5-44EC-AB38-ED25A022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8A554-5D93-4817-BED8-ACBEB10F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4E4E7-44A7-43E8-93F9-06559E72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06F98-8A73-4050-ADDB-8588167C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EBE14-19C3-4614-B8A0-6031789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8CC9-824E-4835-BB44-BE892228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C2E82-100C-4023-AFE6-440A640C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5FEF6-B989-49A8-9C69-CB40A38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89301-01B0-4447-A792-593C9AE2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9EB6E-127E-4092-B2E3-6C8CC4C7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45898-5551-43CE-B0E0-AF45B521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EFB-2542-4036-A9F5-052BA3D1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1E53-554C-4099-B5A8-910A57FE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3311-2B44-4437-BD9B-2B15B500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1240-D114-48F5-9D95-9820F2D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DE22-DE10-4928-A495-FF08E05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64F-0F54-4731-A22D-836F81C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5B01-961F-48B6-9D40-5764046F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B606-E2F3-41DD-8107-A0B3FBB8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8563-0A7E-47CB-AFC9-24C86711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1B0C-5A1B-43CB-948D-AA778368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D732-8260-41C9-B2D8-D4B2B0DE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9D3E-62E9-4EB8-B677-096D72D4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D851-B053-4F43-8838-998B5727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CBD1-1468-47CE-A856-7B21CB39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2A69-1B99-4BCF-86FC-11C44C47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0DC7-2380-4170-AB97-D5FE0793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2FF-725D-443E-9168-7A0EC6C7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DB5A-7648-4A02-BDCE-743B5F70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21B1-F96D-4CD4-AF18-8C9884F4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9AAA-CBD1-4F7F-BDC4-A39A065C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DCCE-E1C1-48C1-A6AF-03EF4F7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8B37-5ABD-475C-8F6F-DE0C603D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50E4-DA23-4840-A55C-B02E3178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1122-34F3-4103-9848-CF9419EF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76FC-F975-4080-8F82-E65D0E36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B7CF-F5D3-41B3-B74A-17996555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9EB6-8840-4AC9-B6F6-0D53B794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15F-299D-4EFA-AEF4-5B97982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394F-1B0C-4E8F-AFBD-C8096120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1FC7-8658-4798-AD6E-202CAC0F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CE04-DBE4-4BFB-B784-E4E3AD6B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7B81-6C72-4E01-A299-8A05383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7222-55A8-4735-990E-EE55C8C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0BDE-E739-4E44-A60F-041DFAF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C70D-A761-41F3-B13C-112620F2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6087-897D-4374-8BD0-F8717F93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E733-9953-4CA3-9A8D-5ABED01F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793A-41C5-4E96-9B36-21040CD4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53D-0F70-4D99-89FB-49F3A9FC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28A2-9209-4404-B9F0-3E79CD1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1AC7-C038-4D47-92BF-7666301A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99B9-E2DD-4532-957A-8AEE05CE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2F0E-A230-460C-9885-FF7B124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3F2C-CC5B-4F66-B13A-2CCB6476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97AE-FF7B-4AD3-B017-D402F6F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0346-C128-4273-B110-85032A3A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1CB9-2FE9-45D7-959F-3300036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0124-F822-4C88-8E14-4E2524A4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2423-E741-404C-A704-10574C0E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0B5-8766-477F-A575-D461BB2D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32704-0DCE-4B6F-96CB-D653683A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67986-B69E-4C78-8F61-77C51022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9203-5A9A-4E4C-AC22-B833692B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C71D-6C3C-4371-9788-164B487A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25F55-8A4D-4EFA-AEE2-086DB26F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D2AD-DDBC-44FA-90FD-4AB5FEE6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23CA3-4CAB-4B06-A427-CC65C115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68F9-0C8C-40F8-B87B-E58D321A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2577-BE15-49F2-8CC7-0D76E834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A949-2DDC-4C2F-B50E-B1D7209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991-4AE5-4DC3-AFBC-1B8BCE6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A2CFA-C8BA-4EEC-ACC4-9C9F9DE1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1C9D6-7204-4524-80E5-8F073DED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BF808-628F-4834-B4F3-0C7BF1B6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EE1D-2C77-48DC-B506-3AD801D5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5A4C4-AED6-4658-97E2-D8A11C0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7B2E8-4A20-49EF-8B2C-99B57463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44BD6-8F01-4CC3-9A4D-E907BF50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D469-00BE-4B6C-B452-3C8026B7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6EACE-0534-4626-9EB1-2938D47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CE949-EEEE-4015-802C-B6EEA01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B50-72A6-4220-886D-47EB3CA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BB6BE-C4E0-4F57-92ED-5EDB4C53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50C8-1B35-408D-8E78-AD272B2B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2D9B2-7E9D-47E4-8D7B-976A879A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9C6D-381F-40AD-A11E-E4E84B56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9DBC-2886-4911-9E81-3DC72B04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6E73-261B-4BEE-BD06-E419084F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D5FE-CB54-4F75-BF88-2D197423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23EA-A430-47EC-A061-38BD8D4F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70204-430F-4DA0-919A-B66B689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60871-68AB-4243-8D56-2B69CC6F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204-B195-4660-A6BD-8484956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89F2A-B1AF-4064-9B7D-7F7EAC30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09F3-B70D-452A-A3B7-33DA7E6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C3901-9D44-4EC9-859E-1A3A450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D0B6-D12B-46F0-B148-82AE023D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E9C40-D7B0-4717-811C-B18A8275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92CC9-9EEC-49B3-AC7D-E0E82020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2E650-ACCC-4F8D-BA47-155DCC5E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229C9-7289-4C82-8AFB-48D4C618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2F4D1-2442-4AF2-A9B7-5CC2892B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A5CB9-5F51-4772-B0D1-460F1F3E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0F72-A9DC-467D-8140-D154A0423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9CA1-58E2-46FC-9564-AD64EEC59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DB1-8CB1-4D35-AB94-13C7539B2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B160-05CA-4657-BB6D-FBFD03ED0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6968-7EA0-4FF3-BA81-7008690B1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72E7-8292-4BBA-87F7-60B48CC3C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0C93-9A5C-44A4-83EB-2F30CE363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6C6E-E0D0-4E4A-9E90-4523BC386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E764-437E-4429-BF73-B7E59CDE6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59D7-C3B5-47E5-B4B3-3B0B4049F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772F-3879-4851-9979-3AC01B0BD1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4D9-9F3D-467F-8F81-B72ECF391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OB APPLIC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/Employment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employers make the application a require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lude basic information on your education, skills, work history &amp; referen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n if you have a resume &amp; an interview, you will usually need to complete an application for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 honest!  If information is discovered to be untrue you could be fired later for falsification of company docum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b9899"/>
                </a:solidFill>
                <a:latin typeface="Georgia"/>
              </a:rPr>
              <a:t>What do employers look for in an application?</a:t>
            </a: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follow instru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eep it neat, fill out the application neatly and completel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hold a jo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estions concerning your employment histor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ur achiev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ntion past accomplishm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orough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swer all questions, no blan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raw a line or place N/A (not applicabl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 Applic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include a resume with your employment applic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ing an application does not mean you will have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ting the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LOW DIRECTIONS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ther information and materials needed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k pen(s)  - blue or black ink or type!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ent &amp; previous addres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ocial security numb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 information – names &amp; addresses of schools &amp; da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records – names, addresses, phone numbers of past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usiness or machine skil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ame of organizations you have participated i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st of re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pies of your resum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7:33Z</dcterms:modified>
  <cp:revision>26</cp:revision>
  <dc:subject/>
  <dc:title>Chapter 1</dc:title>
</cp:coreProperties>
</file>