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046C-2268-433C-9254-D8312B803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22FA-4C15-4168-A92F-8D4E1E2A9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0520-606D-4A6D-A8C0-6651868D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2AEA-50B6-4D61-A4A7-4CC33E7B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77453E-5EDA-40CB-949E-A34A92B5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5D23CC-52C3-4140-AA7B-48310683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188CF9-A64F-458D-BD0B-8D74B2DA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8040B0-FA3F-43A7-8B86-16470A27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AE99BB-B07D-4FF3-AF45-D0B50C48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2B09A6-270B-48E6-9506-5B04D1EF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A3AC6F-FBD9-4C16-9636-8DC4CDE0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BF9828-15F1-42C2-B5B2-D9754CB5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D6853F-F9C7-45D3-9201-7F0511D7C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C2AE46-5E4C-454D-8838-F60B7E11D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F503-9D89-43B3-B24B-51713D0E6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706E78-2E5C-4E23-B151-F1CAE8CC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097271-CF24-42B2-A894-94B27D2C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E7D2E8-9C17-489E-AF84-2900313D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81E899-DAC0-482B-9D95-E1B9A171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B4634B-3F6B-4FB1-8B6F-A6D8ED4A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BE7A0F-0A4D-4687-952E-80971BF9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730A82-98DE-48BE-9F41-04BD89CF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488005-2A17-455D-B2CF-8B304018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A55E83-7F5A-4ADB-AEA0-AF40980E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EACE1D-71CC-4E4C-91AE-9FCF3F725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BD0B-0524-4002-9DE6-6098BDC0B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58ECE3-622C-4A3E-8EA2-7A6FF3F8E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E92F3-1855-4D69-A82C-DAFCC7F3D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73E17-1D1E-4922-B506-EECD80CE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6CF60-CFE7-4372-AAFD-55A6ACB7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B123A-326A-4A5B-A840-433BBD70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42E28-0483-46A1-AC30-0032980E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58AC1-2BA3-46A9-A10C-E369133E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81EA5-C1F4-4210-AFE8-BB3340E5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684E0-D96A-4D84-A7AF-B72850FD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BF154-D937-4BE8-9E79-B5503F7D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8304-A857-46B7-AE98-1E9EEF3B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B2EBF-2671-4DFC-A24F-017D847F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C7BFC-9782-4478-BDCB-DA44EEC64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50BD2-2E64-442C-A0DC-6D0095C6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390ADA-1669-4F52-8730-9082DF1E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F671FE-AF01-42CF-94EC-EBB4DEF8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D4728B-2CC3-49A8-B13F-A0C487BE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FC3D3B-6C51-4F9D-97D1-FE2E8D16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F5E369-8F36-4A59-B047-9C7218F8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4D7303-D8CE-41FA-8A95-0CFF213B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640029-30E3-4506-B9D5-EFD0FBBC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0B93-DB6B-4774-8AB5-2AA6ABF4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3D436E-765A-4CD6-A631-49109ED2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2425F6-DBD2-4C22-A858-2DD816E2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FE8749-B3B9-4AD7-8C03-047D7DBC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2C5BE9-EB56-4744-85DF-9F4A5387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D1BD77-3877-4CAB-9DA7-DB61067FD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4F63-71BE-47CB-BDA3-E78AF17F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1149-74CB-4FFF-B517-0A8E2317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CAC4-1031-4D61-8EC7-0C90FA0A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8A99-5247-4CE5-A618-FE8E7C92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C70A-665C-4D0B-B0BE-4EE3AE5A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6101-2F66-4BD5-8A47-DE0CDC53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455A-4411-4F09-B899-DDFA1C06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EA2C-0076-4950-BB56-FF6CBBDE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C20F-D648-4812-A287-FD262FD7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2B78-EDD8-4732-8326-AEAEDCB6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0532-7B88-419B-ABA1-3919976E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8FDA8-0421-49F7-BFF6-2124F8CE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B739F-5E61-4220-A020-A3370D65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57447-2306-41C0-BBAC-01CED7F1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8BCB2-BFAC-4C6D-B714-7F36C681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3C1B1-9DE6-4354-A829-B81A183F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B958-9CBE-4F63-A11D-77985635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34665-ED4C-412C-AFDE-F225EE42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8841D-EA0D-4CA3-B7C9-74E87082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A19BA-C461-4739-A30E-A5B19B91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66ABE-F785-4EEE-906D-CD6655CB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2C0CC-6FD2-40B3-8042-F3994559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E9957-A28D-41A2-8186-3A445C68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72179-AA83-496D-8606-698D1BFB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0C631-E270-47DB-957A-DE4FBA672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C8A20-AB32-485D-8E4B-7E95A8DF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E7D87-F910-4AFC-9EEA-97DF5F9D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1DDC-C278-481B-9BD6-2A14C79B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1968B-0C07-4B61-926E-46EA78DC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9EF0A-0F5A-4243-A6B9-DC4A2681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99515-E13F-4D24-9E5F-59303FBF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63C31-699A-4A30-8BFD-DC47C8D7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545F1-9F06-4CC0-8008-F64AF18C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16308-4973-478E-89B5-938E20E8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812D8-E751-4888-94DC-EEED289C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42C11-2468-4B6B-983C-F5BFCA93E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E5AA0-F713-4209-AD77-5647F86F7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471A3-59F0-4F5D-B802-191E682A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7F48-3A8E-4674-A08C-5F990400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22829-4F16-48FD-B45F-2E9418B2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71AA3-F478-40FE-989E-9B3F8645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BF3A6-F2DF-44CE-9693-9455D517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9A65F-3E6D-4872-B1A3-5D15AC19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100FD-85A5-4E70-94E4-B2FDB502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CF749-85D7-41E0-9A79-95498671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D2D48-7262-4C9F-8044-D348A043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73AE5-B469-4AE8-916F-D0B756D4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BB2ED-48C1-4D84-A9F4-EECDDD20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D6F11-AE6B-4815-B03E-06013FEA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E451-ADEB-4E69-A84C-2DD247E2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82AC5-A131-4644-B1A5-BB07B23D3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F4144-F29C-47DE-A4A4-FF29EECB1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33107-B181-4918-A75D-EA6F62E0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DB76F-AE29-4623-AAEA-F4C1A29A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26DDF-6C36-4BF1-BE3B-571F0A45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837F5-2DA9-4F83-96BE-F7688F7A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5DC95-32DE-447E-A458-3D56E101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35F07-8C28-4605-B4D3-1642DEAB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2B604-334C-4E36-89B5-FDBABE7C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925C0-D886-4657-A4B4-FAA347EF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0BA8-6593-4117-8C1A-A95564A5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94477-ECBD-46FC-BC3C-EC6B09E4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93B5C-8E55-4C88-B9C2-9772231E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E15C1-DB52-470D-8F4D-A4BC5B76D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D1DBC-055F-4EE0-A263-B1199647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D6F65-1B73-43DB-B1D8-4F696854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417FE-6F85-4353-80DD-F1201D0C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2ED9C-A637-4C60-BFAD-C6759A08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F70B5-754B-44DB-A217-ADAB5904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97FBE-517F-4A2D-9BCE-CF008FAD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11D11-43C5-4175-950A-6D4629F1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0EE6-EA90-4F75-9D71-1C43CCBF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EBCD6-29A9-484A-96B9-BB4B89CC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4C5B5-707E-4DD1-89A3-B0CC3D6B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10505-6E0E-4D03-ACE3-CD758D8D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1EA3A-A1A7-4647-BCEC-5C22DFE3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C35F2-3954-424D-B3E0-68E93EA8B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686C4-4DF0-40D1-B3BA-60F2C639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0087B-140E-4BD0-908D-B7964535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722CF-588D-4212-8A5D-69DFB4A5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40B8A-1018-45A3-8076-1020EA7E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25176-6536-4326-B652-4AAA9E3A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E834-54F5-4EE4-8976-19AE1FB7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ED19C-2CDD-4CC0-A70F-7530B1BB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0C145-44DA-4C43-8F20-3A5D5314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3F888-7CA0-4CB4-BC8F-2BF13527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D9C30-E5B8-489B-909E-3B1E24E7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2423D-DD0E-4B92-ACB3-ED8E9977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45E9D-D4B1-4E27-97F7-347E271A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0C570-4360-4759-8A88-DC660628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970074-745C-4826-A646-B02217E7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E046E3-6282-4851-973E-EF8AC436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F60D51-3CDC-47A2-94F8-40BD397A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6260-2F4D-48D1-B6D8-300D09B2F0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9716-DC31-4D0A-B70A-4779EE2742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4348-EC3F-4F68-A846-6427B8DA5B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9122-6F18-472A-9B8A-A23B3998AB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9169-66A1-4F1C-8F8E-D0CA1157E1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670D-D020-4719-9333-D051A2B226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C4BD-3D46-41F3-A503-8AD9A708F8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6525-0D79-4C85-A3E3-0A7DE9120E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7249-0F14-4D5F-9FE4-924995CDF8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209D-CF53-4A6F-96FB-2D199C807A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2F09-6952-40E2-BE82-A1FE2B7FC31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BDB5-1725-4B02-AAD7-623DB6E793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JOB APPLICATI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Arial Unicode MS"/>
              </a:rPr>
              <a:t>Preparing for Employment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Job/Employment Applic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ost employers make the application a requiremen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clude basic information on your education, skills, work history &amp; referenc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ven if you have a resume &amp; an interview, you will usually need to complete an application form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e honest!  If information is discovered to be untrue you could be fired later for falsification of company document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b9899"/>
                </a:solidFill>
                <a:latin typeface="Georgia"/>
              </a:rPr>
              <a:t>What do employers look for in an application?</a:t>
            </a:r>
            <a:endParaRPr b="0" lang="en-US" sz="3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bility to follow instruct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Keep it neat, fill out the application neatly and completely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bility to hold a job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Questions concerning your employment history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Your achieveme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Mention past accomplishment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oroughnes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nswer all questions, no blank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raw a line or place N/A (not applicable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Job Applic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lways include a resume with your employment applicat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pleting an application does not mean you will have an interview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mpleting the applic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LLOW DIRECTIONS!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ather information and materials needed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k pen(s)  - blue or black ink or type!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urrent &amp; previous address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ocial security numbe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ducation information – names &amp; addresses of schools &amp; dat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ork records – names, addresses, phone numbers of past employer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Business or machine skill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Name of organizations you have participated in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List of referenc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opies of your resume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21:06:15Z</dcterms:created>
  <dc:creator>Crystal Oetting</dc:creator>
  <dc:description/>
  <dc:language>en-US</dc:language>
  <cp:lastModifiedBy>Windows User</cp:lastModifiedBy>
  <dcterms:modified xsi:type="dcterms:W3CDTF">2012-12-03T15:17:33Z</dcterms:modified>
  <cp:revision>26</cp:revision>
  <dc:subject/>
  <dc:title>Chapter 1</dc:title>
</cp:coreProperties>
</file>