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C719-529B-4DBB-BD7B-4C69888C6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0FF2-2E9E-43C8-81B9-C23CB5854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38B-2D47-499F-8533-D49B7683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FAA3-AFCC-4B67-9A83-98EF3716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1537E-D170-4D66-96EA-CF3452EF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A29CE-9D34-4B36-99B8-109BB852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34E66-9C96-4594-B79A-C4927237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B81C1-533C-4B5B-A7B3-3A2C3AEF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403A3-F61B-4377-A506-1592488D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6893B-BE2D-4CC6-AE0A-CCE30C7B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EBF6CC-D1D0-4897-9D94-F9940E18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8D513-8863-4AAE-B228-349C259C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65433-AF2E-41EB-A5DE-D2BEF6AD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C257F4-BD14-41D5-AD9C-44F47A38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2FC-F559-473D-8006-3D213B9F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1BE9F3-7314-4C43-BEF7-7418DBAC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6FBBB-7B30-46BD-AB7D-09DD7DF6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67F4F7-A908-4774-8B42-45E75CBE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3415F4-56E0-44A1-947E-F1F06F2A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AA7D5-0FDF-4687-9901-57B58AE6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C774DE-8A00-440E-BA5C-21FBA539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99DE4-D2CC-42DC-B0D6-AC75840D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60D5D-1DFD-454D-A48B-6519592E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A1805-962E-4CE8-A034-AF43EA20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367F92-0F28-44F6-B522-CC0CCB70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2D3-5EB4-457A-B437-61143C5C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CFE4C-D9DA-4E27-AD36-E7B3B34A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ACF9B-A7E7-4D99-AA62-F779574C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D7AE1-1A1E-4DFF-A268-D38493F9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16A3A-DDBF-4208-8300-A76AC86D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B5BCA-E012-4DC5-B154-D4C1DC35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A2FFF-04CC-4E68-9F1C-529201F0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58E7A-6751-4732-990B-98FCABED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7E10E-95E5-42E6-98D1-12A58363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CF349-6ECE-4036-9977-18C1541D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25CA5-1C74-4450-B31D-00BE1A6A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F33C-4A48-461D-8B50-E80307FD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3C0B5-819D-4DD9-8AFE-7C7952BB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C30D7-19D0-43BC-A5CD-24031988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93149-E9AA-440B-92B2-9070EFA2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64FC79-FA63-4828-ABFC-5E21A061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9821D4-EA76-4AF6-AF94-EEFACFFC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801C1-EF86-475F-B9B7-D3F006B3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5E728-505D-43B6-8B63-CEDA41E2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4431F8-A0A2-40EE-8A3E-C1F4F1AA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216AB7-8193-4663-B966-87FAEDB2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16465-D620-4638-A0FF-73841201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BFF8-AB9D-44B7-859E-2C584539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B18AE9-8BED-4857-9D29-4C483843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A6E85-C7CA-4C88-8B97-0025FBF6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702A9-3629-40A6-BD00-D85CDBF1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A130D-9BCB-42FB-93E2-33E82DE1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CAC3A9-F9A4-48E4-A2FD-D4567DF3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0172-384A-4410-AEE2-99EE320A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9374-4DDA-4961-A1EB-F10BED92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A1F4-546A-4EF3-8090-1D886C69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34A3-3B0C-41D3-96B3-FF1CD664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5CF4-4B69-411C-8D5B-F5CDCD83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B2B-8807-44B9-BBC5-91D15121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752D-FB1F-41FB-9F5E-486849ED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3E57-D8EE-469B-B622-CCC98D9B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510D-BA04-4473-AEBD-E2C53E8F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7ED4-796E-4C61-B832-4C6FE0A0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F238-B2A3-4337-A211-2B2AAE66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C4009-9A07-4651-B3B4-00E7BEB7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C5E2A-BAC1-47E6-89C9-74630C4D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70AFB-7BDA-4810-A524-38CD69A1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AFD41-C849-4B96-B184-49680D0E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2757E-2F03-47DE-80AD-CEEC1823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4A0-4174-42AB-A3A3-C3C96F19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DD683-1702-441B-9701-1F556097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89B37-1D46-41BD-AEFF-1BB92F41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FAF45-F7C2-4A17-B67C-388CE988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B6FD7-7117-44C0-8B82-4EAEBDBD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8615F-2DEF-4D31-B8FF-0CA375E2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64734-6E6F-462D-AA56-578EE7F2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26861-838F-4AA7-BFF9-84827DD9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F6B99-0F49-4A89-865F-DB712628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BA76F-8C6B-4EF3-8664-AF25F32E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F952B-9468-49F1-9834-B12A57EE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2B9-13EC-4651-875D-0B8B0275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A6CA2-6886-4EDB-B98A-716A92FE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70675-1D08-4DBE-9841-0CFBD863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25BFE-C749-4C3D-A0DD-602A12A3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F40D3-209C-490A-AAFD-BE98CCB3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5E665-4162-4796-B4CA-3A643B37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CBC9D-7039-4FBB-B92B-929FB563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7CAB1-00A6-4800-9ADF-420C8473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CF7CF-FDF3-4799-B1E0-B8101033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B4036-6FBE-4B49-B958-2099EEA8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0C07A-C76F-402C-AE29-EE9A5EEF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8B8-77AC-402F-9200-03727C5E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32052-8E77-4015-8860-F2DDCCF5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BBAD3-BA1F-4FE5-9607-454CB7BE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A3D79-0C59-4E3C-8ACD-B5D174FE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23512-392F-4B46-A572-909D9DC2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45265-43AD-4818-AE8D-9B52A0A5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E1CBA-6033-4B53-A323-1CD9FC30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B4086-2822-4AC4-82D3-1B30ADFB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640FA-FF05-40EB-9C0E-3C69BA81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3B848-2C3A-429B-97BF-F19A0117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8EBB6-4AA0-4953-9E85-3936C74C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F2F-853C-4BE5-B8BB-9277C5DF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8B76C-04D3-41E2-A4A3-7EE20108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66FBC-9E1D-4ABA-BC4A-04B31854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298D5-A47A-4051-A20D-703B5752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54A7B-568D-40BA-8A05-C211FF15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9648B-BBA4-44B5-98CF-C4CBF2AA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550C6-63B2-41DB-B15C-F38ED531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69C64-3C84-4A70-8D96-7EAB6DD6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9CABF-4D1E-43F6-B41C-4CE00EC3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6EC6B-A4D3-49D6-983B-E084E30C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CC0B5-551B-4A2C-BC15-47F84940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A4E-5D94-4B10-9222-599A0B7E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E26F4-0F0A-4E95-8812-1752F9B9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DE1D0-C003-412A-B681-CE6428E6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94B01-CF30-43A3-98D4-0ED6B6E9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9B306-C29D-4299-A9EA-A4853BB0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F1A8F-25A3-400D-A30B-25BAFABF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3EAEA-DFF0-41BE-9607-711644CE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28699-9BFE-48AE-86FC-4C1DFCEF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C8120-ED31-404D-B11A-B3E8ECE8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7BC6D-5DA8-4B3A-A9F5-F16EF9BE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4C055-4CE9-4E8C-95D2-D9A74113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742-745B-4D1D-B2A3-590DECDE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07C94-B979-432A-BF13-6E1BA1AE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B0508-D6EB-4CDB-B679-CBE96E1A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8A2EC-90AE-4A4F-A5EC-EB15A0F7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0411A-8F51-4120-A24C-B930BF97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1D67A-D0FE-4951-AA0A-3084A3EF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10309-9F65-432F-B4BF-542C88A1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0410E-8B02-4F68-818C-08B0C767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199AD-CD28-4D4F-9063-6155F37E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8DC93-7F4D-4DDB-8366-E1CAEFAF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148E6-9B9C-48AC-BD1F-B16CB8A9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B44-7595-40A8-8E53-1D423E62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F8565-25E9-4942-925F-6D24ECBE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21275-AB6B-40C6-922D-8131BC20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237A9-814D-4B5E-A0EB-D0C71388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6C35A-ABC9-47DA-902B-B0433945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28781-BC0F-413D-B0EF-8BED7B37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535C3-3934-48E7-B259-55315A62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032B2-88CA-4EEE-AEE5-332ABA95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D653A-8E53-46EA-9723-ACAAD4CF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3CFEAC-953F-4D09-B95B-805C035B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CB8C6-B9B0-4AEC-910F-91E6A53C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372C-2CB1-4157-94EE-EC6A06A8C1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760F-BAFC-4C4D-97A4-0E1A8ED0F0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9C55-CA38-4946-893C-D7DBA97ADB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8689-03CF-487B-9796-1CC998403B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375C-7FC3-4160-BCC9-2A0E77B1BB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0DAD-D2C2-46E5-8DDB-D50A867C6F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604E-E8D0-476F-8A1A-B748130A08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D362-4EE8-44D1-8F78-8ABB4BA11B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8677-5982-4730-80F0-62603B47AB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6350-0D2C-4CA7-BDF7-7FEE3FBAAE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D457-2253-476F-8349-D48F84CFFDE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AECE-9594-4820-80C2-BDFEE9766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EP 10 – WHAT TO DO BEFORE LEAVING A JOB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EP 11 – THE BEST WAY TO LEAVE A JOB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EP 12 – REFERENCE LETTE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9:20Z</dcterms:modified>
  <cp:revision>45</cp:revision>
  <dc:subject/>
  <dc:title>Chapter 1</dc:title>
</cp:coreProperties>
</file>