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5ADF99-CE41-43ED-962F-596A08C00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2B969C-52E0-4940-B361-0DCDBA64F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859-F221-41BB-A275-D60FC828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C3F-53D4-42AE-B8D4-C0A301CC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CDAA6-7DC5-4A03-82AB-7CE60313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E948C-A9EC-4FF0-A44B-C53E68D0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FA3A4-73E9-486E-894D-11F1BD71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6FA01-DC82-4DD3-8377-C381C23F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54C7C-07FA-44D1-A0B5-3FB2303E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D40A5-A36C-4D0E-A16B-F277569F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86661-8116-4DD6-844E-053EF6E1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77168-9C09-4C67-A450-81E64073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77F45-B711-40A2-834E-5CAABAB1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20F68-A67C-49AA-AE8B-3A59BBF8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DBB-A863-4ABD-AE99-58C09C94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1985B-AD86-4814-9F86-439BFDC7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F8242-7D46-47C4-87F9-AC2E9827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C60D5-63DC-44C1-9F37-596AB8E7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0645A-EC04-438A-8051-95D69033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582E9-4C36-4FE5-896E-C82DC94C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EAD02-075E-4D73-A6E7-A531F79D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8BB7C2-E01B-493D-A395-F7F46070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A791B-7D19-476A-93F5-3EDF6500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19BC9-1278-45FC-84D0-C28D4545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8052D-D54C-455D-91B5-86A2E436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A40-A8E4-4FD4-A601-C9966744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592AC-8D09-4B14-8C08-9236DFD2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CDD08-E484-4A44-8336-9F13FE65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B65F5-534D-4323-9F71-7764CEAC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8FDF0-B5C0-4D27-92B7-AB1B7E13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6D4B6-98CA-4AC6-821F-0B101077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40622-934B-4032-B1E0-2B79A6AE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89869-F363-4989-9222-398AE2EA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5AEB5-6E91-4D4C-A722-28896BF1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05BE7-EC74-40D3-AB09-A82438E3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F8271-E410-46D9-B7E9-DBC96D98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4FFF-15BB-4CEB-91B7-A6989745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AA146-FAB4-4E53-8E58-6A35739F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A7D4A-29CC-47EB-87EF-257B345B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36950-87A7-4C74-B9CD-4F2816FD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8B3EA-94C0-4993-93EA-21086F90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879F4-79CC-4C72-8451-4A1B3286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CB321-94A0-433A-A6F8-B245D158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357C1-C4CE-46B4-B737-43D601DC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D5243-E46D-4C6F-B2C1-B055C100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B5EF0-6B37-429F-979F-A31949B0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604DC-D1ED-4B19-9F85-60ED0E04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BF1C-E9AE-4581-8497-E6F008E9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11184-F972-4496-AE5D-24B3630C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A6FDB-5350-467E-8263-FC6BB323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141FD-9026-4258-B154-D0B4CDB3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60761-C4B8-4666-AA61-31396E48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38939-A2D4-47E0-B9D0-06096262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4C89-1DCC-4FA7-A637-501292CB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E968-FFFA-46A9-B3CD-823D9ABB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3F21-50CD-4D37-970B-E2570485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4158-C312-492F-957A-6FD58564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7E3C-986D-482D-821C-DB13F2D8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F80-4F09-44F7-97F1-CAB54ED7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FCC2-6424-42A0-BDC0-8EE2618E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7C25-7275-4EF3-8262-40B2AF02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3B15-18EC-4B62-BCF6-B091D32A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905A-4247-42A0-A9EC-67904440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C5CC-3FEC-424D-9F92-0C5DAF05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1584-0E6E-42AE-88CE-93ADCA6B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B8164-1B44-41B5-9177-9A764306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212BC-D6B2-411B-8724-983100E9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42F9-4DE0-4A68-8D5E-CF373E4A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AD99-F433-4C9E-A8D4-98594132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685-F694-4444-B840-8579C120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6785-5997-41D7-8236-49362064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1F9BE-C036-4FED-AE35-3B09A474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7D96-E397-4736-9572-6586E641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351A-9E98-4A2C-81F8-D558186F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DDB2-F431-426C-A547-E19B614B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8A0FE-C0AD-40DE-BC05-53682F45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ADC4C-23EA-4C21-9E48-37ED3C9C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D7B38-C653-48ED-9700-EA8F5AC9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F4F90-E8AA-471D-9742-F5878958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BC808-268C-4DAD-A069-9D93E537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3E7-B38D-493B-B45D-1AE90DB4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EF6A0-BFC3-4589-97D6-3E9AB538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23C4A-6824-43D4-A41A-0D738EB1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EA3AF-90AF-4AE3-92DD-80EEF9AE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630A6-2899-4D15-9C5C-8AFBB9E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071A-FF49-435A-8C86-1461896D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02546-C712-4556-A313-B410FE42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FE1B4-AE5A-49AA-A6CA-1E323041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D3356-46E2-441C-9767-4C54D72F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141DB-EC90-417A-84E5-FCFBB057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7C275-5F53-407C-9CF4-85FDD0DF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6FC-A6E7-48C1-8BFF-E6E6FA59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6732A-3803-4ABB-A100-75F8FFB2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CCA74-55B6-4527-AE57-212617B6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FAE53-2CE3-4147-8C13-97005822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5487-C5B1-44B8-8241-8029AEBF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76401-982F-4030-B2EE-21A5E518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C762E-8C14-4E34-9771-3770C9E4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894F8-23B5-4253-B506-8DBAFBC5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0DF23-F211-4441-B2D1-20A3D4D9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8F0BE-9A3C-46FD-8AF2-27F8C2EA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EE10D-31E2-4E04-9D9A-ACF9041D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6A5-41D5-44D7-87D6-5492A636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C3657-906D-481E-B05D-E4673FC5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AEF42-8F91-49E8-A1CE-A1FD6739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ED31C-37B5-44D1-9427-662E23F5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9EBC3-820F-4B22-8A62-C38F29C6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479C0-03E7-4E22-A609-8F1C96BB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3A724-75E6-4FC0-AB2A-294E9E67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2F8A2-6D69-4F40-8841-AA7F48AB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5DE55-CD61-45A2-A9ED-66F22EB1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1EA45-2F8E-4AC6-8C66-9A76C6F7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2F309-0E9B-4C3C-9849-B70A5CF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21B-DC53-452B-9F85-0DF4BE10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56F3B-75E4-488F-B10D-CE7D7921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B52B3-98FB-4EF4-98F5-CD9F310D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7E2EC-8263-4AFA-A037-EFCBF95C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9AD4A-7B3C-46ED-BD2D-00364A71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B5F34-4F95-4450-9F0B-9C01924B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B7E3A-645C-4256-B93F-4B53F8FE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D1CD9-0C83-4F00-84E5-F663157E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A2C9D-1295-41D7-91EA-BF5F5E95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4C6CD-4D4E-4A95-AF19-496D4091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DC0CE-90D0-443E-BD6B-5CC37837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921-5EEE-41A5-9E68-32C01E1E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3ECF5-0281-4855-B4CD-0AA7D70A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49B67-A921-4F3E-9B62-6CC33277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42871-EF9A-4337-86A3-783BC1D2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A26D1-1F13-4883-BF77-3EEAB98E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440AF-E7A8-4729-A8B5-4299CD65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6774D-1C51-4FA5-822F-4EF9D357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5CC2E-A380-46EF-9EB8-F13AA8AE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002EC-8F3A-410B-97CC-246978A0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0D7A5-98A0-4A35-8D2A-216B9542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DE9AA-2922-46DC-8215-D5C1F312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7D2-76FB-480F-8B12-DB5F4C96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BBF3B-8A4E-4DAD-96D4-31BDEA62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B1682-E5C5-4A4C-82C2-B22690F6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996E8-1D3A-4B3C-882A-F8FFE64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07AD4-B0D6-476B-AEDD-EF6E7FFE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2BA1F-38A2-4A71-950C-E7C0BB5B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C9EAA-D0A4-4CBE-A40E-DC1EAC18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23DD0-45B5-489C-ACC3-E3530239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1301B-9586-4133-856C-630F3CEC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A581C-C6B8-463D-A75D-7FE52AE6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EBB19-9C4E-435D-AAE3-67D0EDC7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FCF8-F935-42BF-B9B8-68EAC1C1A5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6CD5-8B59-4475-90C9-B6225547E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8FDF-5843-4A68-8262-422481691B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4BB8-191D-458A-84FD-203BCDD2F5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D7B4-ED39-499F-89A4-C1B496D8C3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4020-1BDE-4A10-9626-D5DFE038C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0487-B0C2-44F7-A995-C4D6D99E42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788B-3A10-4631-9ABA-D6DBC1CBBB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7191-FA2D-4622-8AB1-EC998C97EA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F119-B9B4-4B12-860D-65DDDA3D9A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3D14-B0B3-4431-8374-0EF803BF55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F149-3F4C-46CE-BBE9-3457147209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1.  COVER LETTER &amp; REFERENCE LIS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b9899"/>
                </a:solidFill>
                <a:latin typeface="Arial"/>
              </a:rPr>
              <a:t>Letter of Application/Cover Letter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always accompany a resu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ten directly to the employ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flects your interest in the position &amp; organ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be typed with no erro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 paper matching your resu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Business letter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ver Let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w simple paragraphs that state the job for which you are applying, your qualifications, &amp; your request for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ear &amp; concise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eps to write a cover let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dress the letter to a specific pers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52560" indent="-49536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ll the company to get a name of the human resource manager or manager in the department you are applying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 the purpose of your letter &amp; position you are applying fo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 qualifications that make you well suited for the jo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quest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gn your le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e brief, clear &amp; careful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ofread your letter for cont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someone else edit your le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ver letter cont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ning paragraph 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are you writ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sition you are applying f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you learned of the open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ddle paragraph 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are you interested in working for the employ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you desire this type of wor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int out qualifications, achievements, training, etc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osing paragraph –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fer to resume &amp; encourage ac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sk for an interview or end with a question that requires a rep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ference Li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references that will speak well of you when they are asked about you by a prospective employ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lect those that can talk about skills that relate to the specific job for which you are apply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od references inclu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rmer employ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each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rien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ighbo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general, family members or relatives should not be used as referenc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6:53Z</dcterms:modified>
  <cp:revision>24</cp:revision>
  <dc:subject/>
  <dc:title>Chapter 1</dc:title>
</cp:coreProperties>
</file>