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01"/>
          <p:cNvSpPr/>
          <p:nvPr/>
        </p:nvSpPr>
        <p:spPr>
          <a:xfrm>
            <a:off x="8460000" y="660708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. Martin</a:t>
            </a:r>
            <a:endParaRPr b="0" lang="en-US" sz="1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33.xml"/><Relationship Id="rId8" Type="http://schemas.openxmlformats.org/officeDocument/2006/relationships/slide" Target="slide3.xml"/><Relationship Id="rId9" Type="http://schemas.openxmlformats.org/officeDocument/2006/relationships/slide" Target="slide8.xml"/><Relationship Id="rId10" Type="http://schemas.openxmlformats.org/officeDocument/2006/relationships/slide" Target="slide13.xml"/><Relationship Id="rId11" Type="http://schemas.openxmlformats.org/officeDocument/2006/relationships/slide" Target="slide18.xml"/><Relationship Id="rId12" Type="http://schemas.openxmlformats.org/officeDocument/2006/relationships/slide" Target="slide23.xml"/><Relationship Id="rId13" Type="http://schemas.openxmlformats.org/officeDocument/2006/relationships/slide" Target="slide4.xml"/><Relationship Id="rId14" Type="http://schemas.openxmlformats.org/officeDocument/2006/relationships/slide" Target="slide9.xml"/><Relationship Id="rId15" Type="http://schemas.openxmlformats.org/officeDocument/2006/relationships/slide" Target="slide14.xml"/><Relationship Id="rId16" Type="http://schemas.openxmlformats.org/officeDocument/2006/relationships/slide" Target="slide19.xml"/><Relationship Id="rId17" Type="http://schemas.openxmlformats.org/officeDocument/2006/relationships/slide" Target="slide24.xml"/><Relationship Id="rId18" Type="http://schemas.openxmlformats.org/officeDocument/2006/relationships/slide" Target="slide5.xml"/><Relationship Id="rId19" Type="http://schemas.openxmlformats.org/officeDocument/2006/relationships/slide" Target="slide10.xml"/><Relationship Id="rId20" Type="http://schemas.openxmlformats.org/officeDocument/2006/relationships/slide" Target="slide15.xml"/><Relationship Id="rId21" Type="http://schemas.openxmlformats.org/officeDocument/2006/relationships/slide" Target="slide20.xml"/><Relationship Id="rId22" Type="http://schemas.openxmlformats.org/officeDocument/2006/relationships/slide" Target="slide25.xml"/><Relationship Id="rId23" Type="http://schemas.openxmlformats.org/officeDocument/2006/relationships/slide" Target="slide6.xml"/><Relationship Id="rId24" Type="http://schemas.openxmlformats.org/officeDocument/2006/relationships/slide" Target="slide11.xml"/><Relationship Id="rId25" Type="http://schemas.openxmlformats.org/officeDocument/2006/relationships/slide" Target="slide16.xml"/><Relationship Id="rId26" Type="http://schemas.openxmlformats.org/officeDocument/2006/relationships/slide" Target="slide21.xml"/><Relationship Id="rId27" Type="http://schemas.openxmlformats.org/officeDocument/2006/relationships/slide" Target="slide26.xml"/><Relationship Id="rId28" Type="http://schemas.openxmlformats.org/officeDocument/2006/relationships/slide" Target="slide7.xml"/><Relationship Id="rId29" Type="http://schemas.openxmlformats.org/officeDocument/2006/relationships/slide" Target="slide12.xml"/><Relationship Id="rId30" Type="http://schemas.openxmlformats.org/officeDocument/2006/relationships/slide" Target="slide17.xml"/><Relationship Id="rId31" Type="http://schemas.openxmlformats.org/officeDocument/2006/relationships/slide" Target="slide22.xml"/><Relationship Id="rId32" Type="http://schemas.openxmlformats.org/officeDocument/2006/relationships/slide" Target="slide27.xml"/><Relationship Id="rId33" Type="http://schemas.openxmlformats.org/officeDocument/2006/relationships/slide" Target="slide27.xml"/><Relationship Id="rId34" Type="http://schemas.openxmlformats.org/officeDocument/2006/relationships/slide" Target="slide2.xml"/><Relationship Id="rId35" Type="http://schemas.openxmlformats.org/officeDocument/2006/relationships/slide" Target="slide2.xml"/><Relationship Id="rId36" Type="http://schemas.openxmlformats.org/officeDocument/2006/relationships/slide" Target="slide2.xml"/><Relationship Id="rId37" Type="http://schemas.openxmlformats.org/officeDocument/2006/relationships/slide" Target="slide2.xml"/><Relationship Id="rId38" Type="http://schemas.openxmlformats.org/officeDocument/2006/relationships/slide" Target="slide2.xml"/><Relationship Id="rId39" Type="http://schemas.openxmlformats.org/officeDocument/2006/relationships/slide" Target="slide2.xml"/><Relationship Id="rId40" Type="http://schemas.openxmlformats.org/officeDocument/2006/relationships/slide" Target="slide23.xml"/><Relationship Id="rId41" Type="http://schemas.openxmlformats.org/officeDocument/2006/relationships/slide" Target="slide24.xml"/><Relationship Id="rId42" Type="http://schemas.openxmlformats.org/officeDocument/2006/relationships/slide" Target="slide25.xml"/><Relationship Id="rId43" Type="http://schemas.openxmlformats.org/officeDocument/2006/relationships/slide" Target="slide26.xml"/><Relationship Id="rId44" Type="http://schemas.openxmlformats.org/officeDocument/2006/relationships/slide" Target="slide27.xml"/><Relationship Id="rId45" Type="http://schemas.openxmlformats.org/officeDocument/2006/relationships/slide" Target="slide27.xml"/><Relationship Id="rId46" Type="http://schemas.openxmlformats.org/officeDocument/2006/relationships/slide" Target="slide28.xml"/><Relationship Id="rId47" Type="http://schemas.openxmlformats.org/officeDocument/2006/relationships/slide" Target="slide29.xml"/><Relationship Id="rId48" Type="http://schemas.openxmlformats.org/officeDocument/2006/relationships/slide" Target="slide30.xml"/><Relationship Id="rId49" Type="http://schemas.openxmlformats.org/officeDocument/2006/relationships/slide" Target="slide31.xml"/><Relationship Id="rId50" Type="http://schemas.openxmlformats.org/officeDocument/2006/relationships/slide" Target="slide27.xml"/><Relationship Id="rId51" Type="http://schemas.openxmlformats.org/officeDocument/2006/relationships/slide" Target="slide32.xml"/><Relationship Id="rId52" Type="http://schemas.openxmlformats.org/officeDocument/2006/relationships/slide" Target="slide33.xml"/><Relationship Id="rId5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20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slide" Target="slide2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" Target="slide23.xml"/><Relationship Id="rId8" Type="http://schemas.openxmlformats.org/officeDocument/2006/relationships/slide" Target="slide3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4.xml"/><Relationship Id="rId6" Type="http://schemas.openxmlformats.org/officeDocument/2006/relationships/slide" Target="slide24.xml"/><Relationship Id="rId7" Type="http://schemas.openxmlformats.org/officeDocument/2006/relationships/slide" Target="slide24.xml"/><Relationship Id="rId8" Type="http://schemas.openxmlformats.org/officeDocument/2006/relationships/slide" Target="slide24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6.xml"/><Relationship Id="rId6" Type="http://schemas.openxmlformats.org/officeDocument/2006/relationships/slide" Target="slide26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" Target="slide27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" Target="slide28.xml"/><Relationship Id="rId8" Type="http://schemas.openxmlformats.org/officeDocument/2006/relationships/slide" Target="slide28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9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29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0.xml"/><Relationship Id="rId6" Type="http://schemas.openxmlformats.org/officeDocument/2006/relationships/slide" Target="slide30.xml"/><Relationship Id="rId7" Type="http://schemas.openxmlformats.org/officeDocument/2006/relationships/slide" Target="slide30.xml"/><Relationship Id="rId8" Type="http://schemas.openxmlformats.org/officeDocument/2006/relationships/slide" Target="slide30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1.xml"/><Relationship Id="rId6" Type="http://schemas.openxmlformats.org/officeDocument/2006/relationships/slide" Target="slide31.xml"/><Relationship Id="rId7" Type="http://schemas.openxmlformats.org/officeDocument/2006/relationships/slide" Target="slide31.xml"/><Relationship Id="rId8" Type="http://schemas.openxmlformats.org/officeDocument/2006/relationships/slide" Target="slide31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CCNA 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Module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76212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JEOPARDY</a:t>
            </a:r>
            <a:endParaRPr b="0" lang="en-US" sz="8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0" name="Jeopardy.wav" descr=""/>
          <p:cNvPicPr/>
          <p:nvPr/>
        </p:nvPicPr>
        <p:blipFill>
          <a:blip r:embed="rId1"/>
          <a:stretch/>
        </p:blipFill>
        <p:spPr>
          <a:xfrm>
            <a:off x="179064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9"/>
          <p:cNvSpPr/>
          <p:nvPr/>
        </p:nvSpPr>
        <p:spPr>
          <a:xfrm>
            <a:off x="1600200" y="6248520"/>
            <a:ext cx="68580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685800" y="4267080"/>
            <a:ext cx="266688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8460000" y="661356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. Martin</a:t>
            </a:r>
            <a:endParaRPr b="0" lang="en-US" sz="1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1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556" name="Group 12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557" name="AutoShape 13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559" name="Group 15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560" name="AutoShape 16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561" name="Group 17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562" name="Line 18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63" name="Line 19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64" name="Line 20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65" name="Line 21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66" name="Line 22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67" name="Line 23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68" name="Line 24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69" name="Line 25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70" name="Line 26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71" name="Text Box 27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72" name="Text Box 28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73" name="Text Box 29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74" name="Text Box 30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75" name="Text Box 31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76" name="Text Box 32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77" name="Text Box 33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78" name="Text Box 34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79" name="Text Box 35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80" name="Text Box 36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81" name="Text Box 37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82" name="Text Box 38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83" name="Text Box 39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84" name="Text Box 40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85" name="Text Box 41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86" name="Text Box 42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87" name="Text Box 43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88" name="Text Box 44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89" name="Text Box 45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90" name="Text Box 46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91" name="Text Box 47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92" name="Text Box 48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93" name="Text Box 49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94" name="Text Box 50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95" name="Text Box 51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96" name="Text Box 52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97" name="Text Box 53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98" name="Text Box 54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99" name="Text Box 55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00" name="Text Box 56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Rectangle 57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602" name="Rectangle 58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603" name="Rectangle 59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4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5" name="Text Box 5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Text Box 61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2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7" name="Rectangle 62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8" name="Rectangle 63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11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610" name="Group 12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611" name="AutoShape 13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612" name="Text Box 14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613" name="Group 15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614" name="AutoShape 16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615" name="Group 17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616" name="Line 18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17" name="Line 19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18" name="Line 20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19" name="Line 21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20" name="Line 22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21" name="Line 23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22" name="Line 24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23" name="Line 25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24" name="Line 26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25" name="Text Box 27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26" name="Text Box 28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27" name="Text Box 29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28" name="Text Box 30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29" name="Text Box 31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30" name="Text Box 32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31" name="Text Box 33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32" name="Text Box 34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33" name="Text Box 35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34" name="Text Box 36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35" name="Text Box 37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36" name="Text Box 38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37" name="Text Box 39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38" name="Text Box 40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39" name="Text Box 41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40" name="Text Box 42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41" name="Text Box 43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42" name="Text Box 44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43" name="Text Box 45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44" name="Text Box 46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45" name="Text Box 47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46" name="Text Box 48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47" name="Text Box 49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48" name="Text Box 50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49" name="Text Box 51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50" name="Text Box 52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51" name="Text Box 53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52" name="Text Box 54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53" name="Text Box 55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54" name="Text Box 56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Rectangle 57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656" name="Rectangle 58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657" name="Rectangle 59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8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9" name="Text Box 5">
            <a:hlinkClick r:id="rId7" action="ppaction://hlinksldjump"/>
          </p:cNvPr>
          <p:cNvSpPr/>
          <p:nvPr/>
        </p:nvSpPr>
        <p:spPr>
          <a:xfrm>
            <a:off x="838080" y="259092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0" name="Text Box 61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2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1" name="Rectangle 62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2" name="Rectangle 63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1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664" name="Group 13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665" name="AutoShape 14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666" name="Text Box 15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667" name="Group 16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668" name="AutoShape 17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669" name="Group 18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670" name="Line 19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71" name="Line 20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72" name="Line 21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73" name="Line 22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74" name="Line 23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75" name="Line 24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76" name="Line 25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77" name="Line 26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78" name="Line 27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79" name="Text Box 28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80" name="Text Box 29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81" name="Text Box 30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82" name="Text Box 31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83" name="Text Box 32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84" name="Text Box 33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85" name="Text Box 34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86" name="Text Box 35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87" name="Text Box 36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88" name="Text Box 37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89" name="Text Box 38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90" name="Text Box 39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91" name="Text Box 40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92" name="Text Box 41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93" name="Text Box 42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94" name="Text Box 43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95" name="Text Box 44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96" name="Text Box 45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97" name="Text Box 46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98" name="Text Box 47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699" name="Text Box 48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00" name="Text Box 49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01" name="Text Box 50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02" name="Text Box 51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03" name="Text Box 52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04" name="Text Box 53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05" name="Text Box 54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06" name="Text Box 55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07" name="Text Box 56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08" name="Text Box 57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Rectangle 58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10" name="Rectangle 59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711" name="Rectangle 60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2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3" name="Text Box 5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4" name="Text Box 62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2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5" name="Rectangle 63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6" name="Rectangle 64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1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718" name="Group 13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719" name="AutoShape 14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20" name="Text Box 15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721" name="Group 16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722" name="AutoShape 17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723" name="Group 18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724" name="Line 19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25" name="Line 20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26" name="Line 21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27" name="Line 22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28" name="Line 23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29" name="Line 24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30" name="Line 25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31" name="Line 26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32" name="Line 27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33" name="Text Box 28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34" name="Text Box 29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35" name="Text Box 30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36" name="Text Box 31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37" name="Text Box 32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38" name="Text Box 33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39" name="Text Box 34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40" name="Text Box 35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41" name="Text Box 36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42" name="Text Box 37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43" name="Text Box 38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44" name="Text Box 39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45" name="Text Box 40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46" name="Text Box 41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47" name="Text Box 42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48" name="Text Box 43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49" name="Text Box 44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50" name="Text Box 45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51" name="Text Box 46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52" name="Text Box 47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53" name="Text Box 48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54" name="Text Box 49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55" name="Text Box 50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56" name="Text Box 51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57" name="Text Box 52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58" name="Text Box 53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59" name="Text Box 54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60" name="Text Box 55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61" name="Text Box 56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62" name="Text Box 57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Rectangle 58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64" name="Rectangle 59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765" name="Rectangle 60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6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7" name="Rectangle 5">
            <a:hlinkClick r:id="rId7" action="ppaction://hlinksldjump"/>
          </p:cNvPr>
          <p:cNvSpPr/>
          <p:nvPr/>
        </p:nvSpPr>
        <p:spPr>
          <a:xfrm>
            <a:off x="916920" y="2590920"/>
            <a:ext cx="54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8" name="Text Box 62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3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9" name="Rectangle 63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0" name="Rectangle 64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11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772" name="Group 12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773" name="AutoShape 13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74" name="Text Box 14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775" name="Group 15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776" name="AutoShape 16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777" name="Group 17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778" name="Line 18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79" name="Line 19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80" name="Line 20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81" name="Line 21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82" name="Line 22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83" name="Line 23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84" name="Line 24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85" name="Line 25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86" name="Line 26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87" name="Text Box 27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89" name="Text Box 29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90" name="Text Box 30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92" name="Text Box 32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93" name="Text Box 33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94" name="Text Box 34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95" name="Text Box 35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96" name="Text Box 36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97" name="Text Box 37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98" name="Text Box 38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799" name="Text Box 39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00" name="Text Box 40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01" name="Text Box 41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02" name="Text Box 42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03" name="Text Box 43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04" name="Text Box 44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05" name="Text Box 45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06" name="Text Box 46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07" name="Text Box 47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08" name="Text Box 48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09" name="Text Box 49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10" name="Text Box 50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11" name="Text Box 51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12" name="Text Box 52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13" name="Text Box 53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14" name="Text Box 54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15" name="Text Box 55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16" name="Text Box 56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Rectangle 57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18" name="Rectangle 58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819" name="Rectangle 59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0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a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1" name="Text Box 5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2" name="Text Box 61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3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3" name="Rectangle 62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4" name="Rectangle 63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11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826" name="Group 12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827" name="AutoShape 13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28" name="Text Box 14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829" name="Group 15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830" name="AutoShape 16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831" name="Group 17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832" name="Line 18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33" name="Line 19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34" name="Line 20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35" name="Line 21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36" name="Line 22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37" name="Line 23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38" name="Line 24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39" name="Line 25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40" name="Line 26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41" name="Text Box 27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42" name="Text Box 28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43" name="Text Box 29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44" name="Text Box 30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45" name="Text Box 31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46" name="Text Box 32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47" name="Text Box 33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48" name="Text Box 34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49" name="Text Box 35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50" name="Text Box 36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51" name="Text Box 37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52" name="Text Box 38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53" name="Text Box 39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54" name="Text Box 40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55" name="Text Box 41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56" name="Text Box 42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57" name="Text Box 43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58" name="Text Box 44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59" name="Text Box 45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60" name="Text Box 46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61" name="Text Box 47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62" name="Text Box 48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63" name="Text Box 49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64" name="Text Box 50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65" name="Text Box 51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66" name="Text Box 52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67" name="Text Box 53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68" name="Text Box 54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69" name="Text Box 55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70" name="Text Box 56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Rectangle 57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72" name="Rectangle 58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873" name="Rectangle 59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4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5" name="Text Box 5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6" name="Text Box 61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3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7" name="Rectangle 62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8" name="Rectangle 63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11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880" name="Group 12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881" name="AutoShape 13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82" name="Text Box 14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883" name="Group 15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884" name="AutoShape 16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885" name="Group 17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886" name="Line 18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87" name="Line 19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88" name="Line 20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89" name="Line 21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90" name="Line 22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91" name="Line 23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92" name="Line 24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93" name="Line 25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94" name="Line 26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95" name="Text Box 27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96" name="Text Box 28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97" name="Text Box 29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98" name="Text Box 30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899" name="Text Box 31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00" name="Text Box 32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01" name="Text Box 33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02" name="Text Box 34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03" name="Text Box 35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04" name="Text Box 36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05" name="Text Box 37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06" name="Text Box 38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07" name="Text Box 39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08" name="Text Box 40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09" name="Text Box 41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10" name="Text Box 42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11" name="Text Box 43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12" name="Text Box 44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13" name="Text Box 45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14" name="Text Box 46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15" name="Text Box 47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16" name="Text Box 48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17" name="Text Box 49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18" name="Text Box 50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19" name="Text Box 51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20" name="Text Box 52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21" name="Text Box 53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22" name="Text Box 54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23" name="Text Box 55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24" name="Text Box 56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925" name="Rectangle 57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926" name="Rectangle 58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927" name="Rectangle 59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8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9" name="Text Box 5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0" name="Text Box 61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3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1" name="Rectangle 62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2" name="Rectangle 63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11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934" name="Group 12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935" name="AutoShape 13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936" name="Text Box 14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937" name="Group 15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938" name="AutoShape 16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939" name="Group 17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940" name="Line 18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41" name="Line 19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42" name="Line 20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43" name="Line 21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44" name="Line 22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45" name="Line 23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46" name="Line 24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47" name="Line 25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48" name="Line 26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49" name="Text Box 27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50" name="Text Box 28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51" name="Text Box 29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52" name="Text Box 30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53" name="Text Box 31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54" name="Text Box 32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55" name="Text Box 33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56" name="Text Box 34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57" name="Text Box 35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58" name="Text Box 36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59" name="Text Box 37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60" name="Text Box 38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61" name="Text Box 39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62" name="Text Box 40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63" name="Text Box 41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64" name="Text Box 42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65" name="Text Box 43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66" name="Text Box 44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67" name="Text Box 45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68" name="Text Box 46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69" name="Text Box 47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70" name="Text Box 48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71" name="Text Box 49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72" name="Text Box 50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73" name="Text Box 51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74" name="Text Box 52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75" name="Text Box 53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76" name="Text Box 54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77" name="Text Box 55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78" name="Text Box 56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979" name="Rectangle 57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980" name="Rectangle 58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981" name="Rectangle 59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2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3" name="Text Box 5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4" name="Text Box 61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3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5" name="Rectangle 62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6" name="Rectangle 63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1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988" name="Group 13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989" name="AutoShape 14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990" name="Text Box 15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991" name="Group 16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992" name="AutoShape 17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993" name="Group 18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994" name="Line 19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95" name="Line 20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96" name="Line 21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97" name="Line 22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98" name="Line 23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999" name="Line 24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00" name="Line 25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01" name="Line 26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02" name="Line 27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03" name="Text Box 28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04" name="Text Box 29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05" name="Text Box 30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06" name="Text Box 31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07" name="Text Box 32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08" name="Text Box 33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09" name="Text Box 34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10" name="Text Box 35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11" name="Text Box 36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12" name="Text Box 37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13" name="Text Box 38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14" name="Text Box 39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15" name="Text Box 40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16" name="Text Box 41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17" name="Text Box 42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18" name="Text Box 43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19" name="Text Box 44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20" name="Text Box 45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21" name="Text Box 46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22" name="Text Box 47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23" name="Text Box 48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24" name="Text Box 49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25" name="Text Box 50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26" name="Text Box 51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27" name="Text Box 52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28" name="Text Box 53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29" name="Text Box 54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30" name="Text Box 55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31" name="Text Box 56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32" name="Text Box 57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Rectangle 58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034" name="Rectangle 59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035" name="Rectangle 60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36" name="Text Box 5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37" name="Text Box 6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38" name="Text Box 62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4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39" name="Rectangle 63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0" name="Rectangle 64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18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042" name="Group 19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043" name="AutoShape 20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044" name="Text Box 21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045" name="Group 22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046" name="AutoShape 23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1047" name="Group 24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048" name="Line 25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49" name="Line 26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50" name="Line 27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51" name="Line 28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52" name="Line 29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53" name="Line 30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54" name="Line 31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55" name="Line 32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56" name="Line 33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57" name="Text Box 34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58" name="Text Box 35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59" name="Text Box 36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60" name="Text Box 37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61" name="Text Box 38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62" name="Text Box 39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63" name="Text Box 40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64" name="Text Box 41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65" name="Text Box 42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66" name="Text Box 43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67" name="Text Box 44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68" name="Text Box 45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69" name="Text Box 46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70" name="Text Box 47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71" name="Text Box 48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72" name="Text Box 49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73" name="Text Box 50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74" name="Text Box 51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75" name="Text Box 52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76" name="Text Box 53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77" name="Text Box 54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78" name="Text Box 55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79" name="Text Box 56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80" name="Text Box 57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81" name="Text Box 58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82" name="Text Box 59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83" name="Text Box 60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84" name="Text Box 61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85" name="Text Box 62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086" name="Text Box 63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1087" name="Rectangle 64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088" name="Rectangle 65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089" name="Rectangle 66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0" name="Text Box 5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1" name="Text Box 12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2" name="Text Box 68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4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3" name="Rectangle 69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4" name="Rectangle 70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1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s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Rectangle 62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" name="Rectangle 63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Rectangle 64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Rectangle 65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Rectangle 66"/>
          <p:cNvSpPr/>
          <p:nvPr/>
        </p:nvSpPr>
        <p:spPr>
          <a:xfrm>
            <a:off x="6095880" y="1523880"/>
            <a:ext cx="1524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67"/>
          <p:cNvSpPr/>
          <p:nvPr/>
        </p:nvSpPr>
        <p:spPr>
          <a:xfrm>
            <a:off x="6095880" y="259092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6095880" y="365760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" name="Rectangle 69"/>
          <p:cNvSpPr/>
          <p:nvPr/>
        </p:nvSpPr>
        <p:spPr>
          <a:xfrm>
            <a:off x="6095880" y="4724280"/>
            <a:ext cx="1524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6095880" y="579132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Rectangle 71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Rectangle 72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Rectangle 73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s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Rectangle 74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ands 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Rectangle 75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Rectangle 76"/>
          <p:cNvSpPr/>
          <p:nvPr/>
        </p:nvSpPr>
        <p:spPr>
          <a:xfrm>
            <a:off x="6095880" y="151920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Rectangle 77"/>
          <p:cNvSpPr/>
          <p:nvPr/>
        </p:nvSpPr>
        <p:spPr>
          <a:xfrm>
            <a:off x="6095880" y="2585880"/>
            <a:ext cx="1524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Rectangle 78"/>
          <p:cNvSpPr/>
          <p:nvPr/>
        </p:nvSpPr>
        <p:spPr>
          <a:xfrm>
            <a:off x="6095880" y="365292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Rectangle 79"/>
          <p:cNvSpPr/>
          <p:nvPr/>
        </p:nvSpPr>
        <p:spPr>
          <a:xfrm>
            <a:off x="6095880" y="471960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Rectangle 80">
            <a:hlinkClick r:id="rId5" action="ppaction://hlinksldjump"/>
          </p:cNvPr>
          <p:cNvSpPr/>
          <p:nvPr/>
        </p:nvSpPr>
        <p:spPr>
          <a:xfrm>
            <a:off x="6095880" y="5786280"/>
            <a:ext cx="1524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5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Rectangle 81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s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Rectangle 82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Rectangle 83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" name="Rectangle 84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" name="Rectangle 85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Rectangle 86"/>
          <p:cNvSpPr/>
          <p:nvPr/>
        </p:nvSpPr>
        <p:spPr>
          <a:xfrm>
            <a:off x="6095880" y="1523880"/>
            <a:ext cx="1524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Rectangle 87"/>
          <p:cNvSpPr/>
          <p:nvPr/>
        </p:nvSpPr>
        <p:spPr>
          <a:xfrm>
            <a:off x="6095880" y="259092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" name="Rectangle 88"/>
          <p:cNvSpPr/>
          <p:nvPr/>
        </p:nvSpPr>
        <p:spPr>
          <a:xfrm>
            <a:off x="6095880" y="365760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Rectangle 89"/>
          <p:cNvSpPr/>
          <p:nvPr/>
        </p:nvSpPr>
        <p:spPr>
          <a:xfrm>
            <a:off x="6095880" y="4724280"/>
            <a:ext cx="1524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Rectangle 90"/>
          <p:cNvSpPr/>
          <p:nvPr/>
        </p:nvSpPr>
        <p:spPr>
          <a:xfrm>
            <a:off x="6095880" y="579132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Rectangle 91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Rectangle 92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" name="Rectangle 93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s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Rectangle 94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ands 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Rectangle 95">
            <a:hlinkClick r:id="rId7" action="ppaction://hlinksldjump"/>
          </p:cNvPr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Rectangle 96"/>
          <p:cNvSpPr/>
          <p:nvPr/>
        </p:nvSpPr>
        <p:spPr>
          <a:xfrm>
            <a:off x="0" y="15192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1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1523880" y="151920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1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3048120" y="15192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1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Rectangle 99"/>
          <p:cNvSpPr/>
          <p:nvPr/>
        </p:nvSpPr>
        <p:spPr>
          <a:xfrm>
            <a:off x="4572000" y="15192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Rectangle 100"/>
          <p:cNvSpPr/>
          <p:nvPr/>
        </p:nvSpPr>
        <p:spPr>
          <a:xfrm>
            <a:off x="6095880" y="151920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4" name="Rectangle 101"/>
          <p:cNvSpPr/>
          <p:nvPr/>
        </p:nvSpPr>
        <p:spPr>
          <a:xfrm>
            <a:off x="0" y="25858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2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Rectangle 102"/>
          <p:cNvSpPr/>
          <p:nvPr/>
        </p:nvSpPr>
        <p:spPr>
          <a:xfrm>
            <a:off x="1523880" y="2585880"/>
            <a:ext cx="1524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2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" name="Rectangle 103"/>
          <p:cNvSpPr/>
          <p:nvPr/>
        </p:nvSpPr>
        <p:spPr>
          <a:xfrm>
            <a:off x="3048120" y="25858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2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" name="Rectangle 104"/>
          <p:cNvSpPr/>
          <p:nvPr/>
        </p:nvSpPr>
        <p:spPr>
          <a:xfrm>
            <a:off x="4572000" y="25858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2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8" name="Rectangle 105"/>
          <p:cNvSpPr/>
          <p:nvPr/>
        </p:nvSpPr>
        <p:spPr>
          <a:xfrm>
            <a:off x="6095880" y="2585880"/>
            <a:ext cx="1524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2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9" name="Rectangle 106"/>
          <p:cNvSpPr/>
          <p:nvPr/>
        </p:nvSpPr>
        <p:spPr>
          <a:xfrm>
            <a:off x="0" y="365292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3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Rectangle 107"/>
          <p:cNvSpPr/>
          <p:nvPr/>
        </p:nvSpPr>
        <p:spPr>
          <a:xfrm>
            <a:off x="1523880" y="365292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3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3048120" y="365292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3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4572000" y="365292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3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6095880" y="365292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3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4" name="Rectangle 111"/>
          <p:cNvSpPr/>
          <p:nvPr/>
        </p:nvSpPr>
        <p:spPr>
          <a:xfrm>
            <a:off x="0" y="47196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4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5" name="Rectangle 112"/>
          <p:cNvSpPr/>
          <p:nvPr/>
        </p:nvSpPr>
        <p:spPr>
          <a:xfrm>
            <a:off x="1523880" y="471960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4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Rectangle 113"/>
          <p:cNvSpPr/>
          <p:nvPr/>
        </p:nvSpPr>
        <p:spPr>
          <a:xfrm>
            <a:off x="3048120" y="47196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4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Rectangle 114"/>
          <p:cNvSpPr/>
          <p:nvPr/>
        </p:nvSpPr>
        <p:spPr>
          <a:xfrm>
            <a:off x="4572000" y="47196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6" action="ppaction://hlinksldjump"/>
              </a:rPr>
              <a:t>4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Rectangle 115"/>
          <p:cNvSpPr/>
          <p:nvPr/>
        </p:nvSpPr>
        <p:spPr>
          <a:xfrm>
            <a:off x="6095880" y="471960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4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9" name="Rectangle 116"/>
          <p:cNvSpPr/>
          <p:nvPr/>
        </p:nvSpPr>
        <p:spPr>
          <a:xfrm>
            <a:off x="0" y="57862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8" action="ppaction://hlinksldjump"/>
              </a:rPr>
              <a:t>5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0" name="Rectangle 117"/>
          <p:cNvSpPr/>
          <p:nvPr/>
        </p:nvSpPr>
        <p:spPr>
          <a:xfrm>
            <a:off x="1523880" y="5786280"/>
            <a:ext cx="1524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5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1" name="Rectangle 118"/>
          <p:cNvSpPr/>
          <p:nvPr/>
        </p:nvSpPr>
        <p:spPr>
          <a:xfrm>
            <a:off x="3048120" y="57862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0" action="ppaction://hlinksldjump"/>
              </a:rPr>
              <a:t>5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Rectangle 119"/>
          <p:cNvSpPr/>
          <p:nvPr/>
        </p:nvSpPr>
        <p:spPr>
          <a:xfrm>
            <a:off x="4572000" y="57862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5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3" name="Rectangle 120">
            <a:hlinkClick r:id="rId32" action="ppaction://hlinksldjump"/>
          </p:cNvPr>
          <p:cNvSpPr/>
          <p:nvPr/>
        </p:nvSpPr>
        <p:spPr>
          <a:xfrm>
            <a:off x="6095880" y="578484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5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Rectangle 121">
            <a:hlinkClick r:id="rId34" action="ppaction://hlinksldjump"/>
          </p:cNvPr>
          <p:cNvSpPr/>
          <p:nvPr/>
        </p:nvSpPr>
        <p:spPr>
          <a:xfrm>
            <a:off x="0" y="0"/>
            <a:ext cx="152388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at1</a:t>
            </a:r>
            <a:endParaRPr b="0" lang="en-US" sz="23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Rectangle 122">
            <a:hlinkClick r:id="rId35" action="ppaction://hlinksldjump"/>
          </p:cNvPr>
          <p:cNvSpPr/>
          <p:nvPr/>
        </p:nvSpPr>
        <p:spPr>
          <a:xfrm>
            <a:off x="1523880" y="0"/>
            <a:ext cx="152424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at2</a:t>
            </a:r>
            <a:endParaRPr b="0" lang="en-US" sz="23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6" name="Rectangle 123">
            <a:hlinkClick r:id="rId36" action="ppaction://hlinksldjump"/>
          </p:cNvPr>
          <p:cNvSpPr/>
          <p:nvPr/>
        </p:nvSpPr>
        <p:spPr>
          <a:xfrm>
            <a:off x="3048120" y="0"/>
            <a:ext cx="152388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at3</a:t>
            </a:r>
            <a:endParaRPr b="0" lang="en-US" sz="23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Rectangle 124">
            <a:hlinkClick r:id="rId37" action="ppaction://hlinksldjump"/>
          </p:cNvPr>
          <p:cNvSpPr/>
          <p:nvPr/>
        </p:nvSpPr>
        <p:spPr>
          <a:xfrm>
            <a:off x="4572000" y="0"/>
            <a:ext cx="152388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at4</a:t>
            </a:r>
            <a:endParaRPr b="0" lang="en-US" sz="23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8" name="Rectangle 125">
            <a:hlinkClick r:id="rId38" action="ppaction://hlinksldjump"/>
          </p:cNvPr>
          <p:cNvSpPr/>
          <p:nvPr/>
        </p:nvSpPr>
        <p:spPr>
          <a:xfrm>
            <a:off x="6095880" y="0"/>
            <a:ext cx="152424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at5</a:t>
            </a:r>
            <a:endParaRPr b="0" lang="en-US" sz="23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Rectangle 126">
            <a:hlinkClick r:id="rId39" action="ppaction://hlinksldjump"/>
          </p:cNvPr>
          <p:cNvSpPr/>
          <p:nvPr/>
        </p:nvSpPr>
        <p:spPr>
          <a:xfrm>
            <a:off x="7620120" y="0"/>
            <a:ext cx="152388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at6</a:t>
            </a:r>
            <a:endParaRPr b="0" lang="en-US" sz="23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0" name="Rectangle 127"/>
          <p:cNvSpPr/>
          <p:nvPr/>
        </p:nvSpPr>
        <p:spPr>
          <a:xfrm>
            <a:off x="7620120" y="15238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Rectangle 128"/>
          <p:cNvSpPr/>
          <p:nvPr/>
        </p:nvSpPr>
        <p:spPr>
          <a:xfrm>
            <a:off x="7620120" y="259092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Rectangle 129"/>
          <p:cNvSpPr/>
          <p:nvPr/>
        </p:nvSpPr>
        <p:spPr>
          <a:xfrm>
            <a:off x="7620120" y="36576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Rectangle 130"/>
          <p:cNvSpPr/>
          <p:nvPr/>
        </p:nvSpPr>
        <p:spPr>
          <a:xfrm>
            <a:off x="7620120" y="47242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Rectangle 131"/>
          <p:cNvSpPr/>
          <p:nvPr/>
        </p:nvSpPr>
        <p:spPr>
          <a:xfrm>
            <a:off x="7620120" y="579132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5" name="Rectangle 132"/>
          <p:cNvSpPr/>
          <p:nvPr/>
        </p:nvSpPr>
        <p:spPr>
          <a:xfrm>
            <a:off x="7620120" y="15192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0" action="ppaction://hlinksldjump"/>
              </a:rPr>
              <a:t>1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6" name="Rectangle 133"/>
          <p:cNvSpPr/>
          <p:nvPr/>
        </p:nvSpPr>
        <p:spPr>
          <a:xfrm>
            <a:off x="7620120" y="25858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1" action="ppaction://hlinksldjump"/>
              </a:rPr>
              <a:t>2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7" name="Rectangle 134"/>
          <p:cNvSpPr/>
          <p:nvPr/>
        </p:nvSpPr>
        <p:spPr>
          <a:xfrm>
            <a:off x="7620120" y="365292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2" action="ppaction://hlinksldjump"/>
              </a:rPr>
              <a:t>3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Rectangle 135"/>
          <p:cNvSpPr/>
          <p:nvPr/>
        </p:nvSpPr>
        <p:spPr>
          <a:xfrm>
            <a:off x="7620120" y="47196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3" action="ppaction://hlinksldjump"/>
              </a:rPr>
              <a:t>4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9" name="Rectangle 136">
            <a:hlinkClick r:id="rId44" action="ppaction://hlinksldjump"/>
          </p:cNvPr>
          <p:cNvSpPr/>
          <p:nvPr/>
        </p:nvSpPr>
        <p:spPr>
          <a:xfrm>
            <a:off x="7620120" y="57862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5" action="ppaction://hlinksldjump"/>
              </a:rPr>
              <a:t>5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Rectangle 137"/>
          <p:cNvSpPr/>
          <p:nvPr/>
        </p:nvSpPr>
        <p:spPr>
          <a:xfrm>
            <a:off x="7620120" y="15238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1" name="Rectangle 138"/>
          <p:cNvSpPr/>
          <p:nvPr/>
        </p:nvSpPr>
        <p:spPr>
          <a:xfrm>
            <a:off x="7620120" y="259092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Rectangle 139"/>
          <p:cNvSpPr/>
          <p:nvPr/>
        </p:nvSpPr>
        <p:spPr>
          <a:xfrm>
            <a:off x="7620120" y="36576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3" name="Rectangle 140"/>
          <p:cNvSpPr/>
          <p:nvPr/>
        </p:nvSpPr>
        <p:spPr>
          <a:xfrm>
            <a:off x="7620120" y="47242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4" name="Rectangle 141"/>
          <p:cNvSpPr/>
          <p:nvPr/>
        </p:nvSpPr>
        <p:spPr>
          <a:xfrm>
            <a:off x="7620120" y="579132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" name="Rectangle 142"/>
          <p:cNvSpPr/>
          <p:nvPr/>
        </p:nvSpPr>
        <p:spPr>
          <a:xfrm>
            <a:off x="7620120" y="15192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6" action="ppaction://hlinksldjump"/>
              </a:rPr>
              <a:t>1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Rectangle 143"/>
          <p:cNvSpPr/>
          <p:nvPr/>
        </p:nvSpPr>
        <p:spPr>
          <a:xfrm>
            <a:off x="7620120" y="25858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7" action="ppaction://hlinksldjump"/>
              </a:rPr>
              <a:t>2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Rectangle 144"/>
          <p:cNvSpPr/>
          <p:nvPr/>
        </p:nvSpPr>
        <p:spPr>
          <a:xfrm>
            <a:off x="7620120" y="365292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8" action="ppaction://hlinksldjump"/>
              </a:rPr>
              <a:t>3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8" name="Rectangle 145"/>
          <p:cNvSpPr/>
          <p:nvPr/>
        </p:nvSpPr>
        <p:spPr>
          <a:xfrm>
            <a:off x="7620120" y="47196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9" action="ppaction://hlinksldjump"/>
              </a:rPr>
              <a:t>4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9" name="Rectangle 146">
            <a:hlinkClick r:id="rId50" action="ppaction://hlinksldjump"/>
          </p:cNvPr>
          <p:cNvSpPr/>
          <p:nvPr/>
        </p:nvSpPr>
        <p:spPr>
          <a:xfrm>
            <a:off x="7620120" y="578484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51" action="ppaction://hlinksldjump"/>
              </a:rPr>
              <a:t>500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Rectangle 148">
            <a:hlinkClick r:id="rId52" action="ppaction://hlinksldjump"/>
          </p:cNvPr>
          <p:cNvSpPr/>
          <p:nvPr/>
        </p:nvSpPr>
        <p:spPr>
          <a:xfrm>
            <a:off x="1523880" y="1246320"/>
            <a:ext cx="6096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► ► ► 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 i n a l  J e o p a r d y 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◄ ◄ ◄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1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096" name="Group 13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097" name="AutoShape 14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098" name="Text Box 15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099" name="Group 16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100" name="AutoShape 17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1101" name="Group 18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102" name="Line 19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03" name="Line 20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04" name="Line 21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05" name="Line 22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06" name="Line 23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07" name="Line 24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08" name="Line 25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09" name="Line 26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10" name="Line 27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11" name="Text Box 28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12" name="Text Box 29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13" name="Text Box 30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14" name="Text Box 31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15" name="Text Box 32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16" name="Text Box 33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17" name="Text Box 34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18" name="Text Box 35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19" name="Text Box 36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0" name="Text Box 37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1" name="Text Box 38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2" name="Text Box 39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3" name="Text Box 40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4" name="Text Box 41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5" name="Text Box 42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6" name="Text Box 43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7" name="Text Box 44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8" name="Text Box 45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29" name="Text Box 46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0" name="Text Box 47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1" name="Text Box 48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2" name="Text Box 49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3" name="Text Box 50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4" name="Text Box 51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5" name="Text Box 52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6" name="Text Box 53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7" name="Text Box 54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8" name="Text Box 55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39" name="Text Box 56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40" name="Text Box 57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1141" name="Rectangle 58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42" name="Rectangle 59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143" name="Rectangle 60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4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5" name="Text Box 6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6" name="Text Box 62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4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7" name="Rectangle 63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8" name="Rectangle 64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3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150" name="Group 35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151" name="AutoShape 36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52" name="Text Box 37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153" name="Group 38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154" name="AutoShape 39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1155" name="Group 40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156" name="Line 41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57" name="Line 42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58" name="Line 43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59" name="Line 44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60" name="Line 45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61" name="Line 46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62" name="Line 47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63" name="Line 48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64" name="Line 49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65" name="Text Box 50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66" name="Text Box 51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67" name="Text Box 52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68" name="Text Box 53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69" name="Text Box 54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70" name="Text Box 55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71" name="Text Box 56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72" name="Text Box 57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73" name="Text Box 58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74" name="Text Box 59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75" name="Text Box 60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76" name="Text Box 61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77" name="Text Box 62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78" name="Text Box 63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79" name="Text Box 64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80" name="Text Box 65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81" name="Text Box 66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82" name="Text Box 67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83" name="Text Box 68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84" name="Text Box 69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85" name="Text Box 70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86" name="Text Box 71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87" name="Text Box 72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88" name="Text Box 73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89" name="Text Box 74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90" name="Text Box 75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91" name="Text Box 76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92" name="Text Box 77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93" name="Text Box 78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194" name="Text Box 79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1195" name="Rectangle 80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196" name="Rectangle 81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197" name="Rectangle 82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98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ar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99" name="Text Box 28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0" name="Text Box 84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4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1" name="Rectangle 85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2" name="Rectangle 86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1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204" name="Group 13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205" name="AutoShape 14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06" name="Text Box 15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207" name="Group 16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208" name="AutoShape 17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1209" name="Group 18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210" name="Line 19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11" name="Line 20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12" name="Line 21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13" name="Line 22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14" name="Line 23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15" name="Line 24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16" name="Line 25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17" name="Line 26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18" name="Line 27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19" name="Text Box 28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20" name="Text Box 29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21" name="Text Box 30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22" name="Text Box 31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23" name="Text Box 32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24" name="Text Box 33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25" name="Text Box 34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26" name="Text Box 35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27" name="Text Box 36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28" name="Text Box 37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29" name="Text Box 38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30" name="Text Box 39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31" name="Text Box 40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32" name="Text Box 41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33" name="Text Box 42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34" name="Text Box 43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35" name="Text Box 44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36" name="Text Box 45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37" name="Text Box 46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38" name="Text Box 47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39" name="Text Box 48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40" name="Text Box 49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41" name="Text Box 50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42" name="Text Box 51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43" name="Text Box 52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44" name="Text Box 53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45" name="Text Box 54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46" name="Text Box 55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47" name="Text Box 56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48" name="Text Box 57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1249" name="Rectangle 58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50" name="Rectangle 59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251" name="Rectangle 60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2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3" name="Text Box 6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4" name="Text Box 62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4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5" name="Rectangle 63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6" name="Rectangle 64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1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258" name="Group 12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259" name="AutoShape 13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260" name="Text Box 14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261" name="Group 15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262" name="AutoShape 16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1263" name="Group 17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264" name="Line 18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65" name="Line 19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66" name="Line 20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67" name="Line 21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68" name="Line 22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69" name="Line 23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70" name="Line 24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71" name="Line 25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72" name="Line 26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73" name="Text Box 27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74" name="Text Box 28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75" name="Text Box 29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76" name="Text Box 30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77" name="Text Box 31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78" name="Text Box 32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79" name="Text Box 33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80" name="Text Box 34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81" name="Text Box 35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82" name="Text Box 36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83" name="Text Box 37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84" name="Text Box 38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85" name="Text Box 39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86" name="Text Box 40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87" name="Text Box 41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88" name="Text Box 42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89" name="Text Box 43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90" name="Text Box 44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91" name="Text Box 45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92" name="Text Box 46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93" name="Text Box 47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94" name="Text Box 48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95" name="Text Box 49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96" name="Text Box 50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97" name="Text Box 51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98" name="Text Box 52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299" name="Text Box 53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00" name="Text Box 54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01" name="Text Box 55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02" name="Text Box 56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1303" name="Rectangle 57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304" name="Rectangle 58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305" name="Rectangle 59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6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7" name="Text Box 5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8" name="Text Box 61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5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9" name="Rectangle 62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10" name="Rectangle 63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1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312" name="Group 13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313" name="AutoShape 14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314" name="Text Box 15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315" name="Group 16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316" name="AutoShape 17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1317" name="Group 18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318" name="Line 19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19" name="Line 20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20" name="Line 21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21" name="Line 22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22" name="Line 23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23" name="Line 24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24" name="Line 25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25" name="Line 26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26" name="Line 27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27" name="Text Box 28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28" name="Text Box 29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29" name="Text Box 30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30" name="Text Box 31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31" name="Text Box 32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32" name="Text Box 33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33" name="Text Box 34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34" name="Text Box 35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35" name="Text Box 36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36" name="Text Box 37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37" name="Text Box 38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38" name="Text Box 39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39" name="Text Box 40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40" name="Text Box 41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41" name="Text Box 42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42" name="Text Box 43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43" name="Text Box 44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44" name="Text Box 45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45" name="Text Box 46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46" name="Text Box 47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47" name="Text Box 48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48" name="Text Box 49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49" name="Text Box 50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50" name="Text Box 51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51" name="Text Box 52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52" name="Text Box 53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53" name="Text Box 54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54" name="Text Box 55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55" name="Text Box 56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56" name="Text Box 57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1357" name="Rectangle 58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358" name="Rectangle 59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359" name="Rectangle 60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60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61" name="Text Box 5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62" name="Text Box 62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5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63" name="Rectangle 63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64" name="Rectangle 64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11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366" name="Group 12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367" name="AutoShape 13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368" name="Text Box 14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369" name="Group 15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370" name="AutoShape 16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1371" name="Group 17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372" name="Line 18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73" name="Line 19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74" name="Line 20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75" name="Line 21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76" name="Line 22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77" name="Line 23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78" name="Line 24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79" name="Line 25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80" name="Line 26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81" name="Text Box 27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82" name="Text Box 28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83" name="Text Box 29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84" name="Text Box 30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85" name="Text Box 31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86" name="Text Box 32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87" name="Text Box 33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88" name="Text Box 34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89" name="Text Box 35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90" name="Text Box 36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91" name="Text Box 37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92" name="Text Box 38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93" name="Text Box 39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94" name="Text Box 40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95" name="Text Box 41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96" name="Text Box 42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97" name="Text Box 43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98" name="Text Box 44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399" name="Text Box 45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00" name="Text Box 46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01" name="Text Box 47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02" name="Text Box 48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03" name="Text Box 49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04" name="Text Box 50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05" name="Text Box 51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06" name="Text Box 52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07" name="Text Box 53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08" name="Text Box 54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09" name="Text Box 55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10" name="Text Box 56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1411" name="Rectangle 57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412" name="Rectangle 58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413" name="Rectangle 59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14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15" name="Text Box 5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16" name="Text Box 61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5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17" name="Rectangle 62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18" name="Rectangle 63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1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420" name="Group 13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421" name="AutoShape 14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422" name="Text Box 15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423" name="Group 16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424" name="AutoShape 17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1425" name="Group 18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426" name="Line 19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27" name="Line 20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28" name="Line 21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29" name="Line 22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30" name="Line 23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31" name="Line 24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32" name="Line 25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33" name="Line 26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34" name="Line 27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35" name="Text Box 28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36" name="Text Box 29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37" name="Text Box 30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38" name="Text Box 31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39" name="Text Box 32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40" name="Text Box 33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41" name="Text Box 34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42" name="Text Box 35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43" name="Text Box 36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44" name="Text Box 37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45" name="Text Box 38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46" name="Text Box 39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47" name="Text Box 40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48" name="Text Box 41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49" name="Text Box 42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50" name="Text Box 43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51" name="Text Box 44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52" name="Text Box 45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53" name="Text Box 46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54" name="Text Box 47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55" name="Text Box 48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56" name="Text Box 49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57" name="Text Box 50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58" name="Text Box 51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59" name="Text Box 52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60" name="Text Box 53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61" name="Text Box 54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62" name="Text Box 55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63" name="Text Box 56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64" name="Text Box 57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1465" name="Rectangle 58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466" name="Rectangle 59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467" name="Rectangle 60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68" name="Text Box 5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69" name="Text Box 6">
            <a:hlinkClick r:id="rId7" action="ppaction://hlinksldjump"/>
          </p:cNvPr>
          <p:cNvSpPr/>
          <p:nvPr/>
        </p:nvSpPr>
        <p:spPr>
          <a:xfrm>
            <a:off x="838080" y="2590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70" name="Text Box 62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5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71" name="Rectangle 63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72" name="Rectangle 64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1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474" name="Group 13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475" name="AutoShape 14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476" name="Text Box 15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477" name="Group 16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478" name="AutoShape 17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1479" name="Group 18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480" name="Line 19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81" name="Line 20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82" name="Line 21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83" name="Line 22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84" name="Line 23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85" name="Line 24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86" name="Line 25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87" name="Line 26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88" name="Line 27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89" name="Text Box 28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90" name="Text Box 29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91" name="Text Box 30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92" name="Text Box 31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93" name="Text Box 32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94" name="Text Box 33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95" name="Text Box 34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96" name="Text Box 35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97" name="Text Box 36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98" name="Text Box 37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499" name="Text Box 38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00" name="Text Box 39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01" name="Text Box 40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02" name="Text Box 41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03" name="Text Box 42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04" name="Text Box 43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05" name="Text Box 44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06" name="Text Box 45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07" name="Text Box 46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08" name="Text Box 47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09" name="Text Box 48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10" name="Text Box 49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11" name="Text Box 50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12" name="Text Box 51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13" name="Text Box 52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14" name="Text Box 53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15" name="Text Box 54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16" name="Text Box 55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17" name="Text Box 56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18" name="Text Box 57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1519" name="Rectangle 58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20" name="Rectangle 59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521" name="Rectangle 60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22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23" name="Text Box 5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24" name="Text Box 62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5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25" name="Rectangle 63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26" name="Rectangle 64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9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528" name="Group 10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529" name="AutoShape 11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30" name="Text Box 12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531" name="Group 13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532" name="AutoShape 14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1533" name="Group 15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534" name="Line 16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35" name="Line 17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36" name="Line 18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37" name="Line 19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38" name="Line 20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39" name="Line 21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40" name="Line 22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41" name="Line 23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42" name="Line 24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43" name="Text Box 25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44" name="Text Box 26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45" name="Text Box 27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46" name="Text Box 28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47" name="Text Box 29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48" name="Text Box 30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49" name="Text Box 31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50" name="Text Box 32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51" name="Text Box 33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52" name="Text Box 34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53" name="Text Box 35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54" name="Text Box 36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55" name="Text Box 37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56" name="Text Box 38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57" name="Text Box 39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58" name="Text Box 40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59" name="Text Box 41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60" name="Text Box 42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61" name="Text Box 43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62" name="Text Box 44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63" name="Text Box 45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64" name="Text Box 46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65" name="Text Box 47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66" name="Text Box 48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67" name="Text Box 49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68" name="Text Box 50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69" name="Text Box 51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70" name="Text Box 52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71" name="Text Box 53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72" name="Text Box 54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1573" name="Rectangle 55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74" name="Rectangle 56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575" name="Rectangle 57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6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7" name="Text Box 5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8" name="Text Box 59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6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9" name="Rectangle 60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0" name="Rectangle 61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9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582" name="Group 10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583" name="AutoShape 11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84" name="Text Box 12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585" name="Group 13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586" name="AutoShape 14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1587" name="Group 15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588" name="Line 16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89" name="Line 17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90" name="Line 18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91" name="Line 19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92" name="Line 20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93" name="Line 21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94" name="Line 22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95" name="Line 23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96" name="Line 24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97" name="Text Box 25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98" name="Text Box 26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599" name="Text Box 27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00" name="Text Box 28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01" name="Text Box 29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02" name="Text Box 30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03" name="Text Box 31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04" name="Text Box 32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05" name="Text Box 33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06" name="Text Box 34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07" name="Text Box 35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08" name="Text Box 36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09" name="Text Box 37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10" name="Text Box 38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11" name="Text Box 39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12" name="Text Box 40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13" name="Text Box 41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14" name="Text Box 42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15" name="Text Box 43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16" name="Text Box 44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17" name="Text Box 45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18" name="Text Box 46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19" name="Text Box 47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20" name="Text Box 48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21" name="Text Box 49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22" name="Text Box 50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23" name="Text Box 51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24" name="Text Box 52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25" name="Text Box 53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26" name="Text Box 54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1627" name="Rectangle 55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28" name="Rectangle 56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629" name="Rectangle 57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30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31" name="Text Box 5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32" name="Text Box 59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6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33" name="Rectangle 60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34" name="Rectangle 61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32" name="Group 15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33" name="AutoShape 16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34" name="Text Box 17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35" name="Text Box 4">
            <a:hlinkClick r:id="rId2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6" name="Text Box 63">
            <a:hlinkClick r:id="rId3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1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Text Box 5">
            <a:hlinkClick r:id="rId4" action="ppaction://hlinksldjump"/>
          </p:cNvPr>
          <p:cNvSpPr/>
          <p:nvPr/>
        </p:nvSpPr>
        <p:spPr>
          <a:xfrm>
            <a:off x="762120" y="51055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AutoShape 18">
            <a:hlinkClick r:id="rId5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7772400" y="5943600"/>
            <a:ext cx="1295280" cy="838080"/>
            <a:chOff x="7772400" y="5943600"/>
            <a:chExt cx="1295280" cy="838080"/>
          </a:xfrm>
        </p:grpSpPr>
        <p:sp>
          <p:nvSpPr>
            <p:cNvPr id="140" name="Line 20"/>
            <p:cNvSpPr/>
            <p:nvPr/>
          </p:nvSpPr>
          <p:spPr>
            <a:xfrm>
              <a:off x="79534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81820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84106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43" name="Line 23"/>
            <p:cNvSpPr/>
            <p:nvPr/>
          </p:nvSpPr>
          <p:spPr>
            <a:xfrm>
              <a:off x="86392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>
              <a:off x="88678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>
              <a:off x="7772400" y="609588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46" name="Line 26"/>
            <p:cNvSpPr/>
            <p:nvPr/>
          </p:nvSpPr>
          <p:spPr>
            <a:xfrm>
              <a:off x="7772400" y="627696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7772400" y="645804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48" name="Line 28"/>
            <p:cNvSpPr/>
            <p:nvPr/>
          </p:nvSpPr>
          <p:spPr>
            <a:xfrm>
              <a:off x="7772400" y="663876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49" name="Text Box 29"/>
            <p:cNvSpPr/>
            <p:nvPr/>
          </p:nvSpPr>
          <p:spPr>
            <a:xfrm>
              <a:off x="7797960" y="5975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0" name="Text Box 30"/>
            <p:cNvSpPr/>
            <p:nvPr/>
          </p:nvSpPr>
          <p:spPr>
            <a:xfrm>
              <a:off x="801036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1" name="Text Box 31"/>
            <p:cNvSpPr/>
            <p:nvPr/>
          </p:nvSpPr>
          <p:spPr>
            <a:xfrm>
              <a:off x="823428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2" name="Text Box 32"/>
            <p:cNvSpPr/>
            <p:nvPr/>
          </p:nvSpPr>
          <p:spPr>
            <a:xfrm>
              <a:off x="846144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3" name="Text Box 33"/>
            <p:cNvSpPr/>
            <p:nvPr/>
          </p:nvSpPr>
          <p:spPr>
            <a:xfrm>
              <a:off x="868824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4" name="Text Box 34"/>
            <p:cNvSpPr/>
            <p:nvPr/>
          </p:nvSpPr>
          <p:spPr>
            <a:xfrm>
              <a:off x="8906040" y="5975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5" name="Text Box 35"/>
            <p:cNvSpPr/>
            <p:nvPr/>
          </p:nvSpPr>
          <p:spPr>
            <a:xfrm>
              <a:off x="779472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6" name="Text Box 36"/>
            <p:cNvSpPr/>
            <p:nvPr/>
          </p:nvSpPr>
          <p:spPr>
            <a:xfrm>
              <a:off x="8007480" y="6137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7" name="Text Box 37"/>
            <p:cNvSpPr/>
            <p:nvPr/>
          </p:nvSpPr>
          <p:spPr>
            <a:xfrm>
              <a:off x="823104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8" name="Text Box 38"/>
            <p:cNvSpPr/>
            <p:nvPr/>
          </p:nvSpPr>
          <p:spPr>
            <a:xfrm>
              <a:off x="845820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59" name="Text Box 39"/>
            <p:cNvSpPr/>
            <p:nvPr/>
          </p:nvSpPr>
          <p:spPr>
            <a:xfrm>
              <a:off x="8685360" y="6137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0" name="Text Box 40"/>
            <p:cNvSpPr/>
            <p:nvPr/>
          </p:nvSpPr>
          <p:spPr>
            <a:xfrm>
              <a:off x="890280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1" name="Text Box 41"/>
            <p:cNvSpPr/>
            <p:nvPr/>
          </p:nvSpPr>
          <p:spPr>
            <a:xfrm>
              <a:off x="779472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2" name="Text Box 42"/>
            <p:cNvSpPr/>
            <p:nvPr/>
          </p:nvSpPr>
          <p:spPr>
            <a:xfrm>
              <a:off x="8007480" y="63216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3" name="Text Box 43"/>
            <p:cNvSpPr/>
            <p:nvPr/>
          </p:nvSpPr>
          <p:spPr>
            <a:xfrm>
              <a:off x="823104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4" name="Text Box 44"/>
            <p:cNvSpPr/>
            <p:nvPr/>
          </p:nvSpPr>
          <p:spPr>
            <a:xfrm>
              <a:off x="845820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5" name="Text Box 45"/>
            <p:cNvSpPr/>
            <p:nvPr/>
          </p:nvSpPr>
          <p:spPr>
            <a:xfrm>
              <a:off x="8685360" y="63216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6" name="Text Box 46"/>
            <p:cNvSpPr/>
            <p:nvPr/>
          </p:nvSpPr>
          <p:spPr>
            <a:xfrm>
              <a:off x="890280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7" name="Text Box 47"/>
            <p:cNvSpPr/>
            <p:nvPr/>
          </p:nvSpPr>
          <p:spPr>
            <a:xfrm>
              <a:off x="779472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8" name="Text Box 48"/>
            <p:cNvSpPr/>
            <p:nvPr/>
          </p:nvSpPr>
          <p:spPr>
            <a:xfrm>
              <a:off x="8007480" y="650556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9" name="Text Box 49"/>
            <p:cNvSpPr/>
            <p:nvPr/>
          </p:nvSpPr>
          <p:spPr>
            <a:xfrm>
              <a:off x="823104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70" name="Text Box 50"/>
            <p:cNvSpPr/>
            <p:nvPr/>
          </p:nvSpPr>
          <p:spPr>
            <a:xfrm>
              <a:off x="845820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71" name="Text Box 51"/>
            <p:cNvSpPr/>
            <p:nvPr/>
          </p:nvSpPr>
          <p:spPr>
            <a:xfrm>
              <a:off x="8685360" y="650556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72" name="Text Box 52"/>
            <p:cNvSpPr/>
            <p:nvPr/>
          </p:nvSpPr>
          <p:spPr>
            <a:xfrm>
              <a:off x="890280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73" name="Text Box 53"/>
            <p:cNvSpPr/>
            <p:nvPr/>
          </p:nvSpPr>
          <p:spPr>
            <a:xfrm>
              <a:off x="779472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74" name="Text Box 54"/>
            <p:cNvSpPr/>
            <p:nvPr/>
          </p:nvSpPr>
          <p:spPr>
            <a:xfrm>
              <a:off x="8007480" y="66834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75" name="Text Box 55"/>
            <p:cNvSpPr/>
            <p:nvPr/>
          </p:nvSpPr>
          <p:spPr>
            <a:xfrm>
              <a:off x="823104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76" name="Text Box 56"/>
            <p:cNvSpPr/>
            <p:nvPr/>
          </p:nvSpPr>
          <p:spPr>
            <a:xfrm>
              <a:off x="845820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77" name="Text Box 57"/>
            <p:cNvSpPr/>
            <p:nvPr/>
          </p:nvSpPr>
          <p:spPr>
            <a:xfrm>
              <a:off x="8685360" y="66834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78" name="Text Box 58"/>
            <p:cNvSpPr/>
            <p:nvPr/>
          </p:nvSpPr>
          <p:spPr>
            <a:xfrm>
              <a:off x="890280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79" name="Rectangle 59">
            <a:hlinkClick r:id="rId6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0" name="Rectangle 60">
            <a:hlinkClick r:id="rId7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Rectangle 62">
            <a:hlinkClick r:id="rId8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9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636" name="Group 10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637" name="AutoShape 11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38" name="Text Box 12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639" name="Group 13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640" name="AutoShape 14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1641" name="Group 15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642" name="Line 16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43" name="Line 17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44" name="Line 18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45" name="Line 19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46" name="Line 20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47" name="Line 21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48" name="Line 22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49" name="Line 23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50" name="Line 24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51" name="Text Box 25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52" name="Text Box 26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53" name="Text Box 27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54" name="Text Box 28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55" name="Text Box 29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56" name="Text Box 30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57" name="Text Box 31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58" name="Text Box 32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59" name="Text Box 33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60" name="Text Box 34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61" name="Text Box 35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62" name="Text Box 36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63" name="Text Box 37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64" name="Text Box 38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65" name="Text Box 39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66" name="Text Box 40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67" name="Text Box 41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68" name="Text Box 42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69" name="Text Box 43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70" name="Text Box 44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71" name="Text Box 45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72" name="Text Box 46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73" name="Text Box 47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74" name="Text Box 48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75" name="Text Box 49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76" name="Text Box 50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77" name="Text Box 51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78" name="Text Box 52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79" name="Text Box 53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80" name="Text Box 54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1681" name="Rectangle 55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82" name="Rectangle 56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683" name="Rectangle 57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84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85" name="Text Box 5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86" name="Text Box 59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6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87" name="Rectangle 60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88" name="Rectangle 61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9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690" name="Group 10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691" name="AutoShape 11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692" name="Text Box 12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693" name="Group 13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694" name="AutoShape 14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1695" name="Group 15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696" name="Line 16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97" name="Line 17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98" name="Line 18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699" name="Line 19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00" name="Line 20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01" name="Line 21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02" name="Line 22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03" name="Line 23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04" name="Line 24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05" name="Text Box 25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06" name="Text Box 26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07" name="Text Box 27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08" name="Text Box 28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09" name="Text Box 29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10" name="Text Box 30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11" name="Text Box 31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12" name="Text Box 32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13" name="Text Box 33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14" name="Text Box 34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15" name="Text Box 35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16" name="Text Box 36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17" name="Text Box 37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18" name="Text Box 38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19" name="Text Box 39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20" name="Text Box 40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21" name="Text Box 41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22" name="Text Box 42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23" name="Text Box 43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24" name="Text Box 44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25" name="Text Box 45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26" name="Text Box 46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27" name="Text Box 47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28" name="Text Box 48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29" name="Text Box 49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30" name="Text Box 50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31" name="Text Box 51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32" name="Text Box 52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33" name="Text Box 53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34" name="Text Box 54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1735" name="Rectangle 55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736" name="Rectangle 56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737" name="Rectangle 57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38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39" name="Text Box 5">
            <a:hlinkClick r:id="rId7" action="ppaction://hlinksldjump"/>
          </p:cNvPr>
          <p:cNvSpPr/>
          <p:nvPr/>
        </p:nvSpPr>
        <p:spPr>
          <a:xfrm>
            <a:off x="838080" y="2590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0" name="Text Box 59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6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1" name="Rectangle 60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2" name="Rectangle 61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9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744" name="Group 10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745" name="AutoShape 11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746" name="Text Box 12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1747" name="Group 13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748" name="AutoShape 14"/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1749" name="Group 15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750" name="Line 16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51" name="Line 17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52" name="Line 18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53" name="Line 19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54" name="Line 20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55" name="Line 21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56" name="Line 22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57" name="Line 23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58" name="Line 24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59" name="Text Box 25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60" name="Text Box 26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61" name="Text Box 27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62" name="Text Box 28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63" name="Text Box 29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64" name="Text Box 30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65" name="Text Box 31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66" name="Text Box 32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67" name="Text Box 33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68" name="Text Box 34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69" name="Text Box 35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70" name="Text Box 36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71" name="Text Box 37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72" name="Text Box 38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73" name="Text Box 39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74" name="Text Box 40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75" name="Text Box 41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76" name="Text Box 42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77" name="Text Box 43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78" name="Text Box 44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79" name="Text Box 45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80" name="Text Box 46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81" name="Text Box 47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82" name="Text Box 48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83" name="Text Box 49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84" name="Text Box 50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85" name="Text Box 51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86" name="Text Box 52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87" name="Text Box 53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788" name="Text Box 54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1789" name="Rectangle 55"/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790" name="Rectangle 56"/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791" name="Rectangle 57">
            <a:hlinkClick r:id="rId2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92" name="Text Box 4">
            <a:hlinkClick r:id="rId3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93" name="Text Box 5">
            <a:hlinkClick r:id="rId4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94" name="Text Box 59">
            <a:hlinkClick r:id="rId5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6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95" name="Rectangle 60">
            <a:hlinkClick r:id="rId6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96" name="Rectangle 61"/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97" name="Rectangle 62"/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799" name="Group 3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800" name="AutoShape 4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801" name="Text Box 5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802" name="Text Box 6"/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03" name="Text Box 7"/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04" name="AutoShape 17"/>
          <p:cNvSpPr/>
          <p:nvPr/>
        </p:nvSpPr>
        <p:spPr>
          <a:xfrm>
            <a:off x="76320" y="380880"/>
            <a:ext cx="8991360" cy="1600200"/>
          </a:xfrm>
          <a:custGeom>
            <a:avLst/>
            <a:gdLst>
              <a:gd name="textAreaLeft" fmla="*/ 2247840 w 8991360"/>
              <a:gd name="textAreaRight" fmla="*/ 6743520 w 8991360"/>
              <a:gd name="textAreaTop" fmla="*/ 19980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05" name="Text Box 8"/>
          <p:cNvSpPr/>
          <p:nvPr/>
        </p:nvSpPr>
        <p:spPr>
          <a:xfrm>
            <a:off x="838080" y="9144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inal Jeopardy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06" name="Rectangle 16"/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807" name="Group 19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808" name="AutoShape 20"/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1809" name="Group 21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810" name="Line 22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11" name="Line 23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12" name="Line 24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13" name="Line 25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14" name="Line 26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15" name="Line 27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16" name="Line 28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17" name="Line 29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18" name="Line 30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19" name="Text Box 31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20" name="Text Box 32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21" name="Text Box 33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22" name="Text Box 34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23" name="Text Box 35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24" name="Text Box 36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25" name="Text Box 37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26" name="Text Box 38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27" name="Text Box 39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28" name="Text Box 40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29" name="Text Box 41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30" name="Text Box 42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31" name="Text Box 43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32" name="Text Box 44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33" name="Text Box 45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34" name="Text Box 46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35" name="Text Box 47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36" name="Text Box 48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37" name="Text Box 49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38" name="Text Box 50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39" name="Text Box 51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40" name="Text Box 52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41" name="Text Box 53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42" name="Text Box 54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43" name="Text Box 55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44" name="Text Box 56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45" name="Text Box 57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46" name="Text Box 58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47" name="Text Box 59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1848" name="Text Box 60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1849" name="Rectangle 61"/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850" name="Rectangle 62"/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851" name="Rectangle 63"/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52" name="Rectangle 64"/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53" name="Rectangle 65"/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83" name="Group 16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84" name="AutoShape 17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85" name="Text Box 18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186" name="Text Box 4">
            <a:hlinkClick r:id="rId2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7" name="Text Box 5">
            <a:hlinkClick r:id="rId3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8" name="Rectangle 63">
            <a:hlinkClick r:id="rId4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9" name="Text Box 66">
            <a:hlinkClick r:id="rId5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1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0" name="Rectangle 111">
            <a:hlinkClick r:id="rId6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1" name="Rectangle 153">
            <a:hlinkClick r:id="rId7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2" name="Rectangle 154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3" name="AutoShape 156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194" name="Group 157"/>
          <p:cNvGrpSpPr/>
          <p:nvPr/>
        </p:nvGrpSpPr>
        <p:grpSpPr>
          <a:xfrm>
            <a:off x="7772400" y="5943600"/>
            <a:ext cx="1295280" cy="838080"/>
            <a:chOff x="7772400" y="5943600"/>
            <a:chExt cx="1295280" cy="838080"/>
          </a:xfrm>
        </p:grpSpPr>
        <p:sp>
          <p:nvSpPr>
            <p:cNvPr id="195" name="Line 158"/>
            <p:cNvSpPr/>
            <p:nvPr/>
          </p:nvSpPr>
          <p:spPr>
            <a:xfrm>
              <a:off x="79534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96" name="Line 159"/>
            <p:cNvSpPr/>
            <p:nvPr/>
          </p:nvSpPr>
          <p:spPr>
            <a:xfrm>
              <a:off x="81820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97" name="Line 160"/>
            <p:cNvSpPr/>
            <p:nvPr/>
          </p:nvSpPr>
          <p:spPr>
            <a:xfrm>
              <a:off x="84106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98" name="Line 161"/>
            <p:cNvSpPr/>
            <p:nvPr/>
          </p:nvSpPr>
          <p:spPr>
            <a:xfrm>
              <a:off x="86392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199" name="Line 162"/>
            <p:cNvSpPr/>
            <p:nvPr/>
          </p:nvSpPr>
          <p:spPr>
            <a:xfrm>
              <a:off x="88678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00" name="Line 163"/>
            <p:cNvSpPr/>
            <p:nvPr/>
          </p:nvSpPr>
          <p:spPr>
            <a:xfrm>
              <a:off x="7772400" y="609588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01" name="Line 164"/>
            <p:cNvSpPr/>
            <p:nvPr/>
          </p:nvSpPr>
          <p:spPr>
            <a:xfrm>
              <a:off x="7772400" y="627696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02" name="Line 165"/>
            <p:cNvSpPr/>
            <p:nvPr/>
          </p:nvSpPr>
          <p:spPr>
            <a:xfrm>
              <a:off x="7772400" y="645804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03" name="Line 166"/>
            <p:cNvSpPr/>
            <p:nvPr/>
          </p:nvSpPr>
          <p:spPr>
            <a:xfrm>
              <a:off x="7772400" y="663876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04" name="Text Box 167"/>
            <p:cNvSpPr/>
            <p:nvPr/>
          </p:nvSpPr>
          <p:spPr>
            <a:xfrm>
              <a:off x="7797960" y="5975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05" name="Text Box 168"/>
            <p:cNvSpPr/>
            <p:nvPr/>
          </p:nvSpPr>
          <p:spPr>
            <a:xfrm>
              <a:off x="801036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06" name="Text Box 169"/>
            <p:cNvSpPr/>
            <p:nvPr/>
          </p:nvSpPr>
          <p:spPr>
            <a:xfrm>
              <a:off x="823428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07" name="Text Box 170"/>
            <p:cNvSpPr/>
            <p:nvPr/>
          </p:nvSpPr>
          <p:spPr>
            <a:xfrm>
              <a:off x="846144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08" name="Text Box 171"/>
            <p:cNvSpPr/>
            <p:nvPr/>
          </p:nvSpPr>
          <p:spPr>
            <a:xfrm>
              <a:off x="868824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09" name="Text Box 172"/>
            <p:cNvSpPr/>
            <p:nvPr/>
          </p:nvSpPr>
          <p:spPr>
            <a:xfrm>
              <a:off x="8906040" y="5975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10" name="Text Box 173"/>
            <p:cNvSpPr/>
            <p:nvPr/>
          </p:nvSpPr>
          <p:spPr>
            <a:xfrm>
              <a:off x="779472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11" name="Text Box 174"/>
            <p:cNvSpPr/>
            <p:nvPr/>
          </p:nvSpPr>
          <p:spPr>
            <a:xfrm>
              <a:off x="8007480" y="6137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12" name="Text Box 175"/>
            <p:cNvSpPr/>
            <p:nvPr/>
          </p:nvSpPr>
          <p:spPr>
            <a:xfrm>
              <a:off x="823104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13" name="Text Box 176"/>
            <p:cNvSpPr/>
            <p:nvPr/>
          </p:nvSpPr>
          <p:spPr>
            <a:xfrm>
              <a:off x="845820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14" name="Text Box 177"/>
            <p:cNvSpPr/>
            <p:nvPr/>
          </p:nvSpPr>
          <p:spPr>
            <a:xfrm>
              <a:off x="8685360" y="6137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15" name="Text Box 178"/>
            <p:cNvSpPr/>
            <p:nvPr/>
          </p:nvSpPr>
          <p:spPr>
            <a:xfrm>
              <a:off x="890280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16" name="Text Box 179"/>
            <p:cNvSpPr/>
            <p:nvPr/>
          </p:nvSpPr>
          <p:spPr>
            <a:xfrm>
              <a:off x="779472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17" name="Text Box 180"/>
            <p:cNvSpPr/>
            <p:nvPr/>
          </p:nvSpPr>
          <p:spPr>
            <a:xfrm>
              <a:off x="8007480" y="63216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18" name="Text Box 181"/>
            <p:cNvSpPr/>
            <p:nvPr/>
          </p:nvSpPr>
          <p:spPr>
            <a:xfrm>
              <a:off x="823104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19" name="Text Box 182"/>
            <p:cNvSpPr/>
            <p:nvPr/>
          </p:nvSpPr>
          <p:spPr>
            <a:xfrm>
              <a:off x="845820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20" name="Text Box 183"/>
            <p:cNvSpPr/>
            <p:nvPr/>
          </p:nvSpPr>
          <p:spPr>
            <a:xfrm>
              <a:off x="8685360" y="63216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21" name="Text Box 184"/>
            <p:cNvSpPr/>
            <p:nvPr/>
          </p:nvSpPr>
          <p:spPr>
            <a:xfrm>
              <a:off x="890280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22" name="Text Box 185"/>
            <p:cNvSpPr/>
            <p:nvPr/>
          </p:nvSpPr>
          <p:spPr>
            <a:xfrm>
              <a:off x="779472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23" name="Text Box 186"/>
            <p:cNvSpPr/>
            <p:nvPr/>
          </p:nvSpPr>
          <p:spPr>
            <a:xfrm>
              <a:off x="8007480" y="650556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24" name="Text Box 187"/>
            <p:cNvSpPr/>
            <p:nvPr/>
          </p:nvSpPr>
          <p:spPr>
            <a:xfrm>
              <a:off x="823104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25" name="Text Box 188"/>
            <p:cNvSpPr/>
            <p:nvPr/>
          </p:nvSpPr>
          <p:spPr>
            <a:xfrm>
              <a:off x="845820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26" name="Text Box 189"/>
            <p:cNvSpPr/>
            <p:nvPr/>
          </p:nvSpPr>
          <p:spPr>
            <a:xfrm>
              <a:off x="8685360" y="650556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27" name="Text Box 190"/>
            <p:cNvSpPr/>
            <p:nvPr/>
          </p:nvSpPr>
          <p:spPr>
            <a:xfrm>
              <a:off x="890280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28" name="Text Box 191"/>
            <p:cNvSpPr/>
            <p:nvPr/>
          </p:nvSpPr>
          <p:spPr>
            <a:xfrm>
              <a:off x="779472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29" name="Text Box 192"/>
            <p:cNvSpPr/>
            <p:nvPr/>
          </p:nvSpPr>
          <p:spPr>
            <a:xfrm>
              <a:off x="8007480" y="66834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30" name="Text Box 193"/>
            <p:cNvSpPr/>
            <p:nvPr/>
          </p:nvSpPr>
          <p:spPr>
            <a:xfrm>
              <a:off x="823104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31" name="Text Box 194"/>
            <p:cNvSpPr/>
            <p:nvPr/>
          </p:nvSpPr>
          <p:spPr>
            <a:xfrm>
              <a:off x="845820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32" name="Text Box 195"/>
            <p:cNvSpPr/>
            <p:nvPr/>
          </p:nvSpPr>
          <p:spPr>
            <a:xfrm>
              <a:off x="8685360" y="66834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33" name="Text Box 196"/>
            <p:cNvSpPr/>
            <p:nvPr/>
          </p:nvSpPr>
          <p:spPr>
            <a:xfrm>
              <a:off x="890280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234" name="Rectangle 197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5" name="Rectangle 198">
            <a:hlinkClick r:id="rId11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6" name="Rectangle 199">
            <a:hlinkClick r:id="rId12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7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238" name="Group 58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239" name="AutoShape 59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40" name="Text Box 60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241" name="Group 61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242" name="AutoShape 62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243" name="Group 63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244" name="Line 64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45" name="Line 65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46" name="Line 66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47" name="Line 67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48" name="Line 68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49" name="Line 69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0" name="Line 70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1" name="Line 71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2" name="Line 72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3" name="Text Box 73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4" name="Text Box 74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5" name="Text Box 75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6" name="Text Box 76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7" name="Text Box 77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8" name="Text Box 78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59" name="Text Box 79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0" name="Text Box 80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1" name="Text Box 81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2" name="Text Box 82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3" name="Text Box 83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4" name="Text Box 84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5" name="Text Box 85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6" name="Text Box 86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7" name="Text Box 87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8" name="Text Box 88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69" name="Text Box 89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0" name="Text Box 90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1" name="Text Box 91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2" name="Text Box 92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3" name="Text Box 93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4" name="Text Box 94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5" name="Text Box 95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6" name="Text Box 96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7" name="Text Box 97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8" name="Text Box 98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79" name="Text Box 99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80" name="Text Box 100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81" name="Text Box 101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282" name="Text Box 102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Rectangle 103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84" name="Rectangle 104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285" name="Text Box 4">
            <a:hlinkClick r:id="rId5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6" name="Text Box 5">
            <a:hlinkClick r:id="rId6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7" name="Rectangle 105">
            <a:hlinkClick r:id="rId7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8" name="Text Box 107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1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9" name="Rectangle 108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0" name="Rectangle 109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1" name="Rectangle 110">
            <a:hlinkClick r:id="rId11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293" name="Group 15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294" name="AutoShape 16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295" name="Text Box 17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296" name="Group 18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297" name="AutoShape 19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298" name="Group 20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299" name="Line 21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0" name="Line 22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1" name="Line 23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2" name="Line 24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3" name="Line 25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4" name="Line 26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5" name="Line 27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6" name="Line 28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7" name="Line 29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8" name="Text Box 30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09" name="Text Box 31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0" name="Text Box 32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1" name="Text Box 33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2" name="Text Box 34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3" name="Text Box 35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4" name="Text Box 36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5" name="Text Box 37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6" name="Text Box 38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7" name="Text Box 39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8" name="Text Box 40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19" name="Text Box 41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0" name="Text Box 42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1" name="Text Box 43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2" name="Text Box 44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3" name="Text Box 45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4" name="Text Box 46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5" name="Text Box 47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6" name="Text Box 48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7" name="Text Box 49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8" name="Text Box 50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29" name="Text Box 51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30" name="Text Box 52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31" name="Text Box 53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32" name="Text Box 54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33" name="Text Box 55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34" name="Text Box 56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35" name="Text Box 57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36" name="Text Box 58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37" name="Text Box 59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Rectangle 60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339" name="Rectangle 61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340" name="Text Box 4">
            <a:hlinkClick r:id="rId5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8280" indent="-368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1" name="Text Box 5">
            <a:hlinkClick r:id="rId6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2" name="Rectangle 62">
            <a:hlinkClick r:id="rId7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3" name="Text Box 64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1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4" name="Rectangle 65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Rectangle 66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6" name="Rectangle 67">
            <a:hlinkClick r:id="rId11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348" name="Group 15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349" name="AutoShape 16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350" name="Text Box 17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351" name="Group 18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352" name="AutoShape 19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353" name="Group 20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354" name="Line 21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55" name="Line 22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56" name="Line 23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57" name="Line 24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58" name="Line 25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59" name="Line 26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0" name="Line 27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1" name="Line 28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2" name="Line 29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3" name="Text Box 30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4" name="Text Box 31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5" name="Text Box 32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6" name="Text Box 33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7" name="Text Box 34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8" name="Text Box 35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69" name="Text Box 36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0" name="Text Box 37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1" name="Text Box 38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2" name="Text Box 39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3" name="Text Box 40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4" name="Text Box 41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5" name="Text Box 42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6" name="Text Box 43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7" name="Text Box 44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8" name="Text Box 45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79" name="Text Box 46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0" name="Text Box 47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1" name="Text Box 48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2" name="Text Box 49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3" name="Text Box 50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4" name="Text Box 51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5" name="Text Box 52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6" name="Text Box 53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7" name="Text Box 54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8" name="Text Box 55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89" name="Text Box 56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90" name="Text Box 57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91" name="Text Box 58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392" name="Text Box 59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Rectangle 60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394" name="Rectangle 61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395" name="Rectangle 62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6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Text Box 5">
            <a:hlinkClick r:id="rId7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8" name="Text Box 64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1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Rectangle 65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0" name="Rectangle 66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Rectangle 67">
            <a:hlinkClick r:id="rId11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403" name="Group 15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404" name="AutoShape 16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05" name="Text Box 17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406" name="Group 18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407" name="AutoShape 19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409" name="Line 21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0" name="Line 22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1" name="Line 23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2" name="Line 24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3" name="Line 25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4" name="Line 26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5" name="Line 27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6" name="Line 28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7" name="Line 29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8" name="Text Box 30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19" name="Text Box 31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0" name="Text Box 32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1" name="Text Box 33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2" name="Text Box 34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3" name="Text Box 35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4" name="Text Box 36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5" name="Text Box 37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6" name="Text Box 38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7" name="Text Box 39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8" name="Text Box 40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29" name="Text Box 41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30" name="Text Box 42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31" name="Text Box 43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32" name="Text Box 44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33" name="Text Box 45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34" name="Text Box 46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35" name="Text Box 47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36" name="Text Box 48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37" name="Text Box 49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38" name="Text Box 50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39" name="Text Box 51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40" name="Text Box 52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41" name="Text Box 53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42" name="Text Box 54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43" name="Text Box 55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44" name="Text Box 56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45" name="Text Box 57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46" name="Text Box 58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447" name="Text Box 59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Rectangle 60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49" name="Rectangle 61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450" name="Rectangle 62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1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2" name="Rectangle 8">
            <a:hlinkClick r:id="rId7" action="ppaction://hlinksldjump"/>
          </p:cNvPr>
          <p:cNvSpPr/>
          <p:nvPr/>
        </p:nvSpPr>
        <p:spPr>
          <a:xfrm>
            <a:off x="914400" y="2590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3" name="Text Box 64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2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Rectangle 65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5" name="AutoShape 66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456" name="Group 67"/>
          <p:cNvGrpSpPr/>
          <p:nvPr/>
        </p:nvGrpSpPr>
        <p:grpSpPr>
          <a:xfrm>
            <a:off x="7772400" y="5943600"/>
            <a:ext cx="1295280" cy="838080"/>
            <a:chOff x="7772400" y="5943600"/>
            <a:chExt cx="1295280" cy="838080"/>
          </a:xfrm>
        </p:grpSpPr>
        <p:sp>
          <p:nvSpPr>
            <p:cNvPr id="457" name="Line 68"/>
            <p:cNvSpPr/>
            <p:nvPr/>
          </p:nvSpPr>
          <p:spPr>
            <a:xfrm>
              <a:off x="79534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58" name="Line 69"/>
            <p:cNvSpPr/>
            <p:nvPr/>
          </p:nvSpPr>
          <p:spPr>
            <a:xfrm>
              <a:off x="81820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59" name="Line 70"/>
            <p:cNvSpPr/>
            <p:nvPr/>
          </p:nvSpPr>
          <p:spPr>
            <a:xfrm>
              <a:off x="84106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0" name="Line 71"/>
            <p:cNvSpPr/>
            <p:nvPr/>
          </p:nvSpPr>
          <p:spPr>
            <a:xfrm>
              <a:off x="86392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88678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2" name="Line 73"/>
            <p:cNvSpPr/>
            <p:nvPr/>
          </p:nvSpPr>
          <p:spPr>
            <a:xfrm>
              <a:off x="7772400" y="609588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3" name="Line 74"/>
            <p:cNvSpPr/>
            <p:nvPr/>
          </p:nvSpPr>
          <p:spPr>
            <a:xfrm>
              <a:off x="7772400" y="627696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4" name="Line 75"/>
            <p:cNvSpPr/>
            <p:nvPr/>
          </p:nvSpPr>
          <p:spPr>
            <a:xfrm>
              <a:off x="7772400" y="645804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5" name="Line 76"/>
            <p:cNvSpPr/>
            <p:nvPr/>
          </p:nvSpPr>
          <p:spPr>
            <a:xfrm>
              <a:off x="7772400" y="663876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6" name="Text Box 77"/>
            <p:cNvSpPr/>
            <p:nvPr/>
          </p:nvSpPr>
          <p:spPr>
            <a:xfrm>
              <a:off x="7797960" y="5975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7" name="Text Box 78"/>
            <p:cNvSpPr/>
            <p:nvPr/>
          </p:nvSpPr>
          <p:spPr>
            <a:xfrm>
              <a:off x="801036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8" name="Text Box 79"/>
            <p:cNvSpPr/>
            <p:nvPr/>
          </p:nvSpPr>
          <p:spPr>
            <a:xfrm>
              <a:off x="823428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69" name="Text Box 80"/>
            <p:cNvSpPr/>
            <p:nvPr/>
          </p:nvSpPr>
          <p:spPr>
            <a:xfrm>
              <a:off x="846144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70" name="Text Box 81"/>
            <p:cNvSpPr/>
            <p:nvPr/>
          </p:nvSpPr>
          <p:spPr>
            <a:xfrm>
              <a:off x="868824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71" name="Text Box 82"/>
            <p:cNvSpPr/>
            <p:nvPr/>
          </p:nvSpPr>
          <p:spPr>
            <a:xfrm>
              <a:off x="8906040" y="5975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72" name="Text Box 83"/>
            <p:cNvSpPr/>
            <p:nvPr/>
          </p:nvSpPr>
          <p:spPr>
            <a:xfrm>
              <a:off x="779472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73" name="Text Box 84"/>
            <p:cNvSpPr/>
            <p:nvPr/>
          </p:nvSpPr>
          <p:spPr>
            <a:xfrm>
              <a:off x="8007480" y="6137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74" name="Text Box 85"/>
            <p:cNvSpPr/>
            <p:nvPr/>
          </p:nvSpPr>
          <p:spPr>
            <a:xfrm>
              <a:off x="823104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75" name="Text Box 86"/>
            <p:cNvSpPr/>
            <p:nvPr/>
          </p:nvSpPr>
          <p:spPr>
            <a:xfrm>
              <a:off x="845820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76" name="Text Box 87"/>
            <p:cNvSpPr/>
            <p:nvPr/>
          </p:nvSpPr>
          <p:spPr>
            <a:xfrm>
              <a:off x="8685360" y="6137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77" name="Text Box 88"/>
            <p:cNvSpPr/>
            <p:nvPr/>
          </p:nvSpPr>
          <p:spPr>
            <a:xfrm>
              <a:off x="890280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78" name="Text Box 89"/>
            <p:cNvSpPr/>
            <p:nvPr/>
          </p:nvSpPr>
          <p:spPr>
            <a:xfrm>
              <a:off x="779472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79" name="Text Box 90"/>
            <p:cNvSpPr/>
            <p:nvPr/>
          </p:nvSpPr>
          <p:spPr>
            <a:xfrm>
              <a:off x="8007480" y="63216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80" name="Text Box 91"/>
            <p:cNvSpPr/>
            <p:nvPr/>
          </p:nvSpPr>
          <p:spPr>
            <a:xfrm>
              <a:off x="823104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81" name="Text Box 92"/>
            <p:cNvSpPr/>
            <p:nvPr/>
          </p:nvSpPr>
          <p:spPr>
            <a:xfrm>
              <a:off x="845820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82" name="Text Box 93"/>
            <p:cNvSpPr/>
            <p:nvPr/>
          </p:nvSpPr>
          <p:spPr>
            <a:xfrm>
              <a:off x="8685360" y="63216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83" name="Text Box 94"/>
            <p:cNvSpPr/>
            <p:nvPr/>
          </p:nvSpPr>
          <p:spPr>
            <a:xfrm>
              <a:off x="890280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84" name="Text Box 95"/>
            <p:cNvSpPr/>
            <p:nvPr/>
          </p:nvSpPr>
          <p:spPr>
            <a:xfrm>
              <a:off x="779472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85" name="Text Box 96"/>
            <p:cNvSpPr/>
            <p:nvPr/>
          </p:nvSpPr>
          <p:spPr>
            <a:xfrm>
              <a:off x="8007480" y="650556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86" name="Text Box 97"/>
            <p:cNvSpPr/>
            <p:nvPr/>
          </p:nvSpPr>
          <p:spPr>
            <a:xfrm>
              <a:off x="823104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87" name="Text Box 98"/>
            <p:cNvSpPr/>
            <p:nvPr/>
          </p:nvSpPr>
          <p:spPr>
            <a:xfrm>
              <a:off x="845820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88" name="Text Box 99"/>
            <p:cNvSpPr/>
            <p:nvPr/>
          </p:nvSpPr>
          <p:spPr>
            <a:xfrm>
              <a:off x="8685360" y="650556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89" name="Text Box 100"/>
            <p:cNvSpPr/>
            <p:nvPr/>
          </p:nvSpPr>
          <p:spPr>
            <a:xfrm>
              <a:off x="890280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90" name="Text Box 101"/>
            <p:cNvSpPr/>
            <p:nvPr/>
          </p:nvSpPr>
          <p:spPr>
            <a:xfrm>
              <a:off x="779472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91" name="Text Box 102"/>
            <p:cNvSpPr/>
            <p:nvPr/>
          </p:nvSpPr>
          <p:spPr>
            <a:xfrm>
              <a:off x="8007480" y="66834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92" name="Text Box 103"/>
            <p:cNvSpPr/>
            <p:nvPr/>
          </p:nvSpPr>
          <p:spPr>
            <a:xfrm>
              <a:off x="823104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93" name="Text Box 104"/>
            <p:cNvSpPr/>
            <p:nvPr/>
          </p:nvSpPr>
          <p:spPr>
            <a:xfrm>
              <a:off x="845820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94" name="Text Box 105"/>
            <p:cNvSpPr/>
            <p:nvPr/>
          </p:nvSpPr>
          <p:spPr>
            <a:xfrm>
              <a:off x="8685360" y="66834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495" name="Text Box 106"/>
            <p:cNvSpPr/>
            <p:nvPr/>
          </p:nvSpPr>
          <p:spPr>
            <a:xfrm>
              <a:off x="890280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496" name="Rectangle 107">
            <a:hlinkClick r:id="rId11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Rectangle 108">
            <a:hlinkClick r:id="rId12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8" name="Rectangle 109">
            <a:hlinkClick r:id="rId13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500" name="Group 13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501" name="AutoShape 14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51840 w 2437920"/>
                <a:gd name="textAreaRight" fmla="*/ 2386080 w 2437920"/>
                <a:gd name="textAreaTop" fmla="*/ 51840 h 800640"/>
                <a:gd name="textAreaBottom" fmla="*/ 74880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4351" y="1400"/>
                  </a:lnTo>
                  <a:lnTo>
                    <a:pt x="1400" y="140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4351" y="20200"/>
                  </a:lnTo>
                  <a:lnTo>
                    <a:pt x="64351" y="140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351" y="2020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777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02" name="Text Box 15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grpSp>
        <p:nvGrpSpPr>
          <p:cNvPr id="503" name="Group 16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504" name="AutoShape 17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64080 w 1447920"/>
                <a:gd name="textAreaRight" fmla="*/ 1383840 w 144792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164" y="1400"/>
                  </a:lnTo>
                  <a:lnTo>
                    <a:pt x="1400" y="1400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164" y="20200"/>
                  </a:lnTo>
                  <a:lnTo>
                    <a:pt x="30164" y="1400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0164" y="20200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grpSp>
          <p:nvGrpSpPr>
            <p:cNvPr id="505" name="Group 18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506" name="Line 19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07" name="Line 20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08" name="Line 21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09" name="Line 22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10" name="Line 23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11" name="Line 24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12" name="Line 25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13" name="Line 26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14" name="Line 27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15" name="Text Box 28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16" name="Text Box 29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17" name="Text Box 30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18" name="Text Box 31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19" name="Text Box 32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20" name="Text Box 33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21" name="Text Box 34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22" name="Text Box 35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23" name="Text Box 36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24" name="Text Box 37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25" name="Text Box 38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26" name="Text Box 39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27" name="Text Box 40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28" name="Text Box 41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29" name="Text Box 42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30" name="Text Box 43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31" name="Text Box 44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32" name="Text Box 45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33" name="Text Box 46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34" name="Text Box 47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35" name="Text Box 48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36" name="Text Box 49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37" name="Text Box 50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38" name="Text Box 51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39" name="Text Box 52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40" name="Text Box 53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42" name="Text Box 55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43" name="Text Box 56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  <p:sp>
            <p:nvSpPr>
              <p:cNvPr id="544" name="Text Box 57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808080"/>
                  </a:solidFill>
                  <a:latin typeface="Times New Roman"/>
                </a:endParaRPr>
              </a:p>
            </p:txBody>
          </p:sp>
        </p:grpSp>
        <p:sp>
          <p:nvSpPr>
            <p:cNvPr id="545" name="Rectangle 58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546" name="Rectangle 59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p:sp>
        <p:nvSpPr>
          <p:cNvPr id="547" name="Rectangle 60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8" name="Text Box 4">
            <a:hlinkClick r:id="rId6" action="ppaction://hlinksldjump"/>
          </p:cNvPr>
          <p:cNvSpPr/>
          <p:nvPr/>
        </p:nvSpPr>
        <p:spPr>
          <a:xfrm>
            <a:off x="76212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What is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rect Response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9" name="Text Box 5">
            <a:hlinkClick r:id="rId7" action="ppaction://hlinksldjump"/>
          </p:cNvPr>
          <p:cNvSpPr/>
          <p:nvPr/>
        </p:nvSpPr>
        <p:spPr>
          <a:xfrm>
            <a:off x="838080" y="259092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Here (the “Answer”)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Text Box 62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t2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1" name="Rectangle 63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2" name="Rectangle 64">
            <a:hlinkClick r:id="rId10" action="ppaction://hlinksldjump"/>
          </p:cNvPr>
          <p:cNvSpPr/>
          <p:nvPr/>
        </p:nvSpPr>
        <p:spPr>
          <a:xfrm>
            <a:off x="7696080" y="480060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3" name="Rectangle 66">
            <a:hlinkClick r:id="rId11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Rectangle 67">
            <a:hlinkClick r:id="rId12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7:56:44Z</dcterms:created>
  <dc:creator>Ken Martin</dc:creator>
  <dc:description/>
  <dc:language>en-US</dc:language>
  <cp:lastModifiedBy>mconrad</cp:lastModifiedBy>
  <dcterms:modified xsi:type="dcterms:W3CDTF">2012-02-27T20:32:00Z</dcterms:modified>
  <cp:revision>116</cp:revision>
  <dc:subject/>
  <dc:title>Semester 2</dc:title>
</cp:coreProperties>
</file>