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F3D-9744-4A89-8532-64BFE3F7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D45-0F3E-4331-86F4-E8F88A51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18E-A0BA-45A6-97DE-C33AC383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159-F82A-4AA4-9D51-7FE6264F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F4E-8D9A-4F71-9874-EEC7B727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08D-E7EB-424B-AC0C-503B0DB1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650-A78D-46EA-8E1B-1638C82B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428-D532-4B5B-B2BE-DC1E55A1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16B-CF73-4EE5-ABB8-B66CE5DC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3BC-B4B3-40A7-93BA-45BFBAD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94A-8336-4EB4-89CF-879DA9F4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4D8-3540-4632-AE2B-D7D25A2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944-8C6C-4310-8C24-DAA24F990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ocot Seed (Corn) and Its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3" descr="Monocot Seed (Corn) and Its Parts.jpg"/>
          <p:cNvPicPr/>
          <p:nvPr/>
        </p:nvPicPr>
        <p:blipFill>
          <a:blip r:embed="rId1"/>
          <a:stretch/>
        </p:blipFill>
        <p:spPr>
          <a:xfrm>
            <a:off x="1327320" y="1839960"/>
            <a:ext cx="6445080" cy="3875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408560" y="1947960"/>
            <a:ext cx="142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29160" y="2895480"/>
            <a:ext cx="1262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5720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572000" y="4343400"/>
            <a:ext cx="1295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440240" y="4876920"/>
            <a:ext cx="96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421160" y="5321160"/>
            <a:ext cx="1293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6095880" y="2895480"/>
            <a:ext cx="18288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cot Seed (Bean) and Its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Dicot Seed (Bean) and Its Parts.jpg"/>
          <p:cNvPicPr/>
          <p:nvPr/>
        </p:nvPicPr>
        <p:blipFill>
          <a:blip r:embed="rId1"/>
          <a:stretch/>
        </p:blipFill>
        <p:spPr>
          <a:xfrm>
            <a:off x="2462040" y="1724040"/>
            <a:ext cx="4219920" cy="3990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670280" y="1882800"/>
            <a:ext cx="66384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789440" y="2297160"/>
            <a:ext cx="77328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778280" y="2754360"/>
            <a:ext cx="55584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746600" y="3700440"/>
            <a:ext cx="8161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659480" y="5345280"/>
            <a:ext cx="815760" cy="29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661000" y="1676520"/>
            <a:ext cx="10447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raphic illustrates only one-half of the dicot se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ges in Germination and Emerge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 Monocot Seed (Cor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167440" y="19479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\\Iml-files-1\Data1\PROJECTS\Agricultural Education\Online Curriculum\10-1000-A Agricultural Science II\Plant Science\Lesson 5\Images\Germination-and-Emergence-of-a-Monocot-Seed-(Corn).jpg"/>
          <p:cNvPicPr/>
          <p:nvPr/>
        </p:nvPicPr>
        <p:blipFill>
          <a:blip r:embed="rId1"/>
          <a:stretch/>
        </p:blipFill>
        <p:spPr>
          <a:xfrm>
            <a:off x="2333520" y="1514520"/>
            <a:ext cx="5819760" cy="3828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557600" y="24382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615000" y="27432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6996240" y="3657600"/>
            <a:ext cx="13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919920" y="441972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253040" y="4952880"/>
            <a:ext cx="1218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186000" y="4876920"/>
            <a:ext cx="609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271600" y="37339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ges in Germination and Emerge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 Dicot Seed (Be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Germination and Emergence of a Dicot Seed (Bean).jpg"/>
          <p:cNvPicPr/>
          <p:nvPr/>
        </p:nvPicPr>
        <p:blipFill>
          <a:blip r:embed="rId1"/>
          <a:srcRect l="0" t="13150" r="0" b="0"/>
          <a:stretch/>
        </p:blipFill>
        <p:spPr>
          <a:xfrm>
            <a:off x="1862280" y="2057400"/>
            <a:ext cx="5419440" cy="3622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2514600" y="5040360"/>
            <a:ext cx="6634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666880" y="4114800"/>
            <a:ext cx="57636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743200" y="3457440"/>
            <a:ext cx="4665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452760" y="37512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603600" y="3429000"/>
            <a:ext cx="61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691160" y="4100400"/>
            <a:ext cx="2775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472000" y="3740040"/>
            <a:ext cx="3193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913200" y="2776680"/>
            <a:ext cx="61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4782960" y="2306520"/>
            <a:ext cx="26676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451480" y="5486400"/>
            <a:ext cx="60804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9:34:43Z</dcterms:created>
  <dc:creator>streeterr</dc:creator>
  <dc:description/>
  <dc:language>en-US</dc:language>
  <cp:lastModifiedBy>streeterr</cp:lastModifiedBy>
  <dcterms:modified xsi:type="dcterms:W3CDTF">2008-02-19T21:20:49Z</dcterms:modified>
  <cp:revision>18</cp:revision>
  <dc:subject/>
  <dc:title>Slide 1</dc:title>
</cp:coreProperties>
</file>