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D7E-A750-45C9-AEEA-77609838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797-61D9-42C2-804E-87B040B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A59-52C7-405B-A58A-40A8EDF8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B4F-3930-44FF-B5B3-8255B2BB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2A4-1482-4911-8601-D8984B3C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699-C38F-40DB-9464-8E52A061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541-DAFF-49A2-BF14-4A356A55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13D-779C-4C18-95DE-66B753D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A28-4459-4F6F-B937-2E034264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92B-3252-4EE2-91D5-CEECCCB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785-2285-4DDF-8934-415D011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582-DA54-4540-8992-F4AE296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7CA3-C750-49AB-BC7A-1F5F7B9EC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Complete Fl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Parts of a Complete Flower - Labeled.jpg"/>
          <p:cNvPicPr/>
          <p:nvPr/>
        </p:nvPicPr>
        <p:blipFill>
          <a:blip r:embed="rId1"/>
          <a:stretch/>
        </p:blipFill>
        <p:spPr>
          <a:xfrm>
            <a:off x="514440" y="1676520"/>
            <a:ext cx="811512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436760" y="484488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8000" y="3635280"/>
            <a:ext cx="112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295280" y="2797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9"/>
          <p:cNvSpPr/>
          <p:nvPr/>
        </p:nvSpPr>
        <p:spPr>
          <a:xfrm>
            <a:off x="490680" y="2552760"/>
            <a:ext cx="976320" cy="164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859440" y="16416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61240" y="2658960"/>
            <a:ext cx="93960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858000" y="3440160"/>
            <a:ext cx="685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818400" y="4202280"/>
            <a:ext cx="8096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7"/>
          <p:cNvSpPr/>
          <p:nvPr/>
        </p:nvSpPr>
        <p:spPr>
          <a:xfrm rot="10800000">
            <a:off x="7626240" y="2490480"/>
            <a:ext cx="976320" cy="213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5:46:59Z</dcterms:created>
  <dc:creator>streeterr</dc:creator>
  <dc:description/>
  <dc:language>en-US</dc:language>
  <cp:lastModifiedBy>streeterr</cp:lastModifiedBy>
  <dcterms:modified xsi:type="dcterms:W3CDTF">2008-01-31T19:16:34Z</dcterms:modified>
  <cp:revision>8</cp:revision>
  <dc:subject/>
  <dc:title>Parts of a Complete Flower</dc:title>
</cp:coreProperties>
</file>