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EE3-4502-4392-A4D0-E033C6A5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FEA-8ACE-45E0-8579-3C3BA1F1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6C5-FBD2-4987-92EC-51D62E37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21A-F111-494A-8254-95F01E51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3CB-45F3-47C2-8CFB-F1891737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3B7-51A7-4982-8E9A-5ECDD307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EE5-DAE0-4F13-AF06-EF32A924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841-6156-4D75-9A13-426DDE38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682-9F6C-49FC-83F2-62EFBC7E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6B4-F1DD-4E8C-9135-D2133C77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4A9-5C42-4FD5-95B7-037A6033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4A2-A6CF-49DC-9962-6780F32E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F88A-4C94-4BE5-A500-D3288C84F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8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anical Classific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heat and Barley Examp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63720" y="1158840"/>
          <a:ext cx="7238880" cy="5288040"/>
        </p:xfrm>
        <a:graphic>
          <a:graphicData uri="http://schemas.openxmlformats.org/drawingml/2006/table">
            <a:tbl>
              <a:tblPr/>
              <a:tblGrid>
                <a:gridCol w="1447560"/>
                <a:gridCol w="2895840"/>
                <a:gridCol w="2895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62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62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6228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King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tae (plant, distinct from anim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tae (plant, distinct from anim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Di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rmatophyta (or seed pla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rmatophyta (or seed pla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giosperma (or plants with their seeds in a fru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giosperma (or plants with their seeds in a fru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Sub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ocotyledonae (seed with single seed lea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ocotyledonae (seed with single seed lea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minales (grass-like famili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minales (grass-like famili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Fam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minae or Graminaceae (the gras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minae or Graminaceae (the gras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Ge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ticum (the whea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rdeum (the barle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estinum (bread whe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ulgare (barle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8920"/>
            <a:ext cx="77724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cots vs. Monoc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Dicots Vs Monocots.jpg"/>
          <p:cNvPicPr/>
          <p:nvPr/>
        </p:nvPicPr>
        <p:blipFill>
          <a:blip r:embed="rId1"/>
          <a:srcRect l="0" t="8323" r="0" b="0"/>
          <a:stretch/>
        </p:blipFill>
        <p:spPr>
          <a:xfrm>
            <a:off x="1743120" y="828720"/>
            <a:ext cx="5657760" cy="58770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5"/>
          <p:cNvSpPr/>
          <p:nvPr/>
        </p:nvSpPr>
        <p:spPr>
          <a:xfrm>
            <a:off x="1870200" y="825480"/>
            <a:ext cx="2190600" cy="1057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6"/>
          <p:cNvSpPr/>
          <p:nvPr/>
        </p:nvSpPr>
        <p:spPr>
          <a:xfrm>
            <a:off x="4875120" y="826920"/>
            <a:ext cx="2440080" cy="9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1849320" y="1681200"/>
            <a:ext cx="2190960" cy="1366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8"/>
          <p:cNvSpPr/>
          <p:nvPr/>
        </p:nvSpPr>
        <p:spPr>
          <a:xfrm rot="10800000">
            <a:off x="4800240" y="1794960"/>
            <a:ext cx="2590920" cy="1057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1752480" y="3098880"/>
            <a:ext cx="2438640" cy="10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0"/>
          <p:cNvSpPr/>
          <p:nvPr/>
        </p:nvSpPr>
        <p:spPr>
          <a:xfrm rot="10800000">
            <a:off x="4723920" y="2952360"/>
            <a:ext cx="2724120" cy="98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1755720" y="4089240"/>
            <a:ext cx="2428920" cy="139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>
            <a:off x="4743360" y="4019400"/>
            <a:ext cx="2844720" cy="98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>
            <a:off x="1677960" y="5103720"/>
            <a:ext cx="2552760" cy="167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7"/>
          <p:cNvSpPr/>
          <p:nvPr/>
        </p:nvSpPr>
        <p:spPr>
          <a:xfrm rot="10800000">
            <a:off x="4754160" y="5011560"/>
            <a:ext cx="2552760" cy="175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20:53:35Z</dcterms:created>
  <dc:creator>streeterr</dc:creator>
  <dc:description/>
  <dc:language>en-US</dc:language>
  <cp:lastModifiedBy>streeterr</cp:lastModifiedBy>
  <dcterms:modified xsi:type="dcterms:W3CDTF">2008-03-03T17:06:55Z</dcterms:modified>
  <cp:revision>16</cp:revision>
  <dc:subject/>
  <dc:title>Botanical Classification (Wheat and Barley Example)</dc:title>
</cp:coreProperties>
</file>