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34E-DC74-4FF4-957F-5B462CD7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B19-AE5F-4255-AFC0-70A52D0D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D61-78E3-4750-86F6-B1E9FDE8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DAB-877D-41A0-ABE0-6A1BFD75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D099-B189-4DA8-AF61-F1892930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B061-B0B7-4093-A4E8-6992BAF9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9977-6B50-4199-92C4-826E8F2B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08D7-DC85-4A65-9E00-703CBA54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B7AA-68B9-483C-AB14-0ED2AA30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5E55-F629-4B79-964B-6A97158F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C27D-31FB-4FB4-8EA9-BBC1B1E5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57E-D0CA-4D4B-ACDC-D3C729DF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52E1-63A3-4C21-8486-F39FCC07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0468-E005-4F8D-9428-9554FB2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3948-8CF6-4504-AD83-D4533364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B98C-50D9-403F-8394-9C62C6EE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BB95-1E86-4730-9282-D5512683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9F8-DC06-4D4E-8386-0F1FBA75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854-AB3A-4FFF-860A-90B622E6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EE2-ED41-4F37-A71F-A9E04C91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F273-3085-4CEF-9985-16C19CDE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887-5315-4298-B252-8C297F18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349-632A-49BD-B090-13BA9CF2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432-0920-404D-B79F-FBA91C58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1027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1029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34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E803-64FB-42F3-8A70-EE70D564D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474A-9D48-4353-9E3A-2CB5D21FF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uencoding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uter Data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s of 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s ASCII Better Than EBCDIC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ndard versions of EBCDIC miss out the ASCII characters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[]\{}^~¦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include th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¢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gn, so there isn't even a direct match between th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s ASCII Better Than EBCDIC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se still, some of the missing ASCII characters are in the </a:t>
            </a:r>
            <a:r>
              <a:rPr b="0" lang="en-US" sz="3200" spc="-1" strike="noStrike" u="sng">
                <a:solidFill>
                  <a:srgbClr val="3366ff"/>
                </a:solidFill>
                <a:uFillTx/>
                <a:latin typeface="Verdana"/>
                <a:hlinkClick r:id="rId1"/>
              </a:rPr>
              <a:t>UUencod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nge, so it will tend to corrupt standard Internet mail attachmen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yte Data Ty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 B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ally 8 position binary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oolean Data Ty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/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/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dependant upon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ger Data Ty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65536 to 655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usually 2 b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dec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F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uble Data Ty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.79769313486231570E+308 through -4.94065645841246544E-324 for negative values and from 4.94065645841246544E-324 through 1.79769313486231570E+308 for positive val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- usually 8 b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ng Data Ty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9,223,372,036,854,775,808 through 9,223,372,036,854,775,8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Values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- Usually 8 b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ing Data Ty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of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Specific Size Defined by Progra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88-33-9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racter Data Ty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s 1 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” dependant upon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CII or EBCDIC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SCII Character S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stands for American Standard Code for Information Interchange. Computers can only understand numbers, so an ASCII code is the numerical representation of a character such as 'a' or '@' or an action of some sor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SCII Character S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was developed a long time ago and now the non-printing characters are rarely used for their original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was actually designed for use with teletypes and so the descriptions are somewhat obscur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SCII Character S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pad.exe creates ASCII text, or in MS Word you can save a file as 'text only'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BCDIC Character S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BCDIC (Extended Binary Coded Decimal Interchange Code) is a character encoding set used by IBM mainfr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BM mainframes and midrange systems such as the AS/400 tend to use a wholly incompatible character set primarily designed for ease of use on punched ca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s EBCDIC Better than ASCII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BCDIC is easier to use on punched c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luded the "cent sign" (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character that ASCII does no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ASCII Better Than EBCDIC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BCDIC is a mess. The lack of contiguous character blocks make coding a real pai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of the world runs on ASCII. Even in IBM mainframe environments, host PCs, terminals and printers may use ASCII as their native character se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7:19:48Z</dcterms:created>
  <dc:creator>Martin P. Hanley</dc:creator>
  <dc:description/>
  <dc:language>en-US</dc:language>
  <cp:lastModifiedBy>lfischer</cp:lastModifiedBy>
  <dcterms:modified xsi:type="dcterms:W3CDTF">2012-06-13T15:41:03Z</dcterms:modified>
  <cp:revision>10</cp:revision>
  <dc:subject/>
  <dc:title>Computer Data Types</dc:title>
</cp:coreProperties>
</file>