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358-42C5-4EB0-BEEB-ECC8A149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B12-D321-491D-A867-0A661848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4E6-4356-4B77-9579-7A2A9F92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9CE-2A03-4B3B-94B0-7B36FD2F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818D-F9A7-444A-B0E1-3AF2BF87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4338-28A8-44B1-A969-33C8355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3A6A-AF97-4A53-A879-4796161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DCD8-74ED-40E7-9E1B-21068BF3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A75D-F994-4E04-9765-FADED05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123-B3A1-44B1-A3E9-445F476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26FA-4EB8-4194-90D4-FA2AD88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160-289D-4192-8D72-850B4223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20F2-0CE5-4B37-B20F-2275210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EDF4-3D06-4D97-BCE8-C36FC51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D57E-93A1-45DF-AEB6-045F168E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5E2C-62E1-4DFB-88D5-455C7B37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F914-CCC0-4247-99B5-D2DD3A32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A0C-EBFE-4EBC-B793-B2DAD6E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678-49E8-4937-9F9A-E8C4892A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7FC-2CD5-43AB-9248-3DB309F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390-BE15-4A74-9B4F-87FF235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415-1290-4C2D-B96A-DE47CD0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52A-1075-4414-A478-CF313E8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E53-C32B-43C8-A5D8-2B9D1883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Line 8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Line 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11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12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Line 1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4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5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6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7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8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9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20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21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22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23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4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5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6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Group 27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Line 28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Line 29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Line 30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Line 31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Line 32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Line 33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Line 34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Line 35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Line 36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Line 37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Line 38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Line 39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Line 40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Line 41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Group 56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Freeform 47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Rectangle 48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50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Rectangle 51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53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54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Group 42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Picture 43" descr="techstrip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44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45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BC25-1421-46AD-87CC-0574E9F14662}" type="slidenum"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Line 3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6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7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8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22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Line 23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Rectangle 57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52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4" descr="techstrip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9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5774-A292-410A-9A97-196ADFE5209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reas of IS Employment</a:t>
            </a:r>
            <a:br>
              <a:rPr sz="4400"/>
            </a:b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/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t 1: The Role of the Software Profession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Picture 4" descr="Logo"/>
          <p:cNvPicPr/>
          <p:nvPr/>
        </p:nvPicPr>
        <p:blipFill>
          <a:blip r:embed="rId1"/>
          <a:stretch/>
        </p:blipFill>
        <p:spPr>
          <a:xfrm>
            <a:off x="1447920" y="5181480"/>
            <a:ext cx="63244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 &amp; 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kills And Ab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4114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think are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 &amp; 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kills/Abilities Nee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1280" indent="-167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y detail orien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11280" indent="-167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le to do both team and independent 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11280" indent="-167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questions simp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11280" indent="-167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ve!!!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kills/Abilities Nee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8680" indent="-164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e st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98680" indent="-164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good communication skil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98680" indent="-164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gical &amp; Quick think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98680" indent="-164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lling to work long hour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 &amp; 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0" y="4114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s of things do Analysts and DB Administrator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 &amp; 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ob Du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et with application project team and end us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 new data entities and modify existing on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view changes in the DB model with end users and programm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velop and test implementation of soft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velop database specific program 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 &amp; 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(continue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ne database perform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tall database softwa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rk with IT tech support staf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min database secur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alyst &amp; DB Admi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ob Duties (con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reate reports as required by end us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new database software upgrad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eep up-to-date on database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eep up-to-date on hard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eep up-to-date on software tre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rn their indus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12:02Z</dcterms:created>
  <dc:creator>MPH</dc:creator>
  <dc:description/>
  <dc:language>en-US</dc:language>
  <cp:lastModifiedBy>lfischer</cp:lastModifiedBy>
  <dcterms:modified xsi:type="dcterms:W3CDTF">2012-06-13T20:06:25Z</dcterms:modified>
  <cp:revision>8</cp:revision>
  <dc:subject/>
  <dc:title>Areas of IS Employment</dc:title>
</cp:coreProperties>
</file>