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41D3-7F29-4E7E-A093-2FF6C811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175-DF95-4D56-AE95-7D8C6637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4961-1EFF-4A11-9F7C-4F3211E8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375-79CD-497E-9C73-604CAB3D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B477-558B-446F-ABAA-612F5F2F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56E2-4D55-44CC-B750-37C42477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3D47-3D32-40CD-9409-FFE4B94C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FE13-6147-4576-9CAD-B2472E5A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AB7E-AFCC-4822-B46D-352DF2DA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F7A5-533E-4696-A713-F68BBE76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2CB5-4B0E-481E-9D25-3B502807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809-9E67-43B5-84A1-1C974587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0A2B-D9AB-482A-B076-3C73AE4D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DCA4-FEBA-4AD2-8548-333B75E7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D987-9512-4435-9393-19435D62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535A-D90D-4805-8C7B-B4FFC720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40F4-ECC2-4460-8522-732289B5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A05-1C2A-4F9A-9176-9A38E36D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523-A3FF-4194-A88E-3FADF2A4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3ED-D80F-4194-AF78-3D9FE756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396-5737-4F72-870F-57557D03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52A-B948-44AF-8910-C5CE68F1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3BF-C46B-4CF1-AEB4-50032A5E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124-7042-42A6-92AA-8917B6B8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1B8F-8267-42B6-85F9-F3CBE8E6B8B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DA24-8F97-429C-8617-4D45183546F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minology and Types of Soft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sics of Compu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ion Langua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gramming languages closer to human languages than typical high-level programming languages. Most 4GLs are used to access databas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st: machine languag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nd: assembly languag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rd: high-level programming languages, C, C++, and Jav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th: artificial intelligence and neural networks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rtab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ility of a language or program to be used on more than one type of compu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nchma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st used to compare performance of hardware and/or softwar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pha/Be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nd 2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Vers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pha Te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a Te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ast testing before commercial relea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ually non-programm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ually outside of the compan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p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amples of input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ing a change to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amples of output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happens if you turn off the computer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ssignment”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ttp://www.webopedia.c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nd 10 words that you didn’t previously kno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ate a Word or .txt file in your Z dr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 prepared to talk about one word that you fou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a command or operator is us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instructions that tell a computer what to 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hysical components of a compu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CI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merican Standard Code for Information Interchan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monly used data format for storing/exchanging information between computers and program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llest piece of information used by the computer. Either a 1 or 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programming error that causes a computer program to behave in an unexpected w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piece of computer information made up of 8 bi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iloby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024 by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g/megaby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024 kiloby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ig/gigaby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024 megaby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raby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024 gigaby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mo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mporary holding area where data is stor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turn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umber, string, data that a function “sends”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pplication Program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set of routines, protocols, and tools for building software application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perating Systems provid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ther programs provid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collection of precompiled routines that a program can us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transform a program written in a high-level programming language from source code into object cod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21:32:21Z</dcterms:created>
  <dc:creator>MPH</dc:creator>
  <dc:description/>
  <dc:language>en-US</dc:language>
  <cp:lastModifiedBy>mconrad</cp:lastModifiedBy>
  <dcterms:modified xsi:type="dcterms:W3CDTF">2012-05-29T14:15:47Z</dcterms:modified>
  <cp:revision>8</cp:revision>
  <dc:subject/>
  <dc:title>Terminology and Types of Software</dc:title>
</cp:coreProperties>
</file>