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AE8E-EF0D-4400-9EEE-7A305DB5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5E63-3616-4402-958A-D1F0A66C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4221-8E97-4595-93F3-452D23F19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63D1-A38C-4015-8857-987027BF5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E828-72AB-4226-9174-5EDD96E6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3FA6-CDE4-4916-ADC0-95E3353E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0436-6441-4543-996B-D59F6621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6719-35F1-4A5C-823F-615D3F82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8EEA-FF14-4D8C-80E2-55A66D9A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968C-7B2E-46B0-ADD6-85517F53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3571-D58E-4547-A131-A0858E0D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07F7-FE28-417C-A805-2498B4E7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ACB3-844E-4997-88B5-99E90ACD2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t to decimal: 1010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3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t to decimal: 100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3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t to decimal: 10101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3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t to decimal: 1000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3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t to decimal: 11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3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6:37:42Z</dcterms:created>
  <dc:creator>Martin P. Hanley</dc:creator>
  <dc:description/>
  <dc:language>en-US</dc:language>
  <cp:lastModifiedBy>mconrad</cp:lastModifiedBy>
  <dcterms:modified xsi:type="dcterms:W3CDTF">2012-05-29T14:22:07Z</dcterms:modified>
  <cp:revision>3</cp:revision>
  <dc:subject/>
  <dc:title>Convert to decimal: 101011</dc:title>
</cp:coreProperties>
</file>