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9E8-B222-4E90-838D-B2BBDAC7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5B7-F249-4193-BBDF-F82902EE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9FC-D59A-4874-B3AA-B647A3CD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353-9BF5-438D-8050-3E47744A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EEC-3203-4182-A52C-49BF67DB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B8D-FEFF-49CB-B2E8-DC01C87F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EA7-0BDC-4EA3-A8F7-48653695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486-40BF-41C9-AF0D-1C6FBC1A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422-79D7-4594-A9A2-CBC9FCCE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997-B540-43C2-B06A-FC84DC17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F9C-5D64-426F-B815-C98B9C5A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85B-F136-41ED-A153-9BFE66C5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13D3-EE42-4B55-B494-977D146F8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 to binary: 6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11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10101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01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11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 to binary: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 to binary: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1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 to binary: 1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00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0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0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0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 to binary: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1101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1111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11010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11010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38:15Z</dcterms:created>
  <dc:creator>Martin P. Hanley</dc:creator>
  <dc:description/>
  <dc:language>en-US</dc:language>
  <cp:lastModifiedBy>mconrad</cp:lastModifiedBy>
  <dcterms:modified xsi:type="dcterms:W3CDTF">2012-05-29T14:21:13Z</dcterms:modified>
  <cp:revision>3</cp:revision>
  <dc:subject/>
  <dc:title>Convert to binary: 681</dc:title>
</cp:coreProperties>
</file>