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B7D9-71DD-44A8-A134-06DCF13B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D822-5917-4492-AE0B-FCEAA021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724A-6628-48BC-8153-EE4D16B1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69C8-4C4A-4CA2-A618-87E12C7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2970-A47B-4B6D-87F0-A887576C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B71-730D-4FC6-9AEC-57D279B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E663-67EE-443C-9DFF-8149EC0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4F4-EF26-4E7A-ADA9-3419FBA2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D8E-5E74-40CC-9F7A-241BE799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469-DA4E-4FC3-8164-31D952F7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7D1D-A795-45FA-8FC2-F3FB06B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855D-98D7-480E-89C5-7DB93B4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B934-FBE0-4CE1-AB59-DDFD68C9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26D-2A28-4CED-B5CE-1DF6FC2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658-EC47-43FA-9597-8AE50064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A656-AC7D-43CE-9065-529DC05C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C50-030E-4D88-830F-453693DC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6171-E3CD-43B6-9E2E-CF0BE6C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8F1A-61CD-4C19-828E-17C8B6F2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90C5-1B34-46B2-B112-832F9FEF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116D-83E7-4BF0-B2DB-0DADB7C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4697-DC6C-4C82-BDD9-3D1C404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2DAE-89DB-4B46-955A-858AA9F3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22A1-964A-49FD-99F8-4602FC6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BDC-B71B-46F1-972A-909BEA58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DA8C-AAF5-4443-A7B6-F59C4C452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atabase Terminolog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917-8C24-4C29-BAAA-E95578BAA1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dure that initiates an action when an event (INSERT, DELETE or UPDATE) occ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d in and managed by the DB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called or executed; the DBMS automatically fires the trigger as a result of a data modification to the associated 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s are used to maintain the referential integrity of data by changing the data in a systematic fash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F04-92B8-4FFC-95B4-F3A8FF4C6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ield that you use to sort data. It can also be called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y fie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rt k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dex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y wor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field that identifies records in a different 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984-4CEC-4606-AEE6-28340427B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10" descr="MPj03826730000[1]"/>
          <p:cNvPicPr/>
          <p:nvPr/>
        </p:nvPicPr>
        <p:blipFill>
          <a:blip r:embed="rId1"/>
          <a:stretch/>
        </p:blipFill>
        <p:spPr>
          <a:xfrm>
            <a:off x="5048280" y="1600200"/>
            <a:ext cx="32385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484-752B-418B-A37A-6652782E00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Desig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Key’s to our Student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gaming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8F3-6D29-4489-A553-5DF82C478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assig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n Care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rence Sports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hool’s Extra-curricula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brary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 computers/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 Rent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le playing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cing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C0B-B755-476B-A4C0-7E0218924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bbreviat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 collection of information organized in such a way that a computer program can quickly select desired pieces of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Managemen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llection of programs that enables you to store, modify, and extract information from a databa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D74-E0D7-4828-B476-8EFDEF4A5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DB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ational Database Management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ype of DBMS that stores data in the form of related t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because they require few assumptions about how data is related or how it will be extracted from the datab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database can be viewed in many different way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llection of data that relates 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63C-157C-47D3-9E1E-D604D069E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lete set of information. Records are composed of fields, each of which contains one item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a tu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ace allocated for a particular item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units of information you can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D626-AA31-4A85-A713-44C73EE44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nct pieces of information, usually formatted in a special 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bout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how and when and by whom a particular set of data was collected, and how the data is format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ticular piece of information about 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187-B60A-4685-82E2-0708DE929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Desig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8445-E758-4F2B-AB2F-0A795E10D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Quer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query language for requesting information from a databa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organizing data to minimize redunda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000-298A-4CA5-A32B-59D46C45C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Terminolo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ormal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field in a table contains different information. For example, in an employee list, each table would contain only one birth date f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Normal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field in a table that is not a determiner of the contents of another field must itself be a function of the other fields in the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Normal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uplicate information is permit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B91C-9F7A-46F6-AA69-A9D7989AF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B Desig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 our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2:14:31Z</dcterms:created>
  <dc:creator>Martin P. Hanley</dc:creator>
  <dc:description/>
  <dc:language>en-US</dc:language>
  <cp:lastModifiedBy>lfischer</cp:lastModifiedBy>
  <dcterms:modified xsi:type="dcterms:W3CDTF">2012-06-13T19:09:03Z</dcterms:modified>
  <cp:revision>23</cp:revision>
  <dc:subject/>
  <dc:title>Database Terminology</dc:title>
</cp:coreProperties>
</file>