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E3D-0060-49A5-BE8A-29564897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80B-BD92-4798-9094-314C542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7CF-27B5-4A34-B652-198888DE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524-1F1B-4261-9635-5754103B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5022-E248-4B94-B4AD-FFD77F1A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FE0-1033-4DC1-BEB3-0385435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14D6-7583-4DF6-AA51-8708BFC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B175-1DFB-4E75-AFF2-47B7F56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11D-2EF1-4738-A6DC-41CA602C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DB50-CF84-476B-8D73-86C8DA08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DD0B-B355-4820-861B-DF8C29A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62F-F3EC-4000-A448-DC6193A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7EC6-6111-4AE2-A1B2-2D44835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3DF3-D80C-44E0-BAF0-01C13F7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0374-3336-497B-9471-CDDE3351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DDC-78D5-4905-933A-C875CB4F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1AE-0275-4827-89A2-51248602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895-21CA-4C8B-995D-F09DE365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F71-B0F4-4659-8271-52961C9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923-95DE-4651-B430-517E515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300-4857-4C89-94C2-DBC91F4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24F-C248-48D6-A7C0-F6410CA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490-3B2D-462F-A67A-A215270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C2F-4C8F-46A2-9538-CEB8582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E7F6-6288-405A-862B-FE198CB2A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2C2-6753-447E-9A12-5372CAD3DE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lowcharting Symbo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siness Application Develop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-page 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ows that the flow goes to another spot on the p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when the lines would be too confusing to follow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7" descr="onpageconn"/>
          <p:cNvPicPr/>
          <p:nvPr/>
        </p:nvPicPr>
        <p:blipFill>
          <a:blip r:embed="rId1"/>
          <a:stretch/>
        </p:blipFill>
        <p:spPr>
          <a:xfrm>
            <a:off x="5791320" y="3200400"/>
            <a:ext cx="21715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f-Page 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to send “control” to another page of the flow ch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7" descr="OffPageconn"/>
          <p:cNvPicPr/>
          <p:nvPr/>
        </p:nvPicPr>
        <p:blipFill>
          <a:blip r:embed="rId1"/>
          <a:stretch/>
        </p:blipFill>
        <p:spPr>
          <a:xfrm>
            <a:off x="914400" y="228600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nual Inp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to denote user in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J:\Documents\School\LessonPlans and Project Ideas\SY1011\Semester 1\Week 6 - 09-24\02 - Tuesday\Flowcharting\ManualInput.bmp"/>
          <p:cNvPicPr/>
          <p:nvPr/>
        </p:nvPicPr>
        <p:blipFill>
          <a:blip r:embed="rId1"/>
          <a:stretch/>
        </p:blipFill>
        <p:spPr>
          <a:xfrm>
            <a:off x="762120" y="1600200"/>
            <a:ext cx="367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b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to show data from a datab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2" descr="directData"/>
          <p:cNvPicPr/>
          <p:nvPr/>
        </p:nvPicPr>
        <p:blipFill>
          <a:blip r:embed="rId1"/>
          <a:stretch/>
        </p:blipFill>
        <p:spPr>
          <a:xfrm>
            <a:off x="914400" y="2133720"/>
            <a:ext cx="2459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action to be performed that is NOT input, output, or stor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= a + 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lculate number of days since January 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lculate 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6" descr="Process"/>
          <p:cNvPicPr/>
          <p:nvPr/>
        </p:nvPicPr>
        <p:blipFill>
          <a:blip r:embed="rId1"/>
          <a:stretch/>
        </p:blipFill>
        <p:spPr>
          <a:xfrm>
            <a:off x="5867280" y="2895480"/>
            <a:ext cx="25527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ci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swers a Yes/No or 3 choice ques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a &gt;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is a new entr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s it been 7 day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0" descr="Decision"/>
          <p:cNvPicPr/>
          <p:nvPr/>
        </p:nvPicPr>
        <p:blipFill>
          <a:blip r:embed="rId1"/>
          <a:stretch/>
        </p:blipFill>
        <p:spPr>
          <a:xfrm>
            <a:off x="990720" y="3048120"/>
            <a:ext cx="2914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ies printing some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a “print view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7" descr="Document"/>
          <p:cNvPicPr/>
          <p:nvPr/>
        </p:nvPicPr>
        <p:blipFill>
          <a:blip r:embed="rId1"/>
          <a:stretch/>
        </p:blipFill>
        <p:spPr>
          <a:xfrm>
            <a:off x="5410080" y="2743200"/>
            <a:ext cx="2934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t data from somew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not a read from a datab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data"/>
          <p:cNvPicPr/>
          <p:nvPr/>
        </p:nvPicPr>
        <p:blipFill>
          <a:blip r:embed="rId1"/>
          <a:stretch/>
        </p:blipFill>
        <p:spPr>
          <a:xfrm>
            <a:off x="914400" y="2590920"/>
            <a:ext cx="32529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-Defined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ub-routine that you will c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rig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tored proced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hing that has been previous charted/defin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9" descr="predefinedprocess"/>
          <p:cNvPicPr/>
          <p:nvPr/>
        </p:nvPicPr>
        <p:blipFill>
          <a:blip r:embed="rId1"/>
          <a:stretch/>
        </p:blipFill>
        <p:spPr>
          <a:xfrm>
            <a:off x="914400" y="2133720"/>
            <a:ext cx="25718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red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t data from somew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from a table or flat-f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9" descr="StoredData"/>
          <p:cNvPicPr/>
          <p:nvPr/>
        </p:nvPicPr>
        <p:blipFill>
          <a:blip r:embed="rId1"/>
          <a:stretch/>
        </p:blipFill>
        <p:spPr>
          <a:xfrm>
            <a:off x="5638680" y="2895480"/>
            <a:ext cx="25099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l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nd something to the scre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7" descr="display"/>
          <p:cNvPicPr/>
          <p:nvPr/>
        </p:nvPicPr>
        <p:blipFill>
          <a:blip r:embed="rId1"/>
          <a:stretch/>
        </p:blipFill>
        <p:spPr>
          <a:xfrm>
            <a:off x="1143000" y="2209680"/>
            <a:ext cx="2662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in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ginning or End of a process/fl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8" descr="Terminator"/>
          <p:cNvPicPr/>
          <p:nvPr/>
        </p:nvPicPr>
        <p:blipFill>
          <a:blip r:embed="rId1"/>
          <a:stretch/>
        </p:blipFill>
        <p:spPr>
          <a:xfrm>
            <a:off x="380880" y="2819520"/>
            <a:ext cx="392436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5:57:29Z</dcterms:created>
  <dc:creator>Martin P. Hanley</dc:creator>
  <dc:description/>
  <dc:language>en-US</dc:language>
  <cp:lastModifiedBy>Martin P. Hanley</cp:lastModifiedBy>
  <dcterms:modified xsi:type="dcterms:W3CDTF">2010-09-21T18:45:02Z</dcterms:modified>
  <cp:revision>27</cp:revision>
  <dc:subject/>
  <dc:title>Flowcharting Symbols</dc:title>
</cp:coreProperties>
</file>