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E9F-924E-429A-95DB-CB034BF7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31F-36F9-4903-9131-892C9AD4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2D8-6409-443D-989A-14ACB1D8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6C0-2092-42FE-87DC-2BC048DF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C4EC-8F7F-4A5C-A9EB-2839A838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589E-D13E-4F0D-A99A-A1916704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B80D-C8C6-4B45-A914-ABB93EBE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AEC-5D58-41CC-B8A8-B5051ED4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8ED8-E8FB-44EB-9D95-9CEEBE9F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2947-43E9-4761-970E-3F18238F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7081-78B1-4DBA-BE3E-110F6137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7CE-C747-492A-835B-70BF2E65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42B4-E4E9-4B37-9FC5-80000C9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B096-872A-445C-A643-54D025F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4769-F88C-47EE-A6DF-6B3D30CD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1B4-2811-4FAC-BD99-843B9C8B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6C42-1BA1-4E3E-83D5-F75DD1F7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11F-A352-4968-823A-61692D3E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C49-BD76-45FF-B991-2D6F8D07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603-101E-47E6-881D-3551F11A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A3A-6836-42CD-B234-81882413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797-2899-4698-A2FD-E9BFB70C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598-B67A-4E59-92FC-A7B2B85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D0C-D89C-4F53-9A42-622C088C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943E-C4C0-4D2E-BC46-0E381C8E6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5929-BDAB-4A05-9973-D5051F90D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codeofethics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Ethics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Unit 1: The Role of the Software Profess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C:\Documents and Settings\MPH\My Documents\School\Logo.jpg"/>
          <p:cNvPicPr/>
          <p:nvPr/>
        </p:nvPicPr>
        <p:blipFill>
          <a:blip r:embed="rId1"/>
          <a:stretch/>
        </p:blipFill>
        <p:spPr>
          <a:xfrm>
            <a:off x="1447920" y="5181480"/>
            <a:ext cx="63244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th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32000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ethic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th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ules or standards governing the conduct of a person or the conduct of the members of a profes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th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3114720"/>
            <a:ext cx="8915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Medical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al Academy of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ld Medical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Business Bur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Bar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ppocratic O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th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as of Eth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fes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uc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th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What’s your personal code of ethic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ea typeface="Times New Roman"/>
                <a:hlinkClick r:id="rId1"/>
              </a:rPr>
              <a:t>http://www.mycodeofethics.or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for samples and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th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thics Internet Assig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2:12:02Z</dcterms:created>
  <dc:creator>MPH</dc:creator>
  <dc:description/>
  <dc:language>en-US</dc:language>
  <cp:lastModifiedBy>mconrad</cp:lastModifiedBy>
  <dcterms:modified xsi:type="dcterms:W3CDTF">2012-05-29T14:12:40Z</dcterms:modified>
  <cp:revision>6</cp:revision>
  <dc:subject/>
  <dc:title>Areas of IS Employment</dc:title>
</cp:coreProperties>
</file>