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ABAF-495B-44D7-9DF8-F090B91E9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C3BE-F430-4C60-8757-3ACF9443099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6AE6-6361-42D9-A4EE-8EA39289028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7555-6B08-4412-8CE7-20747CABF21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5BF6-C54C-4F17-AEC1-B6F2937C362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0416-0E0B-4208-AED1-983EFF6D37A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8552-D379-49CA-99E8-FF8E38064E2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E394-0674-4D17-997C-9949FAC42CA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0B15-BE76-43D1-A97E-9274578737F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6A3D-20D3-4D34-9420-6D1B6859565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1FA-9473-4AAF-A364-171316AC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397-494D-48B9-95BD-0F339508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965-74B8-40E3-ADE0-B702E178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847-953D-4259-B6BA-E5686FD7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426A-BAB4-45C8-AB01-A7D4A806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E9BF-F11F-4314-B3A2-1D62EE2E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1767-DF4E-4732-9024-82C371F8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693C-F845-4774-ABEF-FCAA2451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02E3-796B-4267-B33C-228C7C66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3691-EB24-4F89-A267-7AE48696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DAD6-C943-4B2F-982D-823BFC3B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971-E018-4DF6-BDCA-21B403DA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1205-CA7C-4E11-90DC-F5FDE776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32C0-3293-43BD-9257-EEC0E2FF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A390-C807-4E68-A50B-DF86803D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F308-0AAC-4FFE-B2FF-61A4195D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4892-ECC8-421E-90B5-00C512B2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42A-60BF-4D4C-995C-26FCBB58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ED7-593B-4D0A-B917-D7510C94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301-3E79-44D4-B168-0F7FB353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DCE-64C2-47A7-AA99-E8EF052A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701-F63D-4EC3-97CB-A863ECCF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EB6-A974-48E0-972E-2838130C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76E-3B20-4F0B-AC73-1AACA990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E79E-7DCF-4AC9-83A1-467F1CCE12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1BAF-DB0F-471B-B832-8CE23379AEA8}" type="slidenum"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ahoma"/>
              </a:rPr>
              <a:t>Hardware Basics</a:t>
            </a:r>
            <a:endParaRPr b="0" lang="en-US" sz="6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0720" y="2209680"/>
            <a:ext cx="5410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Basic Computing Concep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4" name="Picture 1029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541008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computer that has been optimized to provide services to other computers over a network. Servers usually have powerful processors, lots of memory and large hard drives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8" name="Picture 1029" descr="C:\WINNT\Profiles\mhanley\My Documents\My Pictures\Server-Room.jpeg"/>
          <p:cNvPicPr/>
          <p:nvPr/>
        </p:nvPicPr>
        <p:blipFill>
          <a:blip r:embed="rId1"/>
          <a:stretch/>
        </p:blipFill>
        <p:spPr>
          <a:xfrm>
            <a:off x="4419720" y="2209680"/>
            <a:ext cx="43434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Mainfram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uge computers that could fill an entire room or even a whole floor!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term mainframe has fallen out of use in favor of enterprise server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BM AS/400 is a current examp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1" name="Picture 5" descr="C:\WINNT\Profiles\mhanley\My Documents\My Pictures\mainframe.jpeg"/>
          <p:cNvPicPr/>
          <p:nvPr/>
        </p:nvPicPr>
        <p:blipFill>
          <a:blip r:embed="rId1"/>
          <a:stretch/>
        </p:blipFill>
        <p:spPr>
          <a:xfrm>
            <a:off x="4495680" y="2286000"/>
            <a:ext cx="4381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Minicompu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nother term rarely used anymo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all in between microcomputers and mainframe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inicomputers are normally referred to as mid-range servers now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4" name="Picture 5" descr="C:\WINNT\Profiles\mhanley\My Documents\School\Units\Basic Computing Concepts\Images\dec_vax780.full.jpeg"/>
          <p:cNvPicPr/>
          <p:nvPr/>
        </p:nvPicPr>
        <p:blipFill>
          <a:blip r:embed="rId1"/>
          <a:stretch/>
        </p:blipFill>
        <p:spPr>
          <a:xfrm>
            <a:off x="4419720" y="1905120"/>
            <a:ext cx="44956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percompu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$100K-$1,000K and u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st are comprised of multiple high performance computers working in parallel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best known are built by Cray Supercomputers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7" name="Picture 2053" descr="C:\WINNT\Profiles\mhanley\My Documents\School\Units\Basic Computing Concepts\Images\product_x1e_subNavPic.jpeg"/>
          <p:cNvPicPr/>
          <p:nvPr/>
        </p:nvPicPr>
        <p:blipFill>
          <a:blip r:embed="rId1"/>
          <a:stretch/>
        </p:blipFill>
        <p:spPr>
          <a:xfrm>
            <a:off x="4343400" y="1905120"/>
            <a:ext cx="2438280" cy="1882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54" descr="C:\WINNT\Profiles\mhanley\My Documents\School\Units\Basic Computing Concepts\Images\product_xt3_subNavPic.jpeg"/>
          <p:cNvPicPr/>
          <p:nvPr/>
        </p:nvPicPr>
        <p:blipFill>
          <a:blip r:embed="rId2"/>
          <a:stretch/>
        </p:blipFill>
        <p:spPr>
          <a:xfrm>
            <a:off x="5181480" y="3886200"/>
            <a:ext cx="2221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earab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latest trend in computing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ssentially, common computer applications are integrated into watches, cell phones, visors and even clothing!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1" name="Picture 1029" descr="C:\WINNT\Profiles\mhanley\My Documents\School\Units\Basic Computing Concepts\Images\watch.jpeg"/>
          <p:cNvPicPr/>
          <p:nvPr/>
        </p:nvPicPr>
        <p:blipFill>
          <a:blip r:embed="rId1"/>
          <a:stretch/>
        </p:blipFill>
        <p:spPr>
          <a:xfrm>
            <a:off x="4495680" y="1752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0" descr="C:\WINNT\Profiles\mhanley\My Documents\School\Units\Basic Computing Concepts\Images\wearable%20computer%20jacket.jpeg"/>
          <p:cNvPicPr/>
          <p:nvPr/>
        </p:nvPicPr>
        <p:blipFill>
          <a:blip r:embed="rId2"/>
          <a:stretch/>
        </p:blipFill>
        <p:spPr>
          <a:xfrm>
            <a:off x="5029200" y="3809880"/>
            <a:ext cx="2921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aming Compu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se are the computers designed for gaming purpos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Usually no keyboard or other input device other than a joystick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 can connect to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5" name="Picture 6" descr="C:\Documents and Settings\MPH\My Documents\School\Units\Basic Computing Concepts\Images\sim-xboxvideogamesystem-0007.jpg"/>
          <p:cNvPicPr/>
          <p:nvPr/>
        </p:nvPicPr>
        <p:blipFill>
          <a:blip r:embed="rId1"/>
          <a:stretch/>
        </p:blipFill>
        <p:spPr>
          <a:xfrm>
            <a:off x="4400640" y="3753000"/>
            <a:ext cx="4133880" cy="3105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Documents and Settings\MPH\My Documents\School\Units\Basic Computing Concepts\Images\bntlargexenonconsoleandaccessoriesEN.jpg"/>
          <p:cNvPicPr/>
          <p:nvPr/>
        </p:nvPicPr>
        <p:blipFill>
          <a:blip r:embed="rId2"/>
          <a:stretch/>
        </p:blipFill>
        <p:spPr>
          <a:xfrm>
            <a:off x="6858000" y="533520"/>
            <a:ext cx="19191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Computers Wor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he PC Work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uter functions thru four stage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pu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provides the computer with dat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Keyboard and mous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rocessing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is when the computer processes or manipulates your dat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Outpu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is seeing the result of processing your dat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nitor and print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he PC Works (con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torag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is how you keep your data for later us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loppy diskette, CD-ROM disk, hard driv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ardware and software interact together to accomplish the four stages abo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Recognizing the Major Components of a PC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ypes of Compu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t’s more than just a P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P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Central Processing Unit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(CPU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Also called a microprocessor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Performs calculations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Modern CPUs generate a lot of heat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Uses a cooling fan and/or heat sink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5" name="Picture 16" descr="F02-05r"/>
          <p:cNvPicPr/>
          <p:nvPr/>
        </p:nvPicPr>
        <p:blipFill>
          <a:blip r:embed="rId1"/>
          <a:stretch/>
        </p:blipFill>
        <p:spPr>
          <a:xfrm>
            <a:off x="4952880" y="4095720"/>
            <a:ext cx="3562560" cy="2320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F02-04"/>
          <p:cNvPicPr/>
          <p:nvPr/>
        </p:nvPicPr>
        <p:blipFill>
          <a:blip r:embed="rId2"/>
          <a:stretch/>
        </p:blipFill>
        <p:spPr>
          <a:xfrm>
            <a:off x="5029200" y="1371600"/>
            <a:ext cx="35114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P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k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Intel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AMD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del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Celeron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Athlon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Duron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Pentium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P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Clock speed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is used to measure the perform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Measured in megahertz (MHz)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PUs come in different pack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Pin Grid Array (PGA)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st common today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Single Edge Cartridge (SEC)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lder packag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A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Random Access Memory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(RAM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Stores programs and data your PC is currently working on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Measured in megabytes (MB)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Each piece or module of RAM is called a stick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Tahoma"/>
              </a:rPr>
              <a:t>Packages include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ual Inline Memory Module (DIMM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ingle Inline Memory Module (SIMM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5" name="Picture 11" descr="F02-06"/>
          <p:cNvPicPr/>
          <p:nvPr/>
        </p:nvPicPr>
        <p:blipFill>
          <a:blip r:embed="rId1"/>
          <a:stretch/>
        </p:blipFill>
        <p:spPr>
          <a:xfrm>
            <a:off x="5549760" y="228600"/>
            <a:ext cx="3594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otherboar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motherboard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is a thin, flat piece of circuit boar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verything connects directly or indirectly to the motherboar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ntains sockets for the CPU, RAM, power connectors, connectors for external devices like mice, printers, and keyboard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xpansion slots allow the addition of new componen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8" name="Picture 15" descr="F02-14"/>
          <p:cNvPicPr/>
          <p:nvPr/>
        </p:nvPicPr>
        <p:blipFill>
          <a:blip r:embed="rId1"/>
          <a:stretch/>
        </p:blipFill>
        <p:spPr>
          <a:xfrm>
            <a:off x="5715000" y="3733920"/>
            <a:ext cx="3060720" cy="2446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F02-07"/>
          <p:cNvPicPr/>
          <p:nvPr/>
        </p:nvPicPr>
        <p:blipFill>
          <a:blip r:embed="rId2"/>
          <a:stretch/>
        </p:blipFill>
        <p:spPr>
          <a:xfrm>
            <a:off x="6019920" y="1143000"/>
            <a:ext cx="28191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cas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houses all of the internal components of your PC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cludes slots or holes to enable external devices to connec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2" name="Picture 9" descr="F02-17"/>
          <p:cNvPicPr/>
          <p:nvPr/>
        </p:nvPicPr>
        <p:blipFill>
          <a:blip r:embed="rId1"/>
          <a:stretch/>
        </p:blipFill>
        <p:spPr>
          <a:xfrm>
            <a:off x="4427640" y="2103480"/>
            <a:ext cx="40305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wer Suppl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ower supply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provides electrical power to make the PC opera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s power from the wall outle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rovides special connectors to the motherboard and other devic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s a fan to keep itself and the PC cool insid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5" name="Picture 11" descr="F02-18"/>
          <p:cNvPicPr/>
          <p:nvPr/>
        </p:nvPicPr>
        <p:blipFill>
          <a:blip r:embed="rId1"/>
          <a:stretch/>
        </p:blipFill>
        <p:spPr>
          <a:xfrm>
            <a:off x="5181480" y="2971800"/>
            <a:ext cx="3429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loppy Driv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3055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floppy driv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uses floppy diskettes to store dat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nnects to the computer via a ribbon cabl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nnects to the floppy controller on the motherboar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s a connector from the power supply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8" name="Picture 11" descr="F02-22"/>
          <p:cNvPicPr/>
          <p:nvPr/>
        </p:nvPicPr>
        <p:blipFill>
          <a:blip r:embed="rId1"/>
          <a:stretch/>
        </p:blipFill>
        <p:spPr>
          <a:xfrm>
            <a:off x="4876920" y="4343400"/>
            <a:ext cx="3352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rd Driv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Hard Driv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store programs and data not currently in use by the CP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apacity measured in megabytes (MB) or gigabytes (GB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typical PC has one hard drive but may contain up to four hard driv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mmon types includ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Enhanced Integrated Drive Electronics (EIDE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mall Computer System 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              Interface (SCSI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nnects to PC via a ribbon cabl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s a power cable from the power supply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1" name="Picture 11" descr="F02-25r"/>
          <p:cNvPicPr/>
          <p:nvPr/>
        </p:nvPicPr>
        <p:blipFill>
          <a:blip r:embed="rId1"/>
          <a:stretch/>
        </p:blipFill>
        <p:spPr>
          <a:xfrm>
            <a:off x="6629400" y="4343400"/>
            <a:ext cx="2514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D-ROM Driv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CD-ROM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drives enable access to CD-ROM disc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IDE and SCSI versio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Cs may come with recordable CD-ROM drives that use CD-R disc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wer PCs use CD-RW drives that allow rewriting to the disc – called burning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oday PCs come with digital video discs (DVDs) that store huge amounts of inform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4" name="Picture 11" descr="F02-32"/>
          <p:cNvPicPr/>
          <p:nvPr/>
        </p:nvPicPr>
        <p:blipFill>
          <a:blip r:embed="rId1"/>
          <a:stretch/>
        </p:blipFill>
        <p:spPr>
          <a:xfrm>
            <a:off x="5410080" y="3886200"/>
            <a:ext cx="37339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ypes of Compu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PC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sktop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ptop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lmtop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orks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ommon PC Devi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und Ca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1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ound card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ke digital information and turns it into soun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ke sound from a microphone and turns it into digital dat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 mini-audio jacks for speakers and microphon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 a 15-pin DB socket for a joystick or musical instrum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8" name="Picture 11" descr="F02-44"/>
          <p:cNvPicPr/>
          <p:nvPr/>
        </p:nvPicPr>
        <p:blipFill>
          <a:blip r:embed="rId1"/>
          <a:stretch/>
        </p:blipFill>
        <p:spPr>
          <a:xfrm>
            <a:off x="685800" y="5257800"/>
            <a:ext cx="76960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ideo Ca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34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Video card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connect to monito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 a 15-pin female DB connector or the newer digital video interface (DVI) connecto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1" name="Picture 11" descr="F02-45r"/>
          <p:cNvPicPr/>
          <p:nvPr/>
        </p:nvPicPr>
        <p:blipFill>
          <a:blip r:embed="rId1"/>
          <a:stretch/>
        </p:blipFill>
        <p:spPr>
          <a:xfrm>
            <a:off x="533520" y="3962520"/>
            <a:ext cx="76960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etwork Ca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Cs connect to other PCs to share information or devices using a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network interface card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NIC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nnectors include RJ-45, BNC, DB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4" name="Picture 12" descr="F02-46"/>
          <p:cNvPicPr/>
          <p:nvPr/>
        </p:nvPicPr>
        <p:blipFill>
          <a:blip r:embed="rId1"/>
          <a:stretch/>
        </p:blipFill>
        <p:spPr>
          <a:xfrm>
            <a:off x="4495680" y="3200400"/>
            <a:ext cx="44960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boar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Keyboard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come in many sizes and shap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Use a keyboard port on the motherboard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IN connector is obsolet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Mini-DIN is most common toda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USB connectors are sometimes used toda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Use the same kind of connector as a mouse but most PCs clearly mark the connector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7" name="Picture 12" descr="F02-53r"/>
          <p:cNvPicPr/>
          <p:nvPr/>
        </p:nvPicPr>
        <p:blipFill>
          <a:blip r:embed="rId1"/>
          <a:stretch/>
        </p:blipFill>
        <p:spPr>
          <a:xfrm>
            <a:off x="5715000" y="4762440"/>
            <a:ext cx="3429000" cy="172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F02-52"/>
          <p:cNvPicPr/>
          <p:nvPr/>
        </p:nvPicPr>
        <p:blipFill>
          <a:blip r:embed="rId2"/>
          <a:stretch/>
        </p:blipFill>
        <p:spPr>
          <a:xfrm>
            <a:off x="6705720" y="1219320"/>
            <a:ext cx="18288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rial Po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erial port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are used to add external devices to a PC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kes a stream of serial data from the CPU and outputs it in a serial forma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9-pin or 25-pin serial por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1" name="Picture 8" descr="F02-51r"/>
          <p:cNvPicPr/>
          <p:nvPr/>
        </p:nvPicPr>
        <p:blipFill>
          <a:blip r:embed="rId1"/>
          <a:stretch/>
        </p:blipFill>
        <p:spPr>
          <a:xfrm>
            <a:off x="5105520" y="2895480"/>
            <a:ext cx="3746520" cy="1865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F02-50r"/>
          <p:cNvPicPr/>
          <p:nvPr/>
        </p:nvPicPr>
        <p:blipFill>
          <a:blip r:embed="rId2"/>
          <a:stretch/>
        </p:blipFill>
        <p:spPr>
          <a:xfrm>
            <a:off x="4876920" y="1828800"/>
            <a:ext cx="397512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ou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mouse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allows you to select graphical items on a scree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arly computers did not need a mous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ice used to connect to the PC thru a 9-pin or 25-pin serial por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w mice connect thru a mini-DIN (or PS/2) port which is also seria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oday mice may use a USB por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ckballs may be used instead of mi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od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Modem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work with your telephone to translate analog telephone signals into digital serial data or vice vers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ternal modems are expansion card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xternal modems connect to a serial por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s two RJ-11 socke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ne to the telephone jack on the wal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ne to a telephone if you wis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7" name="Picture 12" descr="F02-54"/>
          <p:cNvPicPr/>
          <p:nvPr/>
        </p:nvPicPr>
        <p:blipFill>
          <a:blip r:embed="rId1"/>
          <a:stretch/>
        </p:blipFill>
        <p:spPr>
          <a:xfrm>
            <a:off x="5257800" y="228600"/>
            <a:ext cx="3886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n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rinter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output data from the PC onto pap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d a 25-pin parallel port for year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oday printers almost exclusively use a USB por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0" name="Picture 12" descr="F02-55"/>
          <p:cNvPicPr/>
          <p:nvPr/>
        </p:nvPicPr>
        <p:blipFill>
          <a:blip r:embed="rId1"/>
          <a:stretch/>
        </p:blipFill>
        <p:spPr>
          <a:xfrm>
            <a:off x="4648320" y="3276720"/>
            <a:ext cx="434340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Joysti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Joystick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are used almost exclusively to play games o.n the computer – not used any more. Most joysticks are USB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riginally designed as an input device to be used much like a mouse i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3" name="Picture 12" descr="F02-56"/>
          <p:cNvPicPr/>
          <p:nvPr/>
        </p:nvPicPr>
        <p:blipFill>
          <a:blip r:embed="rId1"/>
          <a:stretch/>
        </p:blipFill>
        <p:spPr>
          <a:xfrm>
            <a:off x="4952880" y="2819520"/>
            <a:ext cx="36705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ypes of Compu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Mainframe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Minicomputer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Supercomputer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Wearable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Gaming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C Bas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Cs were first known as microcomputers because they were a complete computer but built on a smaller scale than the huge systems in use by most businesses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3" name="Object 1024" descr=""/>
          <p:cNvPicPr/>
          <p:nvPr/>
        </p:nvPicPr>
        <p:blipFill>
          <a:blip r:embed="rId1"/>
          <a:stretch/>
        </p:blipFill>
        <p:spPr>
          <a:xfrm>
            <a:off x="4648320" y="2703600"/>
            <a:ext cx="38098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C : Deskto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PC that is not designed for portability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ll be set up in a permanent location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st desktops offer more power, storage and versatility for less cost than their portable brethren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6" name="Picture 7" descr="C:\WINNT\Profiles\mhanley\My Documents\My Pictures\desktop5.jpeg"/>
          <p:cNvPicPr/>
          <p:nvPr/>
        </p:nvPicPr>
        <p:blipFill>
          <a:blip r:embed="rId1"/>
          <a:stretch/>
        </p:blipFill>
        <p:spPr>
          <a:xfrm>
            <a:off x="4724280" y="2133720"/>
            <a:ext cx="3429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C: Lapto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so called notebook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ortable computers that integrate the display, keyboard, a pointing device or trackball, processor, memory and hard drive all in a battery-operated package slightly larger than an average hardcover book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9" name="Picture 5" descr="C:\WINNT\Profiles\mhanley\My Documents\My Pictures\laptop%20usa.jpeg"/>
          <p:cNvPicPr/>
          <p:nvPr/>
        </p:nvPicPr>
        <p:blipFill>
          <a:blip r:embed="rId1"/>
          <a:stretch/>
        </p:blipFill>
        <p:spPr>
          <a:xfrm>
            <a:off x="4648320" y="20574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C: Palmto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nown as Personal Digital Assistan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ightly integrated computers that often use flash memory instead of a hard drive for storage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Usually do not have keyboar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2" name="Picture 6" descr="C:\WINNT\Profiles\mhanley\My Documents\My Pictures\palm320.jpeg"/>
          <p:cNvPicPr/>
          <p:nvPr/>
        </p:nvPicPr>
        <p:blipFill>
          <a:blip r:embed="rId1"/>
          <a:stretch/>
        </p:blipFill>
        <p:spPr>
          <a:xfrm>
            <a:off x="4656240" y="1981080"/>
            <a:ext cx="37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Workst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desktop computer that has a more powerful processor, additional memory and enhanced capabilities for performing a special group of task, such as 3D Graphics or game development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5" name="Picture 5" descr="C:\WINNT\Profiles\mhanley\My Documents\My Pictures\Workstation.jpeg"/>
          <p:cNvPicPr/>
          <p:nvPr/>
        </p:nvPicPr>
        <p:blipFill>
          <a:blip r:embed="rId1"/>
          <a:stretch/>
        </p:blipFill>
        <p:spPr>
          <a:xfrm>
            <a:off x="4648320" y="1828800"/>
            <a:ext cx="3929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22:52:07Z</dcterms:created>
  <dc:creator>Preferred Customer</dc:creator>
  <dc:description/>
  <dc:language>en-US</dc:language>
  <cp:lastModifiedBy>mconrad</cp:lastModifiedBy>
  <dcterms:modified xsi:type="dcterms:W3CDTF">2012-05-29T14:13:17Z</dcterms:modified>
  <cp:revision>34</cp:revision>
  <dc:subject/>
  <dc:title>Slide 1</dc:title>
</cp:coreProperties>
</file>