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A59-295D-4895-AEE9-FC4F20D0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E24-E67C-43ED-AB5F-D22121D8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A19-7BF9-42A9-B505-E34DE8F8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A7A-F780-4AD3-A68D-367CCFA1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03E-B936-491B-A6D8-EDF1AD9D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15F0-E30D-46C1-B0E6-38F0489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9E62-A5CC-4A9F-AA91-D831528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639E-7A68-4791-8A3A-73BC708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B18-0A24-4E59-84A0-E0B83041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C568-10C2-4099-AA20-D712F8E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E84-38BB-42A0-A818-A1B857BF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67E-FF93-4B77-B090-5C7FA4E4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6D1-1649-463A-9905-817A10E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37D-F55E-4436-B58A-46F4891D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B15D-59F7-4576-AF66-FA4CB90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EEA3-71D4-4F6B-B0EF-8F0909FC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3ECE-C853-4DDD-B813-1EB3AF4D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0B6-BAF4-44CB-AF08-80BD1166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C35-0457-47D1-A283-D5C5F2DC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DB5-58F4-4DF1-8B12-8E8CF7D4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5A6-334A-4CD4-A6B3-AFDD0B8F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0D8-DF6E-4A80-9A32-1A833DA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53F-64C6-4FBB-B281-7D139F16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616-BFF2-4B63-8686-CAA5555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439-B06C-4AB3-93F0-84BD9B78D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C1B5-2D5A-4D15-A560-252B6DA656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ics of Compu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7: Divide by two. Since 3 is indivisible, we write a 1 to the left of the previous numbers. Then we subtract 1 from 3 to get 2 and when we divide we get 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8: Divide by two. Since 1 is indivisible, we write a 1 to the left of the previous numbers. Then we subtract 1 from 1 to get 0, which means we are finis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Summarize the Step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1: See if the number is divisible by 2. If it is write 0 and divide by 2 to get the next number. If the number, on the other hand, is indivisible by 2, write a 1, then subtract 1 from the number and divide by two to get the next numb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2: Continue this process, writing each 1 or 0 to the left of the previous 1 or 0, until the number which we are left to divide by is 0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actice Ti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key to adding binary numbers is to remember that we are dealing with base 2 numbers. In decimal addition we carry when we get a number 10 or larger. In binary we carry when we get a number 2 or larger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1: Add the numbers in the right most colum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nce 2 is not one of our base 2 digits, we need to use it's binary equivalent 10. We keep the zero and carry the 1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0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2: Add the numbers in the next column to the left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3 0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nce 3 is not one of our base 2 digits, we need to use it's binary equivalent 11. We keep the right most 1 and carry the left most 1.</a:t>
            </a: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1 0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3: Add the numbers in the next column to the left.</a:t>
            </a: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 0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nce 1 is a base 2 digit, we do not need to carry anything. 11 + 11 = 11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to Decim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 = 3</a:t>
            </a:r>
            <a:br>
              <a:rPr sz="3200"/>
            </a:b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+ 11 = 3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0 =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Multipl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multiplying two binary numbers multiply as usual. Remember when adding to use binary addition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x 1 1</a:t>
            </a: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 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1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 1 1__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0 0 1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**Note the numbers in purple are carried in addition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nary to Decim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ing from the RIGHT the values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 2, 4, 8, 16, 32, 64, 128, 256, 512, 1024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t’s use 110010 as our ex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0 1’s, 1 2’s, 0 4’s and 8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1 16’s and 1 32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2 + 16 + 32 to get 5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vert from Binary To Decim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5"/>
          <p:cNvSpPr/>
          <p:nvPr/>
        </p:nvSpPr>
        <p:spPr>
          <a:xfrm>
            <a:off x="990720" y="2133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mber : 110011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vert Binary to Decim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76212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umber: 10011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Step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241 as an ex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1: Divide by two. Since 241 is indivisible, we write a 1. Then we subtract 1 from 241 to get 240 and divide by two to get 12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2: Divide by two. Since 120 is divisible, we write a 0 to the left of the previous number and divide by two to get 6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3: Divide by two. Since 60 is divisible, we write a 0 to the left of the previous number and divide by two to get 3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4: Divide by two. Since 30 is divisible, we write a 0 to the left of the previous number and divide by two to get 15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imal to Binary Conve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5: Divide by two. Since 15 is indivisible, we write a 1 to the left of the previous number. Then we subtract 1 from 15 to get 14 and when we divide we get 7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p 6: Divide by two. Since 7 is indivisible, we write a 1 to the left of the previous numbers. Then we subtract 1 from 7 to get 6 and when we divide we get 3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9:12:36Z</dcterms:created>
  <dc:creator>Martin P. Hanley</dc:creator>
  <dc:description/>
  <dc:language>en-US</dc:language>
  <cp:lastModifiedBy>mconrad</cp:lastModifiedBy>
  <dcterms:modified xsi:type="dcterms:W3CDTF">2012-05-29T14:22:30Z</dcterms:modified>
  <cp:revision>6</cp:revision>
  <dc:subject/>
  <dc:title>Binary Conversion</dc:title>
</cp:coreProperties>
</file>