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6F2-A149-4CCC-BBC5-A6802F1E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11A-18D1-441A-8F50-7174C428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D49-64BD-40E5-8681-DB994532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099-110D-4AE8-BA05-222E3678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D14D-9268-4EE0-A930-347E1142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58C8-7AA4-47ED-AAA4-B2387388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3822-8A52-4FCE-A1C6-6AB302D3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1CBB-3BFC-41ED-B222-AF8D0E78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4AAE-E3F1-4E7C-A6F2-939E6838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1FAD-9DC1-47E5-AE99-3D30252F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2541-73AB-4A92-B735-DB618B7C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552-9390-4082-981B-5597366D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2AB8-7892-4846-9D3E-502D179B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1610-BE8D-4132-9940-A3DD05F1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A9FA-621E-4CF5-9EA8-8F9CCF51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FEE4-5AF5-4954-8DD5-AD096EA2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5AE9-3153-470B-A9E5-472D552F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BE9-3B32-4020-B4ED-E1902D54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826-2193-4E1B-A1A9-2DAF09D3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3D0-E0AA-4CAB-AA51-6B196D60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78A-EEF2-4459-ABDD-567F8B3C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611-90E8-41FD-8763-83D79879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91E-C6A8-44DB-965B-53FCC3B3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F42-CC73-4A5D-8539-CD3D54A0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3894-259A-4A89-8FD8-A3C28B8FD6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693F-7E1B-4FAC-8A12-F68724DBF5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34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sume Wri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r. Fin’s Cla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riting your Resu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ctive Vo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ver use Passive V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strong verb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“created”; you didn’t “make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void overuse of adjectives &amp; adver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ong verbs are more impres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they ha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st resumes are collections of your pa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Include on your resum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Verdana"/>
                <a:ea typeface="Times New Roman"/>
              </a:rPr>
              <a:t>Objec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Verdana"/>
                <a:ea typeface="Times New Roman"/>
              </a:rPr>
              <a:t>Experience (Work history) description &amp; d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Verdana"/>
                <a:ea typeface="Times New Roman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Verdana"/>
                <a:ea typeface="Times New Roman"/>
              </a:rPr>
              <a:t>Professional affiliations/club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Verdana"/>
                <a:ea typeface="Times New Roman"/>
              </a:rPr>
              <a:t>Skills/experience/activities/list of software mastered/award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perience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st in reverse chronological or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cus on the most recent, relevant job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ive more detail on thes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May want to describe the firm in a phrase in parentheses if this will impress the rea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ous firms do not need th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Include military service, internships, and major volunteer roles if desire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perience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Use headings lik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Verdana"/>
                <a:ea typeface="Times New Roman"/>
              </a:rPr>
              <a:t>"Professional History,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Verdana"/>
                <a:ea typeface="Times New Roman"/>
              </a:rPr>
              <a:t>"Professional Experience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Not "Employment" or "Work History," both of which sound more lower-leve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ducation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Verdana"/>
                <a:ea typeface="Times New Roman"/>
              </a:rPr>
              <a:t>List education in reverse chronological order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  <a:ea typeface="Times New Roman"/>
              </a:rPr>
              <a:t>Degrees or licenses firs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  <a:ea typeface="Times New Roman"/>
              </a:rPr>
              <a:t>Certificates and advanced training nex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ducation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Verdana"/>
                <a:ea typeface="Times New Roman"/>
              </a:rPr>
              <a:t>Set degrees apart so they are easily see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  <a:ea typeface="Times New Roman"/>
              </a:rPr>
              <a:t>Put in boldface whatever will be most impressiv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  <a:ea typeface="Times New Roman"/>
              </a:rPr>
              <a:t>Don't include any details about college except your major and distinctions or awards you have won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  <a:ea typeface="Times New Roman"/>
              </a:rPr>
              <a:t>Exception: you are still in college or just recently gradua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ducation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Include grade-point average only if over 3.4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List selected course work if this will help convince the reader of your qualifications for the targeted job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fessional Affiliations/Clubs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me all extracurricular activ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 offices he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 honors receiv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not well-known, briefly describe clu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wards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If the only awards received were in school, put these under the Education section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Mention what the award was for if you can</a:t>
            </a: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Define award briefly if not comm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sonal Inform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Not Inclu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g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itical or Moral belief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 any such personal inf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st hobbies/interests only if they are relevant to the job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riting a Resu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st employers see hundreds to even thousands of resumes for a job post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st resumes get no more than a brief glance before the person decides whether to actually take the time to READ 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 must make an impact immediate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Purpo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one and only purpose of the Resume is t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Verdana"/>
              </a:rPr>
              <a:t>Win an Interview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a Resum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in and Simp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Verdana"/>
              </a:rPr>
              <a:t>It’s an Advertisement</a:t>
            </a:r>
            <a:endParaRPr b="0" lang="en-US" sz="6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it suppose to d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A great resume doesn't just tell them what you have done but makes the same assertion that all good ads do: </a:t>
            </a:r>
            <a:r>
              <a:rPr b="0" lang="en-US" sz="3000" spc="-1" strike="noStrike">
                <a:solidFill>
                  <a:srgbClr val="9e0039"/>
                </a:solidFill>
                <a:latin typeface="Verdana"/>
                <a:ea typeface="Times New Roman"/>
              </a:rPr>
              <a:t>If you buy this product, you will get these specific, direct benefits</a:t>
            </a: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It presents you in the best ligh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It convinces the employer that you have what it takes to be successful in this new position or career.</a:t>
            </a: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it suppose to d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It "whets the appetite,"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It stimulates interest in meeting you and learning more about you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It inspires the prospective employer to pick up the phone and ask you to come in for an interview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t isn’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It is not a history of your pas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Write from the perspective of creating inter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Write to persuade the employer to call yo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If you write with that goal, your final product will be very different than if you write to inform or catalog your job histo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riting your Resu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cus on the employer’s needs and not your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Verdana"/>
                <a:ea typeface="Times New Roman"/>
              </a:rPr>
              <a:t>What does the employer really want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Verdana"/>
                <a:ea typeface="Times New Roman"/>
              </a:rPr>
              <a:t>What special abilities would this person hav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Verdana"/>
                <a:ea typeface="Times New Roman"/>
              </a:rPr>
              <a:t>What would set a truly exceptional candidate apart from a merely good one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 the ultimate marketing pl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 your Target Mark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riting your Resu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e0039"/>
                </a:solidFill>
                <a:latin typeface="Verdana"/>
                <a:ea typeface="Times New Roman"/>
              </a:rPr>
              <a:t>To write an effective resume, you have to learn how to write powerful but subtle advertising copy.</a:t>
            </a:r>
            <a:r>
              <a:rPr b="0" lang="en-US" sz="3000" spc="-1" strike="noStrike">
                <a:solidFill>
                  <a:srgbClr val="333333"/>
                </a:solidFill>
                <a:latin typeface="Verdana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Verdana"/>
                <a:ea typeface="Times New Roman"/>
              </a:rPr>
              <a:t>You are selling yoursel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Verdana"/>
                <a:ea typeface="Times New Roman"/>
              </a:rPr>
              <a:t>You do need to get over your modesty and unwillingness to toot your own hor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Verdana"/>
                <a:ea typeface="Times New Roman"/>
              </a:rPr>
              <a:t>People more often buy the best advertised product than the best produc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22:00:56Z</dcterms:created>
  <dc:creator>CPS</dc:creator>
  <dc:description/>
  <dc:language>en-US</dc:language>
  <cp:lastModifiedBy>Columbia Public Schools</cp:lastModifiedBy>
  <dcterms:modified xsi:type="dcterms:W3CDTF">2009-05-04T12:06:05Z</dcterms:modified>
  <cp:revision>7</cp:revision>
  <dc:subject/>
  <dc:title>Resume Writing</dc:title>
</cp:coreProperties>
</file>