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AF3-5AA8-4A12-90FD-DF29204F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527-FCFE-4B15-9F8C-5654A09A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D56-FEB9-4326-AC8E-64D55FED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E45-AFDD-45BB-9F8E-D2E4084F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1C1-8993-40A0-83D0-F3A6D00E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2F6-FDE3-4651-8D05-1748F5E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C26-BF18-4A18-AC7F-F85AAE9D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4D3-4323-4664-9922-78CB47C8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4A9-897F-4AFC-99BD-C33A6368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E3A-5E90-43C6-89BC-8111D724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FBE-0B6A-49D8-AADD-75B667BC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117-054E-4235-8AB9-55D4A706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FD00-2548-4FF7-B2BC-DF6471117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TM-3-1.jpg"/>
          <p:cNvPicPr/>
          <p:nvPr/>
        </p:nvPicPr>
        <p:blipFill>
          <a:blip r:embed="rId1"/>
          <a:stretch/>
        </p:blipFill>
        <p:spPr>
          <a:xfrm>
            <a:off x="2224080" y="738360"/>
            <a:ext cx="4695840" cy="5381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150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External Para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TM-3-2.jpg"/>
          <p:cNvPicPr/>
          <p:nvPr/>
        </p:nvPicPr>
        <p:blipFill>
          <a:blip r:embed="rId1"/>
          <a:stretch/>
        </p:blipFill>
        <p:spPr>
          <a:xfrm>
            <a:off x="2114640" y="598320"/>
            <a:ext cx="4600440" cy="5661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171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 Internal Paras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TM-3-3-Drench.jpg"/>
          <p:cNvPicPr/>
          <p:nvPr/>
        </p:nvPicPr>
        <p:blipFill>
          <a:blip r:embed="rId1"/>
          <a:stretch/>
        </p:blipFill>
        <p:spPr>
          <a:xfrm>
            <a:off x="1984320" y="1166760"/>
            <a:ext cx="5175360" cy="486576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0" y="150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 for Deworming Sh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0" y="150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 for Deworming Sh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TM-3-3-Deworming.jpg"/>
          <p:cNvPicPr/>
          <p:nvPr/>
        </p:nvPicPr>
        <p:blipFill>
          <a:blip r:embed="rId1"/>
          <a:stretch/>
        </p:blipFill>
        <p:spPr>
          <a:xfrm>
            <a:off x="1379520" y="1155600"/>
            <a:ext cx="63849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0" y="150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hods for Deworming Sh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TM-3-3-Balling.jpg"/>
          <p:cNvPicPr/>
          <p:nvPr/>
        </p:nvPicPr>
        <p:blipFill>
          <a:blip r:embed="rId1"/>
          <a:stretch/>
        </p:blipFill>
        <p:spPr>
          <a:xfrm>
            <a:off x="1465200" y="1522440"/>
            <a:ext cx="62136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5:32:01Z</dcterms:created>
  <dc:creator>loweryb</dc:creator>
  <dc:description/>
  <dc:language>en-US</dc:language>
  <cp:lastModifiedBy>GladneyCW</cp:lastModifiedBy>
  <dcterms:modified xsi:type="dcterms:W3CDTF">2007-06-21T19:03:45Z</dcterms:modified>
  <cp:revision>5</cp:revision>
  <dc:subject/>
  <dc:title>Slide 1</dc:title>
</cp:coreProperties>
</file>