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1CD-6787-443C-B016-821125A5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29C-63B1-4F55-826F-615F76DB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AC2-EB4D-4818-8139-F0E38839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0F52-657C-4EDA-BAB0-369CE338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26F-A0C9-42AA-88DF-715A430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E19-DCB3-4CAB-B7DB-DD7A44CF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5D2-52A9-49D8-BF74-F8C3B27C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536-AEE9-4CF7-A030-1DEA3389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678-67D5-4EB5-B288-9653DE8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A678-E1D5-4A5B-9076-B94B3155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E85-BA00-4510-92E1-B9C3C52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5F0-E6F9-458A-86A2-F37C72C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5793-EC83-4243-980C-FC16B56C3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ig-1-1.jpg"/>
          <p:cNvPicPr/>
          <p:nvPr/>
        </p:nvPicPr>
        <p:blipFill>
          <a:blip r:embed="rId1"/>
          <a:stretch/>
        </p:blipFill>
        <p:spPr>
          <a:xfrm>
            <a:off x="2266920" y="1428840"/>
            <a:ext cx="3800520" cy="3867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15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.S. Meat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64960" y="6381720"/>
            <a:ext cx="41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USDA Economic Research Service 2000 (3/12/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\\Iml-files-1\Data1\PROJECTS\Agricultural Education\Online Curriculum\Agricultural Science I\Sheep Production\Graphics\power points\Lesson1\Fig-1-2.jpg"/>
          <p:cNvPicPr/>
          <p:nvPr/>
        </p:nvPicPr>
        <p:blipFill>
          <a:blip r:embed="rId1"/>
          <a:stretch/>
        </p:blipFill>
        <p:spPr>
          <a:xfrm>
            <a:off x="1700280" y="1709640"/>
            <a:ext cx="5743440" cy="3438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0" y="37476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.S. Sheep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n Thousands of Shee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15000" y="6132600"/>
            <a:ext cx="4161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The total sheep production for these states is 5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American Sheep Industry Association (10/11/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\\Iml-files-1\Data1\PROJECTS\Agricultural Education\Online Curriculum\Agricultural Science I\Sheep Production\Graphics\power points\Lesson1\Fig-1-3.jpg"/>
          <p:cNvPicPr/>
          <p:nvPr/>
        </p:nvPicPr>
        <p:blipFill>
          <a:blip r:embed="rId1"/>
          <a:stretch/>
        </p:blipFill>
        <p:spPr>
          <a:xfrm>
            <a:off x="1905120" y="1623960"/>
            <a:ext cx="5333760" cy="3610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0" y="750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.S. Wool Production from 1975 to 19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20040" y="626580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American Sheep Industry Association (3/12/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3:59:16Z</dcterms:created>
  <dc:creator>loweryb</dc:creator>
  <dc:description/>
  <dc:language>en-US</dc:language>
  <cp:lastModifiedBy>GladneyCW</cp:lastModifiedBy>
  <dcterms:modified xsi:type="dcterms:W3CDTF">2007-06-25T17:46:44Z</dcterms:modified>
  <cp:revision>6</cp:revision>
  <dc:subject/>
  <dc:title>Slide 1</dc:title>
</cp:coreProperties>
</file>