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90360" y="3851640"/>
            <a:ext cx="74674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1680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15400" y="198072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40440" y="198072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90360" y="385164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15400" y="385164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40440" y="3851640"/>
            <a:ext cx="2404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16800" y="385164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6800" y="1980720"/>
            <a:ext cx="3643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3851640"/>
            <a:ext cx="74674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3505320"/>
          <a:ext cx="58104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05320"/>
                    <a:ext cx="581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" name=""/>
          <p:cNvGraphicFramePr/>
          <p:nvPr/>
        </p:nvGraphicFramePr>
        <p:xfrm>
          <a:off x="3352680" y="5867280"/>
          <a:ext cx="228600" cy="80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5867280"/>
                    <a:ext cx="228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" name=""/>
          <p:cNvGraphicFramePr/>
          <p:nvPr/>
        </p:nvGraphicFramePr>
        <p:xfrm>
          <a:off x="0" y="1981080"/>
          <a:ext cx="666720" cy="85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981080"/>
                    <a:ext cx="6667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0" y="609480"/>
          <a:ext cx="666720" cy="70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609480"/>
                    <a:ext cx="6667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447920" y="5562720"/>
          <a:ext cx="691920" cy="1066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7920" y="5562720"/>
                    <a:ext cx="691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0" y="5105520"/>
          <a:ext cx="866880" cy="779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5105520"/>
                    <a:ext cx="8668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" name=""/>
          <p:cNvGraphicFramePr/>
          <p:nvPr/>
        </p:nvGraphicFramePr>
        <p:xfrm>
          <a:off x="4572000" y="5943600"/>
          <a:ext cx="685800" cy="68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59436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" name=""/>
          <p:cNvGraphicFramePr/>
          <p:nvPr/>
        </p:nvGraphicFramePr>
        <p:xfrm>
          <a:off x="6172200" y="5943600"/>
          <a:ext cx="666720" cy="657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72200" y="5943600"/>
                    <a:ext cx="6667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" name=""/>
          <p:cNvGraphicFramePr/>
          <p:nvPr/>
        </p:nvGraphicFramePr>
        <p:xfrm>
          <a:off x="7696080" y="5862600"/>
          <a:ext cx="762120" cy="741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696080" y="5862600"/>
                    <a:ext cx="7621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43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Unit 4</a:t>
            </a:r>
            <a:br>
              <a:rPr sz="5400"/>
            </a:b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“Research Tool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8483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Marketing Researc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Systematic process of collecting, analyzing and interpreting data to reduce the risk in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kinds of studies would need to be done in sports mark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en to use in the context of the marketing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conduct a marketing research stu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Primary Dat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Info. Gathered first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Secondar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Info. Already col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ovt.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ade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ade 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erio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hoenix Cardinals might want to explore merchandise trends before undertaking a study to see why their merchandise sales have f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Prim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cus groups-8-1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FL-focus group w/males under 24 to pare down nick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od to sell in concession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valuate proposed ad campa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arketing Research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/Opportunity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oosing a Research Desig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oosing a Data Collec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signing a Data Collectio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oosing a Sampling Technique &amp; Collect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al Report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bbreviated Research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EARCH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ETHODOLO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COLLECTION 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esigning A 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ify Inform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termine Method of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termine Content o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termine Form of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termine Exact Wording o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termine Question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test and Revise if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20:13:02Z</dcterms:created>
  <dc:creator>Academic Affairs</dc:creator>
  <dc:description/>
  <dc:language>en-US</dc:language>
  <cp:lastModifiedBy>dokenfuss</cp:lastModifiedBy>
  <cp:lastPrinted>1999-03-07T21:02:34Z</cp:lastPrinted>
  <dcterms:modified xsi:type="dcterms:W3CDTF">2003-07-30T18:06:26Z</dcterms:modified>
  <cp:revision>73</cp:revision>
  <dc:subject/>
  <dc:title>No Slide Title</dc:title>
</cp:coreProperties>
</file>