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90360" y="3851640"/>
            <a:ext cx="74674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1680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15400" y="198072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40440" y="198072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90360" y="385164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15400" y="385164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40440" y="385164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1680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3851640"/>
            <a:ext cx="74674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Object 4"/>
          <p:cNvGraphicFramePr/>
          <p:nvPr/>
        </p:nvGraphicFramePr>
        <p:xfrm>
          <a:off x="0" y="3505320"/>
          <a:ext cx="58104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05320"/>
                    <a:ext cx="581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" name="Object 5"/>
          <p:cNvGraphicFramePr/>
          <p:nvPr/>
        </p:nvGraphicFramePr>
        <p:xfrm>
          <a:off x="3352680" y="5867280"/>
          <a:ext cx="228600" cy="8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5867280"/>
                    <a:ext cx="228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Object 6"/>
          <p:cNvGraphicFramePr/>
          <p:nvPr/>
        </p:nvGraphicFramePr>
        <p:xfrm>
          <a:off x="0" y="1981080"/>
          <a:ext cx="666720" cy="85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981080"/>
                    <a:ext cx="6667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Object 7"/>
          <p:cNvGraphicFramePr/>
          <p:nvPr/>
        </p:nvGraphicFramePr>
        <p:xfrm>
          <a:off x="0" y="609480"/>
          <a:ext cx="666720" cy="70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609480"/>
                    <a:ext cx="666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Object 8"/>
          <p:cNvGraphicFramePr/>
          <p:nvPr/>
        </p:nvGraphicFramePr>
        <p:xfrm>
          <a:off x="1447920" y="5562720"/>
          <a:ext cx="691920" cy="1066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7920" y="5562720"/>
                    <a:ext cx="691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Object 9"/>
          <p:cNvGraphicFramePr/>
          <p:nvPr/>
        </p:nvGraphicFramePr>
        <p:xfrm>
          <a:off x="0" y="5105520"/>
          <a:ext cx="866880" cy="779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5105520"/>
                    <a:ext cx="8668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" name="Object 10"/>
          <p:cNvGraphicFramePr/>
          <p:nvPr/>
        </p:nvGraphicFramePr>
        <p:xfrm>
          <a:off x="4572000" y="5943600"/>
          <a:ext cx="685800" cy="68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59436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" name="Object 11"/>
          <p:cNvGraphicFramePr/>
          <p:nvPr/>
        </p:nvGraphicFramePr>
        <p:xfrm>
          <a:off x="6172200" y="5943600"/>
          <a:ext cx="666720" cy="657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72200" y="5943600"/>
                    <a:ext cx="6667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" name="Object 12"/>
          <p:cNvGraphicFramePr/>
          <p:nvPr/>
        </p:nvGraphicFramePr>
        <p:xfrm>
          <a:off x="7696080" y="5862600"/>
          <a:ext cx="762120" cy="741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696080" y="5862600"/>
                    <a:ext cx="7621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chbowl.com/accsecchallenge.s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Unit 9</a:t>
            </a: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“Sponsorship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ponso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nvesting in a sports entity to support overall organizational objectives and marketing goal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EG estimates $6.8 billion spent on sponsorship and of this $4.6 billion will be spent on 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unlike other forms of communication, sponsors must fight the clutter and find the perfect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1943280" y="1905120"/>
            <a:ext cx="5257800" cy="3416400"/>
            <a:chOff x="1943280" y="1905120"/>
            <a:chExt cx="5257800" cy="3416400"/>
          </a:xfrm>
        </p:grpSpPr>
        <p:sp>
          <p:nvSpPr>
            <p:cNvPr id="60" name="Rectangle 4"/>
            <p:cNvSpPr/>
            <p:nvPr/>
          </p:nvSpPr>
          <p:spPr>
            <a:xfrm>
              <a:off x="1943280" y="1905120"/>
              <a:ext cx="111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1943280" y="1905120"/>
              <a:ext cx="5257800" cy="3416400"/>
              <a:chOff x="1943280" y="1905120"/>
              <a:chExt cx="5257800" cy="3416400"/>
            </a:xfrm>
          </p:grpSpPr>
          <p:sp>
            <p:nvSpPr>
              <p:cNvPr id="62" name="Rectangle 5"/>
              <p:cNvSpPr/>
              <p:nvPr/>
            </p:nvSpPr>
            <p:spPr>
              <a:xfrm>
                <a:off x="1943280" y="1905120"/>
                <a:ext cx="5257800" cy="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63" name="Rectangle 6"/>
              <p:cNvSpPr/>
              <p:nvPr/>
            </p:nvSpPr>
            <p:spPr>
              <a:xfrm>
                <a:off x="1943280" y="1905120"/>
                <a:ext cx="4680000" cy="34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6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Rockwel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</p:grpSp>
      <p:pic>
        <p:nvPicPr>
          <p:cNvPr id="64" name="Picture 7" descr="http://www.peachbowl.com/challengebi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191120"/>
            <a:ext cx="3276720" cy="175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NASCAR sponsorships are the best in sports"/>
          <p:cNvPicPr/>
          <p:nvPr/>
        </p:nvPicPr>
        <p:blipFill>
          <a:blip r:embed="rId3"/>
          <a:stretch/>
        </p:blipFill>
        <p:spPr>
          <a:xfrm>
            <a:off x="2286000" y="4343400"/>
            <a:ext cx="2378160" cy="146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mportance of Spons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venue to sports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ging “tribes”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onsors receive exposure and pub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rget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ort and product share sam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ociation w/sports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reate goodwill/enhance image-Olympics, local little leagu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02888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1028880" y="2125800"/>
            <a:ext cx="7429320" cy="360"/>
            <a:chOff x="1028880" y="2125800"/>
            <a:chExt cx="7429320" cy="360"/>
          </a:xfrm>
        </p:grpSpPr>
        <p:sp>
          <p:nvSpPr>
            <p:cNvPr id="70" name="Rectangle 6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spons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onsorships can b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ngth of time or a one-off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xtel Half Time repor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ors official beer of the N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Sig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oreboard, floorboards, field, rafters, electronic rotating scre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en by spectators at game and o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02888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028880" y="2125800"/>
            <a:ext cx="7429320" cy="360"/>
            <a:chOff x="1028880" y="2125800"/>
            <a:chExt cx="7429320" cy="360"/>
          </a:xfrm>
        </p:grpSpPr>
        <p:sp>
          <p:nvSpPr>
            <p:cNvPr id="76" name="Rectangle 6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77" name="Rectangle 7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pic>
        <p:nvPicPr>
          <p:cNvPr id="78" name="Picture 8" descr="http://www.nmgsports.com/collect.jpg"/>
          <p:cNvPicPr/>
          <p:nvPr/>
        </p:nvPicPr>
        <p:blipFill>
          <a:blip r:embed="rId1"/>
          <a:stretch/>
        </p:blipFill>
        <p:spPr>
          <a:xfrm>
            <a:off x="6705720" y="4952880"/>
            <a:ext cx="1752480" cy="174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spons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emium 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ust pay more to be th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official  or title sponsor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receive special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ors official beer of the N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ntitlem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One major sponsor for an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SCAR contract w/Nex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GA-Bell South Classic, Nokia Sugar Bo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acility Entitlem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Exclusive naming rights to a building, arena or sta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d Ex Field, Busch Stad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2888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82" name="Group 5"/>
          <p:cNvGrpSpPr/>
          <p:nvPr/>
        </p:nvGrpSpPr>
        <p:grpSpPr>
          <a:xfrm>
            <a:off x="1028880" y="2125800"/>
            <a:ext cx="7429320" cy="360"/>
            <a:chOff x="1028880" y="2125800"/>
            <a:chExt cx="7429320" cy="360"/>
          </a:xfrm>
        </p:grpSpPr>
        <p:sp>
          <p:nvSpPr>
            <p:cNvPr id="83" name="Rectangle 6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pic>
        <p:nvPicPr>
          <p:cNvPr id="85" name="Picture 8" descr="http://www.nmgsports.com/collect.jpg"/>
          <p:cNvPicPr/>
          <p:nvPr/>
        </p:nvPicPr>
        <p:blipFill>
          <a:blip r:embed="rId1"/>
          <a:stretch/>
        </p:blipFill>
        <p:spPr>
          <a:xfrm>
            <a:off x="7391520" y="5113440"/>
            <a:ext cx="1752480" cy="174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spons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 Exclus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e product in a product category is given exclusive sponsorship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events competitors from selling or promoting their products at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ke official sponsor of the Olympics-only Coke sold at th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VISA official card of NAS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2888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1028880" y="2125800"/>
            <a:ext cx="7429320" cy="360"/>
            <a:chOff x="1028880" y="2125800"/>
            <a:chExt cx="7429320" cy="360"/>
          </a:xfrm>
        </p:grpSpPr>
        <p:sp>
          <p:nvSpPr>
            <p:cNvPr id="90" name="Rectangle 6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mbush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lanned effort to associate a company or product indirectly with an even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order to gain benefits similar to a spon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ike advertised heavily during the ’92 Olympics-Reebok was the official spo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ller Lite set up large blow up can near super bowl-Budweiser official spo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ndors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tatement of approval for a product, service, or ide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de by an individual or organization speaking on behalf of the advert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lebrities, public figures, sports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nd familiarity and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ll non-sports products-Tiger Woods/Bu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mographic match-appeals to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promote an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2888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028880" y="2125800"/>
            <a:ext cx="7429320" cy="360"/>
            <a:chOff x="1028880" y="2125800"/>
            <a:chExt cx="7429320" cy="360"/>
          </a:xfrm>
        </p:grpSpPr>
        <p:sp>
          <p:nvSpPr>
            <p:cNvPr id="98" name="Rectangle 6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028880" y="2125800"/>
              <a:ext cx="742932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20:13:02Z</dcterms:created>
  <dc:creator>Academic Affairs</dc:creator>
  <dc:description/>
  <dc:language>en-US</dc:language>
  <cp:lastModifiedBy>dokenfuss</cp:lastModifiedBy>
  <cp:lastPrinted>1999-03-07T21:02:34Z</cp:lastPrinted>
  <dcterms:modified xsi:type="dcterms:W3CDTF">2011-03-02T17:39:01Z</dcterms:modified>
  <cp:revision>85</cp:revision>
  <dc:subject/>
  <dc:title>No Slide Title</dc:title>
</cp:coreProperties>
</file>