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F815-1BA6-46F6-BE22-35813E179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3588-B6B9-459C-939F-EAA93B52A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6A41-0A2C-4907-ABFE-B21121ACA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F6CA-716B-465A-882C-03AB337C4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2F05-04FA-47A0-B6DD-DE371724D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89E-7BB7-4DEC-892B-7A0EB4FC7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1274-A048-4215-9B41-485744325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BE06-0C92-4D65-A956-816E8ACFB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51D6-DDEC-4636-BE2A-77E875842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6724-2E14-42C6-B937-4E28366C8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B85C-A1E3-4E18-85E4-25D90CEFB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83D2-237D-4A8B-8832-87E577D8F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6D1E-278B-4436-9E6E-14C494B60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67B9-EEC6-4A21-A9E6-EAE247C68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3720-F0C8-4437-A219-EAFA44372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F8FE-D95F-458E-87E6-3A7B92A36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EEDF-1B9E-4D78-BD06-546BD321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295-42AA-40DA-9A68-40A6670C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0D4-7AAF-4219-8C4F-8DE36D1C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031-FBB0-44AF-8043-67A2F7FB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7CE-2515-4FC2-BD82-F72DF0BC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6BC-3D04-431A-BCAE-2F203D4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759-0AC1-4110-A084-F0234E6F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2C3-F617-4836-A02A-358FCEF4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9AC-2509-428D-A310-44C73C12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DE6-58B1-496D-A5E9-08768D0E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813-0050-4B89-BBC0-5456DC48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D89-E1DF-4C1B-9C26-BDE30BCB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36A-327B-4ECC-BA0B-23902995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EA56-8834-426B-B49F-61DCA4141592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6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Cluster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marily based on geographical areas or ‘clusters’ that can be seen as being representative of the whole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Multi-Stage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mple selected from multi-stag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b-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Snowball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mples developed from contact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existing customers – ‘word of mouth’ type approach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Primary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2" name="Picture 4" descr="$4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Primary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rst hand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to collect, analyse and evalu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highly focussed and relev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re needs to be taken with the approach and methodology to ensure 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s of question – closed – limited information gained; open – useful information but difficult to 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antitative and Qualitative Inform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antitativ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based on numbers – 56% of 18 year olds drink alcohol at least four times a week - doesn’t tell you why, when, h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alitativ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more detail – tells you why, when and how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Purpos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8" name="Picture 4" descr="$3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Advantages of Market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lps focus attention on 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ids forecasting, planning and strateg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help to reduce risk of new product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unicates image, vision, et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lobalisation makes market information valuable (HSBC adverts!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Disadvantages of Market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ormation only as goo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 the methodology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inaccurate or unrel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sults may not be what the business wants to hear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stifle initiative and ‘gut feeling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ways a problem that we may never know enough to be sur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4" name="Picture 4" descr="$0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Secondary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1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Internal Sourc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178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any Ac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Reports and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tail data - loyalty cards, till data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External Sourc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vernment Statist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ade pub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rcial Data - Gallup, Nielsen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usehold Expenditure Surv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gazine surve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firms’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search documents – publications, journal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Sampling Method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62" name="Picture 4" descr="$2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Sampling Method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Random Sample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equal chance of anyone being pick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select those not in the target group – indiscrimin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mple sizes may need to be lar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be represen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be very expen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Stratified or Segment Random Samp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mples on the basis of a representative strata or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ill random but more focu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give more releva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be more cost eff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ota Samp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gain – by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randomly se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number on each segment are interviewed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not be fully represen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eaper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5:36:54Z</dcterms:created>
  <dc:creator>A Ashwin</dc:creator>
  <dc:description/>
  <dc:language>en-US</dc:language>
  <cp:lastModifiedBy>dokenfuss</cp:lastModifiedBy>
  <dcterms:modified xsi:type="dcterms:W3CDTF">2012-02-22T18:31:56Z</dcterms:modified>
  <cp:revision>20</cp:revision>
  <dc:subject/>
  <dc:title>###Market Research - PowerPoint Presentation###</dc:title>
</cp:coreProperties>
</file>