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5B0-99FF-43E3-ACC6-3DAB679B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7F3-23BD-41E8-9BCB-BD6EE9FC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A9A-81BB-4244-B520-2C5D4AB9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739-CABF-4857-B6B4-86B9737C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76B-BDFF-4D31-97A0-CA480140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707-E11C-4B73-BEE4-3A298343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101-A812-4A07-BC54-8938F0DC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56F-3FB3-49B0-9E77-5A859DD5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6F2-25FD-48E0-B1F8-EAFFE664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75C-1439-4B4C-BA31-A38038CE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EEE-D8FF-416A-A96A-659BE36B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0CAD-3058-4FD3-B4A8-ED3C2B99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2B71-8DD3-4FF9-8214-FC39A71BC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8" descr=" L6tm3.jpg                                                      002A5CF1Colossus                       BC84C498:"/>
          <p:cNvPicPr/>
          <p:nvPr/>
        </p:nvPicPr>
        <p:blipFill>
          <a:blip r:embed="rId1"/>
          <a:stretch/>
        </p:blipFill>
        <p:spPr>
          <a:xfrm>
            <a:off x="1433520" y="627120"/>
            <a:ext cx="6276960" cy="5603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4"/>
          <p:cNvSpPr/>
          <p:nvPr/>
        </p:nvSpPr>
        <p:spPr>
          <a:xfrm>
            <a:off x="3519360" y="1522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 No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2217960" y="15228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Dietary Requir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5" descr="TM6.1.ChangingDietaryReq.png                                   002A5CF1Colossus                       BC84C498:"/>
          <p:cNvPicPr/>
          <p:nvPr/>
        </p:nvPicPr>
        <p:blipFill>
          <a:blip r:embed="rId1"/>
          <a:stretch/>
        </p:blipFill>
        <p:spPr>
          <a:xfrm>
            <a:off x="2489040" y="817560"/>
            <a:ext cx="41198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7" descr=" L6tm2.png                                                      002A5CF1Colossus                       BC84C498:"/>
          <p:cNvPicPr/>
          <p:nvPr/>
        </p:nvPicPr>
        <p:blipFill>
          <a:blip r:embed="rId1"/>
          <a:stretch/>
        </p:blipFill>
        <p:spPr>
          <a:xfrm>
            <a:off x="1041480" y="520560"/>
            <a:ext cx="7173720" cy="6178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4"/>
          <p:cNvSpPr/>
          <p:nvPr/>
        </p:nvSpPr>
        <p:spPr>
          <a:xfrm>
            <a:off x="2867040" y="15228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 Notching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6:41:23Z</dcterms:created>
  <dc:creator>Christopher Benedict</dc:creator>
  <dc:description/>
  <dc:language>en-US</dc:language>
  <cp:lastModifiedBy>KasselE</cp:lastModifiedBy>
  <dcterms:modified xsi:type="dcterms:W3CDTF">2007-07-12T18:28:04Z</dcterms:modified>
  <cp:revision>26</cp:revision>
  <dc:subject/>
  <dc:title>PowerPoint Presentation</dc:title>
</cp:coreProperties>
</file>