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F8A-DC7C-4AE7-8F2E-9945C46A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76E-1D5F-4322-8B66-441BEC7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30F-0A9C-46BE-92D9-37127E3A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4E1-AD33-4E4A-8E81-42826992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AC9-3005-40DA-811E-36CE6F82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5CC-3D05-4438-A7AF-6134759F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ECF-303A-4689-842E-B210908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BD1-78D2-45CB-ADFF-2C099015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AA3-9721-403A-87DA-46236935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855-EF39-4F15-A4E5-3CAB602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824-0625-47FF-9778-92436B0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19A-8441-4616-95F7-9050BAA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D4DB-1B6A-4386-8053-CFD23CF9E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3400200" y="15228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jection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2" descr="&#9;L5tm1.jpg                                                      002A5CF1_x0008_Colossus                       BC84C498:"/>
          <p:cNvPicPr/>
          <p:nvPr/>
        </p:nvPicPr>
        <p:blipFill>
          <a:blip r:embed="rId1"/>
          <a:stretch/>
        </p:blipFill>
        <p:spPr>
          <a:xfrm>
            <a:off x="984240" y="958680"/>
            <a:ext cx="71740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6:41:23Z</dcterms:created>
  <dc:creator>Christopher Benedict</dc:creator>
  <dc:description/>
  <dc:language>en-US</dc:language>
  <cp:lastModifiedBy>loweryb</cp:lastModifiedBy>
  <dcterms:modified xsi:type="dcterms:W3CDTF">2007-06-26T16:57:52Z</dcterms:modified>
  <cp:revision>23</cp:revision>
  <dc:subject/>
  <dc:title>PowerPoint Presentation</dc:title>
</cp:coreProperties>
</file>